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CFB-8EAB-482B-AAB2-CB9E108D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337-C4CF-4F9B-841E-03FEA2C1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725-AC81-49BE-A865-E2900B54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1F5-918A-43BF-A462-E9347E86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79E-D5D1-427B-B950-DDE781E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15D-4210-4EAB-AA48-DC9E8C8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230-298B-4BA7-BE39-8E57AB5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586-E7D3-480B-88C1-53DCE28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EAE-5948-4A87-9050-B2D0F159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23D-1885-4880-A175-E9C2776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FA4-2846-40B7-B819-654D8D6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731-0E41-4F28-AC4B-CCF3DEA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8DEA-B27B-47A8-9910-6D62965702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Monotype Corsiva"/>
              </a:rPr>
              <a:t>СОДЕРЖАНИ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Информация о гор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раницы истор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Достопримечательности гор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омыс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ремёсе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35240" y="2209680"/>
            <a:ext cx="449100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Monotype Corsiva"/>
              </a:rPr>
              <a:t>Государственный историко-архитектурный и художественный музей заповедник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57720" cy="2838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Monotype Corsiva"/>
              </a:rPr>
              <a:t>Спасо-Преображенский собор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420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Monotype Corsiva"/>
              </a:rPr>
              <a:t>Троицкий Данилов монастырь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7716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Фёдоровский монастыр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86200" cy="4782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Monotype Corsiva"/>
              </a:rPr>
              <a:t>Горицкий Успенский монастырь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Сорокосвятская церков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32148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Monotype Corsiva"/>
              </a:rPr>
              <a:t>Промысл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Monotype Corsiva"/>
              </a:rPr>
              <a:t>Переславская вышив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ышивка - один из древнейших и наиболее распространенных видов народного искус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Переславле-Залесском самая большая и распространенная фабрика специализирующаяся на выши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174312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1828800" cy="27223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Информация о город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55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 Плещеева озера, в ста километрах от Москвы , в 1152 году на пересечении торговых путей князь Юрий Долгорукий основал новый гор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звание Переславль-Залесский город получил от южного Переяславля (Хмельницког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 гербе города изображены золотые сельди  в черном поле в знак того, что город этой копченой рыбой  производит тор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славль –Залесский  входит в Золотое кольцо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17017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Страницы истори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Жемчужина России - озеро Плещеево, изумительное по красоте и чистоте - одна из главных ценностей Переславля-Залесск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тр I начал строить на Плещеевом озере «потешную флотилию», положившую начало русскому флот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OZERO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2563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Колыбель русского флот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четырех километрах от города на горе Гремяч, на берегу  Плещеева озера заложилась основа русского военно-морского флота.  Здесь прошли обучение первые русские корабелы и военные моря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о нашего времени сохранился только  корабль - бот «Фортуна» В 1803 году для него было выстроено специальное здание, один из первых  музеев в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853080" cy="25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ffff"/>
                </a:solidFill>
                <a:latin typeface="Monotype Corsiva"/>
              </a:rPr>
              <a:t>Достопримечательности Переславля-Залесског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имени Петра </a:t>
            </a:r>
            <a:r>
              <a:rPr b="1" lang="en-US" sz="6000" spc="-1" strike="noStrike">
                <a:solidFill>
                  <a:srgbClr val="e5ffff"/>
                </a:solidFill>
                <a:latin typeface="Monotype Corsiva"/>
              </a:rPr>
              <a:t>I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е имеет аналогов «петровская» коллекция музея, в которой собраны редкие вещи, связанные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 пребыванием Петра I на переславской земл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</a:t>
            </a:r>
            <a:br>
              <a:rPr sz="6000"/>
            </a:b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ПАРАВОЗОВ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славская узкоколейка была построена в 30-е годы для вывозки торфа. Эта железная дорога до сих пор обслуживает отдаленные посел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91 году в городе был построен Переславский Железнодорожный М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чайников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2" descr="H:\Переславль-Залесский\Изображение 080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6760" cy="4789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Дом утюг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3100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7:48:57Z</dcterms:created>
  <dc:creator>водичка</dc:creator>
  <dc:description/>
  <dc:language>en-US</dc:language>
  <cp:lastModifiedBy>Samsung</cp:lastModifiedBy>
  <dcterms:modified xsi:type="dcterms:W3CDTF">2015-11-20T14:05:5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