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076-6BD4-4C1E-8B2E-2E5C2D2C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168-C1DC-4AA5-A1B1-726B2C1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626-65C1-4ED8-9BAF-2B18817C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04A-7B8E-45D5-B5E0-5BF395B7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66D-13A7-44AA-9F2D-DBEB478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706-D3A2-4F88-B2E5-9FF8A0E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7A9-62DB-4BC5-AD34-DAC8055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D16-9ABD-4E45-8420-CF324F8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123-34A9-4DB2-8591-9CA6A12B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2EA-D134-4D59-9874-BA1BD8E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044-1A02-46F0-B312-8CBFD38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99D-1517-4FE3-81FD-01192F5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217E-6C4A-44A6-BA03-3CABE35196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Monotype Corsiva"/>
              </a:rPr>
              <a:t>СОДЕРЖАНИ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Информация о гор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раницы истор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Достопримечательности гор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омыс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ремёсел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35240" y="2209680"/>
            <a:ext cx="449100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Monotype Corsiva"/>
              </a:rPr>
              <a:t>Государственный историко-архитектурный и художественный музей заповедник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57720" cy="2838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Monotype Corsiva"/>
              </a:rPr>
              <a:t>Спасо-Преображенский собор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420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Monotype Corsiva"/>
              </a:rPr>
              <a:t>Троицкий Данилов монастырь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7716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Фёдоровский монастыр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86200" cy="4782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Monotype Corsiva"/>
              </a:rPr>
              <a:t>Горицкий Успенский монастырь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Сорокосвятская церков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32148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Monotype Corsiva"/>
              </a:rPr>
              <a:t>Промысл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Monotype Corsiva"/>
              </a:rPr>
              <a:t>Переславская вышив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ышивка - один из древнейших и наиболее распространенных видов народного искус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Переславле-Залесском самая большая и распространенная фабрика специализирующаяся на выши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174312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1828800" cy="27223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Информация о город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55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 Плещеева озера, в ста километрах от Москвы , в 1152 году на пересечении торговых путей князь Юрий Долгорукий основал новый гор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звание Переславль-Залесский город получил от южного Переяславля (Хмельницког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 гербе города изображены золотые сельди  в черном поле в знак того, что город этой копченой рыбой  производит тор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славль –Залесский  входит в Золотое кольцо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17017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Страницы истори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Жемчужина России - озеро Плещеево, изумительное по красоте и чистоте - одна из главных ценностей Переславля-Залесск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тр I начал строить на Плещеевом озере «потешную флотилию», положившую начало русскому флот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OZERO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2563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Колыбель русского флот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четырех километрах от города на горе Гремяч, на берегу  Плещеева озера заложилась основа русского военно-морского флота.  Здесь прошли обучение первые русские корабелы и военные моря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До нашего времени сохранился только  корабль - бот «Фортуна» В 1803 году для него было выстроено специальное здание, один из первых  музеев в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853080" cy="25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ffff"/>
                </a:solidFill>
                <a:latin typeface="Monotype Corsiva"/>
              </a:rPr>
              <a:t>Достопримечательности Переславля-Залесског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имени Петра </a:t>
            </a:r>
            <a:r>
              <a:rPr b="1" lang="en-US" sz="6000" spc="-1" strike="noStrike">
                <a:solidFill>
                  <a:srgbClr val="e5ffff"/>
                </a:solidFill>
                <a:latin typeface="Monotype Corsiva"/>
              </a:rPr>
              <a:t>I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е имеет аналогов «петровская» коллекция музея, в которой собраны редкие вещи, связанные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 пребыванием Петра I на переславской земл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</a:t>
            </a:r>
            <a:br>
              <a:rPr sz="6000"/>
            </a:b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ПАРАВОЗОВ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славская узкоколейка была построена в 30-е годы для вывозки торфа. Эта железная дорога до сих пор обслуживает отдаленные посел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 1991 году в городе был построен Переславский Железнодорожный М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Музей чайников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2" descr="H:\Переславль-Залесский\Изображение 080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6760" cy="4789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Monotype Corsiva"/>
              </a:rPr>
              <a:t>Дом утюг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14800" cy="3100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7:48:57Z</dcterms:created>
  <dc:creator>водичка</dc:creator>
  <dc:description/>
  <dc:language>en-US</dc:language>
  <cp:lastModifiedBy>Samsung</cp:lastModifiedBy>
  <dcterms:modified xsi:type="dcterms:W3CDTF">2015-11-20T14:05:5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