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8DF-A4D3-4C45-BA67-62022012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E6B-F8AF-45F1-A351-D72FBF43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F52-5764-4C9F-808C-7478620F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782-D38F-40C6-999D-7D87B4A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AA0-4141-4699-A94E-E2558D52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EB0-B4F1-45CC-9D38-DC14BA3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327-8203-47BA-AFB4-D750A89F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2E6-1870-40BA-BF4D-B1237DA4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649-A5EA-4A57-9E37-03CECAD8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4D3-6A5E-425B-8FB0-45B90C3B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CFA-311E-4EF9-9059-58D1F619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5684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421680" y="160020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69200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05684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421680" y="3964320"/>
            <a:ext cx="225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C4E-4B1D-44B1-B096-1390D12E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76160" y="396432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6160" y="1600200"/>
            <a:ext cx="341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92000" y="3964320"/>
            <a:ext cx="699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15732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743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2174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743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2174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743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2174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6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15732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7436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2174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2174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2174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743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17436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D57F-A3FB-4519-B840-BB2C2A5DD16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-201600" y="1378080"/>
            <a:ext cx="9448920" cy="2949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4143240" y="464328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Гончар-Быш Лариса Николаевна, 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Великомихай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"/>
          <p:cNvSpPr/>
          <p:nvPr/>
        </p:nvSpPr>
        <p:spPr>
          <a:xfrm>
            <a:off x="2000160" y="500040"/>
            <a:ext cx="6143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ко-ориентированные задания по темам «Внутренняя среда организма», «Кровеносная и лимфатическая систе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то нужно обязательно внести в инструкцию о наложении жгута для остановки венозного кровотеч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 Жгут накладывают ниже места ранения на мягк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) Жгут накладывают не более чем на 1-1,5 часа,  время его наложения  указывают в записке, помещенной под жг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 какой целью человеку измеряют пуль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Чтобы определить число сокращений сердца в мину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)Чтобы определить силу сокращений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7"/>
          <p:cNvSpPr/>
          <p:nvPr/>
        </p:nvSpPr>
        <p:spPr>
          <a:xfrm>
            <a:off x="1785960" y="500040"/>
            <a:ext cx="700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В чем заключается отличие между искусственным и приобретенным естественным иммунитет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 искусственный иммунитет приобретается после вакцинации или введения лечебной сывор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) Антитела вырабатываются после введения вакцины или вводятся го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) Естественный иммунитет наследуется. Антитела вырабатываются в течение всей жизни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 изменится состав крови у альпиниста, неделю находящегося на большой высоте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тся количество эритроцитов, поставляющих клеткам кислород, ведь на высоте мало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чем отличие прививки от введения лечебной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ы отв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) при прививке в организм вводят вакцину (убитых или ослабленных возбудителей болезни или их яд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ри  прививке  организм  сам  вырабатывает защитные антитела; 3) лечебная сыворотка содержит готовые анти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6"/>
          <p:cNvSpPr/>
          <p:nvPr/>
        </p:nvSpPr>
        <p:spPr>
          <a:xfrm>
            <a:off x="3367440" y="21420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контроля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1643040" y="1021680"/>
            <a:ext cx="700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шибки в приведенном тексте. Укажите номера предложений, в которых сделаны ошибки, объясните 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 бактерий, как и у всех живых организмов, происходит обмен веществ и превращение энер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способу питания их делят на автотрофов и гетеротроф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втотрофные бактерии, синтезируя органические вещества из неорганических, всегда используют энергию с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тосинтез в автотрофных бактериях протекает в хлоропластах, как у раст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е бактерии дышат кислор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ибки допущены в предложения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руппу автотрофов входят бактерии хемотрофы, которые используют не световую энергию, а энергию химических реак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летках автотрофных бактерий отсутствуют хлороплас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эробные бактерии не используют кислород для дых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1928880" y="736200"/>
            <a:ext cx="6500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Я, ЗАДАННАЯ В ЛОГИКЕ ПРИМЕНЕНИЯ К ЖИЗНЕН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й препарат проникает в клетки мерцательного эпителия и препятствует соединению липопротеидной оболочки вируса с мембраной клеток. Объясните, какому процессу в жизненном цикле вируса препятствует этот препарат. Для каких целей его рекомендуют использов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парат препятствует проникновению вируса в клет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парат назначают для профилактики (при лечении) вирусной инфекции дыхательных путей (органов, имеющих мерцательный эпител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5"/>
          <p:cNvSpPr/>
          <p:nvPr/>
        </p:nvSpPr>
        <p:spPr>
          <a:xfrm>
            <a:off x="2000160" y="661680"/>
            <a:ext cx="6215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БЫТОЧНУЮ ИНФОРМАЦИЮ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»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иведённые ниже признаки, кроме двух, можно использовать дл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исания световой фазы фотосинтез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ределите дв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дающи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уется молекулярный кислород в результате разложения молекул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происходит синтез углеводов из углекислого газа и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происходит полимеризация молекул глюкозы с образованием крахм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уществляется синтез молекул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00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исходит разложение молекул воды на протоны и атомы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9"/>
          <p:cNvSpPr/>
          <p:nvPr/>
        </p:nvSpPr>
        <p:spPr>
          <a:xfrm>
            <a:off x="1500120" y="298080"/>
            <a:ext cx="7286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Я НА ПРАВИЛЬНУЮ ПОСЛЕДОВ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асположите в правильном порядке пункты инструкции по приготовлению препарата кожицы чешуи лука и рассматриванию её под микроскопом.  В ответе запишите соответствующую последовательность 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)предметное и покровное стёкла протрите салфеткой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2)осторожно расправьте кожицу припаровальными иглами и накройте покровным стек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3)пипеткой капните каплю слабого раствора йода на предметное стек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4)положите кусочек кожицы в каплю слабого раствора й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5)рассмотрите приготовленный препарат при увеличении в 56 раз (объектив – ×8, окуляр – ×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6)пинцетом снимите маленький кусочек тонкой кожицы с сочной чешуи л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1857240" y="424800"/>
            <a:ext cx="6858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Я НА ПРОПУЩЕННЫЕ ТЕРМ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в текс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крови в организм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пущенные термины из предложенного перечня, используя для этого цифровые обозначения. Запишите в текст цифры выбранных ответов, а затем получившуюся последовательность цифр (по тексту) впишите в приведённую ниже таблиц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КРОВИ В ОРГАНИЗМЕ ЧЕЛОВЕКА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человека разделено сплошной перегородкой на левую и правую части. В левой части сердца содержится только ___________ (А) кровь. Сосуды, пронизывающее всё наше тело, по строению неодинаковы. ___________ (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осуды, по которым кровь движется от сердца. У человека имеется два круга кровообращения. Камера сердца, от которой начинается большой круг кровообращения, называется ___________ (В), а заканчивается большой круг в ___________ (Г)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ТЕРМИНОВ: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ена 2) артерия 3) капилляр 4) левый желудочек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равый желудочек 6) правое предсердие 7) артериальная 8) вено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714680" y="380520"/>
            <a:ext cx="671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истематизировать, обобщить изучен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троить устное высказывание в соответствие с коммуникативной задач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сознанно и произвольно строить речевое высказывание в устной и / или письменной фор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ятивн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самостоятельно контролировать свое время и управлять 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рганизовать выполнение заданий учител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ценивать правильность выполненных дей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анализировать и оценивать результаты свое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осуществлять самоконтрол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коррекция знаний, способов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2340000" y="2565360"/>
            <a:ext cx="58323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1928880" y="357120"/>
            <a:ext cx="7072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ание Президента РФ В.В.Путина Федеральному собранию в 2018г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Необходимо также уделять большое внимание функциональной грамотности наших детей, в целом всего подрастающего поколения. Это важно, чтобы наши дети были адаптированы к современной жизн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4"/>
          <p:cNvSpPr/>
          <p:nvPr/>
        </p:nvSpPr>
        <p:spPr>
          <a:xfrm>
            <a:off x="1857240" y="28584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пособность человека вступать в отношения с внешней средой и максимально быстро адаптироваться и функционировать в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857240" y="2143080"/>
            <a:ext cx="657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енку важно облад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товностью успешно взаимодействовать с изменяющимся окружающим мир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ю решать различные (в том числе нестандартные) учебные и жизненные задач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ю строить социальные отнош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ю рефлексивных умений, обеспечивающих оценку своей грамотности, стремление к дальнейшему обра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/>
          <p:cNvSpPr/>
          <p:nvPr/>
        </p:nvSpPr>
        <p:spPr>
          <a:xfrm>
            <a:off x="1857240" y="500040"/>
            <a:ext cx="692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ональная грамотность – понятие метапредметное, и поэтому она формируется при изучении разных школьных дисциплин и имеет разнообразные формы проя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Язык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атематическ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Естественно-научн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Цифр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инанс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ультурная и гражданская грамо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5"/>
          <p:cNvSpPr/>
          <p:nvPr/>
        </p:nvSpPr>
        <p:spPr>
          <a:xfrm>
            <a:off x="1857240" y="1143000"/>
            <a:ext cx="7000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ко-ориентированные задач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задачи из окружающей действительности, связанные с формированием практических навыков, необходимых в повседневной жизни, в том числе с использованием материалов краеведения, элементов производственных проце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"/>
          <p:cNvSpPr/>
          <p:nvPr/>
        </p:nvSpPr>
        <p:spPr>
          <a:xfrm>
            <a:off x="1571760" y="28584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актуализации опорных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71680" y="9288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 биологии в 7 классе. Тема урока «Класс Пресмыкающиес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428760" y="1357200"/>
            <a:ext cx="835812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читают,  что земноводные появились на стыке девона и каменноугольного периода. Они приспособились для жизни в воде и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ше. Первые земноводные, видимо, неплохо чувствовали себя: климат был теплый, воздух — влажный, да и водоемов было достаточно. Но вот на Земле изменился климат: он стал жарким и сухим, начались суровые и холодные зимы. Надо было приспосабливаться к новым условиям существования. Часть земноводных погибла. Другие сохранили верность полуназемному, полуводному образу жизни и  дали начало современным амфибиям. Третьи сделали решительный и окончательный шаг на сушу и остались осваивать новые условия жизн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: «Наверное, это уже были новые организмы? Какими признаками они должны были обладать, чтобы приспособиться к засушливому климату? Какие предположения вы можете высказать? Обрисуйте в общих чертах шаги, необходимые для изучения этих организм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214200" y="117360"/>
            <a:ext cx="86439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е образовательн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познавательного интереса к изучению биологии; понимание взаимосвязи организмов в природе; формирование представление о приспособленности организмов к наземной среде обитания; формирование элементов эколог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работать с различными источниками информации; работать с изображениями живых объектов; строить логические рассуждения, включающие установление причинно- следственных связей; выдвигать гипотезы; сравн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троить речевые высказывания в устной форме; аргументировать свою точк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ыделять и формулировать характерные признаки отрядов пресмыкающихся, объяснять роль рептилий в природе и жизни человека, характеризовать рептилий как наиболее высокоорганизованных и  приспособленных к проживанию на суше холоднокровных позвоночны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ктико-ориентированная направл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 данном случае семиклассникам для решения поставленной учебной задачи приходится встать на место исследователей. Ученики формулируют собственные гипотезы, совместно обсуждают их и формулируют «центральную»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5"/>
          <p:cNvSpPr/>
          <p:nvPr/>
        </p:nvSpPr>
        <p:spPr>
          <a:xfrm>
            <a:off x="1928880" y="28584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усвоения нов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14200" y="71424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биологии в 8 классе по теме: «Науки, изучающие организм чело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57680" y="1785960"/>
          <a:ext cx="5875200" cy="1592280"/>
        </p:xfrm>
        <a:graphic>
          <a:graphicData uri="http://schemas.openxmlformats.org/drawingml/2006/table">
            <a:tbl>
              <a:tblPr/>
              <a:tblGrid>
                <a:gridCol w="2298600"/>
                <a:gridCol w="1789200"/>
                <a:gridCol w="1787400"/>
              </a:tblGrid>
              <a:tr h="398520">
                <a:tc>
                  <a:txBody>
                    <a:bodyPr lIns="0" rIns="0" tIns="0" bIns="0" anchor="t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0" bIns="0" anchor="t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то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0" bIns="0" anchor="t">
                      <a:noAutofit/>
                    </a:bodyPr>
                    <a:p>
                      <a:pPr marL="53964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ги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16"/>
          <p:cNvSpPr/>
          <p:nvPr/>
        </p:nvSpPr>
        <p:spPr>
          <a:xfrm>
            <a:off x="4500720" y="128772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ки об организме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age6.jpeg" descr="http://travm.info/wp-content/uploads/2017/09/pri-ushibe-na-rentgene-patologii-ne-budet.jpg"/>
          <p:cNvPicPr/>
          <p:nvPr/>
        </p:nvPicPr>
        <p:blipFill>
          <a:blip r:embed="rId1"/>
          <a:stretch/>
        </p:blipFill>
        <p:spPr>
          <a:xfrm>
            <a:off x="3429000" y="3571920"/>
            <a:ext cx="2343240" cy="1319040"/>
          </a:xfrm>
          <a:prstGeom prst="rect">
            <a:avLst/>
          </a:prstGeom>
          <a:ln w="0">
            <a:noFill/>
          </a:ln>
        </p:spPr>
      </p:pic>
      <p:pic>
        <p:nvPicPr>
          <p:cNvPr id="173" name="image7.jpeg" descr="http://planirovanieberemennosti.ru/images/uzi-pri-beremennosti/rezultaty-uzi-12-nedele-beremennosti-norma_1.jpeg"/>
          <p:cNvPicPr/>
          <p:nvPr/>
        </p:nvPicPr>
        <p:blipFill>
          <a:blip r:embed="rId2"/>
          <a:stretch/>
        </p:blipFill>
        <p:spPr>
          <a:xfrm>
            <a:off x="6357960" y="3500280"/>
            <a:ext cx="2089080" cy="1463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2571840" y="4790880"/>
            <a:ext cx="3429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 Рентген - метод анатомии (Источник:travm.info/diagnostika/differencialnaya- diagnostika/kak-opredelit-ushib-ili-perelom-ruki-7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6072120" y="5219640"/>
            <a:ext cx="307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Ультразвуковое исследование - метод анатомии (Источник: planirovanieberemennosti.ru/uzi-pri-beremennosti/rezultaty-uzi-12-nedele-beremennosti- norma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27"/>
          <p:cNvGrpSpPr/>
          <p:nvPr/>
        </p:nvGrpSpPr>
        <p:grpSpPr>
          <a:xfrm>
            <a:off x="285840" y="1357200"/>
            <a:ext cx="2547720" cy="3924360"/>
            <a:chOff x="285840" y="1357200"/>
            <a:chExt cx="2547720" cy="3924360"/>
          </a:xfrm>
        </p:grpSpPr>
        <p:pic>
          <p:nvPicPr>
            <p:cNvPr id="178" name="Picture 129" descr="http://animal-store.ru/img/2015/043011/5958101"/>
            <p:cNvPicPr/>
            <p:nvPr/>
          </p:nvPicPr>
          <p:blipFill>
            <a:blip r:embed="rId3"/>
            <a:stretch/>
          </p:blipFill>
          <p:spPr>
            <a:xfrm>
              <a:off x="330840" y="1401480"/>
              <a:ext cx="2406240" cy="38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utoShape 128"/>
            <p:cNvSpPr/>
            <p:nvPr/>
          </p:nvSpPr>
          <p:spPr>
            <a:xfrm>
              <a:off x="285840" y="1357200"/>
              <a:ext cx="2547720" cy="392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4"/>
          <p:cNvSpPr/>
          <p:nvPr/>
        </p:nvSpPr>
        <p:spPr>
          <a:xfrm>
            <a:off x="0" y="5717160"/>
            <a:ext cx="328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3 Биохимический анализ крови - метод физиологии (Источник: animal- store.ru/shop/95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500040" y="648828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материал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lar.uspu.ru/bitstream/uspu/6985/2/03Protasov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357120" y="285840"/>
            <a:ext cx="8429760" cy="55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е образовательн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стные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ние основных принципов и правил отношения к живой природе, основ здорового образа жизни и здоровьесберегающих технологий; сформированность познавательных интересов и мотивов, направленных на изучение объектов живой природы; формирование понимания ценности здорово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апредме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 УУД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работать с разными источниками информации, анализировать и оценивать информа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ые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ять существенные признаки биологических объектов и процессов жизнедеятельности, характерных для организма человека; различать по внешнему виду, схемам и описаниям реальные биологические объекты или их изображения, выявлять отличительные признаки биологических объектов; аргументировать, приводить доказательства необходимости соблюдения мер профилактики заболеваний, травматизма, стрессов, вредных привычек, нарушения осанки, зрения, слуха, инфекционных и простудных заболеваний; использовать методы биологической науки: наблюдать и описывать биологические объекты и процесс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ктико-ориентированная направленност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креплении полученных знаний материалами медицинской практики, у учащихся появляется возможность сопоставления и определения предмета той или иной науки об организме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4:44:24Z</dcterms:created>
  <dc:creator>User</dc:creator>
  <dc:description/>
  <dc:language>en-US</dc:language>
  <cp:lastModifiedBy>Лариса</cp:lastModifiedBy>
  <dcterms:modified xsi:type="dcterms:W3CDTF">2021-02-24T06:54:56Z</dcterms:modified>
  <cp:revision>75</cp:revision>
  <dc:subject/>
  <dc:title>Вирусы.</dc:title>
</cp:coreProperties>
</file>