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040-5571-4CCE-BE44-ECF3BA38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226-28CA-446C-95DC-F0F75DCD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E7F-78F9-44B2-BFEF-B73A1377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E72-BB06-4B41-A291-37C6D467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8F2-2220-4543-A640-6C8B56EF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FCE-5AC3-4936-AF73-6DE8EFE8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E87-F36F-4E83-BB93-BF9E2A64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38A-C6B8-488A-89DD-A8C110C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478-7D25-4D16-B1D9-F0CB5C77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B92-9CF6-4893-8FBC-A7B96249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D4F-D354-40D4-B6D1-5F9E366A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29D-72A8-43C8-8285-1CF37FF0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F2C0-CAFC-4797-A32C-8663791AD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3352680"/>
          </a:xfrm>
          <a:prstGeom prst="rect">
            <a:avLst/>
          </a:prstGeom>
          <a:solidFill>
            <a:srgbClr val="daf6df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omic Sans MS"/>
              </a:rPr>
              <a:t>Природа 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omic Sans MS"/>
              </a:rPr>
              <a:t>Нижегородского кр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105520" cy="94140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ирода заповед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200160" y="1600200"/>
            <a:ext cx="8743320" cy="3809880"/>
            <a:chOff x="200160" y="1600200"/>
            <a:chExt cx="8743320" cy="3809880"/>
          </a:xfrm>
        </p:grpSpPr>
        <p:pic>
          <p:nvPicPr>
            <p:cNvPr id="84" name="Picture 5" descr="Керж"/>
            <p:cNvPicPr/>
            <p:nvPr/>
          </p:nvPicPr>
          <p:blipFill>
            <a:blip r:embed="rId1"/>
            <a:stretch/>
          </p:blipFill>
          <p:spPr>
            <a:xfrm>
              <a:off x="2714400" y="2362320"/>
              <a:ext cx="3352320" cy="223668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85" name="Picture 6" descr="Starica"/>
            <p:cNvPicPr/>
            <p:nvPr/>
          </p:nvPicPr>
          <p:blipFill>
            <a:blip r:embed="rId2"/>
            <a:stretch/>
          </p:blipFill>
          <p:spPr>
            <a:xfrm>
              <a:off x="200160" y="1905120"/>
              <a:ext cx="2144520" cy="320040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86" name="Picture 7" descr="Vishna"/>
            <p:cNvPicPr/>
            <p:nvPr/>
          </p:nvPicPr>
          <p:blipFill>
            <a:blip r:embed="rId3"/>
            <a:stretch/>
          </p:blipFill>
          <p:spPr>
            <a:xfrm>
              <a:off x="6448320" y="1600200"/>
              <a:ext cx="2495160" cy="380988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</p:grpSp>
      <p:sp>
        <p:nvSpPr>
          <p:cNvPr id="87" name="Text Box 9"/>
          <p:cNvSpPr/>
          <p:nvPr/>
        </p:nvSpPr>
        <p:spPr>
          <a:xfrm>
            <a:off x="228600" y="5410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 Ста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971800" y="5410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 Кержен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858000" y="5715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 Ви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733920" cy="152388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амятники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мятники природы – это природные объекты, ценные в научном, познавательном или эстетическом отношении. Среди них участки лесов, степей, речные поймы, болота, озера, пруды, родники, пещеры, парки, ботанические сады. Особое место среди памятников природы занимает озеро Светлоя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862[1]"/>
          <p:cNvPicPr/>
          <p:nvPr/>
        </p:nvPicPr>
        <p:blipFill>
          <a:blip r:embed="rId1"/>
          <a:stretch/>
        </p:blipFill>
        <p:spPr>
          <a:xfrm>
            <a:off x="5257800" y="2209680"/>
            <a:ext cx="3733920" cy="2800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3" name="Rectangle 6"/>
          <p:cNvSpPr/>
          <p:nvPr/>
        </p:nvSpPr>
        <p:spPr>
          <a:xfrm>
            <a:off x="5867280" y="52848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Озеро Светлоя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29"/>
          <p:cNvSpPr/>
          <p:nvPr/>
        </p:nvSpPr>
        <p:spPr>
          <a:xfrm>
            <a:off x="0" y="774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320" y="76320"/>
          <a:ext cx="9067680" cy="6248160"/>
        </p:xfrm>
        <a:graphic>
          <a:graphicData uri="http://schemas.openxmlformats.org/drawingml/2006/table">
            <a:tbl>
              <a:tblPr/>
              <a:tblGrid>
                <a:gridCol w="4030560"/>
                <a:gridCol w="3284640"/>
                <a:gridCol w="175248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амятники при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Местопо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 Светлоя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бьев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о Вар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дар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нов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танический сад Нижегородского университ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чев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 Вад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д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молаев 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 д. Луки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ород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рин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нуковская пещ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турл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шечкин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 д. Галиби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ьязанц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овая роща с. Борисово-Покров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константин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аев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ные участки по р. Суб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октябрь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валев 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игинский б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жур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ок елово-пихтового леса у деревни Малое Содом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четов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брава Печинского лесни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оян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рияшкина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о Утр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хн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ачева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76320" y="92160"/>
          <a:ext cx="9067680" cy="6613560"/>
        </p:xfrm>
        <a:graphic>
          <a:graphicData uri="http://schemas.openxmlformats.org/drawingml/2006/table">
            <a:tbl>
              <a:tblPr/>
              <a:tblGrid>
                <a:gridCol w="4800600"/>
                <a:gridCol w="2438280"/>
                <a:gridCol w="1828800"/>
              </a:tblGrid>
              <a:tr h="485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йская священная роща Кушну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анг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идонов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798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ысоковозрастных южнотаежных лесов по р. Уста и 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ов 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6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д на р. Ях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ягин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4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стовые ландшафты с. Рыльк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цяк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7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йма р. Пьяны у с. Игнат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ач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рин 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4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ные участки по р. Ру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инк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кин 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90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нов б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су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ин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4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 Нести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омарева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ив пихтово-елового леса по р. Варва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нав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тнова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43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оченная пойма р. Пья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турл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тримов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хонинская пещ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дат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ин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4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ьина рощ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олетов 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 Мещер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енов А. и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ая кни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городск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урина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1920" y="533160"/>
            <a:ext cx="4343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16"/>
          <p:cNvPicPr/>
          <p:nvPr/>
        </p:nvPicPr>
        <p:blipFill>
          <a:blip r:embed="rId1"/>
          <a:stretch/>
        </p:blipFill>
        <p:spPr>
          <a:xfrm>
            <a:off x="304920" y="304920"/>
            <a:ext cx="4800600" cy="32702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44" name="Picture 7" descr="010"/>
          <p:cNvPicPr/>
          <p:nvPr/>
        </p:nvPicPr>
        <p:blipFill>
          <a:blip r:embed="rId2"/>
          <a:stretch/>
        </p:blipFill>
        <p:spPr>
          <a:xfrm>
            <a:off x="4343400" y="1143000"/>
            <a:ext cx="4572000" cy="3114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45" name="Text Box 9"/>
          <p:cNvSpPr/>
          <p:nvPr/>
        </p:nvSpPr>
        <p:spPr>
          <a:xfrm>
            <a:off x="4800600" y="4724280"/>
            <a:ext cx="4065480" cy="1618560"/>
          </a:xfrm>
          <a:prstGeom prst="rect">
            <a:avLst/>
          </a:prstGeom>
          <a:solidFill>
            <a:srgbClr val="d0f4d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олжская земля мо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 да ширь п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, Родина, та сам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ой нет 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олай Худя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Географическое положение Нижегород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solidFill>
            <a:srgbClr val="d0f4d6"/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ь: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6,6 тыс. кв.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поло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тральная часть Восточно-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вропейской равн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яж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севера на юг 40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запада на восток 28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3962160" cy="685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Особенност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02"/>
          <p:cNvPicPr/>
          <p:nvPr/>
        </p:nvPicPr>
        <p:blipFill>
          <a:blip r:embed="rId1"/>
          <a:stretch/>
        </p:blipFill>
        <p:spPr>
          <a:xfrm>
            <a:off x="4419720" y="380880"/>
            <a:ext cx="2743200" cy="17877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0" name="Picture 5" descr="003"/>
          <p:cNvPicPr/>
          <p:nvPr/>
        </p:nvPicPr>
        <p:blipFill>
          <a:blip r:embed="rId2"/>
          <a:stretch/>
        </p:blipFill>
        <p:spPr>
          <a:xfrm>
            <a:off x="6172200" y="1752480"/>
            <a:ext cx="2743200" cy="1863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1" name="Picture 6" descr="008"/>
          <p:cNvPicPr/>
          <p:nvPr/>
        </p:nvPicPr>
        <p:blipFill>
          <a:blip r:embed="rId3"/>
          <a:stretch/>
        </p:blipFill>
        <p:spPr>
          <a:xfrm>
            <a:off x="4495680" y="3200400"/>
            <a:ext cx="2743200" cy="1865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2" name="Picture 7" descr="028"/>
          <p:cNvPicPr/>
          <p:nvPr/>
        </p:nvPicPr>
        <p:blipFill>
          <a:blip r:embed="rId4"/>
          <a:stretch/>
        </p:blipFill>
        <p:spPr>
          <a:xfrm>
            <a:off x="6019920" y="4724280"/>
            <a:ext cx="2743200" cy="1833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53" name="Text Box 9"/>
          <p:cNvSpPr/>
          <p:nvPr/>
        </p:nvSpPr>
        <p:spPr>
          <a:xfrm>
            <a:off x="457200" y="2514600"/>
            <a:ext cx="3733920" cy="45972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ренный 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57200" y="1447920"/>
            <a:ext cx="3505320" cy="82548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полез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57200" y="3276720"/>
            <a:ext cx="3505320" cy="119124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е количество рек, озер, бо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57200" y="4800600"/>
            <a:ext cx="3581280" cy="45972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ие поч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57200" y="5562720"/>
            <a:ext cx="3886200" cy="82548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гатый животный и растительны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3886200" cy="1600200"/>
          </a:xfrm>
          <a:prstGeom prst="rect">
            <a:avLst/>
          </a:prstGeom>
          <a:solidFill>
            <a:srgbClr val="d0f4d6"/>
          </a:solidFill>
          <a:ln w="5724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асная книга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иже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020"/>
          <p:cNvPicPr/>
          <p:nvPr/>
        </p:nvPicPr>
        <p:blipFill>
          <a:blip r:embed="rId1"/>
          <a:stretch/>
        </p:blipFill>
        <p:spPr>
          <a:xfrm>
            <a:off x="4952880" y="380880"/>
            <a:ext cx="3965760" cy="2706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60" name="Picture 7" descr="Озеро Керж"/>
          <p:cNvPicPr/>
          <p:nvPr/>
        </p:nvPicPr>
        <p:blipFill>
          <a:blip r:embed="rId2"/>
          <a:srcRect l="1921" t="1281" r="1921" b="3842"/>
          <a:stretch/>
        </p:blipFill>
        <p:spPr>
          <a:xfrm>
            <a:off x="5029200" y="3657600"/>
            <a:ext cx="3809880" cy="28195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1" name="Text Box 9"/>
          <p:cNvSpPr/>
          <p:nvPr/>
        </p:nvSpPr>
        <p:spPr>
          <a:xfrm>
            <a:off x="380880" y="2438280"/>
            <a:ext cx="4191120" cy="266940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ана 28 мая 2004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том включает 484 вида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том посвящен растениям, грибам и лишай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124080" cy="144792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Керженский 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поведник</a:t>
            </a: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ova"/>
          <p:cNvPicPr/>
          <p:nvPr/>
        </p:nvPicPr>
        <p:blipFill>
          <a:blip r:embed="rId1"/>
          <a:stretch/>
        </p:blipFill>
        <p:spPr>
          <a:xfrm>
            <a:off x="5029200" y="533520"/>
            <a:ext cx="3052800" cy="30319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1895400" y="4419720"/>
            <a:ext cx="6441120" cy="192276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, к этим дивным берег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вернусь, лишь только лед раст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рженец, где русская тай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шая название Руст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Салт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934320" cy="114300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ерженский заповед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8229600" cy="350532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 создания: 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 сохранение природных комплексов Заволж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ложение: левый берег Кержен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тыке Борского, Семеновского, Воскресенского, Лысковского рай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5"/>
          <p:cNvGrpSpPr/>
          <p:nvPr/>
        </p:nvGrpSpPr>
        <p:grpSpPr>
          <a:xfrm>
            <a:off x="533520" y="2133720"/>
            <a:ext cx="8258040" cy="2609280"/>
            <a:chOff x="533520" y="2133720"/>
            <a:chExt cx="8258040" cy="2609280"/>
          </a:xfrm>
        </p:grpSpPr>
        <p:pic>
          <p:nvPicPr>
            <p:cNvPr id="68" name="Picture 9" descr="Ris"/>
            <p:cNvPicPr/>
            <p:nvPr/>
          </p:nvPicPr>
          <p:blipFill>
            <a:blip r:embed="rId1"/>
            <a:stretch/>
          </p:blipFill>
          <p:spPr>
            <a:xfrm>
              <a:off x="5867280" y="2209680"/>
              <a:ext cx="2924280" cy="253332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69" name="Picture 10" descr="Sova"/>
            <p:cNvPicPr/>
            <p:nvPr/>
          </p:nvPicPr>
          <p:blipFill>
            <a:blip r:embed="rId2"/>
            <a:stretch/>
          </p:blipFill>
          <p:spPr>
            <a:xfrm>
              <a:off x="2971800" y="2361960"/>
              <a:ext cx="2314440" cy="217620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70" name="Picture 5" descr="Belka"/>
            <p:cNvPicPr/>
            <p:nvPr/>
          </p:nvPicPr>
          <p:blipFill>
            <a:blip r:embed="rId3"/>
            <a:stretch/>
          </p:blipFill>
          <p:spPr>
            <a:xfrm>
              <a:off x="533520" y="2133720"/>
              <a:ext cx="1785960" cy="259056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</p:grpSp>
      <p:sp>
        <p:nvSpPr>
          <p:cNvPr id="71" name="Text Box 12"/>
          <p:cNvSpPr/>
          <p:nvPr/>
        </p:nvSpPr>
        <p:spPr>
          <a:xfrm>
            <a:off x="38088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50532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8580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1219320" y="304920"/>
            <a:ext cx="6476760" cy="58140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ивотный мир запове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1"/>
          <p:cNvGrpSpPr/>
          <p:nvPr/>
        </p:nvGrpSpPr>
        <p:grpSpPr>
          <a:xfrm>
            <a:off x="723960" y="1676520"/>
            <a:ext cx="7696080" cy="3047760"/>
            <a:chOff x="723960" y="1676520"/>
            <a:chExt cx="7696080" cy="3047760"/>
          </a:xfrm>
        </p:grpSpPr>
        <p:pic>
          <p:nvPicPr>
            <p:cNvPr id="76" name="Picture 4" descr="Los"/>
            <p:cNvPicPr/>
            <p:nvPr/>
          </p:nvPicPr>
          <p:blipFill>
            <a:blip r:embed="rId1"/>
            <a:stretch/>
          </p:blipFill>
          <p:spPr>
            <a:xfrm>
              <a:off x="723960" y="1676520"/>
              <a:ext cx="2970000" cy="304776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77" name="Picture 8" descr="Volk"/>
            <p:cNvPicPr/>
            <p:nvPr/>
          </p:nvPicPr>
          <p:blipFill>
            <a:blip r:embed="rId2"/>
            <a:stretch/>
          </p:blipFill>
          <p:spPr>
            <a:xfrm>
              <a:off x="5067360" y="1905120"/>
              <a:ext cx="3352680" cy="236376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</p:grpSp>
      <p:grpSp>
        <p:nvGrpSpPr>
          <p:cNvPr id="78" name="Group 12"/>
          <p:cNvGrpSpPr/>
          <p:nvPr/>
        </p:nvGrpSpPr>
        <p:grpSpPr>
          <a:xfrm>
            <a:off x="1828800" y="5029200"/>
            <a:ext cx="5486400" cy="459720"/>
            <a:chOff x="1828800" y="5029200"/>
            <a:chExt cx="5486400" cy="459720"/>
          </a:xfrm>
        </p:grpSpPr>
        <p:sp>
          <p:nvSpPr>
            <p:cNvPr id="79" name="Text Box 9"/>
            <p:cNvSpPr/>
            <p:nvPr/>
          </p:nvSpPr>
          <p:spPr>
            <a:xfrm>
              <a:off x="1828800" y="50292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с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6095880" y="5029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ол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3"/>
          <p:cNvSpPr/>
          <p:nvPr/>
        </p:nvSpPr>
        <p:spPr>
          <a:xfrm>
            <a:off x="1219320" y="304920"/>
            <a:ext cx="6476760" cy="58140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ивотный мир запове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NS</dc:creator>
  <dc:description/>
  <dc:language>en-US</dc:language>
  <cp:lastModifiedBy>H-401</cp:lastModifiedBy>
  <dcterms:modified xsi:type="dcterms:W3CDTF">2020-12-12T05:04:2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