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63CC-9E8D-45C0-B828-FE042B2BA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C948-AED0-411E-8BB5-AA26E7E4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39A8-4909-4DD7-A448-6CBBE137B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333F-97A5-4AEF-8651-FFC3070D4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43D2-39B9-40A1-9B5B-C49AD00E7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7A70-D9A2-488C-B21D-97B065B5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0E1A-C8CF-4B23-B7CF-3758BFCB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586D-A536-4024-9D61-AFB668E3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82D9-000F-406A-ADD7-CAD81B3E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D4BE-3297-447D-9FD8-4E5CFC25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7DB09-7942-4D9C-96A5-B1BB7AFE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F41C-ED60-419A-ABA1-7864DD42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42938-4915-4B5B-991A-4717092E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4786E-7ABF-4ADB-846C-AA4E0428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123A4-1786-4632-8A6F-CB24D676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81D47-784A-4C1F-BEB0-008222B82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91C7-6F88-46B1-A6F0-EF1B0ABFA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5EC5-A1A2-44DC-A3F2-11FA7B6C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67BF-F0A7-4DBE-A54C-A3A8AFF2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CFAB-7E8F-409B-9A62-A9AFE2C3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E3DC-934A-4AAC-8166-2293A43C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D875-1AF4-4B7D-B875-127E967C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25EF-5C43-44D1-8431-5A97CDB2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AEE4-B783-44FE-8D14-B598DE35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F0AD-BE99-404D-AB94-61E6721B0E8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774A-C191-401C-911F-68D7CBF50945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7d47d"/>
                </a:solidFill>
                <a:latin typeface="Times New Roman"/>
              </a:rPr>
              <a:t>“</a:t>
            </a:r>
            <a:r>
              <a:rPr b="1" lang="en-US" sz="6000" spc="-1" strike="noStrike">
                <a:solidFill>
                  <a:srgbClr val="f7d47d"/>
                </a:solidFill>
                <a:latin typeface="Times New Roman"/>
              </a:rPr>
              <a:t>Familie”</a:t>
            </a:r>
            <a:endParaRPr b="0" lang="en-US" sz="6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3" name="Picture 5" descr="64319127"/>
          <p:cNvPicPr/>
          <p:nvPr/>
        </p:nvPicPr>
        <p:blipFill>
          <a:blip r:embed="rId1"/>
          <a:stretch/>
        </p:blipFill>
        <p:spPr>
          <a:xfrm>
            <a:off x="596880" y="1598760"/>
            <a:ext cx="6718320" cy="44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Times New Roman"/>
              </a:rPr>
              <a:t>Grammatik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38160">
            <a:solidFill>
              <a:srgbClr val="2f1311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Times New Roman"/>
              </a:rPr>
              <a:t>Ich meine,dass das Einzelkind einsam ist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Я считаю, что единственному ребенку в семье одиноко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Line 8"/>
          <p:cNvSpPr/>
          <p:nvPr/>
        </p:nvSpPr>
        <p:spPr>
          <a:xfrm>
            <a:off x="2209680" y="2743200"/>
            <a:ext cx="457200" cy="0"/>
          </a:xfrm>
          <a:prstGeom prst="line">
            <a:avLst/>
          </a:prstGeom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Line 9"/>
          <p:cNvSpPr/>
          <p:nvPr/>
        </p:nvSpPr>
        <p:spPr>
          <a:xfrm>
            <a:off x="2209680" y="2819520"/>
            <a:ext cx="457200" cy="0"/>
          </a:xfrm>
          <a:prstGeom prst="line">
            <a:avLst/>
          </a:prstGeom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7d47d"/>
                </a:solidFill>
                <a:latin typeface="Times New Roman"/>
              </a:rPr>
              <a:t>Fragen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Wie sind die Beziehungen in Ihrer Familie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Welche Atmosphäre herrscht in Ihrer Familie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Was denken die deutschen Jugendlichen </a:t>
            </a:r>
            <a:r>
              <a:rPr b="1" lang="en-US" sz="2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ü</a:t>
            </a: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ber ihre Familien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Ist es gut oder schlecht, Geschwister zu haben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Wie verhalten Sie sich zu den Geschwistern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Times New Roman"/>
              </a:rPr>
              <a:t>Aktiv!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990720"/>
            <a:ext cx="7386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Das Idealbild von einer Familie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Karriere machen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Die emotionale Stabilität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Das Verhältnis zu+Dativ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Das Vertrauen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Das Misstrauen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Die Beziehung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schimpfen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loben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ablehnen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sich f</a:t>
            </a:r>
            <a:r>
              <a:rPr b="1" lang="en-US" sz="2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ü</a:t>
            </a: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r+( Akkusativ ) sorgen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sich um+(Akkusativ) k</a:t>
            </a:r>
            <a:r>
              <a:rPr b="1" lang="en-US" sz="2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ü</a:t>
            </a: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mmer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Diagram 25"/>
          <p:cNvGrpSpPr/>
          <p:nvPr/>
        </p:nvGrpSpPr>
        <p:grpSpPr>
          <a:xfrm>
            <a:off x="1173240" y="372960"/>
            <a:ext cx="5572080" cy="5572080"/>
            <a:chOff x="1173240" y="372960"/>
            <a:chExt cx="5572080" cy="5572080"/>
          </a:xfrm>
        </p:grpSpPr>
        <p:sp>
          <p:nvSpPr>
            <p:cNvPr id="199" name="_s1028"/>
            <p:cNvSpPr/>
            <p:nvPr/>
          </p:nvSpPr>
          <p:spPr>
            <a:xfrm flipH="1" flipV="1">
              <a:off x="2972880" y="2174400"/>
              <a:ext cx="492120" cy="49068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_s1029"/>
            <p:cNvSpPr/>
            <p:nvPr/>
          </p:nvSpPr>
          <p:spPr>
            <a:xfrm>
              <a:off x="1784520" y="985680"/>
              <a:ext cx="1393560" cy="139392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1311"/>
                  </a:solidFill>
                  <a:latin typeface="Times New Roman"/>
                </a:rPr>
                <a:t>Geschwister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_s1030"/>
            <p:cNvSpPr/>
            <p:nvPr/>
          </p:nvSpPr>
          <p:spPr>
            <a:xfrm flipH="1">
              <a:off x="2565360" y="3159000"/>
              <a:ext cx="695520" cy="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2" name="_s1031"/>
            <p:cNvSpPr/>
            <p:nvPr/>
          </p:nvSpPr>
          <p:spPr>
            <a:xfrm>
              <a:off x="1173240" y="2462040"/>
              <a:ext cx="1393920" cy="139392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1311"/>
                  </a:solidFill>
                  <a:latin typeface="Times New Roman"/>
                </a:rPr>
                <a:t>Die Grosseltern</a:t>
              </a: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3" name="_s1032"/>
            <p:cNvSpPr/>
            <p:nvPr/>
          </p:nvSpPr>
          <p:spPr>
            <a:xfrm flipH="1">
              <a:off x="2972880" y="3652920"/>
              <a:ext cx="492120" cy="49032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4" name="_s1033"/>
            <p:cNvSpPr/>
            <p:nvPr/>
          </p:nvSpPr>
          <p:spPr>
            <a:xfrm>
              <a:off x="1784520" y="3938760"/>
              <a:ext cx="1393560" cy="139356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1311"/>
                  </a:solidFill>
                  <a:latin typeface="Times New Roman"/>
                </a:rPr>
                <a:t>tolerant</a:t>
              </a: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5" name="_s1034"/>
            <p:cNvSpPr/>
            <p:nvPr/>
          </p:nvSpPr>
          <p:spPr>
            <a:xfrm>
              <a:off x="3957480" y="3855960"/>
              <a:ext cx="1800" cy="69552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6" name="_s1035"/>
            <p:cNvSpPr/>
            <p:nvPr/>
          </p:nvSpPr>
          <p:spPr>
            <a:xfrm>
              <a:off x="3260880" y="4551480"/>
              <a:ext cx="1393560" cy="139356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f1311"/>
                  </a:solidFill>
                  <a:latin typeface="Times New Roman"/>
                </a:rPr>
                <a:t>sich für j-n sorgen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7" name="_s1036"/>
            <p:cNvSpPr/>
            <p:nvPr/>
          </p:nvSpPr>
          <p:spPr>
            <a:xfrm>
              <a:off x="4451400" y="3651120"/>
              <a:ext cx="490320" cy="49212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8" name="_s1037"/>
            <p:cNvSpPr/>
            <p:nvPr/>
          </p:nvSpPr>
          <p:spPr>
            <a:xfrm>
              <a:off x="4738680" y="3940200"/>
              <a:ext cx="1393920" cy="139392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1311"/>
                  </a:solidFill>
                  <a:latin typeface="Times New Roman"/>
                </a:rPr>
                <a:t>streiten</a:t>
              </a: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9" name="_s1038"/>
            <p:cNvSpPr/>
            <p:nvPr/>
          </p:nvSpPr>
          <p:spPr>
            <a:xfrm>
              <a:off x="4654440" y="3159000"/>
              <a:ext cx="695520" cy="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0" name="_s1039"/>
            <p:cNvSpPr/>
            <p:nvPr/>
          </p:nvSpPr>
          <p:spPr>
            <a:xfrm>
              <a:off x="5351400" y="2462040"/>
              <a:ext cx="1393920" cy="139392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1311"/>
                  </a:solidFill>
                  <a:latin typeface="Times New Roman"/>
                </a:rPr>
                <a:t>sich um j-n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1311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2f1311"/>
                  </a:solidFill>
                  <a:latin typeface="Times New Roman"/>
                </a:rPr>
                <a:t>kümmern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1" name="_s1040"/>
            <p:cNvSpPr/>
            <p:nvPr/>
          </p:nvSpPr>
          <p:spPr>
            <a:xfrm flipV="1">
              <a:off x="4449600" y="2174400"/>
              <a:ext cx="492120" cy="49212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2" name="_s1041"/>
            <p:cNvSpPr/>
            <p:nvPr/>
          </p:nvSpPr>
          <p:spPr>
            <a:xfrm>
              <a:off x="4738680" y="984240"/>
              <a:ext cx="1393920" cy="139392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1311"/>
                  </a:solidFill>
                  <a:latin typeface="Times New Roman"/>
                </a:rPr>
                <a:t>Das Vertrauen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3" name="_s1042"/>
            <p:cNvSpPr/>
            <p:nvPr/>
          </p:nvSpPr>
          <p:spPr>
            <a:xfrm flipV="1">
              <a:off x="3957480" y="1766880"/>
              <a:ext cx="0" cy="69696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4" name="_s1043"/>
            <p:cNvSpPr/>
            <p:nvPr/>
          </p:nvSpPr>
          <p:spPr>
            <a:xfrm>
              <a:off x="3260880" y="372960"/>
              <a:ext cx="1393560" cy="139392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1311"/>
                  </a:solidFill>
                  <a:latin typeface="Times New Roman"/>
                </a:rPr>
                <a:t>Die Eltern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5" name="_s1044"/>
            <p:cNvSpPr/>
            <p:nvPr/>
          </p:nvSpPr>
          <p:spPr>
            <a:xfrm>
              <a:off x="3260880" y="2463840"/>
              <a:ext cx="1393560" cy="139392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2f1311"/>
                  </a:solidFill>
                  <a:latin typeface="Times New Roman"/>
                </a:rPr>
                <a:t>Familie</a:t>
              </a:r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Times New Roman"/>
              </a:rPr>
              <a:t>Frage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Wie sind die Beziehungen in Ihrer Familie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Welche Atmosphäre herrscht in Ihrer Familie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Haben Sie Geschwister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Haben Sie einen Bruder oder eine Schwester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Wie verhalten Sie sich zu Ihren Geschwistern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Haben Sie Probleme mit ihnen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5" descr="imgpreview (1)"/>
          <p:cNvPicPr/>
          <p:nvPr/>
        </p:nvPicPr>
        <p:blipFill>
          <a:blip r:embed="rId1"/>
          <a:stretch/>
        </p:blipFill>
        <p:spPr>
          <a:xfrm>
            <a:off x="609480" y="609480"/>
            <a:ext cx="2200320" cy="16480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imgpreview"/>
          <p:cNvPicPr/>
          <p:nvPr/>
        </p:nvPicPr>
        <p:blipFill>
          <a:blip r:embed="rId2"/>
          <a:stretch/>
        </p:blipFill>
        <p:spPr>
          <a:xfrm>
            <a:off x="609480" y="2514600"/>
            <a:ext cx="2181240" cy="16668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imgpreview (2)"/>
          <p:cNvPicPr/>
          <p:nvPr/>
        </p:nvPicPr>
        <p:blipFill>
          <a:blip r:embed="rId3"/>
          <a:stretch/>
        </p:blipFill>
        <p:spPr>
          <a:xfrm>
            <a:off x="609480" y="4343400"/>
            <a:ext cx="2200320" cy="167652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25"/>
          <p:cNvSpPr/>
          <p:nvPr/>
        </p:nvSpPr>
        <p:spPr>
          <a:xfrm>
            <a:off x="2971800" y="1440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ü</a:t>
            </a:r>
            <a:r>
              <a:rPr b="1" lang="en-US" sz="2400" spc="-1" strike="noStrike">
                <a:solidFill>
                  <a:srgbClr val="2f1311"/>
                </a:solidFill>
                <a:latin typeface="Times New Roman"/>
              </a:rPr>
              <a:t>rgen (16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Text Box 26"/>
          <p:cNvSpPr/>
          <p:nvPr/>
        </p:nvSpPr>
        <p:spPr>
          <a:xfrm>
            <a:off x="3048120" y="357336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Times New Roman"/>
              </a:rPr>
              <a:t>Thomas(15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Text Box 27"/>
          <p:cNvSpPr/>
          <p:nvPr/>
        </p:nvSpPr>
        <p:spPr>
          <a:xfrm>
            <a:off x="3048120" y="5214960"/>
            <a:ext cx="26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Times New Roman"/>
              </a:rPr>
              <a:t>Stephan(16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Text Box 30"/>
          <p:cNvSpPr/>
          <p:nvPr/>
        </p:nvSpPr>
        <p:spPr>
          <a:xfrm>
            <a:off x="3946680" y="1407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Times New Roman"/>
              </a:rPr>
              <a:t>Frage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Wie verhalten sich diese deutschen Sch</a:t>
            </a:r>
            <a:r>
              <a:rPr b="1" lang="en-US" sz="2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ü</a:t>
            </a: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ler zu ihren Geschwistern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Warum ist J</a:t>
            </a:r>
            <a:r>
              <a:rPr b="1" lang="en-US" sz="2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ü</a:t>
            </a: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rgen manchmal neidisch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Ist es wirklich langweilig, ein Einzelkind zu sein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Wie ist Stephans Schwester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Wie verhält sie sich zu ihrem Bruder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Liebt sie ihren Bruder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Und Stephan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304920" y="304920"/>
          <a:ext cx="7162560" cy="6324480"/>
        </p:xfrm>
        <a:graphic>
          <a:graphicData uri="http://schemas.openxmlformats.org/drawingml/2006/table">
            <a:tbl>
              <a:tblPr/>
              <a:tblGrid>
                <a:gridCol w="3581280"/>
                <a:gridCol w="358128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Geschwister</a:t>
                      </a:r>
                      <a:endParaRPr b="0" lang="en-US" sz="3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2023e"/>
                      </a:solidFill>
                    </a:lnL>
                    <a:lnR w="28080">
                      <a:solidFill>
                        <a:srgbClr val="02023e"/>
                      </a:solidFill>
                    </a:lnR>
                    <a:lnT w="28080">
                      <a:solidFill>
                        <a:srgbClr val="02023e"/>
                      </a:solidFill>
                    </a:lnT>
                    <a:lnB w="28080">
                      <a:solidFill>
                        <a:srgbClr val="02023e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ro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2023e"/>
                      </a:solidFill>
                    </a:lnL>
                    <a:lnR w="28080">
                      <a:solidFill>
                        <a:srgbClr val="02023e"/>
                      </a:solidFill>
                    </a:lnR>
                    <a:lnT w="28080">
                      <a:solidFill>
                        <a:srgbClr val="02023e"/>
                      </a:solidFill>
                    </a:lnT>
                    <a:lnB w="28080">
                      <a:solidFill>
                        <a:srgbClr val="02023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23e10"/>
                          </a:solidFill>
                          <a:latin typeface="Times New Roman"/>
                        </a:rPr>
                        <a:t>Contra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2023e"/>
                      </a:solidFill>
                    </a:lnL>
                    <a:lnR w="28080">
                      <a:solidFill>
                        <a:srgbClr val="02023e"/>
                      </a:solidFill>
                    </a:lnR>
                    <a:lnT w="28080">
                      <a:solidFill>
                        <a:srgbClr val="02023e"/>
                      </a:solidFill>
                    </a:lnT>
                    <a:lnB w="28080">
                      <a:solidFill>
                        <a:srgbClr val="02023e"/>
                      </a:solidFill>
                    </a:lnB>
                    <a:noFill/>
                  </a:tcPr>
                </a:tc>
              </a:tr>
              <a:tr h="510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2023e"/>
                      </a:solidFill>
                    </a:lnL>
                    <a:lnR w="28080">
                      <a:solidFill>
                        <a:srgbClr val="02023e"/>
                      </a:solidFill>
                    </a:lnR>
                    <a:lnT w="28080">
                      <a:solidFill>
                        <a:srgbClr val="02023e"/>
                      </a:solidFill>
                    </a:lnT>
                    <a:lnB w="28080">
                      <a:solidFill>
                        <a:srgbClr val="02023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2023e"/>
                      </a:solidFill>
                    </a:lnL>
                    <a:lnR w="28080">
                      <a:solidFill>
                        <a:srgbClr val="02023e"/>
                      </a:solidFill>
                    </a:lnR>
                    <a:lnT w="28080">
                      <a:solidFill>
                        <a:srgbClr val="02023e"/>
                      </a:solidFill>
                    </a:lnT>
                    <a:lnB w="28080">
                      <a:solidFill>
                        <a:srgbClr val="02023e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d47d"/>
                </a:solidFill>
                <a:latin typeface="Times New Roman"/>
              </a:rPr>
              <a:t>Redemittel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Times New Roman"/>
              </a:rPr>
              <a:t>Meiner Meinung nach ist es gut/nicht gut,dass…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Times New Roman"/>
              </a:rPr>
              <a:t>Ich meine/glaube,dass…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Times New Roman"/>
              </a:rPr>
              <a:t>Ich stehe auf dem Standpunkt,dass…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Times New Roman"/>
              </a:rPr>
              <a:t>Mir scheint,dass…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6T15:34:08Z</dcterms:created>
  <dc:creator>Кристина</dc:creator>
  <dc:description/>
  <dc:language>en-US</dc:language>
  <cp:lastModifiedBy>MolotkovaSV</cp:lastModifiedBy>
  <dcterms:modified xsi:type="dcterms:W3CDTF">2014-01-17T04:19:56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