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0D81-7C2D-44D2-8A23-B896E780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917-0A4B-45C0-939B-183472DC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F6AD-1A38-41AE-8A57-A2599C49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0CC-1F09-4841-886C-5216E886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70D7-78D3-4236-A429-41FAD5E0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43C0-43CA-43FC-9111-D9E8B162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9760-E154-4267-9C2B-1D1D0E0C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AB09-D833-45E2-A06D-0D934239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E0B9-3C8F-41C4-A1F9-BE3D303F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C9B4-4328-46DE-8923-DE50157C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EA90-9EA3-4E3E-9EA1-917B2257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AA4-7924-495E-83E6-9C7ACE3B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47FF-7556-4402-AEB6-9210E3F1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8BF9-6EF1-454C-87B7-303F64E7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B959-736C-4225-8A6D-F5C4E55B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207D-EB2A-4733-8745-6D07EF18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0837-8DA1-4CD7-B2FA-F7BDBF12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8F0C-9ABB-4EE5-A7CF-DEADDE0B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005D-2F75-4682-9479-FB2A1D70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1C2-3428-4B0B-82AA-404EEC78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7B7-5F4C-4146-B0BC-B2C1B64F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145-F416-4A48-8311-6E9ECDA5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F1A-DF0F-46EE-832C-3CAF6344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EFB-DAB8-4C76-A75E-6340DF78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260A-0A49-4F6D-9B2A-14AC2F5888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E08E-70B2-459E-9E78-49E642AC5649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7d47d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f7d47d"/>
                </a:solidFill>
                <a:latin typeface="Times New Roman"/>
              </a:rPr>
              <a:t>Familie”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Picture 5" descr="64319127"/>
          <p:cNvPicPr/>
          <p:nvPr/>
        </p:nvPicPr>
        <p:blipFill>
          <a:blip r:embed="rId1"/>
          <a:stretch/>
        </p:blipFill>
        <p:spPr>
          <a:xfrm>
            <a:off x="596880" y="1598760"/>
            <a:ext cx="6718320" cy="44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Times New Roman"/>
              </a:rPr>
              <a:t>Grammatik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38160">
            <a:solidFill>
              <a:srgbClr val="2f1311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imes New Roman"/>
              </a:rPr>
              <a:t>Ich meine,dass das Einzelkind einsam ist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Я считаю, что единственному ребенку в семье одиноко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2209680" y="2743200"/>
            <a:ext cx="457200" cy="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2209680" y="2819520"/>
            <a:ext cx="457200" cy="0"/>
          </a:xfrm>
          <a:prstGeom prst="line">
            <a:avLst/>
          </a:prstGeom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d47d"/>
                </a:solidFill>
                <a:latin typeface="Times New Roman"/>
              </a:rPr>
              <a:t>Fragen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ie sind die Beziehungen in Ihrer Famili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elche Atmosphäre herrscht in Ihrer Famili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as denken die deutschen Jugendlichen 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ü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ber ihre Familie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Ist es gut oder schlecht, Geschwister zu habe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ie verhalten Sie sich zu den Geschwister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Times New Roman"/>
              </a:rPr>
              <a:t>Aktiv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99072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Das Idealbild von einer Familie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Karriere machen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Die emotionale Stabilität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Das Verhältnis zu+Dativ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Das Vertrauen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Das Misstrauen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Die Beziehung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schimpfen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loben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ablehnen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sich f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ü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r+( Akkusativ ) sorgen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sich um+(Akkusativ) k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ü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mmer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Diagram 25"/>
          <p:cNvGrpSpPr/>
          <p:nvPr/>
        </p:nvGrpSpPr>
        <p:grpSpPr>
          <a:xfrm>
            <a:off x="1173240" y="372960"/>
            <a:ext cx="5572080" cy="5572080"/>
            <a:chOff x="1173240" y="372960"/>
            <a:chExt cx="5572080" cy="5572080"/>
          </a:xfrm>
        </p:grpSpPr>
        <p:sp>
          <p:nvSpPr>
            <p:cNvPr id="199" name="_s1028"/>
            <p:cNvSpPr/>
            <p:nvPr/>
          </p:nvSpPr>
          <p:spPr>
            <a:xfrm flipH="1" flipV="1">
              <a:off x="2972880" y="2174400"/>
              <a:ext cx="492120" cy="4906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_s1029"/>
            <p:cNvSpPr/>
            <p:nvPr/>
          </p:nvSpPr>
          <p:spPr>
            <a:xfrm>
              <a:off x="1784520" y="985680"/>
              <a:ext cx="1393560" cy="139392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Times New Roman"/>
                </a:rPr>
                <a:t>Geschwister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_s1030"/>
            <p:cNvSpPr/>
            <p:nvPr/>
          </p:nvSpPr>
          <p:spPr>
            <a:xfrm flipH="1">
              <a:off x="2565360" y="3159000"/>
              <a:ext cx="695520" cy="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_s1031"/>
            <p:cNvSpPr/>
            <p:nvPr/>
          </p:nvSpPr>
          <p:spPr>
            <a:xfrm>
              <a:off x="1173240" y="2462040"/>
              <a:ext cx="1393920" cy="139392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1311"/>
                  </a:solidFill>
                  <a:latin typeface="Times New Roman"/>
                </a:rPr>
                <a:t>Die Grosseltern</a:t>
              </a: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_s1032"/>
            <p:cNvSpPr/>
            <p:nvPr/>
          </p:nvSpPr>
          <p:spPr>
            <a:xfrm flipH="1">
              <a:off x="2972880" y="3652920"/>
              <a:ext cx="492120" cy="4903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_s1033"/>
            <p:cNvSpPr/>
            <p:nvPr/>
          </p:nvSpPr>
          <p:spPr>
            <a:xfrm>
              <a:off x="1784520" y="3938760"/>
              <a:ext cx="1393560" cy="139356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1311"/>
                  </a:solidFill>
                  <a:latin typeface="Times New Roman"/>
                </a:rPr>
                <a:t>tolerant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_s1034"/>
            <p:cNvSpPr/>
            <p:nvPr/>
          </p:nvSpPr>
          <p:spPr>
            <a:xfrm>
              <a:off x="3957480" y="3855960"/>
              <a:ext cx="1800" cy="6955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_s1035"/>
            <p:cNvSpPr/>
            <p:nvPr/>
          </p:nvSpPr>
          <p:spPr>
            <a:xfrm>
              <a:off x="3260880" y="4551480"/>
              <a:ext cx="1393560" cy="139356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f1311"/>
                  </a:solidFill>
                  <a:latin typeface="Times New Roman"/>
                </a:rPr>
                <a:t>sich für j-n sorgen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_s1036"/>
            <p:cNvSpPr/>
            <p:nvPr/>
          </p:nvSpPr>
          <p:spPr>
            <a:xfrm>
              <a:off x="4451400" y="3651120"/>
              <a:ext cx="490320" cy="4921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_s1037"/>
            <p:cNvSpPr/>
            <p:nvPr/>
          </p:nvSpPr>
          <p:spPr>
            <a:xfrm>
              <a:off x="4738680" y="3940200"/>
              <a:ext cx="1393920" cy="139392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1311"/>
                  </a:solidFill>
                  <a:latin typeface="Times New Roman"/>
                </a:rPr>
                <a:t>streiten</a:t>
              </a: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_s1038"/>
            <p:cNvSpPr/>
            <p:nvPr/>
          </p:nvSpPr>
          <p:spPr>
            <a:xfrm>
              <a:off x="4654440" y="3159000"/>
              <a:ext cx="695520" cy="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_s1039"/>
            <p:cNvSpPr/>
            <p:nvPr/>
          </p:nvSpPr>
          <p:spPr>
            <a:xfrm>
              <a:off x="5351400" y="2462040"/>
              <a:ext cx="1393920" cy="139392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Times New Roman"/>
                </a:rPr>
                <a:t>sich um j-n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2f1311"/>
                  </a:solidFill>
                  <a:latin typeface="Times New Roman"/>
                </a:rPr>
                <a:t>kümmern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1" name="_s1040"/>
            <p:cNvSpPr/>
            <p:nvPr/>
          </p:nvSpPr>
          <p:spPr>
            <a:xfrm flipV="1">
              <a:off x="4449600" y="2174400"/>
              <a:ext cx="492120" cy="4921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2" name="_s1041"/>
            <p:cNvSpPr/>
            <p:nvPr/>
          </p:nvSpPr>
          <p:spPr>
            <a:xfrm>
              <a:off x="4738680" y="984240"/>
              <a:ext cx="1393920" cy="139392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Times New Roman"/>
                </a:rPr>
                <a:t>Das Vertrauen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3" name="_s1042"/>
            <p:cNvSpPr/>
            <p:nvPr/>
          </p:nvSpPr>
          <p:spPr>
            <a:xfrm flipV="1">
              <a:off x="3957480" y="1766880"/>
              <a:ext cx="0" cy="6969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1043"/>
            <p:cNvSpPr/>
            <p:nvPr/>
          </p:nvSpPr>
          <p:spPr>
            <a:xfrm>
              <a:off x="3260880" y="372960"/>
              <a:ext cx="1393560" cy="139392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Times New Roman"/>
                </a:rPr>
                <a:t>Die Eltern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_s1044"/>
            <p:cNvSpPr/>
            <p:nvPr/>
          </p:nvSpPr>
          <p:spPr>
            <a:xfrm>
              <a:off x="3260880" y="2463840"/>
              <a:ext cx="1393560" cy="139392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f1311"/>
                  </a:solidFill>
                  <a:latin typeface="Times New Roman"/>
                </a:rPr>
                <a:t>Familie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Times New Roman"/>
              </a:rPr>
              <a:t>Frage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ie sind die Beziehungen in Ihrer Famili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elche Atmosphäre herrscht in Ihrer Famili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Haben Sie Geschwister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Haben Sie einen Bruder oder eine Schwester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ie verhalten Sie sich zu Ihren Geschwister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Haben Sie Probleme mit ihne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imgpreview (1)"/>
          <p:cNvPicPr/>
          <p:nvPr/>
        </p:nvPicPr>
        <p:blipFill>
          <a:blip r:embed="rId1"/>
          <a:stretch/>
        </p:blipFill>
        <p:spPr>
          <a:xfrm>
            <a:off x="609480" y="609480"/>
            <a:ext cx="2200320" cy="1648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imgpreview"/>
          <p:cNvPicPr/>
          <p:nvPr/>
        </p:nvPicPr>
        <p:blipFill>
          <a:blip r:embed="rId2"/>
          <a:stretch/>
        </p:blipFill>
        <p:spPr>
          <a:xfrm>
            <a:off x="609480" y="2514600"/>
            <a:ext cx="2181240" cy="1666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imgpreview (2)"/>
          <p:cNvPicPr/>
          <p:nvPr/>
        </p:nvPicPr>
        <p:blipFill>
          <a:blip r:embed="rId3"/>
          <a:stretch/>
        </p:blipFill>
        <p:spPr>
          <a:xfrm>
            <a:off x="609480" y="4343400"/>
            <a:ext cx="2200320" cy="16765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25"/>
          <p:cNvSpPr/>
          <p:nvPr/>
        </p:nvSpPr>
        <p:spPr>
          <a:xfrm>
            <a:off x="2971800" y="1440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ü</a:t>
            </a:r>
            <a:r>
              <a:rPr b="1" lang="en-US" sz="2400" spc="-1" strike="noStrike">
                <a:solidFill>
                  <a:srgbClr val="2f1311"/>
                </a:solidFill>
                <a:latin typeface="Times New Roman"/>
              </a:rPr>
              <a:t>rgen (16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3048120" y="357336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imes New Roman"/>
              </a:rPr>
              <a:t>Thomas(15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3048120" y="5214960"/>
            <a:ext cx="26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imes New Roman"/>
              </a:rPr>
              <a:t>Stephan(16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394668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Times New Roman"/>
              </a:rPr>
              <a:t>Frage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ie verhalten sich diese deutschen Sch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ü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ler zu ihren Geschwister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arum ist J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ü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rgen manchmal neidisch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Ist es wirklich langweilig, ein Einzelkind zu sei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ie ist Stephans Schwester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ie verhält sie sich zu ihrem Bruder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Liebt sie ihren Bruder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Und Stepha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304920" y="304920"/>
          <a:ext cx="7162560" cy="6324480"/>
        </p:xfrm>
        <a:graphic>
          <a:graphicData uri="http://schemas.openxmlformats.org/drawingml/2006/table">
            <a:tbl>
              <a:tblPr/>
              <a:tblGrid>
                <a:gridCol w="3581280"/>
                <a:gridCol w="358128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Geschwister</a:t>
                      </a:r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2023e"/>
                      </a:solidFill>
                    </a:lnL>
                    <a:lnR w="28080">
                      <a:solidFill>
                        <a:srgbClr val="02023e"/>
                      </a:solidFill>
                    </a:lnR>
                    <a:lnT w="28080">
                      <a:solidFill>
                        <a:srgbClr val="02023e"/>
                      </a:solidFill>
                    </a:lnT>
                    <a:lnB w="28080">
                      <a:solidFill>
                        <a:srgbClr val="02023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ro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2023e"/>
                      </a:solidFill>
                    </a:lnL>
                    <a:lnR w="28080">
                      <a:solidFill>
                        <a:srgbClr val="02023e"/>
                      </a:solidFill>
                    </a:lnR>
                    <a:lnT w="28080">
                      <a:solidFill>
                        <a:srgbClr val="02023e"/>
                      </a:solidFill>
                    </a:lnT>
                    <a:lnB w="28080">
                      <a:solidFill>
                        <a:srgbClr val="0202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23e10"/>
                          </a:solidFill>
                          <a:latin typeface="Times New Roman"/>
                        </a:rPr>
                        <a:t>Contra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2023e"/>
                      </a:solidFill>
                    </a:lnL>
                    <a:lnR w="28080">
                      <a:solidFill>
                        <a:srgbClr val="02023e"/>
                      </a:solidFill>
                    </a:lnR>
                    <a:lnT w="28080">
                      <a:solidFill>
                        <a:srgbClr val="02023e"/>
                      </a:solidFill>
                    </a:lnT>
                    <a:lnB w="28080">
                      <a:solidFill>
                        <a:srgbClr val="02023e"/>
                      </a:solidFill>
                    </a:lnB>
                    <a:noFill/>
                  </a:tcPr>
                </a:tc>
              </a:tr>
              <a:tr h="51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2023e"/>
                      </a:solidFill>
                    </a:lnL>
                    <a:lnR w="28080">
                      <a:solidFill>
                        <a:srgbClr val="02023e"/>
                      </a:solidFill>
                    </a:lnR>
                    <a:lnT w="28080">
                      <a:solidFill>
                        <a:srgbClr val="02023e"/>
                      </a:solidFill>
                    </a:lnT>
                    <a:lnB w="28080">
                      <a:solidFill>
                        <a:srgbClr val="02023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2023e"/>
                      </a:solidFill>
                    </a:lnL>
                    <a:lnR w="28080">
                      <a:solidFill>
                        <a:srgbClr val="02023e"/>
                      </a:solidFill>
                    </a:lnR>
                    <a:lnT w="28080">
                      <a:solidFill>
                        <a:srgbClr val="02023e"/>
                      </a:solidFill>
                    </a:lnT>
                    <a:lnB w="28080">
                      <a:solidFill>
                        <a:srgbClr val="02023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Times New Roman"/>
              </a:rPr>
              <a:t>Redemittel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imes New Roman"/>
              </a:rPr>
              <a:t>Meiner Meinung nach ist es gut/nicht gut,dass…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imes New Roman"/>
              </a:rPr>
              <a:t>Ich meine/glaube,dass…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imes New Roman"/>
              </a:rPr>
              <a:t>Ich stehe auf dem Standpunkt,dass…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imes New Roman"/>
              </a:rPr>
              <a:t>Mir scheint,dass…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15:34:08Z</dcterms:created>
  <dc:creator>Кристина</dc:creator>
  <dc:description/>
  <dc:language>en-US</dc:language>
  <cp:lastModifiedBy>MolotkovaSV</cp:lastModifiedBy>
  <dcterms:modified xsi:type="dcterms:W3CDTF">2014-01-17T04:19:5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