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29E7-C23B-4152-9284-D632A2CF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2A4-3161-4B4D-8FBD-BB7DD589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6C36-B39E-43C0-9983-2643CA11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C15-D036-485F-87BB-B33BF822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CBB8-C2C9-4346-ADDF-BF62AE50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968C-D3C9-4253-A22F-97CC15AA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95FE-D8F7-46A7-888D-AEE7554C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B46A-57F3-4ECE-80D0-62593119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5DB8-80EA-4F8F-8AB3-300D92C9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F14B-D225-4563-A868-A7F1FD91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D671-1655-4354-B884-4CF30707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760-B872-4572-978C-0810E227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E540-A711-4206-A854-CE882283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8A16-96BA-4EE3-9C9D-CECBEA78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9B5E-6A2C-4885-B53B-C542C26D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9995-3D22-4785-86CA-95DE8D70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276A-265E-4611-B672-34FD4F36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FC7-C2CA-4831-8153-0109EF8B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2EF-082C-4ACA-9AEB-1A060AAE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B9D-82B0-47C5-BE87-437DABC9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73B-465F-4D5C-BDF5-5F58BCF0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B76-EF5B-409A-BA34-F4A96BEF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3EF-A2C2-4AE1-91E0-017111A7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6DC-CBB2-4D79-806E-A964631B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E2EE-1C20-4DE8-A9FA-886133EFA34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0FE6-8846-4A82-BB67-81E2C21856A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9;&#1091;&#1076;&#1072;&#1088;&#1089;&#1090;&#1074;&#1077;&#1085;&#1085;&#1099;&#1081;_&#1075;&#1077;&#1088;&#1072;&#1083;&#1100;&#1076;&#1080;&#1095;&#1077;&#1089;&#1082;&#1080;&#1081;_&#1088;&#1077;&#1075;&#1080;&#1089;&#1090;&#1088;_&#1056;&#1086;&#1089;&#1089;&#1080;&#1081;&#1089;&#1082;&#1086;&#1081;_&#1060;&#1077;&#1076;&#1077;&#1088;&#1072;&#1094;&#1080;&#1080;" TargetMode="External"/><Relationship Id="rId2" Type="http://schemas.openxmlformats.org/officeDocument/2006/relationships/hyperlink" Target="http://ru.wikipedia.org/wiki/&#1052;&#1091;&#1085;&#1080;&#1094;&#1080;&#1087;&#1072;&#1083;&#1100;&#1085;&#1072;&#1103;_&#1088;&#1077;&#1092;&#1086;&#1088;&#1084;&#1072;_&#1074;_&#1056;&#1086;&#1089;&#1089;&#1080;&#1080;_(2006)" TargetMode="External"/><Relationship Id="rId3" Type="http://schemas.openxmlformats.org/officeDocument/2006/relationships/hyperlink" Target="http://www.megabook.ru/MObjects2/data/pict2006/new/06s1398.jpg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ru.wikipedia.org/wiki/&#1060;&#1072;&#1081;&#1083;:Flag_of_Sergiev_Posad_(Moscow_oblast).pn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17.fotki.com/v284/photos/1/1362891/6517513/IMG_1141-vi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igcatalogphotos.ru/photos/countries-photos/europe-photos/russia-photos/sergiev-posad-photos/photo-3-sergiev-posad-russi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otos.lifeisphoto.ru/11/0/11635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alomniki.su/assets/images/countries/ru/sergiev-posad/STSL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rum.exler.ru/arc/uploads/52/post-1230111817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utotravel.ru/phalbum.php/014/26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лаг и гер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55640" y="2017800"/>
            <a:ext cx="459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лаг утверждён 29 апреля 1998 года как флаг Сергиево-Посадского района и внесён в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Государственный геральдический регистр Российской Федер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д номером 311. После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муниципальной реформы 2006 г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Сергиево-Посадский район и Сергиев Посад административно разделились, и флаг, разработанный на основе исторического герба Сергиева Посада, остался за городом. 15 ноября 2006 года официально утверждён флагом городского поселения Сергиев Посад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9" descr="Картинка 2 из 30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3933720"/>
            <a:ext cx="2640240" cy="272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Flag of Sergiev Posad (Moscow oblast)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2133720"/>
            <a:ext cx="23814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Фото Сергиево-Посадский государственный историко-художественный музей-заповедник Сергиев Посад (Московская область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Сергиево-Посадский государственный историко-художественный музей-заповедник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н в 1920г. В основе коллекции сокровища Троице-Сергиевой Лавры. В настоящее время в музее насчитывается порядка 110 тыс. экспонатов: иконы, средневековые рукописи и старопечатные книги, памятники лицевого и орнаментального шитья, золотого и серебряного дела, произведения живописи, графики, народного и современного декоративно-прикладного искусств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став музея входят следующие выставочные площадки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изница, Музейный комплекс "Конный двор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” 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вный корпу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аеведческий отде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Картинка 16 из 34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се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ahoma"/>
              </a:rPr>
              <a:t>Городское поселение Сергиев Посад - крупный научно-промышленный и транспортный узел общенационального и международного значения, научно-образовательный и духовный центр русского Православия, историко-культурный центр формирования и развития русского этноса. Здесь же расположен административный центр Сергиево-Посадского муниципального района. </a:t>
            </a:r>
            <a:br>
              <a:rPr sz="2400"/>
            </a:b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Население-</a:t>
            </a:r>
            <a:r>
              <a:rPr b="0" lang="ru-RU" sz="2400" spc="-1" strike="noStrike">
                <a:solidFill>
                  <a:srgbClr val="ffcf01"/>
                </a:solidFill>
                <a:latin typeface="Tahoma"/>
              </a:rPr>
              <a:t>110 000 челове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Картинка 56 из 1494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468000" cy="7068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олотое кольцо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f01"/>
                </a:solidFill>
                <a:latin typeface="Tahoma"/>
              </a:rPr>
              <a:t>Сергиев Посад</a:t>
            </a: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 – город, входящий в Золотое кольцо России, одна из главных его достопримечательностей. Сергиев Посад находится примерно в 70 км к северо-востоку от Москвы, это ближайший к столице город Золотого кольца, что делает его легко доступной целью для самостоятельного однодневного путешествия, либо первой остановкой в многодневном автомобильном путешествии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116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тория город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рия города тесно связана с Троице-Сергиевым монастырем, основанным Сергием Радонежским в 14 веке. По летописной легенде, два брата Стефан и Варфоломей (в иночестве принявший имя Сергия) ушли из городка Радонеж и на невысоком холме Маковец при слиянии рек Кончуры и Вондюги построили хижину-келью и небольшую деревянную церковь, освященную во имя Троицы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 временем вокруг церкви образовался монастырь. По легенде его игумен Сергий в 1380 году благословил на Куликовскую битву московского князя Дмитрия Донского. Среди участников Куликовской битвы были и двое легендарных богатырей-монахов Троицкой обители Александр Пересвет (боярин Бронский) и Родион (Андриан) Ослябя. После канонизации Сергия Радонежского в 1422 году значение монастыря возросло. На протяжении столетий монастырь являлся религиозным и культурным центром Росси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79 из 1494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мышленность, образование и куль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территории поселения осуществляют деятельность крупнейшие предприятия научно-промышленного комплекса, в том числе: ФГУП ФНПЦ НИИ прикладной химии, ОАО Загорский оптико-механический завод, ФГУП Электромеханический завод Звезда, ОАО Сергиево-Посадский мясокомбинат, ОАО Сергиево-Посадский хлебокомбинат, ЗАО Экспериментальный завод ДСП, ОАО НИИРП. В городе расположены крупные строительные, торговые, сельскохозяйственные предприят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йствуют Сергиево-Посадский Государственный историко-художественный музей-заповедник, художественно-педагогический Музей Игрушки Российской Академии образова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городском поселении Сергиев Посад расположены высшие учебные заведения - филиал Московского государственного университета приборостроения и информатики, Сергиево-Посадский филиал Московского государственного гуманитарного университета им. М.А.Шолохова, Сергиево-Посадское представительство Московской государственной академии коммунального хозяйстваи строительства, 3 учебных заведения начального профессионального образова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годня Сергиев Посад - один из крупнейших промышленных и культурных центров Подмосковь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Картинка 85 из 1494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73080" y="-41400"/>
            <a:ext cx="9217080" cy="6899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6" name="WordArt 6"/>
          <p:cNvSpPr txBox="1"/>
          <p:nvPr/>
        </p:nvSpPr>
        <p:spPr>
          <a:xfrm>
            <a:off x="1187280" y="549360"/>
            <a:ext cx="65739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стопримечательно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Фото Троице-Сергиев монастырь (Лавра) Сергиев Посад (Московская область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Троице-Сергиев монастырь (Лавра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н в первой половине 40-х гг. XVI в. сыном ростовского боярина Сергием Радонежским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архитектурные памятники Лавры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оицкий собор (1422), Крепостные стены (1540 - 50), Успенский собор (1585 г), Церковь Преподобного Сергия со зданием трапезной (1692), Пятиярусная колокольня высотой 88 метров (1770) и др. На колокольне установлен самый большой колокол в православном мире (около 70 тонн весом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Гефсиманский Черниговский ски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Гефсиманский Черниговский скит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щерный монастырь. Основан в 1844 г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йчас здесь действующий мужской монастырь. Проводятся экскурссии в пещеры. Есть святой источник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Фото Художественно - педагогический музей игрушки Сергиев Посад (Московская область)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99"/>
                </a:solidFill>
                <a:uFillTx/>
                <a:latin typeface="Tahoma"/>
              </a:rPr>
              <a:t>Художественно - педагогический музей игрушк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динственный в стране музей такого профиля, основой которого стали игрушки детей царской семьи, позднее дополненный коллекцией и ныне существующего в городе Научно - исследовательского института игруш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04:25:31Z</dcterms:created>
  <dc:creator>пк</dc:creator>
  <dc:description/>
  <dc:language>en-US</dc:language>
  <cp:lastModifiedBy>Samsung</cp:lastModifiedBy>
  <dcterms:modified xsi:type="dcterms:W3CDTF">2015-11-20T16:27:41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80000000000010250300207f7000400038000</vt:lpwstr>
  </property>
</Properties>
</file>