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68C-A9DD-4E84-A8DD-69B9856F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7A4-7553-4210-8C4C-2F2ABA94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8B7-0FC1-4DCE-8CEF-A97C7F78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08F-388B-44BD-BC19-36F20C5A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7A0-B11A-4BF5-B4CD-595E7BE6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530-4478-4D69-B1D1-67F3A58A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B34-F8CE-46EF-890B-B73FC12C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C83-BF62-4842-AF1A-D333891F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9BB-5DF2-4752-8576-8B2D0A53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EBA-E4A3-4349-B6D6-F6338EE7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3CA-271B-4A42-B8E7-29DD4B27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D1C-F4AB-46B4-9AE5-D4A001CD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DC4C-777C-45E5-9AA7-0CE199ECF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14440" y="571320"/>
            <a:ext cx="54291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Ваш ребёнок идёт в школу</a:t>
            </a:r>
            <a:endParaRPr b="0" lang="en-US" sz="4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285720" y="3643200"/>
            <a:ext cx="5429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веты и рекомендации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родителям будущих первоклассников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письму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учку ребёнок должен брать правильно и разогретыми пальцами. Раскраски замените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ведением по трафарету и штриховко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Линия должна быть направлена сверху вниз, справа налево, а если она кривая, то против часовой стрелки. Расстояние между линиями 0,5 см - это основной принцип нашего письменного алфавита. Запомните, дети также устают от этих занятий, как и от чт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математик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спешность в этом предмете зависит от освоения и умения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двигаться в трёхмерном пространстве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этому помогите ребёнку свободно владеть такими понятиями: "вверх-вниз", "вправо-влево", "прямо, по кругу, наискосок", "больше-меньше", "старше-моложе", "горизонтально-вертикально" и т.д.,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ъединять предметы в группы по одному признаку, сравнивать, владеть счётом в пределах 10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5840" y="-28620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ЗАПОМНИТ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 подготовке к школе вы должны оставаться для вашего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любящим и понимающим родител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и не брать на себя роль учителя!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ебёнок охотно делает только то, что у него получается, поэтому он не может быть ленивы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старайтесь достижения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 сравнив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и со своими, ни с достижениями старшего брата, ни одноклассников (не озвучивайте это при ребёнке, даже если они в его пользу!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ша любовь и терпение будут служить гарантом уверенного продвижения в учёбе для вашего малыш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К 1 классу ребёнок должен зна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свое имя и фамилию, адрес, имена членов семь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времена года, названия месяцев, дней недели, уметь различать цвет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пересчитывать группы предметов в пределах 10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увеличивать или уменьшать группу предметов на заданное количество (решение задач с группами предметов), уравнивать множество предме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сравнивать группы предметов -   больше, меньше или равн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объединять предметы в группы: мебель, транспорт, одежда, обувь, растения, животные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К 1 классу ребёнок должен знать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находить в группе предметов лиш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из группы «Одежда» убрать цветок).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высказывать свое мнение, построив законченное предлож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элементарные представления об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кружающем мире: о профессиях, о предметах живой и неживой природы, о правилах поведения в общественных мест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культурно общаться с другими детьм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шать старших и выполнять их распоряж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Placeholder 2" descr="111111.jpg"/>
          <p:cNvPicPr/>
          <p:nvPr/>
        </p:nvPicPr>
        <p:blipFill>
          <a:blip r:embed="rId1"/>
          <a:stretch/>
        </p:blipFill>
        <p:spPr>
          <a:xfrm>
            <a:off x="4340160" y="2011320"/>
            <a:ext cx="2408400" cy="2427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3564000" y="1197000"/>
            <a:ext cx="5146560" cy="3929040"/>
          </a:xfrm>
          <a:prstGeom prst="rect">
            <a:avLst/>
          </a:prstGeom>
          <a:ln w="0">
            <a:noFill/>
          </a:ln>
        </p:spPr>
      </p:pic>
      <p:sp>
        <p:nvSpPr>
          <p:cNvPr id="291" name="WordArt 7"/>
          <p:cNvSpPr txBox="1"/>
          <p:nvPr/>
        </p:nvSpPr>
        <p:spPr>
          <a:xfrm>
            <a:off x="4140360" y="0"/>
            <a:ext cx="4419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714240" y="428760"/>
            <a:ext cx="80010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53735"/>
                </a:solidFill>
                <a:latin typeface="Bookman Old Style"/>
              </a:rPr>
              <a:t>Критерии готовности к школ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физ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нравстве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психологическ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мыслите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528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Нравственная готовность: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строить отношения с учителем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общаться со сверстниками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жливость, сдержанность, послушани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ношение к себе (отсутствие заниженной самооценки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сравнивать достижения своего ребенка с достижениями других детей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принуждать ребенка работать на «оценк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до чаще хвалить своих детей, даже за малейшие успехи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62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ая готовность: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твердое желание учиться, получать зн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нимание важности и необходимости уче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роявление выраженного интереса к получению новых зна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умение слушать учителя и выполнять его задания (отнюдь не всегда интересны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мение общаться со сверстниками и взрослы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определенный уровень развития мышления, памяти, внимания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4240" y="-286200"/>
            <a:ext cx="8143920" cy="657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мелких мышц рук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ука развита хорошо, ребенок уверенно владеет карандашом, ножницами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пространственная организация, координация движени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умение правильно определять выше - ниже, вперед - назад, слева - справа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оординация в системе глаз - рук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может правильно перенести в тетрадь простейший графический образ - узор, фигуру - зрительно воспринимаемые на расстоянии (например, из книг)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логического мышле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находить сходства и различия разных предметов при сравнении, умение правильно объединять предметы в группы по общим существенным признакам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го внима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удерживать внимание на выполняемой работе в течение 15-20 минут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й памят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иболее важные показатели — это развитие мышления и реч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чень полезно учить ребенка строить несложные рассуждения, выводы, используя слова:«потому, что»; «если, то»; «поэтому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ите ребят задавать вопросы. Это очень полезно. Мышление всегда начинается с вопроса. Нельзя заставить мысль работать, если просто сказать «подумай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ечь является основой, на которой строится учебный процесс. Особенно важно владение монологической речью. Для ребенка это пересказ. После чтения задайте ребенку несколько вопросов по содержанию, попросите пересказа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обое внимание обратите на ориентировку в пространстве. Правильно ли ваш ребенок понимает и употребляет в речи предлоги и понятия: выше, ниже, на, над, под, снизу, сверху, между, перед., за, спереди от…, сзади от…, ближе, дальше, лево, право, левее, правее, ближе всего к…, дальше всего    от… и т.д.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72320" cy="64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жно учить не читать, а развивать речь. Не учить писать, а создавать условия для развития мелкой моторики рук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олноценного развития дошкольнику необходимо общаться со сверстниками, взрослыми, играть в развивающие игры слушать чтение книг, рисовать, лепить, фантазировать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м больше ребенок будет причастен к подготовке к школе, обсуждению будущего, чем больше он будет знать о школе, о новой жизни, тем легче ему будет личностно в нее вклю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же сейчас постарайтесь очень постепенно режим дня вашего малыша соотнести с режимом дня школьн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ебёнок умел слышать учителя, обращайте внимание, как он понимает ваши словесные инструкции и требования, которые должны быть чёткими, доброжелательными, немногословными, спокойны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угайте ребёнка будущими трудностями в школ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д школой и во время учёбы проверяйте зрение и слух ребёнк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1</cp:lastModifiedBy>
  <dcterms:modified xsi:type="dcterms:W3CDTF">2014-04-22T08:38:18Z</dcterms:modified>
  <cp:revision>20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