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BB7-B879-44ED-A12D-C35372EA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2BF-D6C2-45AF-8558-8E2BF775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EF2-9BB6-410C-8FF2-95CCD89C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4FF6-8D37-4841-8BB3-BD531C72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03A-4781-45CB-ABF2-5954D7F2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E28-081E-4055-A85F-CB7CC022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C17-F924-4A58-8484-6C58B485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F8B-C54F-4E93-975A-0F6F32A6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E16-F4FF-4466-9ACA-2B97A2C4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8C4-257E-4CEA-9C81-6D65FD68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927-0F82-40C6-BC2D-D46807F3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5502-F986-44B1-8ADD-4E3E0B69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A9A6-D105-4B8D-A01D-11CCC93674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14440" y="571320"/>
            <a:ext cx="542916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Bookman Old Style"/>
              </a:rPr>
              <a:t>Ваш ребёнок идёт в школу</a:t>
            </a:r>
            <a:endParaRPr b="0" lang="en-US" sz="4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285720" y="3643200"/>
            <a:ext cx="5429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Советы и рекомендации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родителям будущих первоклассников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одготовка к письму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учку ребёнок должен брать правильно и разогретыми пальцами. Раскраски замените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ведением по трафарету и штриховкой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Линия должна быть направлена сверху вниз, справа налево, а если она кривая, то против часовой стрелки. Расстояние между линиями 0,5 см - это основной принцип нашего письменного алфавита. Запомните, дети также устают от этих занятий, как и от чт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одготовка к математик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спешность в этом предмете зависит от освоения и умения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двигаться в трёхмерном пространстве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этому помогите ребёнку свободно владеть такими понятиями: "вверх-вниз", "вправо-влево", "прямо, по кругу, наискосок", "больше-меньше", "старше-моложе", "горизонтально-вертикально" и т.д.,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ъединять предметы в группы по одному признаку, сравнивать, владеть счётом в пределах 10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5840" y="-286200"/>
            <a:ext cx="857232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ЗАПОМНИТ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и подготовке к школе вы должны оставаться для вашего ребёнка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любящим и понимающим родителе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и не брать на себя роль учителя!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ебёнок охотно делает только то, что у него получается, поэтому он не может быть ленивы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старайтесь достижения ребёнка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 сравниват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ни со своими, ни с достижениями старшего брата, ни одноклассников (не озвучивайте это при ребёнке, даже если они в его пользу!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ша любовь и терпение будут служить гарантом уверенного продвижения в учёбе для вашего малыш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3840" y="2500200"/>
            <a:ext cx="864396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К 1 классу ребёнок должен зна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нать свое имя и фамилию, адрес, имена членов семь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нать времена года, названия месяцев, дней недели, уметь различать цвет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пересчитывать группы предметов в пределах 10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увеличивать или уменьшать группу предметов на заданное количество (решение задач с группами предметов), уравнивать множество предмет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сравнивать группы предметов -   больше, меньше или равн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объединять предметы в группы: мебель, транспорт, одежда, обувь, растения, животные и т. 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2500200"/>
            <a:ext cx="864396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К 1 классу ребёнок должен знать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находить в группе предметов лишн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из группы «Одежда» убрать цветок).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высказывать свое мнение, построив законченное предлож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элементарные представления об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кружающем мире: о профессиях, о предметах живой и неживой природы, о правилах поведения в общественных мест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культурно общаться с другими детьм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шать старших и выполнять их распоряже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Placeholder 2" descr="111111.jpg"/>
          <p:cNvPicPr/>
          <p:nvPr/>
        </p:nvPicPr>
        <p:blipFill>
          <a:blip r:embed="rId1"/>
          <a:stretch/>
        </p:blipFill>
        <p:spPr>
          <a:xfrm>
            <a:off x="4340160" y="2011320"/>
            <a:ext cx="2408400" cy="2427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3564000" y="1197000"/>
            <a:ext cx="5146560" cy="3929040"/>
          </a:xfrm>
          <a:prstGeom prst="rect">
            <a:avLst/>
          </a:prstGeom>
          <a:ln w="0">
            <a:noFill/>
          </a:ln>
        </p:spPr>
      </p:pic>
      <p:sp>
        <p:nvSpPr>
          <p:cNvPr id="291" name="WordArt 7"/>
          <p:cNvSpPr txBox="1"/>
          <p:nvPr/>
        </p:nvSpPr>
        <p:spPr>
          <a:xfrm>
            <a:off x="4140360" y="0"/>
            <a:ext cx="4419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643120" y="5076360"/>
            <a:ext cx="485784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714240" y="428760"/>
            <a:ext cx="80010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53735"/>
                </a:solidFill>
                <a:latin typeface="Bookman Old Style"/>
              </a:rPr>
              <a:t>Критерии готовности к школе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физичес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нравствен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психологическ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мыслите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8143920" cy="528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Нравственная готовность: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ние строить отношения с учителем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ние общаться со сверстниками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жливость, сдержанность, послушани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ношение к себе (отсутствие заниженной самооценки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льзя сравнивать достижения своего ребенка с достижениями других детей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льзя принуждать ребенка работать на «оценк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адо чаще хвалить своих детей, даже за малейшие успехи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8143920" cy="62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сихологическая готовность:</a:t>
            </a: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твердое желание учиться, получать зна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нимание важности и необходимости уче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роявление выраженного интереса к получению новых знан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умение слушать учителя и выполнять его задания (отнюдь не всегда интересны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умение общаться со сверстниками и взрослы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ебенок легко вступает в контакт, не агрессивен, умеет находить выход из проблемных ситуаций общения, признает авторитет взрослых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определенный уровень развития мышления, памяти, внимания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4240" y="-286200"/>
            <a:ext cx="8143920" cy="657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психологических функций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мелких мышц рук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ука развита хорошо, ребенок уверенно владеет карандашом, ножницами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пространственная организация, координация движений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умение правильно определять выше - ниже, вперед - назад, слева - справа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координация в системе глаз - рук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ебенок может правильно перенести в тетрадь простейший графический образ - узор, фигуру - зрительно воспринимаемые на расстоянии (например, из книг);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психологических функций:</a:t>
            </a: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логического мышлен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находить сходства и различия разных предметов при сравнении, умение правильно объединять предметы в группы по общим существенным признакам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произвольного вниман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удерживать внимание на выполняемой работе в течение 15-20 минут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произвольной памят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к опосредованному запоминанию: связывать запоминаемый материал с конкретным символом /слово - картинка либо слово - ситуация/)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Мыслительн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иболее важные показатели — это развитие мышления и реч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чень полезно учить ребенка строить несложные рассуждения, выводы, используя слова:«потому, что»; «если, то»; «поэтому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ите ребят задавать вопросы. Это очень полезно. Мышление всегда начинается с вопроса. Нельзя заставить мысль работать, если просто сказать «подумай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ечь является основой, на которой строится учебный процесс. Особенно важно владение монологической речью. Для ребенка это пересказ. После чтения задайте ребенку несколько вопросов по содержанию, попросите пересказать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обое внимание обратите на ориентировку в пространстве. Правильно ли ваш ребенок понимает и употребляет в речи предлоги и понятия: выше, ниже, на, над, под, снизу, сверху, между, перед., за, спереди от…, сзади от…, ближе, дальше, лево, право, левее, правее, ближе всего к…, дальше всего    от… и т.д. 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72320" cy="642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жно учить не читать, а развивать речь. Не учить писать, а создавать условия для развития мелкой моторики рук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полноценного развития дошкольнику необходимо общаться со сверстниками, взрослыми, играть в развивающие игры слушать чтение книг, рисовать, лепить, фантазировать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м больше ребенок будет причастен к подготовке к школе, обсуждению будущего, чем больше он будет знать о школе, о новой жизни, тем легче ему будет личностно в нее включиться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же сейчас постарайтесь очень постепенно режим дня вашего малыша соотнести с режимом дня школьник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ребёнок умел слышать учителя, обращайте внимание, как он понимает ваши словесные инструкции и требования, которые должны быть чёткими, доброжелательными, немногословными, спокойны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угайте ребёнка будущими трудностями в школе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д школой и во время учёбы проверяйте зрение и слух ребёнка.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19:14Z</dcterms:created>
  <dc:creator>сергей</dc:creator>
  <dc:description>Корпорация Майкрософт</dc:description>
  <cp:keywords>Фотоальбом</cp:keywords>
  <dc:language>en-US</dc:language>
  <cp:lastModifiedBy>1</cp:lastModifiedBy>
  <dcterms:modified xsi:type="dcterms:W3CDTF">2014-04-22T08:38:18Z</dcterms:modified>
  <cp:revision>20</cp:revision>
  <dc:subject>Фотоальбом</dc:subject>
  <dc:title>Ваш ребёнок идёт в шк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