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29.gif" ContentType="image/gif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3.gif" ContentType="image/gif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140-9A46-4EBB-BF82-C41837F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A56-EC72-4E36-8184-BDE968C0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04B-2BAC-489E-80FE-135E1198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F0E-46BA-435D-A8D5-581EB2EA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0CF-94E2-44B1-941F-4199A5A5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73D-53E2-400B-8807-62E6EC06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8D8-C050-4820-9F8C-657F6E99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DE7-F752-4D2C-8441-8390194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00D-F3FE-42C3-8DBC-5B700E4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A91-0AA5-4CC2-BB61-E2B1C75D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32E-4213-4CD1-AF4F-10E9843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0D5-6C6F-41EF-95BB-DB1C58E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688-3D92-4FB3-8F81-807FCF4DE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547640" y="260280"/>
            <a:ext cx="626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стров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сных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ов и букв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j0284145"/>
          <p:cNvPicPr/>
          <p:nvPr/>
        </p:nvPicPr>
        <p:blipFill>
          <a:blip r:embed="rId12"/>
          <a:stretch/>
        </p:blipFill>
        <p:spPr>
          <a:xfrm>
            <a:off x="9144000" y="3068640"/>
            <a:ext cx="1871640" cy="1773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140360" y="537372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курса «Обучение грамо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«Школа №1290»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юмина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2664E-006 L -0.61424 -0.01041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2928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7"/>
          <p:cNvSpPr/>
          <p:nvPr/>
        </p:nvSpPr>
        <p:spPr>
          <a:xfrm>
            <a:off x="8356680" y="48769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noFill/>
          <a:ln w="45720">
            <a:solidFill>
              <a:srgbClr val="ffd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8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ери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19" descr="ы"/>
          <p:cNvPicPr/>
          <p:nvPr/>
        </p:nvPicPr>
        <p:blipFill>
          <a:blip r:embed="rId4"/>
          <a:stretch/>
        </p:blipFill>
        <p:spPr>
          <a:xfrm>
            <a:off x="1042920" y="465300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Копия i"/>
          <p:cNvPicPr/>
          <p:nvPr/>
        </p:nvPicPr>
        <p:blipFill>
          <a:blip r:embed="rId5"/>
          <a:stretch/>
        </p:blipFill>
        <p:spPr>
          <a:xfrm>
            <a:off x="3708360" y="3429000"/>
            <a:ext cx="1008000" cy="75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i"/>
          <p:cNvPicPr/>
          <p:nvPr/>
        </p:nvPicPr>
        <p:blipFill>
          <a:blip r:embed="rId6"/>
          <a:stretch/>
        </p:blipFill>
        <p:spPr>
          <a:xfrm>
            <a:off x="3059280" y="5589720"/>
            <a:ext cx="99036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Копия и"/>
          <p:cNvPicPr/>
          <p:nvPr/>
        </p:nvPicPr>
        <p:blipFill>
          <a:blip r:embed="rId7"/>
          <a:stretch/>
        </p:blipFill>
        <p:spPr>
          <a:xfrm>
            <a:off x="6156360" y="364500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и"/>
          <p:cNvPicPr/>
          <p:nvPr/>
        </p:nvPicPr>
        <p:blipFill>
          <a:blip r:embed="rId8"/>
          <a:stretch/>
        </p:blipFill>
        <p:spPr>
          <a:xfrm>
            <a:off x="5867280" y="5300640"/>
            <a:ext cx="99072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Копия ы"/>
          <p:cNvPicPr/>
          <p:nvPr/>
        </p:nvPicPr>
        <p:blipFill>
          <a:blip r:embed="rId9"/>
          <a:stretch/>
        </p:blipFill>
        <p:spPr>
          <a:xfrm>
            <a:off x="7524720" y="472428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6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60315E-007 L 0.07187 -0.20467 E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19796E-007 L 0.03247 -0.13668 E">
                                      <p:cBhvr>
                                        <p:cTn id="8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L -0.70781 -0.10152 E">
                                      <p:cBhvr>
                                        <p:cTn id="9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8"/>
          <p:cNvPicPr/>
          <p:nvPr/>
        </p:nvPicPr>
        <p:blipFill>
          <a:blip r:embed="rId2"/>
          <a:stretch/>
        </p:blipFill>
        <p:spPr>
          <a:xfrm>
            <a:off x="1397160" y="3429000"/>
            <a:ext cx="6349680" cy="3060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 букву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2268360" y="765000"/>
            <a:ext cx="42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4" descr="sun_2"/>
          <p:cNvPicPr/>
          <p:nvPr/>
        </p:nvPicPr>
        <p:blipFill>
          <a:blip r:embed="rId4"/>
          <a:stretch/>
        </p:blipFill>
        <p:spPr>
          <a:xfrm>
            <a:off x="6012000" y="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ouse28"/>
          <p:cNvPicPr/>
          <p:nvPr/>
        </p:nvPicPr>
        <p:blipFill>
          <a:blip r:embed="rId5"/>
          <a:stretch/>
        </p:blipFill>
        <p:spPr>
          <a:xfrm>
            <a:off x="1187280" y="3429000"/>
            <a:ext cx="4680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2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Рисунок1"/>
          <p:cNvPicPr/>
          <p:nvPr/>
        </p:nvPicPr>
        <p:blipFill>
          <a:blip r:embed="rId2"/>
          <a:stretch/>
        </p:blipFill>
        <p:spPr>
          <a:xfrm>
            <a:off x="2556000" y="1268280"/>
            <a:ext cx="6192720" cy="5185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23"/>
          <p:cNvSpPr txBox="1"/>
          <p:nvPr/>
        </p:nvSpPr>
        <p:spPr>
          <a:xfrm>
            <a:off x="826920" y="18900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ршрут путешеств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25">
            <a:hlinkClick r:id="rId5" action="ppaction://hlinksldjump"/>
          </p:cNvPr>
          <p:cNvSpPr/>
          <p:nvPr/>
        </p:nvSpPr>
        <p:spPr>
          <a:xfrm>
            <a:off x="4859280" y="350028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>
            <a:hlinkClick r:id="rId6" action="ppaction://hlinksldjump"/>
          </p:cNvPr>
          <p:cNvSpPr/>
          <p:nvPr/>
        </p:nvSpPr>
        <p:spPr>
          <a:xfrm>
            <a:off x="5724360" y="321300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">
            <a:hlinkClick r:id="rId7" action="ppaction://hlinksldjump"/>
          </p:cNvPr>
          <p:cNvSpPr/>
          <p:nvPr/>
        </p:nvSpPr>
        <p:spPr>
          <a:xfrm>
            <a:off x="6516720" y="3068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8">
            <a:hlinkClick r:id="rId8" action="ppaction://hlinksldjump"/>
          </p:cNvPr>
          <p:cNvSpPr/>
          <p:nvPr/>
        </p:nvSpPr>
        <p:spPr>
          <a:xfrm>
            <a:off x="7164360" y="335772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0">
            <a:hlinkClick r:id="rId9" action="ppaction://hlinksldjump"/>
          </p:cNvPr>
          <p:cNvSpPr/>
          <p:nvPr/>
        </p:nvSpPr>
        <p:spPr>
          <a:xfrm>
            <a:off x="6732720" y="4149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">
            <a:hlinkClick r:id="rId10" action="ppaction://hlinksldjump"/>
          </p:cNvPr>
          <p:cNvSpPr/>
          <p:nvPr/>
        </p:nvSpPr>
        <p:spPr>
          <a:xfrm>
            <a:off x="6012000" y="458136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2">
            <a:hlinkClick r:id="rId11" action="ppaction://hlinksldjump"/>
          </p:cNvPr>
          <p:cNvSpPr/>
          <p:nvPr/>
        </p:nvSpPr>
        <p:spPr>
          <a:xfrm>
            <a:off x="5076720" y="450864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4">
            <a:hlinkClick r:id="rId12" action="ppaction://hlinksldjump"/>
          </p:cNvPr>
          <p:cNvSpPr/>
          <p:nvPr/>
        </p:nvSpPr>
        <p:spPr>
          <a:xfrm>
            <a:off x="435600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250920" y="5877000"/>
            <a:ext cx="1009440" cy="765000"/>
          </a:xfrm>
          <a:prstGeom prst="leftArrow">
            <a:avLst>
              <a:gd name="adj1" fmla="val 50000"/>
              <a:gd name="adj2" fmla="val 329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Копия j0284145"/>
          <p:cNvPicPr/>
          <p:nvPr/>
        </p:nvPicPr>
        <p:blipFill>
          <a:blip r:embed="rId13"/>
          <a:stretch/>
        </p:blipFill>
        <p:spPr>
          <a:xfrm>
            <a:off x="5292720" y="3429000"/>
            <a:ext cx="1187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63737E-006 L 0.52569 -0.43525 E">
                                      <p:cBhvr>
                                        <p:cTn id="44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2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дерево"/>
          <p:cNvPicPr/>
          <p:nvPr/>
        </p:nvPicPr>
        <p:blipFill>
          <a:blip r:embed="rId2"/>
          <a:stretch/>
        </p:blipFill>
        <p:spPr>
          <a:xfrm>
            <a:off x="68436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112366"/>
          <p:cNvPicPr/>
          <p:nvPr/>
        </p:nvPicPr>
        <p:blipFill>
          <a:blip r:embed="rId3"/>
          <a:stretch/>
        </p:blipFill>
        <p:spPr>
          <a:xfrm>
            <a:off x="611280" y="404640"/>
            <a:ext cx="2755800" cy="316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36903"/>
          <p:cNvPicPr/>
          <p:nvPr/>
        </p:nvPicPr>
        <p:blipFill>
          <a:blip r:embed="rId4"/>
          <a:stretch/>
        </p:blipFill>
        <p:spPr>
          <a:xfrm>
            <a:off x="3851280" y="-100080"/>
            <a:ext cx="3154320" cy="279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j0354239"/>
          <p:cNvPicPr/>
          <p:nvPr/>
        </p:nvPicPr>
        <p:blipFill>
          <a:blip r:embed="rId5"/>
          <a:stretch/>
        </p:blipFill>
        <p:spPr>
          <a:xfrm>
            <a:off x="539640" y="3429000"/>
            <a:ext cx="2854440" cy="31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j0337914"/>
          <p:cNvPicPr/>
          <p:nvPr/>
        </p:nvPicPr>
        <p:blipFill>
          <a:blip r:embed="rId6"/>
          <a:stretch/>
        </p:blipFill>
        <p:spPr>
          <a:xfrm>
            <a:off x="4140360" y="4581360"/>
            <a:ext cx="2841480" cy="211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0238703"/>
          <p:cNvPicPr/>
          <p:nvPr/>
        </p:nvPicPr>
        <p:blipFill>
          <a:blip r:embed="rId7"/>
          <a:stretch/>
        </p:blipFill>
        <p:spPr>
          <a:xfrm>
            <a:off x="6012000" y="198900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2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539640" y="1628640"/>
            <a:ext cx="1584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708360" y="1557360"/>
            <a:ext cx="15778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6659640" y="1628640"/>
            <a:ext cx="1587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6443640" y="4076640"/>
            <a:ext cx="16556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468360" y="4005360"/>
            <a:ext cx="18334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3564000" y="4076640"/>
            <a:ext cx="194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сные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IMG_2609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"/>
          <p:cNvPicPr/>
          <p:nvPr/>
        </p:nvPicPr>
        <p:blipFill>
          <a:blip r:embed="rId3"/>
          <a:stretch/>
        </p:blipFill>
        <p:spPr>
          <a:xfrm>
            <a:off x="2124000" y="4172040"/>
            <a:ext cx="4765680" cy="2685960"/>
          </a:xfrm>
          <a:prstGeom prst="rect">
            <a:avLst/>
          </a:prstGeom>
          <a:ln w="0">
            <a:noFill/>
          </a:ln>
        </p:spPr>
      </p:pic>
      <p:sp>
        <p:nvSpPr>
          <p:cNvPr id="78" name="Oval 6"/>
          <p:cNvSpPr/>
          <p:nvPr/>
        </p:nvSpPr>
        <p:spPr>
          <a:xfrm>
            <a:off x="2484360" y="4292640"/>
            <a:ext cx="9352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3419640" y="4149720"/>
            <a:ext cx="223200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5580000" y="4292640"/>
            <a:ext cx="1206720" cy="11923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w="760" h="751">
                <a:moveTo>
                  <a:pt x="0" y="172"/>
                </a:moveTo>
                <a:cubicBezTo>
                  <a:pt x="85" y="165"/>
                  <a:pt x="177" y="123"/>
                  <a:pt x="262" y="116"/>
                </a:cubicBezTo>
                <a:cubicBezTo>
                  <a:pt x="343" y="97"/>
                  <a:pt x="408" y="73"/>
                  <a:pt x="487" y="58"/>
                </a:cubicBezTo>
                <a:cubicBezTo>
                  <a:pt x="568" y="29"/>
                  <a:pt x="658" y="29"/>
                  <a:pt x="739" y="0"/>
                </a:cubicBezTo>
                <a:cubicBezTo>
                  <a:pt x="756" y="92"/>
                  <a:pt x="735" y="180"/>
                  <a:pt x="760" y="305"/>
                </a:cubicBezTo>
                <a:cubicBezTo>
                  <a:pt x="757" y="425"/>
                  <a:pt x="758" y="624"/>
                  <a:pt x="737" y="742"/>
                </a:cubicBezTo>
                <a:cubicBezTo>
                  <a:pt x="735" y="751"/>
                  <a:pt x="675" y="696"/>
                  <a:pt x="662" y="692"/>
                </a:cubicBezTo>
                <a:cubicBezTo>
                  <a:pt x="614" y="677"/>
                  <a:pt x="578" y="646"/>
                  <a:pt x="529" y="634"/>
                </a:cubicBezTo>
                <a:cubicBezTo>
                  <a:pt x="452" y="599"/>
                  <a:pt x="282" y="518"/>
                  <a:pt x="200" y="481"/>
                </a:cubicBezTo>
                <a:lnTo>
                  <a:pt x="33" y="414"/>
                </a:lnTo>
                <a:cubicBezTo>
                  <a:pt x="4" y="391"/>
                  <a:pt x="34" y="381"/>
                  <a:pt x="28" y="341"/>
                </a:cubicBezTo>
                <a:cubicBezTo>
                  <a:pt x="23" y="268"/>
                  <a:pt x="17" y="230"/>
                  <a:pt x="0" y="172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2448000" y="40464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овьиная роща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"/>
          <p:cNvPicPr/>
          <p:nvPr/>
        </p:nvPicPr>
        <p:blipFill>
          <a:blip r:embed="rId2"/>
          <a:stretch/>
        </p:blipFill>
        <p:spPr>
          <a:xfrm>
            <a:off x="1332000" y="2833560"/>
            <a:ext cx="6435720" cy="402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Cj02875670000[1]"/>
          <p:cNvPicPr/>
          <p:nvPr/>
        </p:nvPicPr>
        <p:blipFill>
          <a:blip r:embed="rId3"/>
          <a:stretch/>
        </p:blipFill>
        <p:spPr>
          <a:xfrm>
            <a:off x="4500720" y="3860640"/>
            <a:ext cx="3587760" cy="2840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пиши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-0.01041 L -1.05851 -0.69981 E">
                                      <p:cBhvr>
                                        <p:cTn id="7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29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bilet3"/>
          <p:cNvPicPr/>
          <p:nvPr/>
        </p:nvPicPr>
        <p:blipFill>
          <a:blip r:embed="rId2"/>
          <a:stretch/>
        </p:blipFill>
        <p:spPr>
          <a:xfrm>
            <a:off x="826920" y="3645000"/>
            <a:ext cx="6724800" cy="2771640"/>
          </a:xfrm>
          <a:prstGeom prst="rect">
            <a:avLst/>
          </a:prstGeom>
          <a:ln w="0">
            <a:noFill/>
          </a:ln>
        </p:spPr>
      </p:pic>
      <p:sp>
        <p:nvSpPr>
          <p:cNvPr id="91" name="WordArt 20"/>
          <p:cNvSpPr txBox="1"/>
          <p:nvPr/>
        </p:nvSpPr>
        <p:spPr>
          <a:xfrm>
            <a:off x="1116000" y="907920"/>
            <a:ext cx="712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ркни лишние букв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mile58"/>
          <p:cNvPicPr/>
          <p:nvPr/>
        </p:nvPicPr>
        <p:blipFill>
          <a:blip r:embed="rId1"/>
          <a:stretch/>
        </p:blipFill>
        <p:spPr>
          <a:xfrm>
            <a:off x="-73080" y="-36360"/>
            <a:ext cx="9217080" cy="6929280"/>
          </a:xfrm>
          <a:prstGeom prst="rect">
            <a:avLst/>
          </a:prstGeom>
          <a:ln w="0">
            <a:noFill/>
          </a:ln>
        </p:spPr>
      </p:pic>
      <p:sp>
        <p:nvSpPr>
          <p:cNvPr id="93" name="WordArt 7"/>
          <p:cNvSpPr txBox="1"/>
          <p:nvPr/>
        </p:nvSpPr>
        <p:spPr>
          <a:xfrm>
            <a:off x="1979640" y="3789360"/>
            <a:ext cx="863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7596360" y="3860640"/>
            <a:ext cx="72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3564000" y="378936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4859280" y="378936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611280" y="3860640"/>
            <a:ext cx="792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6227640" y="386064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9" name="WordArt 19"/>
          <p:cNvSpPr txBox="1"/>
          <p:nvPr/>
        </p:nvSpPr>
        <p:spPr>
          <a:xfrm>
            <a:off x="4932360" y="5516640"/>
            <a:ext cx="72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0" name="WordArt 20"/>
          <p:cNvSpPr txBox="1"/>
          <p:nvPr/>
        </p:nvSpPr>
        <p:spPr>
          <a:xfrm>
            <a:off x="2050920" y="5516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1" name="WordArt 21"/>
          <p:cNvSpPr txBox="1"/>
          <p:nvPr/>
        </p:nvSpPr>
        <p:spPr>
          <a:xfrm>
            <a:off x="7451640" y="5516640"/>
            <a:ext cx="8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2" name="WordArt 22"/>
          <p:cNvSpPr txBox="1"/>
          <p:nvPr/>
        </p:nvSpPr>
        <p:spPr>
          <a:xfrm>
            <a:off x="684360" y="5516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3" name="WordArt 23"/>
          <p:cNvSpPr txBox="1"/>
          <p:nvPr/>
        </p:nvSpPr>
        <p:spPr>
          <a:xfrm>
            <a:off x="6227640" y="5516640"/>
            <a:ext cx="863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4" name="WordArt 24"/>
          <p:cNvSpPr txBox="1"/>
          <p:nvPr/>
        </p:nvSpPr>
        <p:spPr>
          <a:xfrm>
            <a:off x="3564000" y="5516640"/>
            <a:ext cx="79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5" name="AutoShape 25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ди пару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Freeform 34"/>
          <p:cNvSpPr/>
          <p:nvPr/>
        </p:nvSpPr>
        <p:spPr>
          <a:xfrm>
            <a:off x="8356680" y="48769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noFill/>
          <a:ln w="45720">
            <a:solidFill>
              <a:srgbClr val="ffd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1476360" y="2637000"/>
            <a:ext cx="122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2565360"/>
            <a:ext cx="1081080" cy="11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16360" y="2852640"/>
            <a:ext cx="936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3995640" y="2924280"/>
            <a:ext cx="1584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796000" y="278136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451640" y="2781360"/>
            <a:ext cx="1368360" cy="79200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1763640" y="2851200"/>
            <a:ext cx="576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539640" y="2924280"/>
            <a:ext cx="57636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7740720" y="2852640"/>
            <a:ext cx="71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8" name="WordArt 14"/>
          <p:cNvSpPr txBox="1"/>
          <p:nvPr/>
        </p:nvSpPr>
        <p:spPr>
          <a:xfrm>
            <a:off x="2987640" y="2852640"/>
            <a:ext cx="790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9" name="WordArt 15"/>
          <p:cNvSpPr txBox="1"/>
          <p:nvPr/>
        </p:nvSpPr>
        <p:spPr>
          <a:xfrm>
            <a:off x="6227640" y="278136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WordArt 16"/>
          <p:cNvSpPr txBox="1"/>
          <p:nvPr/>
        </p:nvSpPr>
        <p:spPr>
          <a:xfrm>
            <a:off x="4572000" y="2924280"/>
            <a:ext cx="6476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250920" y="5445000"/>
            <a:ext cx="1081080" cy="1150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6516720" y="5589720"/>
            <a:ext cx="122400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7956720" y="5877000"/>
            <a:ext cx="936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4"/>
          <p:cNvSpPr/>
          <p:nvPr/>
        </p:nvSpPr>
        <p:spPr>
          <a:xfrm>
            <a:off x="2987640" y="5877000"/>
            <a:ext cx="1584360" cy="71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716360" y="5950080"/>
            <a:ext cx="1582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1547640" y="5805360"/>
            <a:ext cx="1368720" cy="792360"/>
          </a:xfrm>
          <a:custGeom>
            <a:avLst/>
            <a:gdLst>
              <a:gd name="textAreaLeft" fmla="*/ 285120 w 1368720"/>
              <a:gd name="textAreaRight" fmla="*/ 1083600 w 1368720"/>
              <a:gd name="textAreaTop" fmla="*/ 164880 h 792360"/>
              <a:gd name="textAreaBottom" fmla="*/ 627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8459640" y="148428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45:51Z</dcterms:created>
  <dc:creator>Тюмин</dc:creator>
  <dc:description/>
  <dc:language>en-US</dc:language>
  <cp:lastModifiedBy>Тюмина Евгения Станиславовна</cp:lastModifiedBy>
  <dcterms:modified xsi:type="dcterms:W3CDTF">2022-02-22T07:27:31Z</dcterms:modified>
  <cp:revision>42</cp:revision>
  <dc:subject/>
  <dc:title>Слайд 1</dc:title>
</cp:coreProperties>
</file>