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media/image9.jpeg" ContentType="image/jpeg"/>
  <Override PartName="/ppt/media/image1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4FA-D30F-4178-BABF-A7D53E9C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A00-6679-4059-994A-46211DC0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E95-F250-4124-949E-5B6DFB66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CAE-A931-450A-B20D-AB3FD2DB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19B2-D643-44F8-AC9A-FD339CEB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18E-C109-44EE-B928-849EAA7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C0F4-54FD-450F-BD0E-7B8347A3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CAA-014C-4CC8-BA5D-EF63751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2323-082E-48D7-929E-1E7117B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FFE-DCC8-4613-BA42-4FC69E8D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3F5D-FBAC-49C4-99F4-8733417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FFD-5275-44C6-A8DA-3832852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6EFB-85A9-4C2A-818D-D01D40F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8728-8C6D-48D7-8029-39A89A7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43C-BE9E-44E3-B1EF-B5AC829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88A-39AD-4406-B3E9-0185A206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8D2-0EC0-4748-96C1-9387E378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2365-3CFB-4D5C-90F7-A049FF91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6219-94A6-4612-9193-7AD5D1F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0070-E450-4287-81E4-091BA8A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9745-B408-461E-8BED-6E3C16C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8837-1230-47FB-8CB8-B485EE5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532-9396-4B66-AD31-7FB4C0BE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146A-FE07-44B5-A062-C10820D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0E0A-4341-444F-AD3D-CCA5AF2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7A0D-4B72-4334-A002-E4A6456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3F7A-1FAD-4709-AA95-BA04E62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B23F-C1EF-4ACF-8E77-5CA12ACF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8E65E-BB5A-4187-ABB3-98308B09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CEF8-1E89-48C6-A559-FD17BC43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1C1-CDED-4C7F-B577-25EEADD3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C03-83F2-48E0-BEF9-C8E4309B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142-159A-4C8D-A453-E8C53EAA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275-BB66-461F-9019-33FE9EF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6A4-0FAD-4F67-8983-78B9F5F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BE6-9848-4BDC-9035-5DA5FC6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BA63-C85A-484D-9F1B-DC465AAC9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C57-D10D-45A6-86F7-1D9F1A5C5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4F5E-3862-410A-82EF-E027A358B0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ьмое январ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Обобщение и систематизация изученного  по теме «Наречи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-108000" y="1928880"/>
            <a:ext cx="939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Arial"/>
              </a:rPr>
              <a:t>Зада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 выпишите словосочетания с наречия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Над какими орфограммами наречий вы работ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 rot="1147800">
            <a:off x="6857640" y="4285800"/>
            <a:ext cx="215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34290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ЗОВИТЕ ВСЕ ОРФОГРАММЫ НАРЕЧИЙ, КОТОРЫЕ МЫ ИЗУЧИЛ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13" descr="182844"/>
          <p:cNvPicPr/>
          <p:nvPr/>
        </p:nvPicPr>
        <p:blipFill>
          <a:blip r:embed="rId1"/>
          <a:srcRect l="0" t="0" r="0" b="167"/>
          <a:stretch/>
        </p:blipFill>
        <p:spPr>
          <a:xfrm>
            <a:off x="1785960" y="428760"/>
            <a:ext cx="464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Орфограммы наречий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 нареч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итное, раздельное и дефисное написани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 и НН в нареч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Е-И в приставках НЕ- и НИ- отрицательных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О и Е после шипящих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О и А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ягкий знак после шипящих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Задание: Напишите «+», если НЕ пишется слитно: «-» - раздельн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есьма (не)быстро двигался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(Не)случайно произошло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асположились (не)далеко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Совсем (не)хорошо обошл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Бежали (не)быстро, а медл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Взаимопроверка по эталону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-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+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+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-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те правил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цените себя по пятибалльн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друзья"/>
          <p:cNvPicPr/>
          <p:nvPr/>
        </p:nvPicPr>
        <p:blipFill>
          <a:blip r:embed="rId1"/>
          <a:stretch/>
        </p:blipFill>
        <p:spPr>
          <a:xfrm>
            <a:off x="4114800" y="3554280"/>
            <a:ext cx="3100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апишите А или О на конце наречи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давн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лев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Изредк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Затемн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Досух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начал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1_3"/>
          <p:cNvPicPr/>
          <p:nvPr/>
        </p:nvPicPr>
        <p:blipFill>
          <a:blip r:embed="rId1"/>
          <a:stretch/>
        </p:blipFill>
        <p:spPr>
          <a:xfrm>
            <a:off x="4643280" y="1714680"/>
            <a:ext cx="3214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j0294973"/>
          <p:cNvPicPr/>
          <p:nvPr/>
        </p:nvPicPr>
        <p:blipFill>
          <a:blip r:embed="rId1"/>
          <a:stretch/>
        </p:blipFill>
        <p:spPr>
          <a:xfrm>
            <a:off x="4143240" y="1857240"/>
            <a:ext cx="324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гра «Третий лишний».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ыпишите лишнее слов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хорош.., свеж.., е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оряч.., певуч.., думае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уж.., навзнич.., наотма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замуж.., сплош.., невтерпёж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Расскажите о правописании ь знака на конце наречий после шипя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одобрать по смыслу подходящее наречие. Записать, выделить орфограмму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зья (не, ни)куда не пошли. Маме было (не, ни) когда. Котёнка (не, ни) где не было видно. Ей было (не, ни)откуда ждать пис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Над какой орфограммой вы работали, расскажите прави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Сколько «Н» надо писать в данных наречиях? Вспомните правило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) взволнов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) пут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) организов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медле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отваж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уть решен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ставленных задач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речие как часть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мысловые группы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тепени сравнения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рфограммы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Употребление нареч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 rot="21156000">
            <a:off x="6572160" y="3714480"/>
            <a:ext cx="21751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Игра «Корректор». 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Зада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ишите, исправляя ошибки в написании наречий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ь чуть, не брежно, по гусиному, бок-о-бок, коекак, не от куда, в перёд, от части, безумолку, точ в точь, подвое, видимо невиди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AN00790_"/>
          <p:cNvPicPr/>
          <p:nvPr/>
        </p:nvPicPr>
        <p:blipFill>
          <a:blip r:embed="rId1"/>
          <a:stretch/>
        </p:blipFill>
        <p:spPr>
          <a:xfrm>
            <a:off x="5072040" y="371484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уть-чуть, небрежно, по-гусиному, бок о бок, кое-как, неоткуда, вперёд, отчасти, без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ку, точь-в-точь, п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двое, видимо-невидим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j0294973"/>
          <p:cNvPicPr/>
          <p:nvPr/>
        </p:nvPicPr>
        <p:blipFill>
          <a:blip r:embed="rId1"/>
          <a:stretch/>
        </p:blipFill>
        <p:spPr>
          <a:xfrm>
            <a:off x="5894280" y="3571920"/>
            <a:ext cx="3249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йдите в сказке фразеологизмы, выпишите их и подберите к ним синонимы – наречия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таром лесу жили Стрекоза и Муравей. Всё лето Муравей заготавливал еду. Сломя голову бежал он на поле, до которого было рукой подать, и возвращался с пшеничными зёрнами. Соседка Стрекоза к зиме не готов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упили холода. Стрекоза увидела сытого Муравья и говор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У тебя запасов накопилось, куры не клюют, а у меня их совсем нет. Поделись-ка, дружоче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Муравей ей в отв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ы, соседка, всё лето работала спустя рукава. Вот так и продолжа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мя голову – быс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й подать – близ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ы не клюют – м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устя рукава – плох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928880" y="4071960"/>
            <a:ext cx="5214960" cy="2571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312332[1]"/>
          <p:cNvPicPr/>
          <p:nvPr/>
        </p:nvPicPr>
        <p:blipFill>
          <a:blip r:embed="rId2"/>
          <a:stretch/>
        </p:blipFill>
        <p:spPr>
          <a:xfrm>
            <a:off x="6500880" y="214200"/>
            <a:ext cx="1793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готовиться к контрольному диктант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Приготовьтесь выполнить тест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Содержимое 4" descr="мальчик думает.gif"/>
          <p:cNvPicPr/>
          <p:nvPr/>
        </p:nvPicPr>
        <p:blipFill>
          <a:blip r:embed="rId1"/>
          <a:stretch/>
        </p:blipFill>
        <p:spPr>
          <a:xfrm>
            <a:off x="2714760" y="2214720"/>
            <a:ext cx="37144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1. Найдите неверный отв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Наречие отвечает на вопросы где? куда? откуда? почему? зачем? как?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Наречие — самостоятельная часть реч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Наречие имеет окончани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Наречие не имеет окончания.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2.Найдите нареч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лицо зло; Б) смотреть зло; В) зло не победит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3.Найдите предложение, в котором наречие обозначает причин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За правое дело сражайся сме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Сослепу я наткнулся на бурел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Издалека доносилась песн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Он нарочно испортил картину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4. Найдите предложение с ошибкой в употреблении нареч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Он слушал на уроке более внимате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Ты сделал работу лучше все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Я стараюсь писать более красив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Мой брат рисует хуже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5.Сколько существует степеней срав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одна; Б) две; В) т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Расскажите о наречии как о части реч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3880" y="1397160"/>
          <a:ext cx="2905200" cy="2895480"/>
        </p:xfrm>
        <a:graphic>
          <a:graphicData uri="http://schemas.openxmlformats.org/drawingml/2006/table">
            <a:tbl>
              <a:tblPr/>
              <a:tblGrid>
                <a:gridCol w="476280"/>
                <a:gridCol w="2428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9" name="Picture 5" descr="j0294973"/>
          <p:cNvPicPr/>
          <p:nvPr/>
        </p:nvPicPr>
        <p:blipFill>
          <a:blip r:embed="rId1"/>
          <a:stretch/>
        </p:blipFill>
        <p:spPr>
          <a:xfrm>
            <a:off x="6000840" y="1785960"/>
            <a:ext cx="2054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очитайте выразительно.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акие средства выразительности использует автор? С какой целью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а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зеленой чаще –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учанье соловь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на. Доволен 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ожу по темной чаще,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соловей все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ет на склоне дн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чаще, слаще в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учанье соловь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Е.Кропивницкий)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-Какой частью речи 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вторяющиеся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степенях сравнения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клас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PE00014_"/>
          <p:cNvPicPr/>
          <p:nvPr/>
        </p:nvPicPr>
        <p:blipFill>
          <a:blip r:embed="rId1"/>
          <a:stretch/>
        </p:blipFill>
        <p:spPr>
          <a:xfrm>
            <a:off x="3571920" y="2928960"/>
            <a:ext cx="44956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читайте выразительно. Выпишите три наречия, образуйте от них степени сравне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 язык и скромен и бог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ждом слове скрыт чудесный кл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 «ввысь» произнес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едставишь сразу неба си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 скажи: «Кругом белым – бело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видишь зимнее се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белых крыш свисает белый сне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видать под белым снегом р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помнится наречие «светло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видишь: солнышко взош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скажешь «ароматно», 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зу вспомнишь ландыша цв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, а если скажешь ты «красиво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 тобою – сразу вся Росс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Прочитайте, определите тип текста.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 Ответ обоснуйт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живое в природе (не)удержимо стремится к объединению. Только (в)месте, только (по)настоящему веря друг в друга, можно добиться счастья. (В)двоем легче переносить трудности дальнего пути, проще согреться в ненастную погоду. (Со)обща веселее живется на свете, ведь (в)одиночку любая беда (не)гада(н,нн)о-(не)жда(н,нн)о превращается в трагедию. (Чуть)чуть присмотритесь к окружающему миру, и вы (по)всюду найдете друзей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57:20Z</dcterms:created>
  <dc:creator>*</dc:creator>
  <dc:description/>
  <dc:language>en-US</dc:language>
  <cp:lastModifiedBy>Пользователь Windows</cp:lastModifiedBy>
  <dcterms:modified xsi:type="dcterms:W3CDTF">2022-02-07T13:24:16Z</dcterms:modified>
  <cp:revision>175</cp:revision>
  <dc:subject/>
  <dc:title>Степени сравнения наречи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50000000000010243100207f6000400038000</vt:lpwstr>
  </property>
</Properties>
</file>