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8.png" ContentType="image/png"/>
  <Override PartName="/ppt/media/image12.wmf" ContentType="image/x-wmf"/>
  <Override PartName="/ppt/media/image9.jpeg" ContentType="image/jpeg"/>
  <Override PartName="/ppt/media/image13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1B1-4F57-43E3-9119-57D7A472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5AF-BDF6-4616-89A5-69477CFA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D66-D4E7-4805-B712-131847BD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96D-E00E-43AB-9AE3-2A97EE64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B96D-E614-4230-8A69-2854805A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640F-5469-49E1-8E49-78A97116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D80A-8F0B-4D36-A6B9-E97CCF76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DF40-CCB2-4A7B-8A0C-1BFD1697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44E8-CFC7-4FA9-B095-421FD604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39D7-C56B-4F8C-A4F8-C4E33BC7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83F7-E5AA-4D89-887F-B21F9283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3EE-97FF-4B73-8086-B1AEEEDE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0C36-D494-41D5-9104-FBFCAF2C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C451-5ECB-4740-93B8-4B752B6F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0BDB-9371-4D82-9FC7-92F44175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C84F-D3E7-4AC0-A5D3-1FA412A6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8154-91FE-4C0D-ABD5-7E9F310F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6BC8-B2E3-4557-B749-BD7B3143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BDA4-3F80-45AC-9070-FF51FB42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EF03-6E41-43F0-A017-ED010872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BF6D-309D-4665-BF67-7EDCCE0A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C6B48-C5C8-491E-81DA-6402ED02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DCA-69D9-4FAE-9681-E5E434F1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FAAA-2CD0-46D1-8412-31036D76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3E4CD-16F4-4780-B756-27DFF991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3671-CF98-45A8-90CD-82D94814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9C4C-FA13-4E68-B367-012D1B60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31B50-5AF1-4984-9527-C6160E3D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08FF9-D076-4477-9AA4-9D5D99DA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627E2-8615-4AA1-A2D6-F15E2F6C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9B0-4DA2-46E3-BBBF-9AE7FCC7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5F2-29E6-44FD-863B-A059DAA5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7C8-66D7-4C36-BD11-3F353169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623-8D89-44D5-B916-B9722C36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B45-F084-4781-BE80-8361AB84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F70-6602-4DF7-97BC-F62B92D6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B90D-BB3F-43D1-8133-7CE91A64C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E44C-B830-4B7C-9458-4FF3EFB5B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0E21-CB07-4E93-971B-632A7A42CB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сьмое январ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Обобщение и систематизация изученного  по теме «Наречие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-108000" y="1928880"/>
            <a:ext cx="9396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000"/>
                </a:solidFill>
                <a:latin typeface="Arial"/>
              </a:rPr>
              <a:t>Задание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 выпишите словосочетания с наречия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Над какими орфограммами наречий вы работа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 rot="1147800">
            <a:off x="6857640" y="4285800"/>
            <a:ext cx="21528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22160" y="34290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НАЗОВИТЕ ВСЕ ОРФОГРАММЫ НАРЕЧИЙ, КОТОРЫЕ МЫ ИЗУЧИЛ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13" descr="182844"/>
          <p:cNvPicPr/>
          <p:nvPr/>
        </p:nvPicPr>
        <p:blipFill>
          <a:blip r:embed="rId1"/>
          <a:srcRect l="0" t="0" r="0" b="167"/>
          <a:stretch/>
        </p:blipFill>
        <p:spPr>
          <a:xfrm>
            <a:off x="1785960" y="428760"/>
            <a:ext cx="4643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Орфограммы наречий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с нареч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итное, раздельное и дефисное написание наре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3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 и НН в нареч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4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квы Е-И в приставках НЕ- и НИ- отрицательных наре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5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квы О и Е после шипящих на конце наре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6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квы О и А на конце наре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7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ягкий знак после шипящих на конце наре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Задание: Напишите «+», если НЕ пишется слитно: «-» - раздельн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есьма (не)быстро двигался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(Не)случайно произошло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Расположились (не)далеко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Совсем (не)хорошо обошли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Бежали (не)быстро, а медлен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Взаимопроверка по эталону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-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+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+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-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)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кажите правил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цените себя по пятибалльной сис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6" descr="друзья"/>
          <p:cNvPicPr/>
          <p:nvPr/>
        </p:nvPicPr>
        <p:blipFill>
          <a:blip r:embed="rId1"/>
          <a:stretch/>
        </p:blipFill>
        <p:spPr>
          <a:xfrm>
            <a:off x="4114800" y="3554280"/>
            <a:ext cx="3100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Напишите А или О на конце наречий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здавн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Влев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Изредк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Затемн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Досух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начал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1_3"/>
          <p:cNvPicPr/>
          <p:nvPr/>
        </p:nvPicPr>
        <p:blipFill>
          <a:blip r:embed="rId1"/>
          <a:stretch/>
        </p:blipFill>
        <p:spPr>
          <a:xfrm>
            <a:off x="4643280" y="1714680"/>
            <a:ext cx="32148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роверьте себя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Оцените по пятибалльной систем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 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.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6.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5" descr="j0294973"/>
          <p:cNvPicPr/>
          <p:nvPr/>
        </p:nvPicPr>
        <p:blipFill>
          <a:blip r:embed="rId1"/>
          <a:stretch/>
        </p:blipFill>
        <p:spPr>
          <a:xfrm>
            <a:off x="4143240" y="1857240"/>
            <a:ext cx="3249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Игра «Третий лишний». 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ыпишите лишнее слово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хорош.., свеж.., еш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горяч.., певуч.., думаеш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уж.., навзнич.., наотмаш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замуж.., сплош.., невтерпёж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</a:rPr>
              <a:t>Расскажите о правописании ь знака на конце наречий после шипящ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Задание: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Подобрать по смыслу подходящее наречие. Записать, выделить орфограмму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зья (не, ни)куда не пошли. Маме было (не, ни) когда. Котёнка (не, ни) где не было видно. Ей было (не, ни)откуда ждать пис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Над какой орфограммой вы работали, расскажите прави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Сколько «Н» надо писать в данных наречиях? Вспомните правило!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) взволнова..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) пута..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) организова..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медле..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отваж..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уть решени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ставленных задач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Наречие как часть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мысловые группы нареч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тепени сравнения нареч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рфограммы нареч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Употребление нареч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 rot="21156000">
            <a:off x="6572160" y="3714480"/>
            <a:ext cx="21751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Игра «Корректор». </a:t>
            </a:r>
            <a:br>
              <a:rPr sz="2800"/>
            </a:b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Зада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пишите, исправляя ошибки в написании наречий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ть чуть, не брежно, по гусиному, бок-о-бок, коекак, не от куда, в перёд, от части, безумолку, точ в точь, подвое, видимо невидим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5" descr="AN00790_"/>
          <p:cNvPicPr/>
          <p:nvPr/>
        </p:nvPicPr>
        <p:blipFill>
          <a:blip r:embed="rId1"/>
          <a:stretch/>
        </p:blipFill>
        <p:spPr>
          <a:xfrm>
            <a:off x="5072040" y="371484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роверьте себя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Оцените по пятибалльной систем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уть-чуть, небрежно, по-гусиному, бок о бок, кое-как, неоткуда, вперёд, отчасти, без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лку, точь-в-точь, п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двое, видимо-невидим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5" descr="j0294973"/>
          <p:cNvPicPr/>
          <p:nvPr/>
        </p:nvPicPr>
        <p:blipFill>
          <a:blip r:embed="rId1"/>
          <a:stretch/>
        </p:blipFill>
        <p:spPr>
          <a:xfrm>
            <a:off x="5894280" y="3571920"/>
            <a:ext cx="3249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Найдите в сказке фразеологизмы, выпишите их и подберите к ним синонимы – наречия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таром лесу жили Стрекоза и Муравей. Всё лето Муравей заготавливал еду. Сломя голову бежал он на поле, до которого было рукой подать, и возвращался с пшеничными зёрнами. Соседка Стрекоза к зиме не готовила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ступили холода. Стрекоза увидела сытого Муравья и говори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У тебя запасов накопилось, куры не клюют, а у меня их совсем нет. Поделись-ка, дружочек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Муравей ей в отв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Ты, соседка, всё лето работала спустя рукава. Вот так и продолжа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мя голову – быс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ой подать – близ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ы не клюют – м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устя рукава – плох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1928880" y="4071960"/>
            <a:ext cx="5214960" cy="2571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MC900312332[1]"/>
          <p:cNvPicPr/>
          <p:nvPr/>
        </p:nvPicPr>
        <p:blipFill>
          <a:blip r:embed="rId2"/>
          <a:stretch/>
        </p:blipFill>
        <p:spPr>
          <a:xfrm>
            <a:off x="6500880" y="214200"/>
            <a:ext cx="17938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готовиться к контрольному диктант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857920" y="3071880"/>
            <a:ext cx="3286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Приготовьтесь выполнить тест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Содержимое 4" descr="мальчик думает.gif"/>
          <p:cNvPicPr/>
          <p:nvPr/>
        </p:nvPicPr>
        <p:blipFill>
          <a:blip r:embed="rId1"/>
          <a:stretch/>
        </p:blipFill>
        <p:spPr>
          <a:xfrm>
            <a:off x="2714760" y="2214720"/>
            <a:ext cx="37144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1. Найдите неверный отв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Наречие отвечает на вопросы где? куда? откуда? почему? зачем? как?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) Наречие — самостоятельная часть реч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) Наречие имеет окончани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) Наречие не имеет окончания.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2.Найдите нареч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лицо зло; Б) смотреть зло; В) зло не победит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3.Найдите предложение, в котором наречие обозначает причин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За правое дело сражайся смел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) Сослепу я наткнулся на бурел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) Издалека доносилась песн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) Он нарочно испортил картину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4. Найдите предложение с ошибкой в употреблении нареч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Он слушал на уроке более внимате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) Ты сделал работу лучше все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) Я стараюсь писать более красив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) Мой брат рисует хуже ме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5.Сколько существует степеней сравн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одна; Б) две; В) т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роверьте себя. 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цените по пятибалльной системе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Расскажите о наречии как о части реч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23880" y="1397160"/>
          <a:ext cx="2905200" cy="2895480"/>
        </p:xfrm>
        <a:graphic>
          <a:graphicData uri="http://schemas.openxmlformats.org/drawingml/2006/table">
            <a:tbl>
              <a:tblPr/>
              <a:tblGrid>
                <a:gridCol w="476280"/>
                <a:gridCol w="2428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>
                      <a:noFill/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29" name="Picture 5" descr="j0294973"/>
          <p:cNvPicPr/>
          <p:nvPr/>
        </p:nvPicPr>
        <p:blipFill>
          <a:blip r:embed="rId1"/>
          <a:stretch/>
        </p:blipFill>
        <p:spPr>
          <a:xfrm>
            <a:off x="6000840" y="1785960"/>
            <a:ext cx="2054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Прочитайте выразительно.</a:t>
            </a:r>
            <a:br>
              <a:rPr sz="2800"/>
            </a:b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Какие средства выразительности использует автор? С какой целью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мае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зеленой чаще – чаще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вучанье соловья.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сна. Доволен я.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рожу по темной чаще,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соловей все чаще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ет на склоне дня.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чаще, слаще в чаще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вучанье соловья. 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Е.Кропивницкий)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-Какой частью речи явля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овторяющиеся сло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жите о степенях сравнения нареч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ьте клас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4" descr="PE00014_"/>
          <p:cNvPicPr/>
          <p:nvPr/>
        </p:nvPicPr>
        <p:blipFill>
          <a:blip r:embed="rId1"/>
          <a:stretch/>
        </p:blipFill>
        <p:spPr>
          <a:xfrm>
            <a:off x="3571920" y="2928960"/>
            <a:ext cx="44956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читайте выразительно. Выпишите три наречия, образуйте от них степени сравнени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ш язык и скромен и бог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каждом слове скрыт чудесный кла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во «ввысь» произнеси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едставишь сразу неба си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ы скажи: «Кругом белым – бело»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увидишь зимнее сел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белых крыш свисает белый сне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видать под белым снегом р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помнится наречие «светло»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увидишь: солнышко взош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скажешь «ароматно», 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азу вспомнишь ландыша цв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, а если скажешь ты «красиво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 тобою – сразу вся Росс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Прочитайте, определите тип текста.</a:t>
            </a:r>
            <a:br>
              <a:rPr sz="2400"/>
            </a:br>
            <a:r>
              <a:rPr b="1" i="1" lang="ru-RU" sz="2400" spc="-1" strike="noStrike">
                <a:solidFill>
                  <a:srgbClr val="ffc000"/>
                </a:solidFill>
                <a:latin typeface="Arial"/>
              </a:rPr>
              <a:t> Ответ обоснуйте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живое в природе (не)удержимо стремится к объединению. Только (в)месте, только (по)настоящему веря друг в друга, можно добиться счастья. (В)двоем легче переносить трудности дальнего пути, проще согреться в ненастную погоду. (Со)обща веселее живется на свете, ведь (в)одиночку любая беда (не)гада(н,нн)о-(не)жда(н,нн)о превращается в трагедию. (Чуть)чуть присмотритесь к окружающему миру, и вы (по)всюду найдете друзей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7:57:20Z</dcterms:created>
  <dc:creator>*</dc:creator>
  <dc:description/>
  <dc:language>en-US</dc:language>
  <cp:lastModifiedBy>Пользователь Windows</cp:lastModifiedBy>
  <dcterms:modified xsi:type="dcterms:W3CDTF">2022-02-07T13:24:16Z</dcterms:modified>
  <cp:revision>175</cp:revision>
  <dc:subject/>
  <dc:title>Степени сравнения наречи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150000000000010243100207f6000400038000</vt:lpwstr>
  </property>
</Properties>
</file>