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E27397-6B88-4BE2-B03B-DCFCD1964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B5BE7F-CAB8-4483-9D36-16FF9DB496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483FCE-6ADF-4D18-8B9B-F8C149899D6E}" type="slidenum">
              <a:rPr b="0" lang="ru-RU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579580-1B22-4BDB-A6E1-8B4126D7E3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0C282C-9EEF-4990-A2E1-62AE47F877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CF61F2-5978-4A23-9BE4-8C14F53211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8D0681-A5CE-481D-9A53-D87B9A6C9A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7C04BC-1089-4B2F-A6E8-0CBAA2B9E52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1DA411-782C-469A-AA95-2F087B1E1C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11BA6E-A5C5-4549-A989-F265D77C80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54C906-92A6-421C-9C39-31F54C15BF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0ECA12-066F-4923-B319-6E3C95EF90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E5887-0FC8-4F3A-8A22-7C82E56AF2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5544D2-EC64-46D4-9400-713CDEB6CE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9BE9-527E-4E96-857B-52ED97641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7657-29CB-4181-ACEF-7D9E90C9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E302-3085-4641-888F-F7EB4F5B6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24DD-1E46-4F4F-873E-BBFB56677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7658-22FD-46F5-99A0-41576A35E3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D1B7-1AEC-4844-B443-D6A5D6424D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4F50-204E-44E4-B6F6-A137A00A6B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5DAD-AA38-4E1D-80BA-40B384A1E6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286F-F740-4D6A-AB3A-F66C94F200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A5B5-19A6-439E-B7FF-C45F439CC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33C3-785B-40BD-A78D-594F592A3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FF1B-1BFB-45BD-8BEB-CC20F83AB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DC29-B88D-4A99-B745-E7B53CE870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D1ED-8BEA-4A11-B5B1-E4922C24C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B46F-4D19-4AFE-8A85-28DAF9E1E4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7B14-5CBC-49D2-9494-B423479863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075E-6A38-4375-BE66-B0734E44C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5207-BED2-47F6-B868-6A91D39E7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55E8-C286-4B50-BFB3-F28BB6054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F51A-BD6C-4F1F-AF01-B4FE7A8DB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8C6D-7196-4975-9E17-73B0BCAF4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412A-361D-4EB0-9065-156CCFB1D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4B00-90FD-410F-99AF-4B3485903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EEC4-A8CE-49B3-B1F5-9608B9CC5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A4CEF-9877-43E1-9A05-4B4C484EE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2B92A7-03FA-4281-A509-FDB399A590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08000" y="404640"/>
            <a:ext cx="86756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Профилактика </a:t>
            </a:r>
            <a:br>
              <a:rPr sz="4800"/>
            </a:b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жестокого обращения 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с детьми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                                                        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  <a:ea typeface="Arial"/>
              </a:rPr>
              <a:t>Ткачук А.В., педагог-психолог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0" y="189000"/>
            <a:ext cx="914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Статьи УК РФ, предусматривающие уголовную ответственность лиц за все виды насилия над детьми и за пренебрежение основными потребностями детей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155736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1 (умышленное причинение тяжкого вреда здоровью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2 (умышленное причинение средней тяжести вреда здоровью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3 (причинение тяжкого или средней тяжести вреда здоровью в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 аффект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5 (умышленное причинение легкого вреда здоровью)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6 (побо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17 (истязание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8 (причинение тяжкого или средней тяжести вреда здоровью по неосторожност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1 (изнасилование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32 (насильственные действия сексуального характер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33 (понуждение к действиям сексуального характер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4 (половое сношение и иные действия сексуального характера с лицом, не достигшим четырнадцатилетнего возраст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35 (развратные действия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25 (оставление в опасности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24 (неоказание помощи больному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156 (неисполнение обязанностей по воспитанию несовершеннолетнего)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57 (злостное уклонение от уплаты средств на содержание детей или нетрудоспособных родителей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0 (доведение до самоубийства)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. 119 (угроза убийством или причинением тяжкого вреда здоровью) и друг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11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Статья 156 Уголовного кодекса Российской Федерации – Неисполнение обязанностей по воспитанию несовершеннолетнег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205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исполнение или ненадлежащее исполнение обязанностей по воспитанию несовершеннолетнего родителем или иным лицом, на которое возложены эти обязанности, а равно педагогом или другим работником образовательного, воспитательного, лечебного или иного учреждения, обязанного осуществлять надзор за несовершеннолетними, если это деяние соединено с жестоким обращением с несовершеннолетни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Перечень оснований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для лишения родительских прав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( ст. 69 СК РФ)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39640" y="1916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клонение от выполнения обязанностей родителей, в том числе злостное уклонение от уплаты алиментов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отказ без уважительных причин взять своего ребенка из родильного дома (отделения) либо из иного лечебного учреждения, воспитательного учреждения, учреждения социальной защиты населения или из других аналогичных учреждений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злоупотребление своими родительскими правами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жестокое обращение с детьми, в том числе физическое или психическое насилие над ними, покушение на их половую неприкосновенность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хронический алкоголизм или наркомания;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совершение умышленного преступления против жизни или здоровья своих детей либо против жизни или здоровья супруга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lub-i-ber[1]"/>
          <p:cNvPicPr/>
          <p:nvPr/>
        </p:nvPicPr>
        <p:blipFill>
          <a:blip r:embed="rId1"/>
          <a:srcRect l="7115" t="-3959" r="0" b="0"/>
          <a:stretch/>
        </p:blipFill>
        <p:spPr>
          <a:xfrm>
            <a:off x="2627280" y="1268280"/>
            <a:ext cx="388944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hild_02[1]"/>
          <p:cNvPicPr/>
          <p:nvPr/>
        </p:nvPicPr>
        <p:blipFill>
          <a:blip r:embed="rId1"/>
          <a:stretch/>
        </p:blipFill>
        <p:spPr>
          <a:xfrm>
            <a:off x="1547640" y="260280"/>
            <a:ext cx="6228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глашаем к сотрудничеств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964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прав ребенка от 20 ноября 1959 г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от 2 сентября 1990 г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ституция Российской Федераци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ражданский кодекс Российской Федерации;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емейный кодекс Российской Федераци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июля 1998г.  "Об основных гарантиях прав ребенка  в  Российской  Федерации" 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июня 1999г. № 120-ФЗ «Об основах системы профилактики безнадзорности и правонарушений несовершеннолетних»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от 24 апреля 2008г.№48-Ф3 «Об опеке и попечительстве»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авовая баз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2197080" y="2492280"/>
            <a:ext cx="143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68360" y="404640"/>
            <a:ext cx="83516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ларация прав ребенка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20 ноября 1959 года)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Принцип 9: Ребенок должен быть защищен от всех форм небрежного отношения, жестокости и эксплуатации»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 правах ребенка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 сентября 1990 года), ратифицированная СССР, предусматривает обязательство государства защитить детей от жестокого обращения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Статья 37: Государства - участники обеспечивают, чтобы: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a) ни один ребенок не был подвергнут пыткам или другим жестоким, бесчеловечным или унижающим достоинство видам обращения или наказания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  <a:ea typeface="Arial"/>
              </a:rPr>
              <a:t>Формы насил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ексуаль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тсутствие заботы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пренебрежение основными потребностями ребенк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сихическо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 дурное обращени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Явные признаки насилия, которые требуют немедленного информирования правоохранительных органов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905120"/>
            <a:ext cx="822960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леды побоев, истязаний, другого физического воздействия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леды сексуального насилия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запущенное состояние детей (педикулез, дистрофия и т.д.)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отсутствие нормальных условий существования ребенка: антисанитарное состояние жилья, несоблюдение элементарных правил гигиены, отсутствие в доме спальных мест, постельных принадлежностей, одежды, пищи и иных предметов, соответствующих возрастным потребностям детей и необходимых для ухода за ними;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систематическое пьянство родителей, драки в присутствии ребенка, лишение его сна, ребенка выгоняют из дома.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Gleb_1[1]"/>
          <p:cNvPicPr/>
          <p:nvPr/>
        </p:nvPicPr>
        <p:blipFill>
          <a:blip r:embed="rId1"/>
          <a:srcRect l="1247" t="1675" r="2998" b="4258"/>
          <a:stretch/>
        </p:blipFill>
        <p:spPr>
          <a:xfrm>
            <a:off x="1763640" y="134136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900000" y="836640"/>
            <a:ext cx="7340400" cy="5433480"/>
            <a:chOff x="900000" y="836640"/>
            <a:chExt cx="7340400" cy="543348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tretch/>
          </p:blipFill>
          <p:spPr>
            <a:xfrm>
              <a:off x="900000" y="836640"/>
              <a:ext cx="7340400" cy="54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"/>
            <p:cNvSpPr/>
            <p:nvPr/>
          </p:nvSpPr>
          <p:spPr>
            <a:xfrm>
              <a:off x="900000" y="836640"/>
              <a:ext cx="7340400" cy="54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1254216544_remenj[1]"/>
          <p:cNvPicPr/>
          <p:nvPr/>
        </p:nvPicPr>
        <p:blipFill>
          <a:blip r:embed="rId1"/>
          <a:stretch/>
        </p:blipFill>
        <p:spPr>
          <a:xfrm>
            <a:off x="1835280" y="1197000"/>
            <a:ext cx="518472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95280" y="476280"/>
            <a:ext cx="821844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  <a:ea typeface="Arial"/>
              </a:rPr>
              <a:t>Виды ответственности лиц, допускающих жестокое обращение с детьми, в соответствии с российским законодательством: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8360" y="2492280"/>
            <a:ext cx="867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дминистративн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сциплинарная ответственность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головн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Гражданско-правовая ответственность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5:05:53Z</dcterms:created>
  <dc:creator>User</dc:creator>
  <dc:description/>
  <dc:language>en-US</dc:language>
  <cp:lastModifiedBy>1</cp:lastModifiedBy>
  <dcterms:modified xsi:type="dcterms:W3CDTF">2022-02-22T07:49:33Z</dcterms:modified>
  <cp:revision>31</cp:revision>
  <dc:subject/>
  <dc:title>Организация работы органов опеки и попечительства по профилактике жестокого обращения с детьми</dc:title>
</cp:coreProperties>
</file>