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B7DD1E-3F47-4E12-9139-25CA7B660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EF0B17-0189-4811-9C5A-8DC5E44E566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48776D-8A42-4D08-8A46-20C798863FE3}" type="slidenum">
              <a:rPr b="0" lang="ru-RU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9E4908-FB7C-4586-94B0-48E2BE3613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DCD238-DE55-4B5A-9A21-3737A1395C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D4AF5F-D033-4BBE-9480-D7A2EC1245F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630E74-565D-49D0-92FC-762F563027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D824A4-B484-4063-855D-99C8379AF818}" type="slidenum">
              <a:rPr b="0" lang="ru-RU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6D175F-C83A-4381-A928-7745E3D546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7C9B73-71ED-4EFE-BFF9-4EDC74C4C2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C0B1A6-7147-44AD-8174-0EA5D4CC7D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F30940-1375-4C59-B8A6-84126483904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E3FFD2-8C2E-4778-A59F-ABEF05C126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04CC61-424B-4CF5-8AFA-7DB0EB02DC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4B29-921F-428D-86E5-86E22D7A6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A0C7-6240-494B-9D86-56741A2CF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5EE5-BF7C-48D6-B9BB-7B428FE3E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9890-E2DC-4A16-AC9F-FA4FBE52D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F07E-BE26-4738-A0AA-220E74CF6A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A44C-AB2E-45FB-8D16-932BDDD6CD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0F17-3A02-47AF-8FA1-CF63148855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FCEF-28E5-403B-BA74-0883B849B7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CD3E-3E75-4DE0-BA48-96ECDFECDB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BD39-69F2-4615-ABB3-4DF25FEDCF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DCCB-7385-451D-BF57-8480BDF80C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8F12-D2F0-4220-BA59-3E7AA2CD9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73980-E00F-4948-9807-9623C328F4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9811-ECA8-4F4C-8D1B-512D1214D8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B08D-CC33-4CF5-AEF9-483D9377E6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E703-AF4F-4B43-9408-7B494FE848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384F-47A6-4761-9963-631BEEEAA1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575D-4E1D-4B16-9A74-95FDE874A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503B-E6D5-4E07-BE19-8E9A24E55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93A2-B297-41D0-B0DF-A2F1A0845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22FA-8DBF-4F3E-90A5-A1A65B7B6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8D4B-7EDA-44A1-8CDC-79262DBE6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6255-C7A6-4522-B473-EAA371713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3C09-89AA-4907-A57F-35F7AB9A9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F45194-E045-47C8-BD94-8F0054C20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076254-2517-4A5F-B501-1DC66804E2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08000" y="404640"/>
            <a:ext cx="86756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Arial"/>
                <a:ea typeface="Arial"/>
              </a:rPr>
              <a:t>Профилактика </a:t>
            </a:r>
            <a:br>
              <a:rPr sz="4800"/>
            </a:br>
            <a:r>
              <a:rPr b="1" i="1" lang="ru-RU" sz="4800" spc="-1" strike="noStrike">
                <a:solidFill>
                  <a:srgbClr val="ffcc00"/>
                </a:solidFill>
                <a:latin typeface="Arial"/>
                <a:ea typeface="Arial"/>
              </a:rPr>
              <a:t>жестокого обращения </a:t>
            </a:r>
            <a:endParaRPr b="0" i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Arial"/>
                <a:ea typeface="Arial"/>
              </a:rPr>
              <a:t>с детьми</a:t>
            </a:r>
            <a:endParaRPr b="0" i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                                                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  <a:ea typeface="Arial"/>
              </a:rPr>
              <a:t>Ткачук А.В., педагог-психолог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0" y="189000"/>
            <a:ext cx="91440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Статьи УК РФ, предусматривающие уголовную ответственность лиц за все виды насилия над детьми и за пренебрежение основными потребностями детей: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155736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11 (умышленное причинение тяжкого вреда здоровью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12 (умышленное причинение средней тяжести вреда здоровью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13 (причинение тяжкого или средней тяжести вреда здоровью в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остоянии аффекта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15 (умышленное причинение легкого вреда здоровью) 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16 (побои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17 (истязание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18 (причинение тяжкого или средней тяжести вреда здоровью по неосторожности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31 (изнасилование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32 (насильственные действия сексуального характера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33 (понуждение к действиям сексуального характера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34 (половое сношение и иные действия сексуального характера с лицом, не достигшим четырнадцатилетнего возраста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35 (развратные действия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25 (оставление в опасности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24 (неоказание помощи больному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56 (неисполнение обязанностей по воспитанию несовершеннолетнего) 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57 (злостное уклонение от уплаты средств на содержание детей или нетрудоспособных родителей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10 (доведение до самоубийства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19 (угроза убийством или причинением тяжкого вреда здоровью) и други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11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Статья 156 Уголовного кодекса Российской Федерации – Неисполнение обязанностей по воспитанию несовершеннолетнего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24000" y="220500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исполнение или ненадлежащее исполнение обязанностей по воспитанию несовершеннолетнего родителем или иным лицом, на которое возложены эти обязанности, а равно педагогом или другим работником образовательного, воспитательного, лечебного или иного учреждения, обязанного осуществлять надзор за несовершеннолетними, если это деяние соединено с жестоким обращением с несовершеннолетним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Перечень оснований 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для лишения родительских прав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( ст. 69 СК РФ):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539640" y="191628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клонение от выполнения обязанностей родителей, в том числе злостное уклонение от уплаты алиментов;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отказ без уважительных причин взять своего ребенка из родильного дома (отделения) либо из иного лечебного учреждения, воспитательного учреждения, учреждения социальной защиты населения или из других аналогичных учреждений;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злоупотребление своими родительскими правами;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жестокое обращение с детьми, в том числе физическое или психическое насилие над ними, покушение на их половую неприкосновенность;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хронический алкоголизм или наркомания;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совершение умышленного преступления против жизни или здоровья своих детей либо против жизни или здоровья супруга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1" descr="lub-i-ber[1]"/>
          <p:cNvPicPr/>
          <p:nvPr/>
        </p:nvPicPr>
        <p:blipFill>
          <a:blip r:embed="rId1"/>
          <a:srcRect l="7115" t="-3959" r="0" b="0"/>
          <a:stretch/>
        </p:blipFill>
        <p:spPr>
          <a:xfrm>
            <a:off x="2627280" y="1268280"/>
            <a:ext cx="388944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child_02[1]"/>
          <p:cNvPicPr/>
          <p:nvPr/>
        </p:nvPicPr>
        <p:blipFill>
          <a:blip r:embed="rId1"/>
          <a:stretch/>
        </p:blipFill>
        <p:spPr>
          <a:xfrm>
            <a:off x="1547640" y="260280"/>
            <a:ext cx="6228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глашаем к сотрудничеств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964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кларация прав ребенка от 20 ноября 1959 г.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венция ООН о правах ребенка от 2 сентября 1990 г.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ституция Российской Федерации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ражданский кодекс Российской Федерации; 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емейный кодекс Российской Федерации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закон от 24 июля 1998г.  "Об основных гарантиях прав ребенка  в  Российской  Федерации" 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закон от 24 июня 1999г. № 120-ФЗ «Об основах системы профилактики безнадзорности и правонарушений несовершеннолетних»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закон от 24 апреля 2008г.№48-Ф3 «Об опеке и попечительстве»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Правовая баз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-2197080" y="2492280"/>
            <a:ext cx="1433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68360" y="404640"/>
            <a:ext cx="83516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ларация прав ребенка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20 ноября 1959 года):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Принцип 9: Ребенок должен быть защищен от всех форм небрежного отношения, жестокости и эксплуатации»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нвенция о правах ребенка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 сентября 1990 года), ратифицированная СССР, предусматривает обязательство государства защитить детей от жестокого обращения: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Статья 37: Государства - участники обеспечивают, чтобы: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a) ни один ребенок не был подвергнут пыткам или другим жестоким, бесчеловечным или унижающим достоинство видам обращения или наказания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  <a:ea typeface="Arial"/>
              </a:rPr>
              <a:t>Формы насил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52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ексуаль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тсутствие заботы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(пренебрежение основными потребностями ребенк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сихическо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(эмоционально дурное обращение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Явные признаки насилия, которые требуют немедленного информирования правоохранительных органов: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905120"/>
            <a:ext cx="822960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 следы побоев, истязаний, другого физического воздействия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 следы сексуального насилия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 запущенное состояние детей (педикулез, дистрофия и т.д.)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отсутствие нормальных условий существования ребенка: антисанитарное состояние жилья, несоблюдение элементарных правил гигиены, отсутствие в доме спальных мест, постельных принадлежностей, одежды, пищи и иных предметов, соответствующих возрастным потребностям детей и необходимых для ухода за ними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 систематическое пьянство родителей, драки в присутствии ребенка, лишение его сна, ребенка выгоняют из дома.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Gleb_1[1]"/>
          <p:cNvPicPr/>
          <p:nvPr/>
        </p:nvPicPr>
        <p:blipFill>
          <a:blip r:embed="rId1"/>
          <a:srcRect l="1247" t="1675" r="2998" b="4258"/>
          <a:stretch/>
        </p:blipFill>
        <p:spPr>
          <a:xfrm>
            <a:off x="1763640" y="1341360"/>
            <a:ext cx="561672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"/>
          <p:cNvGrpSpPr/>
          <p:nvPr/>
        </p:nvGrpSpPr>
        <p:grpSpPr>
          <a:xfrm>
            <a:off x="900000" y="836640"/>
            <a:ext cx="7340400" cy="5433480"/>
            <a:chOff x="900000" y="836640"/>
            <a:chExt cx="7340400" cy="5433480"/>
          </a:xfrm>
        </p:grpSpPr>
        <p:pic>
          <p:nvPicPr>
            <p:cNvPr id="103" name="Picture 2" descr=""/>
            <p:cNvPicPr/>
            <p:nvPr/>
          </p:nvPicPr>
          <p:blipFill>
            <a:blip r:embed="rId1"/>
            <a:stretch/>
          </p:blipFill>
          <p:spPr>
            <a:xfrm>
              <a:off x="900000" y="836640"/>
              <a:ext cx="7340400" cy="54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3"/>
            <p:cNvSpPr/>
            <p:nvPr/>
          </p:nvSpPr>
          <p:spPr>
            <a:xfrm>
              <a:off x="900000" y="836640"/>
              <a:ext cx="7340400" cy="54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1254216544_remenj[1]"/>
          <p:cNvPicPr/>
          <p:nvPr/>
        </p:nvPicPr>
        <p:blipFill>
          <a:blip r:embed="rId1"/>
          <a:stretch/>
        </p:blipFill>
        <p:spPr>
          <a:xfrm>
            <a:off x="1835280" y="1197000"/>
            <a:ext cx="5184720" cy="44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395280" y="476280"/>
            <a:ext cx="821844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  <a:ea typeface="Arial"/>
              </a:rPr>
              <a:t>Виды ответственности лиц, допускающих жестокое обращение с детьми, в соответствии с российским законодательством: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68360" y="2492280"/>
            <a:ext cx="8675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дминистративная ответственность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исциплинарная ответственность 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Уголовная ответственность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Гражданско-правовая ответственность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5:05:53Z</dcterms:created>
  <dc:creator>User</dc:creator>
  <dc:description/>
  <dc:language>en-US</dc:language>
  <cp:lastModifiedBy>1</cp:lastModifiedBy>
  <dcterms:modified xsi:type="dcterms:W3CDTF">2022-02-22T07:49:33Z</dcterms:modified>
  <cp:revision>31</cp:revision>
  <dc:subject/>
  <dc:title>Организация работы органов опеки и попечительства по профилактике жестокого обращения с детьми</dc:title>
</cp:coreProperties>
</file>