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19.wmf" ContentType="image/x-wmf"/>
  <Override PartName="/ppt/media/image58.gif" ContentType="image/gif"/>
  <Override PartName="/ppt/media/image30.jpeg" ContentType="image/jpeg"/>
  <Override PartName="/ppt/media/image18.wmf" ContentType="image/x-wmf"/>
  <Override PartName="/ppt/media/image57.gif" ContentType="image/gif"/>
  <Override PartName="/ppt/media/image56.png" ContentType="image/png"/>
  <Override PartName="/ppt/media/image53.gif" ContentType="image/gif"/>
  <Override PartName="/ppt/media/image13.wmf" ContentType="image/x-wmf"/>
  <Override PartName="/ppt/media/image55.jpeg" ContentType="image/jpeg"/>
  <Override PartName="/ppt/media/image40.gif" ContentType="image/gif"/>
  <Override PartName="/ppt/media/image54.gif" ContentType="image/gif"/>
  <Override PartName="/ppt/media/image14.wmf" ContentType="image/x-wmf"/>
  <Override PartName="/ppt/media/image7.jpeg" ContentType="image/jpeg"/>
  <Override PartName="/ppt/media/image5.gif" ContentType="image/gif"/>
  <Override PartName="/ppt/media/image17.gif" ContentType="image/gif"/>
  <Override PartName="/ppt/media/image23.jpeg" ContentType="image/jpeg"/>
  <Override PartName="/ppt/media/image4.wmf" ContentType="image/x-wmf"/>
  <Override PartName="/ppt/media/image27.wmf" ContentType="image/x-wmf"/>
  <Override PartName="/ppt/media/image1.png" ContentType="image/png"/>
  <Override PartName="/ppt/media/image16.gif" ContentType="image/gif"/>
  <Override PartName="/ppt/media/image51.png" ContentType="image/png"/>
  <Override PartName="/ppt/media/image60.png" ContentType="image/png"/>
  <Override PartName="/ppt/media/image28.png" ContentType="image/png"/>
  <Override PartName="/ppt/media/image25.gif" ContentType="image/gif"/>
  <Override PartName="/ppt/media/image71.jpeg" ContentType="image/jpeg"/>
  <Override PartName="/ppt/media/image52.gif" ContentType="image/gif"/>
  <Override PartName="/ppt/media/image21.wmf" ContentType="image/x-wmf"/>
  <Override PartName="/ppt/media/image61.gif" ContentType="image/gif"/>
  <Override PartName="/ppt/media/image15.wmf" ContentType="image/x-wmf"/>
  <Override PartName="/ppt/media/image24.gif" ContentType="image/gif"/>
  <Override PartName="/ppt/media/image20.wmf" ContentType="image/x-wmf"/>
  <Override PartName="/ppt/media/image29.gif" ContentType="image/gif"/>
  <Override PartName="/ppt/media/image66.gif" ContentType="image/gif"/>
  <Override PartName="/ppt/media/image49.png" ContentType="image/png"/>
  <Override PartName="/ppt/media/image65.jpeg" ContentType="image/jpeg"/>
  <Override PartName="/ppt/media/image8.jpeg" ContentType="image/jpeg"/>
  <Override PartName="/ppt/media/image63.gif" ContentType="image/gif"/>
  <Override PartName="/ppt/media/image67.png" ContentType="image/png"/>
  <Override PartName="/ppt/media/image64.gif" ContentType="image/gif"/>
  <Override PartName="/ppt/media/image72.png" ContentType="image/png"/>
  <Override PartName="/ppt/media/image33.wmf" ContentType="image/x-wmf"/>
  <Override PartName="/ppt/media/image70.jpeg" ContentType="image/jpeg"/>
  <Override PartName="/ppt/media/image42.gif" ContentType="image/gif"/>
  <Override PartName="/ppt/media/image22.wmf" ContentType="image/x-wmf"/>
  <Override PartName="/ppt/media/image62.gif" ContentType="image/gif"/>
  <Override PartName="/ppt/media/image44.wmf" ContentType="image/x-wmf"/>
  <Override PartName="/ppt/media/image11.gif" ContentType="image/gif"/>
  <Override PartName="/ppt/media/image2.png" ContentType="image/png"/>
  <Override PartName="/ppt/media/image10.wmf" ContentType="image/x-wmf"/>
  <Override PartName="/ppt/media/image31.jpeg" ContentType="image/jpeg"/>
  <Override PartName="/ppt/media/image3.png" ContentType="image/png"/>
  <Override PartName="/ppt/media/image12.gif" ContentType="image/gif"/>
  <Override PartName="/ppt/media/image45.wmf" ContentType="image/x-wmf"/>
  <Override PartName="/ppt/media/image37.wmf" ContentType="image/x-wmf"/>
  <Override PartName="/ppt/media/image32.gif" ContentType="image/gif"/>
  <Override PartName="/ppt/media/image34.png" ContentType="image/png"/>
  <Override PartName="/ppt/media/image35.wmf" ContentType="image/x-wmf"/>
  <Override PartName="/ppt/media/image68.jpeg" ContentType="image/jpeg"/>
  <Override PartName="/ppt/media/image36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9.png" ContentType="image/png"/>
  <Override PartName="/ppt/media/image6.gif" ContentType="image/gif"/>
  <Override PartName="/ppt/media/image43.wmf" ContentType="image/x-wmf"/>
  <Override PartName="/ppt/media/image47.gif" ContentType="image/gif"/>
  <Override PartName="/ppt/media/image26.jpeg" ContentType="image/jpeg"/>
  <Override PartName="/ppt/media/image69.jpeg" ContentType="image/jpeg"/>
  <Override PartName="/ppt/media/image46.wmf" ContentType="image/x-wmf"/>
  <Override PartName="/ppt/media/image48.png" ContentType="image/png"/>
  <Override PartName="/ppt/media/image5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28D-D26D-46C9-9177-4456E3F2D4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442-034C-4BCA-AEF2-4B2D69A50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4EC5-DBB2-479D-AF94-67E1A1B5A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640-9DB6-40B5-BA6D-36E6F71C5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886-8D8A-451D-B2CB-235123E61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BB8-604E-434D-8F2D-B4BF0E23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B43-A318-4788-9FA3-1EEF6BC5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130-50E5-415D-85FA-696D273D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0BD-11C4-4C0E-8149-9D7858E6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B75C-3689-491B-87A5-8D66E00E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73A-CD9D-4BCD-86DD-0ED76A0D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CCAB-931B-438F-8A00-7C8750CB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3C8-D45B-40DD-93DA-94A63009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0242-F40E-4EFE-B804-4F3034A1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63B-A07A-41D7-97EF-0792486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DC02-EFF3-4D46-A45E-76534BA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A5B-5363-4DB5-8F19-EF9DE0B1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62E-283B-4F1A-B157-2100632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C210-976E-4C75-8251-A6BE015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F93-FEBC-471B-A628-5CA6F3A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0D6F-A9C8-4898-86E2-E5699DC7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7C5-93BA-4767-8AFD-CBDB819E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A340-DE47-4C92-B4DD-2614CC6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1580-3D90-40E5-83EF-1881C9F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78C2-9A21-4D60-B617-630C6098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3523-4695-4B19-9F7C-4B8E1E63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EC30-96DC-406A-8D49-1F0348B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71C-7428-46A4-BBE0-665E6C1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C54C-898F-4F57-A373-EF6E4A8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F37D-2475-4EC2-899A-875566DA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F0A7-2CB2-45D5-8876-827BDBFA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0E81-F3C8-449B-AEF0-FCF5670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FC6C-A208-427C-9748-5A482A9B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911B-7EEB-468C-BB7D-96B8C147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5BF8-3979-436E-9780-FCEC9B91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B2537-5D74-4739-8BD8-1E6FA49C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0893-8537-4A60-A015-EC72AB8A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9164-629F-4824-A426-F41581F0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9C4-7BC8-49EA-96A0-71DEC8E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420B-6EAF-483A-867F-9D665DE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5F95-8998-475E-8742-DFB22C5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8C7D-1385-4567-9160-97FB4EEE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74D08-2DBD-4FAF-9839-B2B9D4C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FDD3-EBBA-4703-849B-5383B52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0038-1E58-4A8F-A6FD-91F1DF9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CF97-74F3-4D0D-A3EB-21B37E2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93F1-DCAC-409C-97B2-A1B24DF9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8EBA-8BD9-471F-A417-2093BBB3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FCB4-9FFC-4784-97FF-560137BE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D0E-E6D2-4557-94D9-46C1555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F513-78D5-475A-8BC2-915D95D4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2E83-DFB2-4F6C-AB41-EE54D20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9359-E3FA-4657-814F-CA76680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1855-4065-4D1D-A881-4D2BFE0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394AA-51FC-4EFD-9F45-94E097F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F9D9-19AB-41BE-B61C-B082275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8BEC-D110-49A8-8A61-B0E8ED9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A22B-B49A-4788-901B-6CE25EC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A2E3-9161-4546-9EF8-88B67BA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A1DF-E1DD-45A4-84BC-60081CE8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CBC-8F8B-42AA-9887-6FC6A66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3DBE-44F5-45C4-9F48-C53C4D8B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D75-FAD3-4440-9582-2AD88F7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6F7-B242-4BF8-B387-AF3986D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CBB-3AEF-4489-9544-1D5488E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2F3-7158-401B-819E-96E2DFE995F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4CD-B4ED-40A7-AA60-FCDCA1EF74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5A8-10DC-4DD4-BB50-B50A91DF56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604F-B5CA-4807-9242-AEA69C5705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F760-6784-411B-949C-6D3B81C84A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1.wmf"/><Relationship Id="rId4" Type="http://schemas.openxmlformats.org/officeDocument/2006/relationships/image" Target="../media/image19.wmf"/><Relationship Id="rId5" Type="http://schemas.openxmlformats.org/officeDocument/2006/relationships/image" Target="../media/image28.pn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35.wmf"/><Relationship Id="rId5" Type="http://schemas.openxmlformats.org/officeDocument/2006/relationships/image" Target="../media/image46.wmf"/><Relationship Id="rId6" Type="http://schemas.openxmlformats.org/officeDocument/2006/relationships/image" Target="../media/image47.gif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gif"/><Relationship Id="rId12" Type="http://schemas.openxmlformats.org/officeDocument/2006/relationships/image" Target="../media/image53.gif"/><Relationship Id="rId13" Type="http://schemas.openxmlformats.org/officeDocument/2006/relationships/image" Target="../media/image54.gif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35.wmf"/><Relationship Id="rId3" Type="http://schemas.openxmlformats.org/officeDocument/2006/relationships/image" Target="../media/image61.gif"/><Relationship Id="rId4" Type="http://schemas.openxmlformats.org/officeDocument/2006/relationships/image" Target="../media/image62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5.gif"/><Relationship Id="rId3" Type="http://schemas.openxmlformats.org/officeDocument/2006/relationships/image" Target="../media/image66.gif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32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2f00"/>
                </a:solidFill>
                <a:latin typeface="Arial Black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62f00"/>
                </a:solidFill>
                <a:latin typeface="Arial Black"/>
              </a:rPr>
              <a:t>« В добрый путь!» </a:t>
            </a:r>
            <a:br>
              <a:rPr sz="5400"/>
            </a:br>
            <a:r>
              <a:rPr b="1" lang="ru-RU" sz="1600" spc="-1" strike="noStrike">
                <a:solidFill>
                  <a:srgbClr val="f62f00"/>
                </a:solidFill>
                <a:latin typeface="Arial Black"/>
              </a:rPr>
              <a:t>ПРАВИЛА </a:t>
            </a:r>
            <a:br>
              <a:rPr sz="1600"/>
            </a:br>
            <a:r>
              <a:rPr b="1" lang="ru-RU" sz="1600" spc="-1" strike="noStrike">
                <a:solidFill>
                  <a:srgbClr val="f62f00"/>
                </a:solidFill>
                <a:latin typeface="Arial Black"/>
              </a:rPr>
              <a:t>ДОРОЖНОГО ДВИЖЕНИЯ</a:t>
            </a:r>
            <a:br>
              <a:rPr sz="16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5" descr="COBJ058"/>
          <p:cNvPicPr/>
          <p:nvPr/>
        </p:nvPicPr>
        <p:blipFill>
          <a:blip r:embed="rId1"/>
          <a:stretch/>
        </p:blipFill>
        <p:spPr>
          <a:xfrm>
            <a:off x="7162920" y="533520"/>
            <a:ext cx="1712880" cy="495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AG00222_"/>
          <p:cNvPicPr/>
          <p:nvPr/>
        </p:nvPicPr>
        <p:blipFill>
          <a:blip r:embed="rId2"/>
          <a:stretch/>
        </p:blipFill>
        <p:spPr>
          <a:xfrm flipH="1" rot="21419400">
            <a:off x="1143000" y="4267080"/>
            <a:ext cx="1314360" cy="152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C:\Documents and Settings\Ирина\Рабочий стол\c12.gif"/>
          <p:cNvPicPr/>
          <p:nvPr/>
        </p:nvPicPr>
        <p:blipFill>
          <a:blip r:embed="rId3"/>
          <a:stretch/>
        </p:blipFill>
        <p:spPr>
          <a:xfrm>
            <a:off x="6477120" y="4876920"/>
            <a:ext cx="1000080" cy="136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перехода нет- зебра даст на все ответ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Picture 26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504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AG00222_"/>
          <p:cNvPicPr/>
          <p:nvPr/>
        </p:nvPicPr>
        <p:blipFill>
          <a:blip r:embed="rId2"/>
          <a:stretch/>
        </p:blipFill>
        <p:spPr>
          <a:xfrm flipH="1" rot="21420000">
            <a:off x="7292520" y="3533400"/>
            <a:ext cx="114768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0 L -0.71666 -0.04444 E">
                                      <p:cBhvr>
                                        <p:cTn id="95" dur="8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6761"/>
            </a:gs>
            <a:gs pos="50000">
              <a:srgbClr val="e3ded1"/>
            </a:gs>
            <a:gs pos="100000">
              <a:srgbClr val="696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Verdana"/>
              </a:rPr>
              <a:t>Если дорогу не успел перейти, остановись, подожди в центре пути!(на центральной линии или островке безопасности)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4343400" y="380880"/>
            <a:ext cx="0" cy="61722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2" descr="MCj04131720000[1]"/>
          <p:cNvPicPr/>
          <p:nvPr/>
        </p:nvPicPr>
        <p:blipFill>
          <a:blip r:embed="rId1"/>
          <a:stretch/>
        </p:blipFill>
        <p:spPr>
          <a:xfrm>
            <a:off x="8191440" y="762120"/>
            <a:ext cx="952560" cy="1941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3" descr="MCj04131720000[1]"/>
          <p:cNvPicPr/>
          <p:nvPr/>
        </p:nvPicPr>
        <p:blipFill>
          <a:blip r:embed="rId2"/>
          <a:stretch/>
        </p:blipFill>
        <p:spPr>
          <a:xfrm>
            <a:off x="152280" y="5105520"/>
            <a:ext cx="860400" cy="17524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5"/>
          <p:cNvSpPr/>
          <p:nvPr/>
        </p:nvSpPr>
        <p:spPr>
          <a:xfrm>
            <a:off x="45720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6"/>
          <p:cNvSpPr/>
          <p:nvPr/>
        </p:nvSpPr>
        <p:spPr>
          <a:xfrm>
            <a:off x="2133720" y="297180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114300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8"/>
          <p:cNvSpPr/>
          <p:nvPr/>
        </p:nvSpPr>
        <p:spPr>
          <a:xfrm>
            <a:off x="2895480" y="29718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9"/>
          <p:cNvSpPr/>
          <p:nvPr/>
        </p:nvSpPr>
        <p:spPr>
          <a:xfrm>
            <a:off x="52578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0"/>
          <p:cNvSpPr/>
          <p:nvPr/>
        </p:nvSpPr>
        <p:spPr>
          <a:xfrm>
            <a:off x="609588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1"/>
          <p:cNvSpPr/>
          <p:nvPr/>
        </p:nvSpPr>
        <p:spPr>
          <a:xfrm>
            <a:off x="68580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2"/>
          <p:cNvSpPr/>
          <p:nvPr/>
        </p:nvSpPr>
        <p:spPr>
          <a:xfrm>
            <a:off x="7543800" y="30481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3"/>
          <p:cNvSpPr/>
          <p:nvPr/>
        </p:nvSpPr>
        <p:spPr>
          <a:xfrm>
            <a:off x="8305920" y="30481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2" descr="MCj03209260000[1]"/>
          <p:cNvPicPr/>
          <p:nvPr/>
        </p:nvPicPr>
        <p:blipFill>
          <a:blip r:embed="rId3"/>
          <a:stretch/>
        </p:blipFill>
        <p:spPr>
          <a:xfrm flipH="1" rot="21553200">
            <a:off x="5257440" y="1142280"/>
            <a:ext cx="3048120" cy="1895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AR"/>
          <p:cNvPicPr/>
          <p:nvPr/>
        </p:nvPicPr>
        <p:blipFill>
          <a:blip r:embed="rId4"/>
          <a:stretch/>
        </p:blipFill>
        <p:spPr>
          <a:xfrm rot="21271200">
            <a:off x="914400" y="152388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3" descr="C:\Documents and Settings\Ирина\Рабочий стол\boys69.gif"/>
          <p:cNvPicPr/>
          <p:nvPr/>
        </p:nvPicPr>
        <p:blipFill>
          <a:blip r:embed="rId5"/>
          <a:stretch/>
        </p:blipFill>
        <p:spPr>
          <a:xfrm>
            <a:off x="3809880" y="2362320"/>
            <a:ext cx="1095480" cy="2533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1" descr="C:\Documents and Settings\Ирина\Рабочий стол\acop42.gif"/>
          <p:cNvPicPr/>
          <p:nvPr/>
        </p:nvPicPr>
        <p:blipFill>
          <a:blip r:embed="rId6"/>
          <a:stretch/>
        </p:blipFill>
        <p:spPr>
          <a:xfrm>
            <a:off x="6705720" y="5562720"/>
            <a:ext cx="21430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ри переходе улиц с двусторонним движением сначала посмотри налево, а дойдя до середины- направо.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Коль улицу надо тебе перейти-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О правиле помни простом: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С вниманьем налево сперва погляди,</a:t>
            </a:r>
            <a:br>
              <a:rPr sz="2500"/>
            </a:br>
            <a:r>
              <a:rPr b="1" lang="ru-RU" sz="2500" spc="-1" strike="noStrike">
                <a:solidFill>
                  <a:srgbClr val="ffc000"/>
                </a:solidFill>
                <a:latin typeface="Verdana"/>
              </a:rPr>
              <a:t>Направо взгляни потом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9" name="Picture 4" descr="Untitled-Scanned-04"/>
          <p:cNvPicPr/>
          <p:nvPr/>
        </p:nvPicPr>
        <p:blipFill>
          <a:blip r:embed="rId1"/>
          <a:stretch/>
        </p:blipFill>
        <p:spPr>
          <a:xfrm>
            <a:off x="457200" y="3200400"/>
            <a:ext cx="2641680" cy="3370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рис"/>
          <p:cNvPicPr/>
          <p:nvPr/>
        </p:nvPicPr>
        <p:blipFill>
          <a:blip r:embed="rId2"/>
          <a:srcRect l="4564" t="18488" r="2768" b="5467"/>
          <a:stretch/>
        </p:blipFill>
        <p:spPr>
          <a:xfrm>
            <a:off x="3352680" y="3581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C:\Documents and Settings\Ирина\Рабочий стол\котя.gif"/>
          <p:cNvPicPr/>
          <p:nvPr/>
        </p:nvPicPr>
        <p:blipFill>
          <a:blip r:embed="rId3"/>
          <a:stretch/>
        </p:blipFill>
        <p:spPr>
          <a:xfrm>
            <a:off x="5486400" y="3886200"/>
            <a:ext cx="304920" cy="343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AG00222_"/>
          <p:cNvPicPr/>
          <p:nvPr/>
        </p:nvPicPr>
        <p:blipFill>
          <a:blip r:embed="rId4"/>
          <a:stretch/>
        </p:blipFill>
        <p:spPr>
          <a:xfrm flipH="1" rot="21046200">
            <a:off x="7389360" y="5670720"/>
            <a:ext cx="478080" cy="9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3.33333E-006 C -0.02552 0.03588 -0.05434 0.07222 -0.04809 0.09189 C -0.04184 0.1118 0.02152 0.11458 0.04166 0.11944 E">
                                      <p:cBhvr>
                                        <p:cTn id="104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C -0.07726 -0.02338 -0.15417 -0.04653 -0.20417 -0.05116 C -0.25451 -0.05556 -0.26389 -0.03334 -0.30087 -0.02847 C -0.33767 -0.02338 -0.40521 -0.02246 -0.42587 -0.0213 E">
                                      <p:cBhvr>
                                        <p:cTn id="106" dur="10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4166 0.11944 C 0.01111 0.18402 -0.01945 0.24884 -0.04705 0.2743 C -0.07466 0.29977 -0.09966 0.28588 -0.12448 0.27222 E">
                                      <p:cBhvr>
                                        <p:cTn id="108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тъехал автобус,  и ты путь держи! Автобус стоит, и ты подожди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380880" y="4495680"/>
            <a:ext cx="876312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80880" y="3962520"/>
            <a:ext cx="8763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670572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670572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2"/>
          <p:cNvSpPr/>
          <p:nvPr/>
        </p:nvSpPr>
        <p:spPr>
          <a:xfrm>
            <a:off x="670572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670572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8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5" descr="HAPPYBOY"/>
          <p:cNvPicPr/>
          <p:nvPr/>
        </p:nvPicPr>
        <p:blipFill>
          <a:blip r:embed="rId1"/>
          <a:stretch/>
        </p:blipFill>
        <p:spPr>
          <a:xfrm>
            <a:off x="6019920" y="2666880"/>
            <a:ext cx="847440" cy="1871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5" descr="0458PE"/>
          <p:cNvPicPr/>
          <p:nvPr/>
        </p:nvPicPr>
        <p:blipFill>
          <a:blip r:embed="rId2"/>
          <a:stretch/>
        </p:blipFill>
        <p:spPr>
          <a:xfrm>
            <a:off x="3886200" y="175248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9" descr="C:\Documents and Settings\Ирина\Рабочий стол\girls095.gif"/>
          <p:cNvPicPr/>
          <p:nvPr/>
        </p:nvPicPr>
        <p:blipFill>
          <a:blip r:embed="rId3"/>
          <a:stretch/>
        </p:blipFill>
        <p:spPr>
          <a:xfrm>
            <a:off x="7315200" y="2057400"/>
            <a:ext cx="885960" cy="2457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LANDS084"/>
          <p:cNvPicPr/>
          <p:nvPr/>
        </p:nvPicPr>
        <p:blipFill>
          <a:blip r:embed="rId4"/>
          <a:stretch/>
        </p:blipFill>
        <p:spPr>
          <a:xfrm>
            <a:off x="1905120" y="609480"/>
            <a:ext cx="2280960" cy="2376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7" descr="MCj03985530000[1]"/>
          <p:cNvPicPr/>
          <p:nvPr/>
        </p:nvPicPr>
        <p:blipFill>
          <a:blip r:embed="rId5"/>
          <a:stretch/>
        </p:blipFill>
        <p:spPr>
          <a:xfrm>
            <a:off x="304920" y="3657600"/>
            <a:ext cx="472428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14"/>
          <p:cNvSpPr txBox="1"/>
          <p:nvPr/>
        </p:nvSpPr>
        <p:spPr>
          <a:xfrm>
            <a:off x="2590920" y="1066680"/>
            <a:ext cx="444024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f2936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3200" spc="1" strike="noStrike">
              <a:ln w="9360">
                <a:solidFill>
                  <a:srgbClr val="9f2936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Freeform 17"/>
          <p:cNvSpPr/>
          <p:nvPr/>
        </p:nvSpPr>
        <p:spPr>
          <a:xfrm>
            <a:off x="228600" y="4876920"/>
            <a:ext cx="8705880" cy="914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8"/>
          <p:cNvSpPr/>
          <p:nvPr/>
        </p:nvSpPr>
        <p:spPr>
          <a:xfrm>
            <a:off x="4648320" y="838080"/>
            <a:ext cx="4022640" cy="474516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609480" y="838080"/>
            <a:ext cx="4024440" cy="510408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6872400" y="1039680"/>
            <a:ext cx="2087280" cy="46008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254160" y="1042920"/>
            <a:ext cx="2093760" cy="459756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"/>
          <p:cNvSpPr/>
          <p:nvPr/>
        </p:nvSpPr>
        <p:spPr>
          <a:xfrm>
            <a:off x="152280" y="457200"/>
            <a:ext cx="8763120" cy="499572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380880" y="304920"/>
            <a:ext cx="8763120" cy="499572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7"/>
          <p:cNvGrpSpPr/>
          <p:nvPr/>
        </p:nvGrpSpPr>
        <p:grpSpPr>
          <a:xfrm>
            <a:off x="6095880" y="3200400"/>
            <a:ext cx="3200040" cy="3657240"/>
            <a:chOff x="6095880" y="3200400"/>
            <a:chExt cx="3200040" cy="3657240"/>
          </a:xfrm>
        </p:grpSpPr>
        <p:pic>
          <p:nvPicPr>
            <p:cNvPr id="368" name="Picture 10" descr="CRCTR112"/>
            <p:cNvPicPr/>
            <p:nvPr/>
          </p:nvPicPr>
          <p:blipFill>
            <a:blip r:embed="rId1"/>
            <a:srcRect l="0" t="25642" r="0" b="0"/>
            <a:stretch/>
          </p:blipFill>
          <p:spPr>
            <a:xfrm>
              <a:off x="6095880" y="3200400"/>
              <a:ext cx="2069280" cy="27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" descr="COBJ068"/>
            <p:cNvPicPr/>
            <p:nvPr/>
          </p:nvPicPr>
          <p:blipFill>
            <a:blip r:embed="rId2"/>
            <a:stretch/>
          </p:blipFill>
          <p:spPr>
            <a:xfrm>
              <a:off x="7521120" y="4146840"/>
              <a:ext cx="1774800" cy="271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Picture 14" descr="MIS105"/>
          <p:cNvPicPr/>
          <p:nvPr/>
        </p:nvPicPr>
        <p:blipFill>
          <a:blip r:embed="rId3"/>
          <a:stretch/>
        </p:blipFill>
        <p:spPr>
          <a:xfrm>
            <a:off x="914400" y="2209680"/>
            <a:ext cx="1608120" cy="364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4" descr="C:\Documents and Settings\Ирина\Рабочий стол\boy24.gif"/>
          <p:cNvPicPr/>
          <p:nvPr/>
        </p:nvPicPr>
        <p:blipFill>
          <a:blip r:embed="rId4"/>
          <a:stretch/>
        </p:blipFill>
        <p:spPr>
          <a:xfrm>
            <a:off x="5257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де нужно переходить улицу?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361960" y="2133360"/>
            <a:ext cx="590364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Только по пешеходному перех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17" descr="COBJ058"/>
          <p:cNvPicPr/>
          <p:nvPr/>
        </p:nvPicPr>
        <p:blipFill>
          <a:blip r:embed="rId1"/>
          <a:stretch/>
        </p:blipFill>
        <p:spPr>
          <a:xfrm flipH="1">
            <a:off x="609120" y="1905120"/>
            <a:ext cx="1654200" cy="453708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15"/>
          <p:cNvSpPr/>
          <p:nvPr/>
        </p:nvSpPr>
        <p:spPr>
          <a:xfrm>
            <a:off x="2514600" y="457200"/>
            <a:ext cx="44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И несколько правил повторим сейч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2514600" y="2666880"/>
            <a:ext cx="45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полоскам черно-б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шеход шагает см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то из вас, ребята,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к о чем предупреж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й машине тихий 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шеходный переход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C:\Documents and Settings\Ирина\Рабочий стол\boys75.gif"/>
          <p:cNvPicPr/>
          <p:nvPr/>
        </p:nvPicPr>
        <p:blipFill>
          <a:blip r:embed="rId2"/>
          <a:stretch/>
        </p:blipFill>
        <p:spPr>
          <a:xfrm>
            <a:off x="1447920" y="3886200"/>
            <a:ext cx="11430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Ирина\Рабочий стол\c14.gif"/>
          <p:cNvPicPr/>
          <p:nvPr/>
        </p:nvPicPr>
        <p:blipFill>
          <a:blip r:embed="rId3"/>
          <a:stretch/>
        </p:blipFill>
        <p:spPr>
          <a:xfrm>
            <a:off x="6924600" y="4495680"/>
            <a:ext cx="1866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054PE"/>
          <p:cNvPicPr/>
          <p:nvPr/>
        </p:nvPicPr>
        <p:blipFill>
          <a:blip r:embed="rId1"/>
          <a:srcRect l="35573" t="0" r="0" b="0"/>
          <a:stretch/>
        </p:blipFill>
        <p:spPr>
          <a:xfrm rot="20080200">
            <a:off x="1295280" y="4724280"/>
            <a:ext cx="1779840" cy="1595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1992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де можно кататься на велосипеде детям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до 14 лет?</a:t>
            </a:r>
            <a:br>
              <a:rPr sz="16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22160" y="1142640"/>
            <a:ext cx="392616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Только во дворе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9" descr="BICYCLE"/>
          <p:cNvPicPr/>
          <p:nvPr/>
        </p:nvPicPr>
        <p:blipFill>
          <a:blip r:embed="rId2"/>
          <a:stretch/>
        </p:blipFill>
        <p:spPr>
          <a:xfrm>
            <a:off x="5334120" y="3962520"/>
            <a:ext cx="1828800" cy="2073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LANDS039"/>
          <p:cNvPicPr/>
          <p:nvPr/>
        </p:nvPicPr>
        <p:blipFill>
          <a:blip r:embed="rId3"/>
          <a:stretch/>
        </p:blipFill>
        <p:spPr>
          <a:xfrm>
            <a:off x="6477120" y="1447920"/>
            <a:ext cx="2447640" cy="2095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LANDS084"/>
          <p:cNvPicPr/>
          <p:nvPr/>
        </p:nvPicPr>
        <p:blipFill>
          <a:blip r:embed="rId4"/>
          <a:stretch/>
        </p:blipFill>
        <p:spPr>
          <a:xfrm>
            <a:off x="380880" y="1981080"/>
            <a:ext cx="2281320" cy="2376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LANDS043"/>
          <p:cNvPicPr/>
          <p:nvPr/>
        </p:nvPicPr>
        <p:blipFill>
          <a:blip r:embed="rId5"/>
          <a:stretch/>
        </p:blipFill>
        <p:spPr>
          <a:xfrm>
            <a:off x="4419720" y="1219320"/>
            <a:ext cx="216036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C:\Documents and Settings\Ирина\Рабочий стол\вело.gif"/>
          <p:cNvPicPr/>
          <p:nvPr/>
        </p:nvPicPr>
        <p:blipFill>
          <a:blip r:embed="rId6"/>
          <a:stretch/>
        </p:blipFill>
        <p:spPr>
          <a:xfrm>
            <a:off x="7848720" y="3429000"/>
            <a:ext cx="838080" cy="895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C:\Documents and Settings\Ирина\Рабочий стол\boys54.gif"/>
          <p:cNvPicPr/>
          <p:nvPr/>
        </p:nvPicPr>
        <p:blipFill>
          <a:blip r:embed="rId7"/>
          <a:stretch/>
        </p:blipFill>
        <p:spPr>
          <a:xfrm>
            <a:off x="6858000" y="4572000"/>
            <a:ext cx="990720" cy="181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C:\Documents and Settings\Ирина\Рабочий стол\boys93.gif"/>
          <p:cNvPicPr/>
          <p:nvPr/>
        </p:nvPicPr>
        <p:blipFill>
          <a:blip r:embed="rId8"/>
          <a:stretch/>
        </p:blipFill>
        <p:spPr>
          <a:xfrm>
            <a:off x="3657600" y="21337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C:\Documents and Settings\Ирина\Рабочий стол\boys77.gif"/>
          <p:cNvPicPr/>
          <p:nvPr/>
        </p:nvPicPr>
        <p:blipFill>
          <a:blip r:embed="rId9"/>
          <a:stretch/>
        </p:blipFill>
        <p:spPr>
          <a:xfrm>
            <a:off x="7848720" y="47242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C:\Documents and Settings\Ирина\Рабочий стол\собака3.gif"/>
          <p:cNvPicPr/>
          <p:nvPr/>
        </p:nvPicPr>
        <p:blipFill>
          <a:blip r:embed="rId10"/>
          <a:stretch/>
        </p:blipFill>
        <p:spPr>
          <a:xfrm>
            <a:off x="457200" y="4419720"/>
            <a:ext cx="698400" cy="69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C:\Documents and Settings\Ирина\Рабочий стол\boy15.gif"/>
          <p:cNvPicPr/>
          <p:nvPr/>
        </p:nvPicPr>
        <p:blipFill>
          <a:blip r:embed="rId11"/>
          <a:stretch/>
        </p:blipFill>
        <p:spPr>
          <a:xfrm>
            <a:off x="4114800" y="373392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C:\Documents and Settings\Ирина\Рабочий стол\boy31.gif"/>
          <p:cNvPicPr/>
          <p:nvPr/>
        </p:nvPicPr>
        <p:blipFill>
          <a:blip r:embed="rId12"/>
          <a:stretch/>
        </p:blipFill>
        <p:spPr>
          <a:xfrm>
            <a:off x="2666880" y="3581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C:\Documents and Settings\Ирина\Рабочий стол\c24.gif"/>
          <p:cNvPicPr/>
          <p:nvPr/>
        </p:nvPicPr>
        <p:blipFill>
          <a:blip r:embed="rId13"/>
          <a:stretch/>
        </p:blipFill>
        <p:spPr>
          <a:xfrm>
            <a:off x="5257800" y="3581280"/>
            <a:ext cx="6858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25231 L 0.2066 -0.08071 E">
                                      <p:cBhvr>
                                        <p:cTn id="15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2216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 нужно заходить в общественный транспорт?</a:t>
            </a:r>
            <a:br>
              <a:rPr sz="43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72216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Надо подождать пока выйдут другие пассажиры, потом вой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2" descr="paz-siti_dveri2"/>
          <p:cNvPicPr/>
          <p:nvPr/>
        </p:nvPicPr>
        <p:blipFill>
          <a:blip r:embed="rId1"/>
          <a:stretch/>
        </p:blipFill>
        <p:spPr>
          <a:xfrm>
            <a:off x="380880" y="19810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:\Documents and Settings\Ирина\Рабочий стол\girls076.gif"/>
          <p:cNvPicPr/>
          <p:nvPr/>
        </p:nvPicPr>
        <p:blipFill>
          <a:blip r:embed="rId2"/>
          <a:stretch/>
        </p:blipFill>
        <p:spPr>
          <a:xfrm>
            <a:off x="4419720" y="3809880"/>
            <a:ext cx="1428480" cy="2524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C:\Documents and Settings\Ирина\Рабочий стол\boys13.gif"/>
          <p:cNvPicPr/>
          <p:nvPr/>
        </p:nvPicPr>
        <p:blipFill>
          <a:blip r:embed="rId3"/>
          <a:stretch/>
        </p:blipFill>
        <p:spPr>
          <a:xfrm>
            <a:off x="3124080" y="3657600"/>
            <a:ext cx="1238400" cy="259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C:\Documents and Settings\Ирина\Рабочий стол\b48.gif"/>
          <p:cNvPicPr/>
          <p:nvPr/>
        </p:nvPicPr>
        <p:blipFill>
          <a:blip r:embed="rId4"/>
          <a:stretch/>
        </p:blipFill>
        <p:spPr>
          <a:xfrm>
            <a:off x="6248520" y="3581280"/>
            <a:ext cx="1390680" cy="2667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C:\Documents and Settings\Ирина\Рабочий стол\b81.gif"/>
          <p:cNvPicPr/>
          <p:nvPr/>
        </p:nvPicPr>
        <p:blipFill>
          <a:blip r:embed="rId5"/>
          <a:stretch/>
        </p:blipFill>
        <p:spPr>
          <a:xfrm>
            <a:off x="7391520" y="3809880"/>
            <a:ext cx="990360" cy="2514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9" descr="C:\Documents and Settings\Ирина\Рабочий стол\c12.gif"/>
          <p:cNvPicPr/>
          <p:nvPr/>
        </p:nvPicPr>
        <p:blipFill>
          <a:blip r:embed="rId6"/>
          <a:stretch/>
        </p:blipFill>
        <p:spPr>
          <a:xfrm>
            <a:off x="6095880" y="4876920"/>
            <a:ext cx="45720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22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 нужно обходить автобус и троллейбус?</a:t>
            </a:r>
            <a:br>
              <a:rPr sz="45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2216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Автобус и троллейбус  сзади обход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7" descr="C:\Documents and Settings\Ирина\Рабочий стол\boys57.gif"/>
          <p:cNvPicPr/>
          <p:nvPr/>
        </p:nvPicPr>
        <p:blipFill>
          <a:blip r:embed="rId1"/>
          <a:stretch/>
        </p:blipFill>
        <p:spPr>
          <a:xfrm>
            <a:off x="5029200" y="2438280"/>
            <a:ext cx="762120" cy="2038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LANDS084"/>
          <p:cNvPicPr/>
          <p:nvPr/>
        </p:nvPicPr>
        <p:blipFill>
          <a:blip r:embed="rId2"/>
          <a:stretch/>
        </p:blipFill>
        <p:spPr>
          <a:xfrm>
            <a:off x="380880" y="1523880"/>
            <a:ext cx="2281320" cy="2376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рина\Рабочий стол\c04.gif"/>
          <p:cNvPicPr/>
          <p:nvPr/>
        </p:nvPicPr>
        <p:blipFill>
          <a:blip r:embed="rId3"/>
          <a:stretch/>
        </p:blipFill>
        <p:spPr>
          <a:xfrm>
            <a:off x="6324480" y="396252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8" descr="C:\Documents and Settings\Ирина\Рабочий стол\автобус.gif"/>
          <p:cNvPicPr/>
          <p:nvPr/>
        </p:nvPicPr>
        <p:blipFill>
          <a:blip r:embed="rId4"/>
          <a:stretch/>
        </p:blipFill>
        <p:spPr>
          <a:xfrm>
            <a:off x="1371600" y="4038480"/>
            <a:ext cx="4114800" cy="2210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C:\Documents and Settings\Ирина\Рабочий стол\c49.gif"/>
          <p:cNvPicPr/>
          <p:nvPr/>
        </p:nvPicPr>
        <p:blipFill>
          <a:blip r:embed="rId5"/>
          <a:stretch/>
        </p:blipFill>
        <p:spPr>
          <a:xfrm>
            <a:off x="5181480" y="4495680"/>
            <a:ext cx="1114560" cy="1638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C:\Documents and Settings\Ирина\Рабочий стол\b37.gif"/>
          <p:cNvPicPr/>
          <p:nvPr/>
        </p:nvPicPr>
        <p:blipFill>
          <a:blip r:embed="rId6"/>
          <a:stretch/>
        </p:blipFill>
        <p:spPr>
          <a:xfrm>
            <a:off x="7620120" y="358128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Verdana"/>
              </a:rPr>
              <a:t>А трамвай, запомни, только спереди!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72216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лощадки трамвая сходя, не забуд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аво взглянуть: безопасен ли пу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мвай же ты сзади не огиба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под встречный попасть трамва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AG00222_"/>
          <p:cNvPicPr/>
          <p:nvPr/>
        </p:nvPicPr>
        <p:blipFill>
          <a:blip r:embed="rId2"/>
          <a:stretch/>
        </p:blipFill>
        <p:spPr>
          <a:xfrm flipH="1" rot="21205800">
            <a:off x="6698880" y="5157720"/>
            <a:ext cx="993960" cy="1290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C:\Documents and Settings\Ирина\Рабочий стол\маль.gif"/>
          <p:cNvPicPr/>
          <p:nvPr/>
        </p:nvPicPr>
        <p:blipFill>
          <a:blip r:embed="rId3"/>
          <a:stretch/>
        </p:blipFill>
        <p:spPr>
          <a:xfrm>
            <a:off x="7772400" y="5105520"/>
            <a:ext cx="1076400" cy="1371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C:\Documents and Settings\Ирина\Рабочий стол\собака.gif"/>
          <p:cNvPicPr/>
          <p:nvPr/>
        </p:nvPicPr>
        <p:blipFill>
          <a:blip r:embed="rId4"/>
          <a:stretch/>
        </p:blipFill>
        <p:spPr>
          <a:xfrm>
            <a:off x="7543800" y="5791320"/>
            <a:ext cx="60948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Ирина\Рабочий стол\дядя.jpg"/>
          <p:cNvPicPr/>
          <p:nvPr/>
        </p:nvPicPr>
        <p:blipFill>
          <a:blip r:embed="rId1"/>
          <a:stretch/>
        </p:blipFill>
        <p:spPr>
          <a:xfrm>
            <a:off x="533520" y="1905120"/>
            <a:ext cx="3352680" cy="4552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Внимание! Внимание!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Это должен каждый знать обязательно на 5!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038480" y="2057400"/>
            <a:ext cx="4456080" cy="4191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Если есть такие в классе ,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Что не знают правил наших,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Мы научим всех ребят</a:t>
            </a:r>
            <a:br>
              <a:rPr sz="3200"/>
            </a:br>
            <a:r>
              <a:rPr b="0" lang="ru-RU" sz="3200" spc="-1" strike="noStrike">
                <a:solidFill>
                  <a:srgbClr val="79766f"/>
                </a:solidFill>
                <a:latin typeface="Verdana"/>
              </a:rPr>
              <a:t>Соблюдать их все на 5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2521080" cy="6172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4932360" y="304920"/>
            <a:ext cx="1150920" cy="6172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179440" cy="617220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9"/>
          <p:cNvSpPr/>
          <p:nvPr/>
        </p:nvSpPr>
        <p:spPr>
          <a:xfrm>
            <a:off x="6019920" y="76212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Азбу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Доро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пренебрег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Азбу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opperplate Gothic Light"/>
              </a:rPr>
              <a:t>Дорожную изуч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09120" y="533520"/>
            <a:ext cx="810756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мы бываем с вами пешеходами, то есть участниками дорожного движения. Вы идете в школу, возвращаетесь домой, идете в гости друг к другу, в магазин… И во всех этих случаях вы пешеход, а значит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должны соблюдать Правила дорожного движения для обеспечения личной безопасности и безопасности окружающ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Берегите себя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6" descr="Untitled-Scanned-13"/>
          <p:cNvPicPr/>
          <p:nvPr/>
        </p:nvPicPr>
        <p:blipFill>
          <a:blip r:embed="rId1"/>
          <a:srcRect l="3924" t="4728" r="3346" b="5337"/>
          <a:stretch/>
        </p:blipFill>
        <p:spPr>
          <a:xfrm>
            <a:off x="1219320" y="3276720"/>
            <a:ext cx="213336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Прямоугольник 7" descr=""/>
          <p:cNvPicPr/>
          <p:nvPr/>
        </p:nvPicPr>
        <p:blipFill>
          <a:blip r:embed="rId2"/>
          <a:stretch/>
        </p:blipFill>
        <p:spPr>
          <a:xfrm>
            <a:off x="530280" y="4492800"/>
            <a:ext cx="817560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243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зентацию подготовил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питатели : Молчанова И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ушкова Е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шая группа «Золуш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335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Светофор наш лучший друг,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Преданный и верный.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ез него мы как без рук, если откровенно!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Наш трёхглазый общий друг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Всем нам помогает.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ез него мы как без рук, </a:t>
            </a:r>
            <a:br>
              <a:rPr sz="2400"/>
            </a:b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Каждый это знает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352680" cy="541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428840" cy="25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556800">
            <a:off x="4884480" y="678960"/>
            <a:ext cx="39862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вет зеле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ходи! </a:t>
            </a:r>
            <a:br>
              <a:rPr sz="1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CRCTR142"/>
          <p:cNvPicPr/>
          <p:nvPr/>
        </p:nvPicPr>
        <p:blipFill>
          <a:blip r:embed="rId1"/>
          <a:stretch/>
        </p:blipFill>
        <p:spPr>
          <a:xfrm>
            <a:off x="6019920" y="2971800"/>
            <a:ext cx="2560680" cy="3097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C:\Documents and Settings\Ирина\Рабочий стол\49_milash2.gif"/>
          <p:cNvPicPr/>
          <p:nvPr/>
        </p:nvPicPr>
        <p:blipFill>
          <a:blip r:embed="rId2"/>
          <a:stretch/>
        </p:blipFill>
        <p:spPr>
          <a:xfrm>
            <a:off x="533520" y="2819520"/>
            <a:ext cx="1447560" cy="2981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C:\Documents and Settings\Ирина\Рабочий стол\40_md36.gif"/>
          <p:cNvPicPr/>
          <p:nvPr/>
        </p:nvPicPr>
        <p:blipFill>
          <a:blip r:embed="rId3"/>
          <a:stretch/>
        </p:blipFill>
        <p:spPr>
          <a:xfrm>
            <a:off x="2209680" y="4038480"/>
            <a:ext cx="83844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 rot="568200">
            <a:off x="4774680" y="664560"/>
            <a:ext cx="4410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т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лость погод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5" descr="HAPPYBOY"/>
          <p:cNvPicPr/>
          <p:nvPr/>
        </p:nvPicPr>
        <p:blipFill>
          <a:blip r:embed="rId1"/>
          <a:stretch/>
        </p:blipFill>
        <p:spPr>
          <a:xfrm>
            <a:off x="1763640" y="2895480"/>
            <a:ext cx="1152720" cy="2667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COBJ061"/>
          <p:cNvPicPr/>
          <p:nvPr/>
        </p:nvPicPr>
        <p:blipFill>
          <a:blip r:embed="rId2"/>
          <a:stretch/>
        </p:blipFill>
        <p:spPr>
          <a:xfrm flipH="1">
            <a:off x="5790960" y="3809880"/>
            <a:ext cx="226836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 rot="487200">
            <a:off x="5078520" y="83160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у, а если крас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ой, дружок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асно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3" descr="HEA005"/>
          <p:cNvPicPr/>
          <p:nvPr/>
        </p:nvPicPr>
        <p:blipFill>
          <a:blip r:embed="rId1"/>
          <a:stretch/>
        </p:blipFill>
        <p:spPr>
          <a:xfrm>
            <a:off x="990720" y="2362320"/>
            <a:ext cx="1828800" cy="305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C:\Documents and Settings\Ирина\Рабочий стол\14_md10.gif"/>
          <p:cNvPicPr/>
          <p:nvPr/>
        </p:nvPicPr>
        <p:blipFill>
          <a:blip r:embed="rId2"/>
          <a:stretch/>
        </p:blipFill>
        <p:spPr>
          <a:xfrm>
            <a:off x="7010280" y="3581280"/>
            <a:ext cx="600120" cy="177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C:\Documents and Settings\Ирина\Рабочий стол\16_md12.gif"/>
          <p:cNvPicPr/>
          <p:nvPr/>
        </p:nvPicPr>
        <p:blipFill>
          <a:blip r:embed="rId3"/>
          <a:stretch/>
        </p:blipFill>
        <p:spPr>
          <a:xfrm>
            <a:off x="5943600" y="3429000"/>
            <a:ext cx="80028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Если светофора нет, то нам поможет на дороге главный человек! (постовой – милиционер)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7" name="Picture 12" descr="MCj01986060000[1]"/>
          <p:cNvPicPr/>
          <p:nvPr/>
        </p:nvPicPr>
        <p:blipFill>
          <a:blip r:embed="rId1"/>
          <a:stretch/>
        </p:blipFill>
        <p:spPr>
          <a:xfrm>
            <a:off x="5791320" y="990720"/>
            <a:ext cx="2935080" cy="35622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3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9"/>
          <p:cNvGrpSpPr/>
          <p:nvPr/>
        </p:nvGrpSpPr>
        <p:grpSpPr>
          <a:xfrm>
            <a:off x="111960" y="2057400"/>
            <a:ext cx="2406240" cy="2345400"/>
            <a:chOff x="111960" y="2057400"/>
            <a:chExt cx="2406240" cy="2345400"/>
          </a:xfrm>
        </p:grpSpPr>
        <p:grpSp>
          <p:nvGrpSpPr>
            <p:cNvPr id="272" name="Group 10"/>
            <p:cNvGrpSpPr/>
            <p:nvPr/>
          </p:nvGrpSpPr>
          <p:grpSpPr>
            <a:xfrm>
              <a:off x="111960" y="2057400"/>
              <a:ext cx="2406240" cy="2345400"/>
              <a:chOff x="111960" y="2057400"/>
              <a:chExt cx="2406240" cy="2345400"/>
            </a:xfrm>
          </p:grpSpPr>
          <p:sp>
            <p:nvSpPr>
              <p:cNvPr id="273" name="AutoShape 11"/>
              <p:cNvSpPr/>
              <p:nvPr/>
            </p:nvSpPr>
            <p:spPr>
              <a:xfrm rot="2375400">
                <a:off x="213120" y="2752560"/>
                <a:ext cx="214776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 rot="2375400">
                <a:off x="162000" y="2688120"/>
                <a:ext cx="2320920" cy="94608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3"/>
              <p:cNvSpPr/>
              <p:nvPr/>
            </p:nvSpPr>
            <p:spPr>
              <a:xfrm rot="2375400">
                <a:off x="1324800" y="377748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4"/>
              <p:cNvSpPr/>
              <p:nvPr/>
            </p:nvSpPr>
            <p:spPr>
              <a:xfrm rot="2375400">
                <a:off x="415800" y="302544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5"/>
              <p:cNvSpPr/>
              <p:nvPr/>
            </p:nvSpPr>
            <p:spPr>
              <a:xfrm rot="2375400">
                <a:off x="934200" y="2800440"/>
                <a:ext cx="1036080" cy="32436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6"/>
              <p:cNvSpPr/>
              <p:nvPr/>
            </p:nvSpPr>
            <p:spPr>
              <a:xfrm rot="2375400">
                <a:off x="1199520" y="3305880"/>
                <a:ext cx="434880" cy="3571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7"/>
              <p:cNvSpPr/>
              <p:nvPr/>
            </p:nvSpPr>
            <p:spPr>
              <a:xfrm rot="2375400">
                <a:off x="843840" y="3004920"/>
                <a:ext cx="405000" cy="3524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8"/>
              <p:cNvSpPr/>
              <p:nvPr/>
            </p:nvSpPr>
            <p:spPr>
              <a:xfrm rot="2375400">
                <a:off x="1990800" y="3888000"/>
                <a:ext cx="118800" cy="1746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9"/>
              <p:cNvSpPr/>
              <p:nvPr/>
            </p:nvSpPr>
            <p:spPr>
              <a:xfrm rot="2375400">
                <a:off x="460440" y="2455560"/>
                <a:ext cx="56160" cy="99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0"/>
              <p:cNvSpPr/>
              <p:nvPr/>
            </p:nvSpPr>
            <p:spPr>
              <a:xfrm rot="2375400">
                <a:off x="705240" y="2749680"/>
                <a:ext cx="648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1"/>
              <p:cNvSpPr/>
              <p:nvPr/>
            </p:nvSpPr>
            <p:spPr>
              <a:xfrm rot="2375400">
                <a:off x="1846080" y="3695040"/>
                <a:ext cx="702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AutoShape 22"/>
            <p:cNvSpPr/>
            <p:nvPr/>
          </p:nvSpPr>
          <p:spPr>
            <a:xfrm rot="2375400">
              <a:off x="496080" y="310500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2375400">
              <a:off x="1405440" y="385668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8" descr="CAR"/>
          <p:cNvPicPr/>
          <p:nvPr/>
        </p:nvPicPr>
        <p:blipFill>
          <a:blip r:embed="rId2"/>
          <a:stretch/>
        </p:blipFill>
        <p:spPr>
          <a:xfrm rot="3483000">
            <a:off x="102240" y="530100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COBJ061"/>
          <p:cNvPicPr/>
          <p:nvPr/>
        </p:nvPicPr>
        <p:blipFill>
          <a:blip r:embed="rId3"/>
          <a:stretch/>
        </p:blipFill>
        <p:spPr>
          <a:xfrm flipH="1" rot="1666800">
            <a:off x="468000" y="893520"/>
            <a:ext cx="2268360" cy="1590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404 0.46111 E">
                                      <p:cBhvr>
                                        <p:cTn id="61" dur="8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 проезжей части играть, друзья, опасно!!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52280" y="1066680"/>
            <a:ext cx="8991720" cy="6019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j0212957"/>
          <p:cNvPicPr/>
          <p:nvPr/>
        </p:nvPicPr>
        <p:blipFill>
          <a:blip r:embed="rId1"/>
          <a:stretch/>
        </p:blipFill>
        <p:spPr>
          <a:xfrm>
            <a:off x="2057400" y="2133720"/>
            <a:ext cx="2178000" cy="13665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6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9"/>
          <p:cNvGrpSpPr/>
          <p:nvPr/>
        </p:nvGrpSpPr>
        <p:grpSpPr>
          <a:xfrm>
            <a:off x="2209680" y="3657600"/>
            <a:ext cx="2716200" cy="1617840"/>
            <a:chOff x="2209680" y="3657600"/>
            <a:chExt cx="2716200" cy="1617840"/>
          </a:xfrm>
        </p:grpSpPr>
        <p:grpSp>
          <p:nvGrpSpPr>
            <p:cNvPr id="295" name="Group 10"/>
            <p:cNvGrpSpPr/>
            <p:nvPr/>
          </p:nvGrpSpPr>
          <p:grpSpPr>
            <a:xfrm>
              <a:off x="2209680" y="3657600"/>
              <a:ext cx="2716200" cy="1617840"/>
              <a:chOff x="2209680" y="3657600"/>
              <a:chExt cx="2716200" cy="1617840"/>
            </a:xfrm>
          </p:grpSpPr>
          <p:sp>
            <p:nvSpPr>
              <p:cNvPr id="296" name="AutoShape 11"/>
              <p:cNvSpPr/>
              <p:nvPr/>
            </p:nvSpPr>
            <p:spPr>
              <a:xfrm>
                <a:off x="2380680" y="3736080"/>
                <a:ext cx="2513520" cy="15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"/>
              <p:cNvSpPr/>
              <p:nvPr/>
            </p:nvSpPr>
            <p:spPr>
              <a:xfrm>
                <a:off x="2209680" y="3657600"/>
                <a:ext cx="2716200" cy="13352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3"/>
              <p:cNvSpPr/>
              <p:nvPr/>
            </p:nvSpPr>
            <p:spPr>
              <a:xfrm>
                <a:off x="4109400" y="4749840"/>
                <a:ext cx="47916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14"/>
              <p:cNvSpPr/>
              <p:nvPr/>
            </p:nvSpPr>
            <p:spPr>
              <a:xfrm>
                <a:off x="2728440" y="4749840"/>
                <a:ext cx="47952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2930760" y="3763080"/>
                <a:ext cx="1212480" cy="4579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3639600" y="4339440"/>
                <a:ext cx="509040" cy="504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096360" y="4345920"/>
                <a:ext cx="474120" cy="497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4762080" y="4432680"/>
                <a:ext cx="138960" cy="24624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>
                <a:off x="2293920" y="4291560"/>
                <a:ext cx="65880" cy="140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20"/>
              <p:cNvSpPr/>
              <p:nvPr/>
            </p:nvSpPr>
            <p:spPr>
              <a:xfrm>
                <a:off x="2708640" y="4397400"/>
                <a:ext cx="7596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1"/>
              <p:cNvSpPr/>
              <p:nvPr/>
            </p:nvSpPr>
            <p:spPr>
              <a:xfrm>
                <a:off x="4442400" y="4397400"/>
                <a:ext cx="8208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AutoShape 22"/>
            <p:cNvSpPr/>
            <p:nvPr/>
          </p:nvSpPr>
          <p:spPr>
            <a:xfrm>
              <a:off x="28303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3"/>
            <p:cNvSpPr/>
            <p:nvPr/>
          </p:nvSpPr>
          <p:spPr>
            <a:xfrm>
              <a:off x="42109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22" descr="MCj03209260000[1]"/>
          <p:cNvPicPr/>
          <p:nvPr/>
        </p:nvPicPr>
        <p:blipFill>
          <a:blip r:embed="rId2"/>
          <a:stretch/>
        </p:blipFill>
        <p:spPr>
          <a:xfrm flipH="1" rot="21553200">
            <a:off x="5698440" y="1318680"/>
            <a:ext cx="3430440" cy="2133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CRCTR320"/>
          <p:cNvPicPr/>
          <p:nvPr/>
        </p:nvPicPr>
        <p:blipFill>
          <a:blip r:embed="rId3"/>
          <a:stretch/>
        </p:blipFill>
        <p:spPr>
          <a:xfrm flipH="1" rot="371400">
            <a:off x="6781320" y="4419360"/>
            <a:ext cx="1295640" cy="1752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Мы по улице шагаем и ворон мы не считаем, смело мы идем вперед, где нам виден пе-ре-ход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2" name="Picture 57" descr="C:\Documents and Settings\Ирина\Рабочий стол\п22передел.jpg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190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Documents and Settings\Ирина\Рабочий стол\12_md8.gif"/>
          <p:cNvPicPr/>
          <p:nvPr/>
        </p:nvPicPr>
        <p:blipFill>
          <a:blip r:embed="rId2"/>
          <a:stretch/>
        </p:blipFill>
        <p:spPr>
          <a:xfrm>
            <a:off x="5105520" y="3581280"/>
            <a:ext cx="39996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3222360" y="4057560"/>
            <a:ext cx="769680" cy="892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Documents and Settings\Ирина\Рабочий стол\собака1.gif"/>
          <p:cNvPicPr/>
          <p:nvPr/>
        </p:nvPicPr>
        <p:blipFill>
          <a:blip r:embed="rId4"/>
          <a:stretch/>
        </p:blipFill>
        <p:spPr>
          <a:xfrm>
            <a:off x="6019920" y="5257800"/>
            <a:ext cx="94752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5-07-14T04:30:03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