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6BD-9B3D-4904-A5D3-E9C84305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8EB-29BE-427E-8111-3059D020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55F-A935-410C-B4E3-9A6A7485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76F-94C7-437A-AA20-9CCD65B7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B2A-D426-4467-8EA3-FF799BA8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D02-16AE-4093-AA84-56046CAA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12A-5026-4948-A076-49CF2588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2DD-A11E-49B1-A8B9-C2767ED2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D9A-B69B-473C-816B-D0CACB9E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1D6-8687-4E8D-9752-AD876CBE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778-C352-40EC-A72D-6FB95A50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E73-1219-405D-B0EF-78098FC7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D655-5F81-40BF-93A1-F3869AF05DA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9" descr="fountain_0030.jpg"/>
          <p:cNvPicPr/>
          <p:nvPr/>
        </p:nvPicPr>
        <p:blipFill>
          <a:blip r:embed="rId1"/>
          <a:stretch/>
        </p:blipFill>
        <p:spPr>
          <a:xfrm>
            <a:off x="0" y="0"/>
            <a:ext cx="899172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solidFill>
            <a:srgbClr val="e6e0ec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3600" spc="-1" strike="noStrike">
                <a:solidFill>
                  <a:srgbClr val="002060"/>
                </a:solidFill>
                <a:latin typeface="Palatino Linotype"/>
              </a:rPr>
              <a:t>Подготовка к написанию сочинения</a:t>
            </a:r>
            <a:br>
              <a:rPr sz="3600"/>
            </a:br>
            <a:br>
              <a:rPr sz="25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990360"/>
            <a:ext cx="4425840" cy="1904760"/>
          </a:xfrm>
          <a:prstGeom prst="rect">
            <a:avLst/>
          </a:prstGeom>
          <a:solidFill>
            <a:srgbClr val="e6e0ec">
              <a:alpha val="66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i="1" lang="ru-RU" sz="2700" spc="-1" strike="noStrike">
                <a:solidFill>
                  <a:srgbClr val="002060"/>
                </a:solidFill>
                <a:latin typeface="Palatino Linotype"/>
              </a:rPr>
              <a:t>по картин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Palatino Linotype"/>
              </a:rPr>
              <a:t>  </a:t>
            </a:r>
            <a:r>
              <a:rPr b="1" i="1" lang="ru-RU" sz="2700" spc="-1" strike="noStrike">
                <a:solidFill>
                  <a:srgbClr val="002060"/>
                </a:solidFill>
                <a:latin typeface="Palatino Linotype"/>
              </a:rPr>
              <a:t>П.П. Кончаловского «Сирень в корзине»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f497d"/>
                </a:solidFill>
                <a:latin typeface="Palatino Linotype"/>
              </a:rPr>
              <a:t>Написать сочинение по картине П.П.Кончаловского «Сирень в корзине», используя материалы у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Calibri"/>
              </a:rPr>
              <a:t>Спасибо </a:t>
            </a:r>
            <a:br>
              <a:rPr sz="8000"/>
            </a:br>
            <a:r>
              <a:rPr b="1" lang="ru-RU" sz="8000" spc="-1" strike="noStrike">
                <a:solidFill>
                  <a:srgbClr val="002060"/>
                </a:solidFill>
                <a:latin typeface="Calibri"/>
              </a:rPr>
              <a:t>за внимание!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Использованная литератур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речи. Русский язык и литература. Репродукции картин. 5-7 кл. Л.М.Зельманова, Е.Н.Колокольцев, М. «Дрофа»  1999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ный художник. № 2, 1990 г. Жанры и виды искусства. Натюрмор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ольный этимологический словарь русского языка Н.М.Шанского, Т.А.Бобр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images.yandex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realgallery.ru/copy/author/konchalovskiy__petr_petrovich/picture/10481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rtinvestment.ru/news/exhibitions/20100328_konchalovsk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Пётр Петрович Кончаловский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1876 – 1956 г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904760"/>
            <a:ext cx="381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звестный советский художник, лауреат Сталинской прем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тюрморт занимает важное место в его творче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5" descr="P-P-Konchalovskij-Avtoportret-1943-g--ic1976_4564.jpg"/>
          <p:cNvPicPr/>
          <p:nvPr/>
        </p:nvPicPr>
        <p:blipFill>
          <a:blip r:embed="rId1"/>
          <a:stretch/>
        </p:blipFill>
        <p:spPr>
          <a:xfrm>
            <a:off x="4952880" y="1600200"/>
            <a:ext cx="358164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Palatino Linotype"/>
              </a:rPr>
              <a:t>Натюрморты П.П.Кончаловск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Palatino Linotype"/>
              </a:rPr>
              <a:t>«Сирень в кошёлк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Palatino Linotype"/>
              </a:rPr>
              <a:t>«Сирень в двух корзина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Картинка 19 из 36"/>
          <p:cNvPicPr/>
          <p:nvPr/>
        </p:nvPicPr>
        <p:blipFill>
          <a:blip r:embed="rId1"/>
          <a:stretch/>
        </p:blipFill>
        <p:spPr>
          <a:xfrm>
            <a:off x="4572000" y="1981080"/>
            <a:ext cx="4314960" cy="426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Картинка 11 из 36"/>
          <p:cNvPicPr/>
          <p:nvPr/>
        </p:nvPicPr>
        <p:blipFill>
          <a:blip r:embed="rId2"/>
          <a:stretch/>
        </p:blipFill>
        <p:spPr>
          <a:xfrm>
            <a:off x="228600" y="1981080"/>
            <a:ext cx="4038480" cy="426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0000"/>
            <a:ext cx="8385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Palatino Linotype"/>
              </a:rPr>
              <a:t>«Сирень и подрамни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Palatino Linotype"/>
              </a:rPr>
              <a:t>«Сирень на окн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сирень и подрамник"/>
          <p:cNvPicPr/>
          <p:nvPr/>
        </p:nvPicPr>
        <p:blipFill>
          <a:blip r:embed="rId1"/>
          <a:stretch/>
        </p:blipFill>
        <p:spPr>
          <a:xfrm>
            <a:off x="609480" y="1752480"/>
            <a:ext cx="3581640" cy="441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Картинка 5 из 36"/>
          <p:cNvPicPr/>
          <p:nvPr/>
        </p:nvPicPr>
        <p:blipFill>
          <a:blip r:embed="rId2"/>
          <a:stretch/>
        </p:blipFill>
        <p:spPr>
          <a:xfrm>
            <a:off x="4419720" y="18288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 Black"/>
              </a:rPr>
              <a:t>«Сирень в корзин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Картинка 17 из 36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Palatino Linotype"/>
              </a:rPr>
              <a:t>Слова и словосочетания на тему «Сирень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Цвет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: бледно-розовая, тёмно-красная, белоснежная, лиловая, жемчужная, с голубоватым, серебристым  оттен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Листва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: листочки сердцевидной формы, зелёные листочки с тоненькими прожилками, насыщенный тёмно-зелёный ц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Форма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: соцветия сирени в форме кисти, грозди; пышные, крупные, тяжёлы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Запах: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 приятный аромат, душистый, благоухающий, нежный, пробуждающий, напоминающий о весне, невозможно спутать с запахами других цве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Впечатление от сирени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: восхищение, любование, наслажд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Эпитеты: 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чудесная, прекрасная, очаровательная, роскошная, дивная, восхитительная.</a:t>
            </a: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Как празднично сад расцветила сирень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Лилового, белого цвет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егодня особый - сиреневый  день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ачало цветущего лет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За несколько дней разоделись кусты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едавно раскрывшие листья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 большие и пышные гроздья-цветы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 густые и влажные кист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И мы вспоминаем, с какой простотой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 какою надеждой и страстью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Искали меж звездочек в грозди густой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ятилепестковое "счастье"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 тех пор столько раз перед нами цвели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Кусты этой щедрой сирени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И если мы счастья еще не нашл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То, может быть, только от л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.Я. Марш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Lilak_perski_Syringa_persica.jpg"/>
          <p:cNvPicPr/>
          <p:nvPr/>
        </p:nvPicPr>
        <p:blipFill>
          <a:blip r:embed="rId1"/>
          <a:stretch/>
        </p:blipFill>
        <p:spPr>
          <a:xfrm>
            <a:off x="5029200" y="609480"/>
            <a:ext cx="3927600" cy="523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 Black"/>
              </a:rPr>
              <a:t>Отдохнем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7" descr="OVvwMZTtsEU.jpg"/>
          <p:cNvPicPr/>
          <p:nvPr/>
        </p:nvPicPr>
        <p:blipFill>
          <a:blip r:embed="rId1"/>
          <a:stretch/>
        </p:blipFill>
        <p:spPr>
          <a:xfrm>
            <a:off x="1527120" y="1600200"/>
            <a:ext cx="608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Пла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ступление. П.П.Кончаловский – признанный мастер натюрморта, знаток сире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Основная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)Прекрасный букет сирени: цвет, гроздья, лист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)Корзина. Фон натюрмор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Заключение. Впечатление от натюрморта.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Пользователь Windows</cp:lastModifiedBy>
  <dcterms:modified xsi:type="dcterms:W3CDTF">2022-02-15T04:15:4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