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97F6-7356-49F5-9D32-D136105D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B658-79CE-4B6E-B5D2-E439E701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3D14-A6B5-4316-AA84-0CFB48E4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5B63-D6D2-4A6F-97ED-29D2D7B3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53F8-E6CE-4A8A-BBB7-032BFA11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1CF7-8867-4C67-A54B-DEF059F4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9CE3-F1AF-4950-B4AA-AE57751E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5734-BD33-4232-B8D9-95B520BF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16FF-CF55-4B31-978D-111F4A5C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029A-70C7-4B8D-81DC-F8DB086E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F196-4794-4851-8364-26CB64FC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91C7-D21B-410F-9E44-326457C5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EFE6-E00B-46F7-896B-0C1D92C52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рганизация духовно – нравственного воспитания младших школьников во внеурочное время в условиях введения ФГО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-3394080"/>
            <a:ext cx="585720" cy="74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9152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Руководить нравственным воспитанием – это значит созда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          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от моральный тонус школьной жизни, который выражается в т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          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то каждый воспитанник о ком–то заботится, о ком-то печё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     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  беспокоится, кому-то отдаёт своё сердце»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В.А. Сухомлинский)                           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6265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бозначим новые требования ФГОС к ДНВ, которые проявляются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280" y="907920"/>
            <a:ext cx="82090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ерестройке взглядов педагога на новое (принятие нового): для поворота ребенка к духовности педагог сам должен стать носителем высших духовных ценнос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целостности направления ДНВ (охватывает все направления воспитательного процесс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истеме мероприятий, тематических модулей, направлений в условиях непрерывного образования и преемствен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светительской работе среди родите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нтегративности программ духовно-нравственного воспит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НВ – сквозная линия всего школьного уклада жизни (проходит через урочную и   внеурочную деятельность на основе ресурсной интеграции и социального партнёрств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НВ   предполагает интеграцию усилий школы, семьи, учреждений культуры и спорта, традиций, религиозных организаций, общественных объедин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нтеграции усилий школы, семьи, учреждений культуры и спорта,  традиций, религиозных  организаций,  общественных  объедин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планировании любого воспитательного мероприятия необходимо сначала отбирать формы работы, а потом наполнять их содержани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уховность и нравственность развивают и воспитывают не сами проведённые мероприятия, а испытанные эмоциональные переживания ребёнка, душевные поры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рганизуя социально открытое пространство духовно-нравственного развития и воспитания базовых ценностей,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спользуем следующий инструментар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1832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воение основных предметных пр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рамм формирования универсальных (личностных) учебных действ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воение программ внеурочной деятельности (целевые программы, программы дополнительного образова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аимодействие с социально-культурными объектами го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1T07:58:01Z</dcterms:created>
  <dc:creator>User</dc:creator>
  <dc:description/>
  <dc:language>en-US</dc:language>
  <cp:lastModifiedBy>User</cp:lastModifiedBy>
  <dcterms:modified xsi:type="dcterms:W3CDTF">2014-01-11T07:59:32Z</dcterms:modified>
  <cp:revision>2</cp:revision>
  <dc:subject/>
  <dc:title>Организация духовно – нравственного воспитания младших школьников во внеурочное время в условиях введения ФГОС </dc:title>
</cp:coreProperties>
</file>