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8B1-608B-4FA5-BF11-0E496BAC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E0A-858E-43B2-8CCB-9F99AA19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487-9A28-4CC4-B40C-ACA27FC2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5D9-4F98-49B9-BD6C-B2534446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23B-E2CD-43E8-B263-4D9A631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5AE-52C7-4519-BA71-9D2C28A1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8EF-B7D7-452B-9785-7B80EC8D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910-E5A9-4A0C-9264-530A8A89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88F-9639-44AF-A1BF-C24D98E9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8B5-B366-409D-8189-BE96739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EB1-B046-4834-ACA5-6B4E533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4C2-6D97-4900-A21A-7310FFD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A0A6-77EC-410E-AC30-0A931658A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рганизация духовно – нравственного воспитания младших школьников во внеурочное время в условиях введения ФГ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3394080"/>
            <a:ext cx="58572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Руководить нравственным воспитанием – это значит созда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от моральный тонус школьной жизни, который выражается в 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          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 каждый воспитанник о ком–то заботится, о ком-то печё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 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 беспокоится, кому-то отдаёт своё сердце»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.А. Сухомлинский)                           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26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бозначим новые требования ФГОС к ДНВ, которые проявляю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естройке взглядов педагога на новое (принятие нового): для поворота ребенка к духовности педагог сам должен стать носителем высших духовных цен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целостности направления ДНВ (охватывает все направления воспитательного процесс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мероприятий, тематических модулей, направлений в условиях непрерывного образования и преемств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светительской работе среди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гративности программ духовно-нравственного воспит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В – сквозная линия всего школьного уклада жизни (проходит через урочную и   внеурочную деятельность на основе ресурсной интеграции и социального партнё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В   предполагает интеграцию усилий школы, семьи, учреждений культуры и спорта, традиций, религиозных организаций, общественных объедин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грации усилий школы, семьи, учреждений культуры и спорта,  традиций, религиозных  организаций,  общественных  объедин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ланировании любого воспитательного мероприятия необходимо сначала отбирать формы работы, а потом наполнять их содерж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ховность и нравственность развивают и воспитывают не сами проведённые мероприятия, а испытанные эмоциональные переживания ребёнка, душевные поры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изуя социально открытое пространство духовно-нравственного развития и воспитания базовых ценностей,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пользуем следующий инструментар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183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воение основных предмет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 формирования универсальных (личностных) учебных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воение программ внеурочной деятельности (целевые программы, программы дополнительного образова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е с социально-культурными объектами г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1T07:58:01Z</dcterms:created>
  <dc:creator>User</dc:creator>
  <dc:description/>
  <dc:language>en-US</dc:language>
  <cp:lastModifiedBy>User</cp:lastModifiedBy>
  <dcterms:modified xsi:type="dcterms:W3CDTF">2014-01-11T07:59:32Z</dcterms:modified>
  <cp:revision>2</cp:revision>
  <dc:subject/>
  <dc:title>Организация духовно – нравственного воспитания младших школьников во внеурочное время в условиях введения ФГОС </dc:title>
</cp:coreProperties>
</file>