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82475" cy="68500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18AA-718A-43DA-B116-0306D0135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0200" y="122400"/>
            <a:ext cx="112996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603080"/>
            <a:ext cx="1096380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120" y="3678480"/>
            <a:ext cx="1096380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F33D-C212-4020-A15B-A7F8A2DC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0200" y="122400"/>
            <a:ext cx="112996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03080"/>
            <a:ext cx="53503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27280" y="1603080"/>
            <a:ext cx="53503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120" y="3678480"/>
            <a:ext cx="53503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227280" y="3678480"/>
            <a:ext cx="53503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161F-FF99-465E-9AC2-372740DA6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0200" y="122400"/>
            <a:ext cx="112996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1603080"/>
            <a:ext cx="35301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316040" y="1603080"/>
            <a:ext cx="35301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023320" y="1603080"/>
            <a:ext cx="35301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120" y="3678480"/>
            <a:ext cx="35301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316040" y="3678480"/>
            <a:ext cx="35301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023320" y="3678480"/>
            <a:ext cx="35301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4FDA-3B6D-4F73-BBBD-65B4EF71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30200" y="122400"/>
            <a:ext cx="112996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120" y="1603080"/>
            <a:ext cx="1096380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40C2-D525-4073-B78B-CC351F6B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0200" y="122400"/>
            <a:ext cx="112996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120" y="1603080"/>
            <a:ext cx="1096380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E1CD-7CC4-4957-85D5-D50BD1B9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0200" y="122400"/>
            <a:ext cx="112996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603080"/>
            <a:ext cx="535032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227280" y="1603080"/>
            <a:ext cx="535032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CBBB-E845-43AD-83A7-807C0014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0200" y="122400"/>
            <a:ext cx="112996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AB65-0777-49BE-AA07-C67A4855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30200" y="122400"/>
            <a:ext cx="1129968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0207-63BD-46FF-831D-756473A2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0200" y="122400"/>
            <a:ext cx="112996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603080"/>
            <a:ext cx="53503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27280" y="1603080"/>
            <a:ext cx="535032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120" y="3678480"/>
            <a:ext cx="53503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7F81-E181-4D32-95C8-FED96DBB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30200" y="122400"/>
            <a:ext cx="112996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603080"/>
            <a:ext cx="535032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27280" y="1603080"/>
            <a:ext cx="53503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227280" y="3678480"/>
            <a:ext cx="53503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5B7C-EE0B-4717-B75F-14374436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0200" y="122400"/>
            <a:ext cx="112996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603080"/>
            <a:ext cx="53503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27280" y="1603080"/>
            <a:ext cx="53503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120" y="3678480"/>
            <a:ext cx="1096380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2A11-33AB-47E1-8662-79DE7AFF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0200" y="122400"/>
            <a:ext cx="112996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30200" y="635328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264c72"/>
                </a:solidFill>
                <a:latin typeface="Arial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264c72"/>
                </a:solidFill>
                <a:latin typeface="Arial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164120" y="6353280"/>
            <a:ext cx="3859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264c72"/>
                </a:solidFill>
                <a:latin typeface="Arial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264c72"/>
                </a:solidFill>
                <a:latin typeface="Arial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886600" y="6353280"/>
            <a:ext cx="2842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264c72"/>
                </a:solidFill>
                <a:latin typeface="Arial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F04136-7EFF-44A2-A27F-FD5091FDE039}" type="slidenum">
              <a:rPr b="0" lang="en-US" sz="1200" spc="-1" strike="noStrike">
                <a:solidFill>
                  <a:srgbClr val="264c72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30200" y="122400"/>
            <a:ext cx="112996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30200" y="1220760"/>
            <a:ext cx="1129968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43000" y="272880"/>
            <a:ext cx="11699640" cy="658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440" y="831960"/>
            <a:ext cx="11300040" cy="36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Умножение одночлена </a:t>
            </a:r>
            <a:br>
              <a:rPr sz="8000"/>
            </a:b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на многочлен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0200" y="122400"/>
            <a:ext cx="112996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30200" y="1220760"/>
            <a:ext cx="1129968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28951" t="17813" r="29330" b="16381"/>
          <a:stretch/>
        </p:blipFill>
        <p:spPr>
          <a:xfrm>
            <a:off x="2206800" y="0"/>
            <a:ext cx="7731000" cy="68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42440" y="1189080"/>
            <a:ext cx="1130004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>
              <a:lnSpc>
                <a:spcPct val="100000"/>
              </a:lnSpc>
              <a:spcBef>
                <a:spcPts val="601"/>
              </a:spcBef>
              <a:buClr>
                <a:srgbClr val="d0eaea"/>
              </a:buClr>
              <a:buFont typeface="Arial"/>
              <a:buAutoNum type="arabi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d0eaea"/>
                </a:solidFill>
                <a:latin typeface="Arial"/>
                <a:ea typeface="Times New Roman"/>
              </a:rPr>
              <a:t>6x * 5y                             </a:t>
            </a:r>
            <a:r>
              <a:rPr b="0" lang="ru-RU" sz="2400" spc="-1" strike="noStrike">
                <a:solidFill>
                  <a:srgbClr val="d0eaea"/>
                </a:solidFill>
                <a:latin typeface="Arial"/>
                <a:ea typeface="Times New Roman"/>
              </a:rPr>
              <a:t>(запишите коэффициен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601"/>
              </a:spcBef>
              <a:buClr>
                <a:srgbClr val="d0eaea"/>
              </a:buClr>
              <a:buFont typeface="Arial"/>
              <a:buAutoNum type="arabicParenR" startAt="2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d0eaea"/>
                </a:solidFill>
                <a:latin typeface="Arial"/>
                <a:ea typeface="Times New Roman"/>
              </a:rPr>
              <a:t>1,3x * 2x^2                      </a:t>
            </a:r>
            <a:r>
              <a:rPr b="0" lang="ru-RU" sz="2400" spc="-1" strike="noStrike">
                <a:solidFill>
                  <a:srgbClr val="d0eaea"/>
                </a:solidFill>
                <a:latin typeface="Arial"/>
                <a:ea typeface="Times New Roman"/>
              </a:rPr>
              <a:t> (запишите коэффициен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601"/>
              </a:spcBef>
              <a:buClr>
                <a:srgbClr val="d0eaea"/>
              </a:buClr>
              <a:buFont typeface="Arial"/>
              <a:buAutoNum type="arabicParenR" startAt="3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d0eaea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d0eaea"/>
                </a:solidFill>
                <a:latin typeface="Arial"/>
                <a:ea typeface="Times New Roman"/>
              </a:rPr>
              <a:t>c(a+3c^4+c^3)               </a:t>
            </a:r>
            <a:r>
              <a:rPr b="0" lang="ru-RU" sz="2400" spc="-1" strike="noStrike">
                <a:solidFill>
                  <a:srgbClr val="d0eaea"/>
                </a:solidFill>
                <a:latin typeface="Arial"/>
                <a:ea typeface="Times New Roman"/>
              </a:rPr>
              <a:t> (запишите показатели степене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601"/>
              </a:spcBef>
              <a:buClr>
                <a:srgbClr val="d0eaea"/>
              </a:buClr>
              <a:buFont typeface="Arial"/>
              <a:buAutoNum type="arabicParenR" startAt="4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d0eaea"/>
                </a:solidFill>
                <a:latin typeface="Arial"/>
                <a:ea typeface="Times New Roman"/>
              </a:rPr>
              <a:t>-2b^6(4b^14 + b^15) </a:t>
            </a:r>
            <a:r>
              <a:rPr b="0" lang="ru-RU" sz="2400" spc="-1" strike="noStrike">
                <a:solidFill>
                  <a:srgbClr val="d0eaea"/>
                </a:solidFill>
                <a:latin typeface="Arial"/>
                <a:ea typeface="Times New Roman"/>
              </a:rPr>
              <a:t>         (запишите показатели степене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799"/>
              </a:spcBef>
              <a:buClr>
                <a:srgbClr val="d0eaea"/>
              </a:buClr>
              <a:buFont typeface="Arial"/>
              <a:buAutoNum type="arabicParenR" startAt="5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d0eaea"/>
                </a:solidFill>
                <a:latin typeface="Arial"/>
                <a:ea typeface="Times New Roman"/>
              </a:rPr>
              <a:t>-8) x^4(-x^15 + x^3 - x^7 + 2)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cfebe9"/>
                </a:solidFill>
                <a:latin typeface="Arial"/>
                <a:ea typeface="Arial"/>
              </a:rPr>
              <a:t>                </a:t>
            </a:r>
            <a:r>
              <a:rPr b="0" lang="ru-RU" sz="2400" spc="-1" strike="noStrike">
                <a:solidFill>
                  <a:srgbClr val="cfebe9"/>
                </a:solidFill>
                <a:latin typeface="Arial"/>
                <a:ea typeface="Arial"/>
              </a:rPr>
              <a:t>(запишите каждый показатель степени</a:t>
            </a:r>
            <a:r>
              <a:rPr b="0" lang="ru-RU" sz="2400" spc="-1" strike="noStrike">
                <a:solidFill>
                  <a:srgbClr val="cfebe9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cfebe9"/>
                </a:solidFill>
                <a:latin typeface="Arial"/>
                <a:ea typeface="Times New Roman"/>
              </a:rPr>
              <a:t>9) 3n^5(6n^15 - 7n^12)      </a:t>
            </a:r>
            <a:r>
              <a:rPr b="0" lang="ru-RU" sz="2400" spc="-1" strike="noStrike">
                <a:solidFill>
                  <a:srgbClr val="cfebe9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cfebe9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cfebe9"/>
                </a:solidFill>
                <a:latin typeface="Arial"/>
                <a:ea typeface="Arial"/>
              </a:rPr>
              <a:t>запишите показатели степеней</a:t>
            </a:r>
            <a:r>
              <a:rPr b="0" lang="ru-RU" sz="2400" spc="-1" strike="noStrike">
                <a:solidFill>
                  <a:srgbClr val="cfebe9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cfebe9"/>
                </a:solidFill>
                <a:latin typeface="Arial"/>
                <a:ea typeface="Times New Roman"/>
              </a:rPr>
              <a:t>10) -11)  -4m^3(-m^6 - m) </a:t>
            </a:r>
            <a:r>
              <a:rPr b="0" lang="ru-RU" sz="2400" spc="-1" strike="noStrike">
                <a:solidFill>
                  <a:srgbClr val="cfebe9"/>
                </a:solidFill>
                <a:latin typeface="Arial"/>
                <a:ea typeface="Arial"/>
              </a:rPr>
              <a:t> (запишите каждый показатель степени</a:t>
            </a:r>
            <a:r>
              <a:rPr b="0" lang="ru-RU" sz="2400" spc="-1" strike="noStrike">
                <a:solidFill>
                  <a:srgbClr val="cfebe9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81000" y="331920"/>
            <a:ext cx="10761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Решите примеры и заполните пропуски в карточ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0200" y="122400"/>
            <a:ext cx="112996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30200" y="1220760"/>
            <a:ext cx="1129968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0" t="0" r="0" b="27700"/>
          <a:stretch/>
        </p:blipFill>
        <p:spPr>
          <a:xfrm>
            <a:off x="507960" y="392040"/>
            <a:ext cx="11169720" cy="606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440" y="979560"/>
            <a:ext cx="1130004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амостоятельная работа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9000" y="1177920"/>
            <a:ext cx="9648720" cy="26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Вариант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451"/>
              </a:spcBef>
              <a:buClr>
                <a:srgbClr val="d0eaea"/>
              </a:buClr>
              <a:buFont typeface="Arial"/>
              <a:buAutoNum type="arabi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3x * 110y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запишите коэффициен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601"/>
              </a:spcBef>
              <a:buClr>
                <a:srgbClr val="d0eaea"/>
              </a:buClr>
              <a:buFont typeface="Arial"/>
              <a:buAutoNum type="arabicParenR" startAt="2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^2(a^5 + a^3)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запишите показатели степене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601"/>
              </a:spcBef>
              <a:buClr>
                <a:srgbClr val="d0eaea"/>
              </a:buClr>
              <a:buFont typeface="Arial"/>
              <a:buAutoNum type="arabicParenR" startAt="3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6 * 4а + 7b + 5c * 10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запишите коэфф</a:t>
            </a:r>
            <a:r>
              <a:rPr b="0" lang="ru-RU" sz="2400" spc="-1" strike="noStrike">
                <a:solidFill>
                  <a:srgbClr val="cfebe9"/>
                </a:solidFill>
                <a:latin typeface="Arial"/>
                <a:ea typeface="Times New Roman"/>
              </a:rPr>
              <a:t>ициент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9840" y="3618000"/>
            <a:ext cx="9645840" cy="26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Вариант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451"/>
              </a:spcBef>
              <a:buClr>
                <a:srgbClr val="d0eaea"/>
              </a:buClr>
              <a:buFont typeface="Arial"/>
              <a:buAutoNum type="arabi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2a * c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запишите коэффициен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601"/>
              </a:spcBef>
              <a:buClr>
                <a:srgbClr val="d0eaea"/>
              </a:buClr>
              <a:buFont typeface="Arial"/>
              <a:buAutoNum type="arabicParenR" startAt="2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z^6(z^12 - z^13)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запишите показатели степене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601"/>
              </a:spcBef>
              <a:buClr>
                <a:srgbClr val="d0eaea"/>
              </a:buClr>
              <a:buFont typeface="Arial"/>
              <a:buAutoNum type="arabicParenR" startAt="3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y(a + 7b + y + 4c )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запи</a:t>
            </a:r>
            <a:r>
              <a:rPr b="0" lang="ru-RU" sz="2400" spc="-1" strike="noStrike">
                <a:solidFill>
                  <a:srgbClr val="cfebe9"/>
                </a:solidFill>
                <a:latin typeface="Arial"/>
                <a:ea typeface="Times New Roman"/>
              </a:rPr>
              <a:t>шите коэффициент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17240" y="902880"/>
            <a:ext cx="775188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Домашняя работа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п. 7.3, № 682 (б, д, з),</a:t>
            </a: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               683 (б, д, з)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31960" y="317520"/>
            <a:ext cx="10874160" cy="6218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29000" y="547200"/>
            <a:ext cx="674532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400" spc="-1" strike="noStrike">
                <a:solidFill>
                  <a:srgbClr val="264c72"/>
                </a:solidFill>
                <a:latin typeface="Tahoma"/>
              </a:rPr>
              <a:t>Спасибо за внимание 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2-10T09:36:34Z</dcterms:created>
  <dc:creator>???</dc:creator>
  <dc:description/>
  <dc:language>en-US</dc:language>
  <cp:lastModifiedBy>잿蓮乙</cp:lastModifiedBy>
  <dcterms:modified xsi:type="dcterms:W3CDTF">2022-03-06T12:40:41Z</dcterms:modified>
  <cp:revision>0</cp:revision>
  <dc:subject/>
  <dc:title>?????? PowerPoint</dc:title>
</cp:coreProperties>
</file>