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82475" cy="68500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98B-956A-442F-B7F5-D17C6333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296-C572-450E-B7C7-383D41D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B11C-CCF2-4AC7-B38F-1FD620C4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604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3320" y="16030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604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3320" y="3678480"/>
            <a:ext cx="353016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9DC-1CA3-4191-8AD9-EC17EACE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6522-EF82-4893-BD58-AC78C1D1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1096380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E20-8370-4FDA-9BB6-57EE1DC9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A7A-6DCF-435A-A42F-E341CAF3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475-45F6-4228-BA56-06D3FCF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0200" y="122400"/>
            <a:ext cx="1129968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8c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819A-92B5-4C09-B014-128B95B7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9EF-109F-4105-A2C0-5E61F46E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27280" y="36784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AA17-22D6-47C8-AB19-CBC4E812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12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27280" y="1603080"/>
            <a:ext cx="535032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3800" cy="189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07C-2F00-4A7C-8E6A-0B8B300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30200" y="635328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4120" y="6353280"/>
            <a:ext cx="3859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886600" y="6353280"/>
            <a:ext cx="2842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264c72"/>
                </a:solidFill>
                <a:latin typeface="Arial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8E2672-F9D0-4760-A95A-15F6141BB57D}" type="slidenum">
              <a:rPr b="0" lang="en-US" sz="1200" spc="-1" strike="noStrike">
                <a:solidFill>
                  <a:srgbClr val="264c72"/>
                </a:solidFill>
                <a:latin typeface="Arial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3000" y="272880"/>
            <a:ext cx="11699640" cy="658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440" y="831960"/>
            <a:ext cx="11300040" cy="36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Умножение одночлена </a:t>
            </a:r>
            <a:br>
              <a:rPr sz="8000"/>
            </a:b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на многочлен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8951" t="17813" r="29330" b="16381"/>
          <a:stretch/>
        </p:blipFill>
        <p:spPr>
          <a:xfrm>
            <a:off x="2206800" y="0"/>
            <a:ext cx="7731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440" y="1189080"/>
            <a:ext cx="113000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6x * 5y       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1,3x * 2x^2       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коэффициен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c(a+3c^4+c^3)              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4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2b^6(4b^14 + b^15) </a:t>
            </a:r>
            <a:r>
              <a:rPr b="0" lang="ru-RU" sz="2400" spc="-1" strike="noStrike">
                <a:solidFill>
                  <a:srgbClr val="d0eaea"/>
                </a:solidFill>
                <a:latin typeface="Arial"/>
                <a:ea typeface="Times New Roman"/>
              </a:rPr>
              <a:t>         (запишите показатели степене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d0eaea"/>
              </a:buClr>
              <a:buFont typeface="Arial"/>
              <a:buAutoNum type="arabicParenR" startAt="5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d0eaea"/>
                </a:solidFill>
                <a:latin typeface="Arial"/>
                <a:ea typeface="Times New Roman"/>
              </a:rPr>
              <a:t>-8) x^4(-x^15 + x^3 - x^7 + 2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         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9) 3n^5(6n^15 - 7n^12)     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cfebe9"/>
                </a:solidFill>
                <a:latin typeface="Arial"/>
                <a:ea typeface="Times New Roman"/>
              </a:rPr>
              <a:t>10) -11)  -4m^3(-m^6 - m) 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Arial"/>
              </a:rPr>
              <a:t> (запишите каждый показатель степен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1000" y="331920"/>
            <a:ext cx="10761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Решите примеры и заполните пропуски в карточ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0200" y="122400"/>
            <a:ext cx="1129968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0200" y="1220760"/>
            <a:ext cx="1129968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0" r="0" b="27700"/>
          <a:stretch/>
        </p:blipFill>
        <p:spPr>
          <a:xfrm>
            <a:off x="507960" y="392040"/>
            <a:ext cx="11169720" cy="606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440" y="979560"/>
            <a:ext cx="1130004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амостоятельная работ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000" y="1177920"/>
            <a:ext cx="964872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x * 110y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^2(a^5 + a^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6 * 4а + 7b + 5c * 10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шите коэфф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9840" y="3618000"/>
            <a:ext cx="96458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ариант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451"/>
              </a:spcBef>
              <a:buClr>
                <a:srgbClr val="d0eaea"/>
              </a:buClr>
              <a:buFont typeface="Arial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a * c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коэффициен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2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^6(z^12 - z^13)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ишите показатели степен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601"/>
              </a:spcBef>
              <a:buClr>
                <a:srgbClr val="d0eaea"/>
              </a:buClr>
              <a:buFont typeface="Arial"/>
              <a:buAutoNum type="arabicParenR" startAt="3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y(a + 7b + y + 4c )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запи</a:t>
            </a:r>
            <a:r>
              <a:rPr b="0" lang="ru-RU" sz="2400" spc="-1" strike="noStrike">
                <a:solidFill>
                  <a:srgbClr val="cfebe9"/>
                </a:solidFill>
                <a:latin typeface="Arial"/>
                <a:ea typeface="Times New Roman"/>
              </a:rPr>
              <a:t>шите коэффициент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17240" y="902880"/>
            <a:ext cx="77518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Домашняя работа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п. 7.3, № 682 (б, д, з),</a:t>
            </a: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               683 (б, д, з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31960" y="317520"/>
            <a:ext cx="10874160" cy="6218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9000" y="547200"/>
            <a:ext cx="674532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264c72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10T09:36:34Z</dcterms:created>
  <dc:creator>???</dc:creator>
  <dc:description/>
  <dc:language>en-US</dc:language>
  <cp:lastModifiedBy>잿蓮乙</cp:lastModifiedBy>
  <dcterms:modified xsi:type="dcterms:W3CDTF">2022-03-06T12:40:41Z</dcterms:modified>
  <cp:revision>0</cp:revision>
  <dc:subject/>
  <dc:title>?????? PowerPoint</dc:title>
</cp:coreProperties>
</file>