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82475" cy="68500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86BC-03CC-42E0-89EC-8367E7469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30200" y="122400"/>
            <a:ext cx="1129968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1603080"/>
            <a:ext cx="1096380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9120" y="3678480"/>
            <a:ext cx="1096380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C604-EED0-462F-8C55-6A1E40D2E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30200" y="122400"/>
            <a:ext cx="1129968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120" y="1603080"/>
            <a:ext cx="53503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27280" y="1603080"/>
            <a:ext cx="53503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120" y="3678480"/>
            <a:ext cx="53503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227280" y="3678480"/>
            <a:ext cx="53503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8032-84AB-40AD-8E11-1DE619876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30200" y="122400"/>
            <a:ext cx="1129968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1603080"/>
            <a:ext cx="353016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316040" y="1603080"/>
            <a:ext cx="353016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023320" y="1603080"/>
            <a:ext cx="353016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09120" y="3678480"/>
            <a:ext cx="353016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316040" y="3678480"/>
            <a:ext cx="353016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023320" y="3678480"/>
            <a:ext cx="353016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3853-95E7-485C-8D55-132FC0A20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30200" y="122400"/>
            <a:ext cx="1129968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09120" y="1603080"/>
            <a:ext cx="1096380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8c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1E84-2FC0-4C25-9907-A1C3A61B3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30200" y="122400"/>
            <a:ext cx="1129968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09120" y="1603080"/>
            <a:ext cx="1096380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E71A-75FA-46CB-BAEF-6EA6B93D9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30200" y="122400"/>
            <a:ext cx="1129968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120" y="1603080"/>
            <a:ext cx="535032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227280" y="1603080"/>
            <a:ext cx="535032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AE4E-FAD8-4E72-8E49-A717E8932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30200" y="122400"/>
            <a:ext cx="1129968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7255-F846-4D1A-AC59-748A6722B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30200" y="122400"/>
            <a:ext cx="1129968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8c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9B06-1E2B-45AF-92A0-353779BE4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0200" y="122400"/>
            <a:ext cx="1129968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120" y="1603080"/>
            <a:ext cx="53503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27280" y="1603080"/>
            <a:ext cx="535032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09120" y="3678480"/>
            <a:ext cx="53503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9BC1-357D-42B0-AA37-F0A1A352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30200" y="122400"/>
            <a:ext cx="1129968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120" y="1603080"/>
            <a:ext cx="535032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27280" y="1603080"/>
            <a:ext cx="53503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227280" y="3678480"/>
            <a:ext cx="53503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2F9A-0FBA-4FB6-9FE0-4E3B510AE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30200" y="122400"/>
            <a:ext cx="1129968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120" y="1603080"/>
            <a:ext cx="53503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27280" y="1603080"/>
            <a:ext cx="53503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09120" y="3678480"/>
            <a:ext cx="1096380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6961-E6C4-4417-8357-DB09D5D2F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0200" y="122400"/>
            <a:ext cx="1129968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30200" y="635328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264c72"/>
                </a:solidFill>
                <a:latin typeface="Arial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264c72"/>
                </a:solidFill>
                <a:latin typeface="Arial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164120" y="6353280"/>
            <a:ext cx="3859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264c72"/>
                </a:solidFill>
                <a:latin typeface="Arial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264c72"/>
                </a:solidFill>
                <a:latin typeface="Arial"/>
                <a:ea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886600" y="6353280"/>
            <a:ext cx="2842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264c72"/>
                </a:solidFill>
                <a:latin typeface="Arial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0D64078-4D5B-4122-AFAD-A216D2E980FD}" type="slidenum">
              <a:rPr b="0" lang="en-US" sz="1200" spc="-1" strike="noStrike">
                <a:solidFill>
                  <a:srgbClr val="264c72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30200" y="122400"/>
            <a:ext cx="1129968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30200" y="1220760"/>
            <a:ext cx="1129968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43000" y="272880"/>
            <a:ext cx="11699640" cy="6581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440" y="831960"/>
            <a:ext cx="11300040" cy="36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Tahoma"/>
              </a:rPr>
              <a:t>Умножение одночлена </a:t>
            </a:r>
            <a:br>
              <a:rPr sz="8000"/>
            </a:br>
            <a:r>
              <a:rPr b="0" lang="ru-RU" sz="8000" spc="-1" strike="noStrike">
                <a:solidFill>
                  <a:srgbClr val="ffffff"/>
                </a:solidFill>
                <a:latin typeface="Tahoma"/>
              </a:rPr>
              <a:t>на многочлен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30200" y="122400"/>
            <a:ext cx="1129968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30200" y="1220760"/>
            <a:ext cx="1129968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rcRect l="28951" t="17813" r="29330" b="16381"/>
          <a:stretch/>
        </p:blipFill>
        <p:spPr>
          <a:xfrm>
            <a:off x="2206800" y="0"/>
            <a:ext cx="7731000" cy="685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42440" y="1189080"/>
            <a:ext cx="11300040" cy="50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>
              <a:lnSpc>
                <a:spcPct val="100000"/>
              </a:lnSpc>
              <a:spcBef>
                <a:spcPts val="601"/>
              </a:spcBef>
              <a:buClr>
                <a:srgbClr val="d0eaea"/>
              </a:buClr>
              <a:buFont typeface="Arial"/>
              <a:buAutoNum type="arabicParenR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d0eaea"/>
                </a:solidFill>
                <a:latin typeface="Arial"/>
                <a:ea typeface="Times New Roman"/>
              </a:rPr>
              <a:t>6x * 5y                             </a:t>
            </a:r>
            <a:r>
              <a:rPr b="0" lang="ru-RU" sz="2400" spc="-1" strike="noStrike">
                <a:solidFill>
                  <a:srgbClr val="d0eaea"/>
                </a:solidFill>
                <a:latin typeface="Arial"/>
                <a:ea typeface="Times New Roman"/>
              </a:rPr>
              <a:t>(запишите коэффициент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>
              <a:lnSpc>
                <a:spcPct val="100000"/>
              </a:lnSpc>
              <a:spcBef>
                <a:spcPts val="601"/>
              </a:spcBef>
              <a:buClr>
                <a:srgbClr val="d0eaea"/>
              </a:buClr>
              <a:buFont typeface="Arial"/>
              <a:buAutoNum type="arabicParenR" startAt="2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d0eaea"/>
                </a:solidFill>
                <a:latin typeface="Arial"/>
                <a:ea typeface="Times New Roman"/>
              </a:rPr>
              <a:t>1,3x * 2x^2                      </a:t>
            </a:r>
            <a:r>
              <a:rPr b="0" lang="ru-RU" sz="2400" spc="-1" strike="noStrike">
                <a:solidFill>
                  <a:srgbClr val="d0eaea"/>
                </a:solidFill>
                <a:latin typeface="Arial"/>
                <a:ea typeface="Times New Roman"/>
              </a:rPr>
              <a:t> (запишите коэффициент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>
              <a:lnSpc>
                <a:spcPct val="100000"/>
              </a:lnSpc>
              <a:spcBef>
                <a:spcPts val="601"/>
              </a:spcBef>
              <a:buClr>
                <a:srgbClr val="d0eaea"/>
              </a:buClr>
              <a:buFont typeface="Arial"/>
              <a:buAutoNum type="arabicParenR" startAt="3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d0eaea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d0eaea"/>
                </a:solidFill>
                <a:latin typeface="Arial"/>
                <a:ea typeface="Times New Roman"/>
              </a:rPr>
              <a:t>c(a+3c^4+c^3)               </a:t>
            </a:r>
            <a:r>
              <a:rPr b="0" lang="ru-RU" sz="2400" spc="-1" strike="noStrike">
                <a:solidFill>
                  <a:srgbClr val="d0eaea"/>
                </a:solidFill>
                <a:latin typeface="Arial"/>
                <a:ea typeface="Times New Roman"/>
              </a:rPr>
              <a:t> (запишите показатели степеней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>
              <a:lnSpc>
                <a:spcPct val="100000"/>
              </a:lnSpc>
              <a:spcBef>
                <a:spcPts val="601"/>
              </a:spcBef>
              <a:buClr>
                <a:srgbClr val="d0eaea"/>
              </a:buClr>
              <a:buFont typeface="Arial"/>
              <a:buAutoNum type="arabicParenR" startAt="4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d0eaea"/>
                </a:solidFill>
                <a:latin typeface="Arial"/>
                <a:ea typeface="Times New Roman"/>
              </a:rPr>
              <a:t>-2b^6(4b^14 + b^15) </a:t>
            </a:r>
            <a:r>
              <a:rPr b="0" lang="ru-RU" sz="2400" spc="-1" strike="noStrike">
                <a:solidFill>
                  <a:srgbClr val="d0eaea"/>
                </a:solidFill>
                <a:latin typeface="Arial"/>
                <a:ea typeface="Times New Roman"/>
              </a:rPr>
              <a:t>         (запишите показатели степеней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>
              <a:lnSpc>
                <a:spcPct val="100000"/>
              </a:lnSpc>
              <a:spcBef>
                <a:spcPts val="799"/>
              </a:spcBef>
              <a:buClr>
                <a:srgbClr val="d0eaea"/>
              </a:buClr>
              <a:buFont typeface="Arial"/>
              <a:buAutoNum type="arabicParenR" startAt="5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d0eaea"/>
                </a:solidFill>
                <a:latin typeface="Arial"/>
                <a:ea typeface="Times New Roman"/>
              </a:rPr>
              <a:t>-8) x^4(-x^15 + x^3 - x^7 + 2)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cfebe9"/>
                </a:solidFill>
                <a:latin typeface="Arial"/>
                <a:ea typeface="Arial"/>
              </a:rPr>
              <a:t>                </a:t>
            </a:r>
            <a:r>
              <a:rPr b="0" lang="ru-RU" sz="2400" spc="-1" strike="noStrike">
                <a:solidFill>
                  <a:srgbClr val="cfebe9"/>
                </a:solidFill>
                <a:latin typeface="Arial"/>
                <a:ea typeface="Arial"/>
              </a:rPr>
              <a:t>(запишите каждый показатель степени</a:t>
            </a:r>
            <a:r>
              <a:rPr b="0" lang="ru-RU" sz="2400" spc="-1" strike="noStrike">
                <a:solidFill>
                  <a:srgbClr val="cfebe9"/>
                </a:solidFill>
                <a:latin typeface="Arial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cfebe9"/>
                </a:solidFill>
                <a:latin typeface="Arial"/>
                <a:ea typeface="Times New Roman"/>
              </a:rPr>
              <a:t>9) 3n^5(6n^15 - 7n^12)      </a:t>
            </a:r>
            <a:r>
              <a:rPr b="0" lang="ru-RU" sz="2400" spc="-1" strike="noStrike">
                <a:solidFill>
                  <a:srgbClr val="cfebe9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cfebe9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cfebe9"/>
                </a:solidFill>
                <a:latin typeface="Arial"/>
                <a:ea typeface="Arial"/>
              </a:rPr>
              <a:t>запишите показатели степеней</a:t>
            </a:r>
            <a:r>
              <a:rPr b="0" lang="ru-RU" sz="2400" spc="-1" strike="noStrike">
                <a:solidFill>
                  <a:srgbClr val="cfebe9"/>
                </a:solidFill>
                <a:latin typeface="Arial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cfebe9"/>
                </a:solidFill>
                <a:latin typeface="Arial"/>
                <a:ea typeface="Times New Roman"/>
              </a:rPr>
              <a:t>10) -11)  -4m^3(-m^6 - m) </a:t>
            </a:r>
            <a:r>
              <a:rPr b="0" lang="ru-RU" sz="2400" spc="-1" strike="noStrike">
                <a:solidFill>
                  <a:srgbClr val="cfebe9"/>
                </a:solidFill>
                <a:latin typeface="Arial"/>
                <a:ea typeface="Arial"/>
              </a:rPr>
              <a:t> (запишите каждый показатель степени</a:t>
            </a:r>
            <a:r>
              <a:rPr b="0" lang="ru-RU" sz="2400" spc="-1" strike="noStrike">
                <a:solidFill>
                  <a:srgbClr val="cfebe9"/>
                </a:solidFill>
                <a:latin typeface="Arial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81000" y="331920"/>
            <a:ext cx="10761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Решите примеры и заполните пропуски в карточк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30200" y="122400"/>
            <a:ext cx="1129968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30200" y="1220760"/>
            <a:ext cx="1129968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rcRect l="0" t="0" r="0" b="27700"/>
          <a:stretch/>
        </p:blipFill>
        <p:spPr>
          <a:xfrm>
            <a:off x="507960" y="392040"/>
            <a:ext cx="11169720" cy="606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440" y="979560"/>
            <a:ext cx="1130004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Самостоятельная работа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9000" y="1177920"/>
            <a:ext cx="9648720" cy="26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Вариант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>
              <a:lnSpc>
                <a:spcPct val="100000"/>
              </a:lnSpc>
              <a:spcBef>
                <a:spcPts val="451"/>
              </a:spcBef>
              <a:buClr>
                <a:srgbClr val="d0eaea"/>
              </a:buClr>
              <a:buFont typeface="Arial"/>
              <a:buAutoNum type="arabicParenR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3x * 110y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запишите коэффициент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>
              <a:lnSpc>
                <a:spcPct val="100000"/>
              </a:lnSpc>
              <a:spcBef>
                <a:spcPts val="601"/>
              </a:spcBef>
              <a:buClr>
                <a:srgbClr val="d0eaea"/>
              </a:buClr>
              <a:buFont typeface="Arial"/>
              <a:buAutoNum type="arabicParenR" startAt="2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a^2(a^5 + a^3)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запишите показатели степене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>
              <a:lnSpc>
                <a:spcPct val="100000"/>
              </a:lnSpc>
              <a:spcBef>
                <a:spcPts val="601"/>
              </a:spcBef>
              <a:buClr>
                <a:srgbClr val="d0eaea"/>
              </a:buClr>
              <a:buFont typeface="Arial"/>
              <a:buAutoNum type="arabicParenR" startAt="3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6 * 4а + 7b + 5c * 10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запишите коэфф</a:t>
            </a:r>
            <a:r>
              <a:rPr b="0" lang="ru-RU" sz="2400" spc="-1" strike="noStrike">
                <a:solidFill>
                  <a:srgbClr val="cfebe9"/>
                </a:solidFill>
                <a:latin typeface="Arial"/>
                <a:ea typeface="Times New Roman"/>
              </a:rPr>
              <a:t>ициенты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9840" y="3618000"/>
            <a:ext cx="9645840" cy="26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Вариант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>
              <a:lnSpc>
                <a:spcPct val="100000"/>
              </a:lnSpc>
              <a:spcBef>
                <a:spcPts val="451"/>
              </a:spcBef>
              <a:buClr>
                <a:srgbClr val="d0eaea"/>
              </a:buClr>
              <a:buFont typeface="Arial"/>
              <a:buAutoNum type="arabicParenR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2a * c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запишите коэффициент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>
              <a:lnSpc>
                <a:spcPct val="100000"/>
              </a:lnSpc>
              <a:spcBef>
                <a:spcPts val="601"/>
              </a:spcBef>
              <a:buClr>
                <a:srgbClr val="d0eaea"/>
              </a:buClr>
              <a:buFont typeface="Arial"/>
              <a:buAutoNum type="arabicParenR" startAt="2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z^6(z^12 - z^13)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запишите показатели степене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>
              <a:lnSpc>
                <a:spcPct val="100000"/>
              </a:lnSpc>
              <a:spcBef>
                <a:spcPts val="601"/>
              </a:spcBef>
              <a:buClr>
                <a:srgbClr val="d0eaea"/>
              </a:buClr>
              <a:buFont typeface="Arial"/>
              <a:buAutoNum type="arabicParenR" startAt="3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y(a + 7b + y + 4c )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запи</a:t>
            </a:r>
            <a:r>
              <a:rPr b="0" lang="ru-RU" sz="2400" spc="-1" strike="noStrike">
                <a:solidFill>
                  <a:srgbClr val="cfebe9"/>
                </a:solidFill>
                <a:latin typeface="Arial"/>
                <a:ea typeface="Times New Roman"/>
              </a:rPr>
              <a:t>шите коэффициенты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217240" y="902880"/>
            <a:ext cx="7751880" cy="504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Домашняя работа</a:t>
            </a:r>
            <a:br>
              <a:rPr sz="5400"/>
            </a:br>
            <a:br>
              <a:rPr sz="5400"/>
            </a:b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п. 7.3, № 682 (б, д, з),</a:t>
            </a:r>
            <a:br>
              <a:rPr sz="5400"/>
            </a:b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               683 (б, д, з)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831960" y="317520"/>
            <a:ext cx="10874160" cy="62182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229000" y="547200"/>
            <a:ext cx="674532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4400" spc="-1" strike="noStrike">
                <a:solidFill>
                  <a:srgbClr val="264c72"/>
                </a:solidFill>
                <a:latin typeface="Tahoma"/>
              </a:rPr>
              <a:t>Спасибо за внимание 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2-10T09:36:34Z</dcterms:created>
  <dc:creator>???</dc:creator>
  <dc:description/>
  <dc:language>en-US</dc:language>
  <cp:lastModifiedBy>잿蓮乙</cp:lastModifiedBy>
  <dcterms:modified xsi:type="dcterms:W3CDTF">2022-03-06T12:40:41Z</dcterms:modified>
  <cp:revision>0</cp:revision>
  <dc:subject/>
  <dc:title>?????? PowerPoint</dc:title>
</cp:coreProperties>
</file>