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F0A95-D65F-473F-8CDF-21284E59CB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Оказывается, мало знать, что дорогу надо переходить только по пешеходному переходу и по зелёному сигналу светоф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Необходимо ещё оценить — безопасное ли расстояние отделяет тебя от едущего по дороге автомобиля. Зачем это нужно? Дело в том, что быстро движущаяся машина не может остановиться мгновенно. У каждого вида транспорта существует так называемый тормозной путь. Объяснить что это та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F6038-AB25-452D-9884-0C767A6D59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ть хорошо ли ребята помнят основные дорожные зна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B18FB-4FDD-47C1-B416-71590E52F8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же ребята подробно объясняют почему были нарушены правила ПД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25B91-CDFB-465A-8BF6-16D716C123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он свет нам несет , уточнить что обозначает каждый свет и действия пеше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B82EE-CF00-4CD5-A8D3-040FE6059D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стрить внимание какими пешеходными переходами безопаснее всего пользо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5FE74-AFAA-4E41-95E8-6A946DC858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уматься не только о пользе автомобиля, но и об отрицательных его каче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2A30D-82EA-4B19-A5E8-FC5BFCF1CD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и едины во всех странах благодар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нской конвенции о дорожных знаках и сигнал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от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8 ноябр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96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.  Эта конвенция была принята с целью привидения международных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рожных зна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единым знакам и к единым правилам дорожного дви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2CD90-CAD9-40BB-971B-EF91727642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дим ответы на вопросы: Кто пешеход? Кто пассажир? Кто водитель? И вывод ПДД должны соблюдать в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770B7-2B7C-460F-AB2B-B6B8C86A5C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863-01DF-4F00-A89A-13068D86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5FA-96A4-4120-836A-4244AE12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02E-3163-49E6-AF76-C54C43D9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748-B3C9-4C0A-A2A1-F30601C4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512-A460-4BF9-B137-5814420B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82A-25A9-403F-BC1B-96011BAA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FB8-7525-49A2-8D31-EAF4A8F4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EA1-FD5F-4D8A-B7E9-15B588B6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402-3AF5-4486-9DDC-75132971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373-7B23-4A84-AEB9-DDBD7F90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CB6-B125-4EF6-8213-3D7A8387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879-D79C-4852-AEF6-F6BB8DB6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B3BED-A682-4025-9066-969C3BFB72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машова Ирина виктор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16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1"/>
          <p:cNvSpPr/>
          <p:nvPr/>
        </p:nvSpPr>
        <p:spPr>
          <a:xfrm>
            <a:off x="324000" y="3141720"/>
            <a:ext cx="84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очему не может остановиться мгновенно и застыть на месте транспортное средств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324000" y="5548320"/>
            <a:ext cx="84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и одно транспортное средство не может остановиться мгновен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D:\DOCUME~1\C9A4~1\LOCALS~1\Temp\\msotw9_temp0.jpg"/>
          <p:cNvPicPr/>
          <p:nvPr/>
        </p:nvPicPr>
        <p:blipFill>
          <a:blip r:embed="rId1"/>
          <a:srcRect l="2160" t="4204" r="7658" b="7384"/>
          <a:stretch/>
        </p:blipFill>
        <p:spPr>
          <a:xfrm>
            <a:off x="457200" y="590400"/>
            <a:ext cx="7182000" cy="5457960"/>
          </a:xfrm>
          <a:prstGeom prst="rect">
            <a:avLst/>
          </a:prstGeom>
          <a:ln w="0">
            <a:noFill/>
          </a:ln>
        </p:spPr>
      </p:pic>
      <p:sp>
        <p:nvSpPr>
          <p:cNvPr id="124" name="Line 4"/>
          <p:cNvSpPr/>
          <p:nvPr/>
        </p:nvSpPr>
        <p:spPr>
          <a:xfrm>
            <a:off x="801720" y="801720"/>
            <a:ext cx="6513480" cy="4994280"/>
          </a:xfrm>
          <a:prstGeom prst="line">
            <a:avLst/>
          </a:prstGeom>
          <a:ln w="177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0" y="-120492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391968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27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2"/>
          <p:cNvSpPr/>
          <p:nvPr/>
        </p:nvSpPr>
        <p:spPr>
          <a:xfrm>
            <a:off x="390600" y="2898720"/>
            <a:ext cx="828504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324000" y="31417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Что означает этот зна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0" y="4614840"/>
            <a:ext cx="846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1такого дорожного знака не существует;2указывает место, где запрещено движение пешеходов;3предупреждает водителей о приближении к пешеходному перех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36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2"/>
          <p:cNvSpPr/>
          <p:nvPr/>
        </p:nvSpPr>
        <p:spPr>
          <a:xfrm>
            <a:off x="324000" y="2924280"/>
            <a:ext cx="8285040" cy="15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1"/>
          <p:cNvSpPr/>
          <p:nvPr/>
        </p:nvSpPr>
        <p:spPr>
          <a:xfrm>
            <a:off x="324000" y="3141720"/>
            <a:ext cx="84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а каком рисунке показано нарушение правил дорожного движ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324000" y="55483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исунок 1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D:\DOCUME~1\C9A4~1\LOCALS~1\Temp\\msotw9_temp0.jpg"/>
          <p:cNvPicPr/>
          <p:nvPr/>
        </p:nvPicPr>
        <p:blipFill>
          <a:blip r:embed="rId1"/>
          <a:stretch/>
        </p:blipFill>
        <p:spPr>
          <a:xfrm>
            <a:off x="304920" y="1003320"/>
            <a:ext cx="247320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Picture 3" descr="D:\DOCUME~1\C9A4~1\LOCALS~1\Temp\\msotw9_temp0.jpg"/>
          <p:cNvPicPr/>
          <p:nvPr/>
        </p:nvPicPr>
        <p:blipFill>
          <a:blip r:embed="rId2"/>
          <a:stretch/>
        </p:blipFill>
        <p:spPr>
          <a:xfrm>
            <a:off x="3044880" y="1830240"/>
            <a:ext cx="3200400" cy="303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Picture 4" descr="D:\DOCUME~1\C9A4~1\LOCALS~1\Temp\\msotw9_temp0.jpg"/>
          <p:cNvPicPr/>
          <p:nvPr/>
        </p:nvPicPr>
        <p:blipFill>
          <a:blip r:embed="rId3"/>
          <a:stretch/>
        </p:blipFill>
        <p:spPr>
          <a:xfrm>
            <a:off x="6431040" y="3581280"/>
            <a:ext cx="252576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" name="Прямоугольник 4"/>
          <p:cNvSpPr/>
          <p:nvPr/>
        </p:nvSpPr>
        <p:spPr>
          <a:xfrm>
            <a:off x="1863720" y="320760"/>
            <a:ext cx="91440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5330880" y="1212840"/>
            <a:ext cx="91440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8042400" y="2911320"/>
            <a:ext cx="914400" cy="4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400640"/>
            <a:ext cx="2273400" cy="909720"/>
          </a:xfrm>
          <a:prstGeom prst="rect">
            <a:avLst/>
          </a:prstGeom>
          <a:ln w="0">
            <a:noFill/>
          </a:ln>
        </p:spPr>
      </p:pic>
      <p:sp>
        <p:nvSpPr>
          <p:cNvPr id="151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53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324000" y="3141720"/>
            <a:ext cx="846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В большинстве светофоров используют сигналы трёх цветов: красного, жёлтого и зелёного.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250920" y="5148360"/>
            <a:ext cx="8464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расный — цвет опасности. Он хорошо виден и днём, и ночью, и в дождь и в туман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елёный цвет резко отличается от красного; их невозможно перепутать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Между красным и зелёным «глазами» светофора поместили ещё один — жёлтый. Он призывает водителей и пе­шеходов быть внимательным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62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324000" y="3141720"/>
            <a:ext cx="84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ие бывают дорог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324000" y="5548320"/>
            <a:ext cx="84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Городские, проселочные, загородные, лесные, временные, объезд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69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71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1"/>
          <p:cNvSpPr/>
          <p:nvPr/>
        </p:nvSpPr>
        <p:spPr>
          <a:xfrm>
            <a:off x="324000" y="31417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з каких основных частей состоит дорог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324000" y="55483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езжая часть, тротуар, обоч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http://bezopasnost-detej.ru/images/2013-2/208-5-pravila-dorozhnogo-dvizheniya-detyam-kartinki.jpg"/>
          <p:cNvPicPr/>
          <p:nvPr/>
        </p:nvPicPr>
        <p:blipFill>
          <a:blip r:embed="rId1"/>
          <a:stretch/>
        </p:blipFill>
        <p:spPr>
          <a:xfrm>
            <a:off x="830160" y="689040"/>
            <a:ext cx="748368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78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79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81" name="Скругленный прямоугольник 2"/>
          <p:cNvSpPr/>
          <p:nvPr/>
        </p:nvSpPr>
        <p:spPr>
          <a:xfrm>
            <a:off x="390600" y="3000240"/>
            <a:ext cx="8285040" cy="19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21"/>
          <p:cNvSpPr/>
          <p:nvPr/>
        </p:nvSpPr>
        <p:spPr>
          <a:xfrm>
            <a:off x="324000" y="3141720"/>
            <a:ext cx="84628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равила дорожного движения разрешаю ребятам делать все, что они захотя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дороге, на площадке, на газоне, во дво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Если ты так поступаеш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начит, правила на пять ты знаеш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324000" y="55483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Не играйте на дороге. Не катайтесь по дороге  на санках, коньках, роли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54" name="Скругленный прямоугольник 2"/>
          <p:cNvSpPr/>
          <p:nvPr/>
        </p:nvSpPr>
        <p:spPr>
          <a:xfrm>
            <a:off x="324000" y="2924280"/>
            <a:ext cx="8285040" cy="184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324000" y="3141720"/>
            <a:ext cx="8462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Этот транспорт был изобретен Карлом Бенцем в 1886 году. Он получил общественное признание и был запущен в промышленное производство. Представлял собой трехколесное средство передвижения, с двигателем на 1.7 литра. Управлялось сие средство передвижения при помощи Т-образного руля. Какое это транспортное средство…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324000" y="55483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88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90" name="Скругленный прямоугольник 2"/>
          <p:cNvSpPr/>
          <p:nvPr/>
        </p:nvSpPr>
        <p:spPr>
          <a:xfrm>
            <a:off x="501480" y="3141720"/>
            <a:ext cx="8285400" cy="153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4000" y="3141720"/>
            <a:ext cx="84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 в разных городах называют полицейских, которые  круглый год на пос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324000" y="55483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Лежачие полицейск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7" descr="1_20"/>
          <p:cNvPicPr/>
          <p:nvPr/>
        </p:nvPicPr>
        <p:blipFill>
          <a:blip r:embed="rId1"/>
          <a:stretch/>
        </p:blipFill>
        <p:spPr>
          <a:xfrm>
            <a:off x="611280" y="436680"/>
            <a:ext cx="3905280" cy="330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пешеходный переход"/>
          <p:cNvPicPr/>
          <p:nvPr/>
        </p:nvPicPr>
        <p:blipFill>
          <a:blip r:embed="rId2"/>
          <a:stretch/>
        </p:blipFill>
        <p:spPr>
          <a:xfrm>
            <a:off x="4516560" y="3081240"/>
            <a:ext cx="45241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99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01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1"/>
          <p:cNvSpPr/>
          <p:nvPr/>
        </p:nvSpPr>
        <p:spPr>
          <a:xfrm>
            <a:off x="324000" y="3141720"/>
            <a:ext cx="84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ие дорожных знака имеют одинаковое название ,но разное знач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324000" y="55483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ешеходный перех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400640"/>
            <a:ext cx="2273400" cy="909720"/>
          </a:xfrm>
          <a:prstGeom prst="rect">
            <a:avLst/>
          </a:prstGeom>
          <a:ln w="0">
            <a:noFill/>
          </a:ln>
        </p:spPr>
      </p:pic>
      <p:sp>
        <p:nvSpPr>
          <p:cNvPr id="208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10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21"/>
          <p:cNvSpPr/>
          <p:nvPr/>
        </p:nvSpPr>
        <p:spPr>
          <a:xfrm>
            <a:off x="324000" y="3141720"/>
            <a:ext cx="84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Назовите на какие группы делятся все дорожные зн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177840" y="5302080"/>
            <a:ext cx="871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1 предупреждающие; 2 приоритета; 3 запрещающие 4 предписывающие; 5 информационно –указательные; 6 знаки сервиса ;7 знаки доп.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2" descr=""/>
          <p:cNvPicPr/>
          <p:nvPr/>
        </p:nvPicPr>
        <p:blipFill>
          <a:blip r:embed="rId2"/>
          <a:stretch/>
        </p:blipFill>
        <p:spPr>
          <a:xfrm>
            <a:off x="133200" y="4400640"/>
            <a:ext cx="2275200" cy="909720"/>
          </a:xfrm>
          <a:prstGeom prst="rect">
            <a:avLst/>
          </a:prstGeom>
          <a:ln w="0">
            <a:noFill/>
          </a:ln>
        </p:spPr>
      </p:pic>
      <p:sp>
        <p:nvSpPr>
          <p:cNvPr id="217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19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1"/>
          <p:cNvSpPr/>
          <p:nvPr/>
        </p:nvSpPr>
        <p:spPr>
          <a:xfrm>
            <a:off x="324000" y="3141720"/>
            <a:ext cx="84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Опишите общие признаки  знаков  серви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324000" y="5259240"/>
            <a:ext cx="84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Знаки сервиса — имеют общий призна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бслуживания — прямоугольник с широкой голуб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ймой и черным символом на белом фо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226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28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1"/>
          <p:cNvSpPr/>
          <p:nvPr/>
        </p:nvSpPr>
        <p:spPr>
          <a:xfrm>
            <a:off x="324000" y="3141720"/>
            <a:ext cx="8462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авила дорожного движения обязывают мотоциклистов иметь ремень безопас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кажите, что это за ремень безопас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324000" y="5548320"/>
            <a:ext cx="846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Это мотоциклетный шлем плотно прилегающий и плотно зафиксированный застеж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64508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235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37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1"/>
          <p:cNvSpPr/>
          <p:nvPr/>
        </p:nvSpPr>
        <p:spPr>
          <a:xfrm>
            <a:off x="324000" y="3141720"/>
            <a:ext cx="84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 каком возрасте можно учиться ездить на машине и мотоцик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324000" y="5473800"/>
            <a:ext cx="846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а машине с 16 лет и старш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а мотоцикл с 14 лет, но самостоятельно ездить за рулем только с 16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244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46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21"/>
          <p:cNvSpPr/>
          <p:nvPr/>
        </p:nvSpPr>
        <p:spPr>
          <a:xfrm>
            <a:off x="324000" y="3141720"/>
            <a:ext cx="84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чему светофор называется светофор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Расшифруй сло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324000" y="5548320"/>
            <a:ext cx="846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ветофор –состоит из двух слов- свет это свет и фор т.е. «форос « –носитель, несущий. Поэтому светофор –это несущий св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http://avtonauka.ru/wp-content/uploads/2012/12/regulirovschik.jpg"/>
          <p:cNvPicPr/>
          <p:nvPr/>
        </p:nvPicPr>
        <p:blipFill>
          <a:blip r:embed="rId1"/>
          <a:stretch/>
        </p:blipFill>
        <p:spPr>
          <a:xfrm>
            <a:off x="755640" y="1052640"/>
            <a:ext cx="7848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254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56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1"/>
          <p:cNvSpPr/>
          <p:nvPr/>
        </p:nvSpPr>
        <p:spPr>
          <a:xfrm>
            <a:off x="324000" y="3141720"/>
            <a:ext cx="84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чему этому человеку можно стоять на проезжей ча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324000" y="5548320"/>
            <a:ext cx="84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Это регулировщик дорожного движения, он выполняет роль светоф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61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324000" y="3141720"/>
            <a:ext cx="84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чему на российских автомобильных номерах используется только 12 бук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24000" y="5548320"/>
            <a:ext cx="846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спользуются только те буквы которые есть и в кириллице ,и в латинице –А,В,Е,К,М,Н,О,Р,С,Т,У,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http://im4-tub-ru.yandex.net/i?id=203623452-70-72&amp;n=21"/>
          <p:cNvPicPr/>
          <p:nvPr/>
        </p:nvPicPr>
        <p:blipFill>
          <a:blip r:embed="rId1"/>
          <a:stretch/>
        </p:blipFill>
        <p:spPr>
          <a:xfrm>
            <a:off x="5137200" y="174600"/>
            <a:ext cx="3752640" cy="3144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Untitled-Scanned-14"/>
          <p:cNvPicPr/>
          <p:nvPr/>
        </p:nvPicPr>
        <p:blipFill>
          <a:blip r:embed="rId2"/>
          <a:stretch/>
        </p:blipFill>
        <p:spPr>
          <a:xfrm>
            <a:off x="4024440" y="3909960"/>
            <a:ext cx="4498920" cy="2687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http://detsad-kitty.ru/uploads/posts/2010-05/1273164865_rrr.jpg"/>
          <p:cNvPicPr/>
          <p:nvPr/>
        </p:nvPicPr>
        <p:blipFill>
          <a:blip r:embed="rId3"/>
          <a:stretch/>
        </p:blipFill>
        <p:spPr>
          <a:xfrm>
            <a:off x="298440" y="773280"/>
            <a:ext cx="4346640" cy="370044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5"/>
          <p:cNvSpPr/>
          <p:nvPr/>
        </p:nvSpPr>
        <p:spPr>
          <a:xfrm>
            <a:off x="2647800" y="1052640"/>
            <a:ext cx="1082880" cy="55692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Прямоугольник 6"/>
          <p:cNvSpPr/>
          <p:nvPr/>
        </p:nvSpPr>
        <p:spPr>
          <a:xfrm>
            <a:off x="6407280" y="2954160"/>
            <a:ext cx="91440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7"/>
          <p:cNvSpPr/>
          <p:nvPr/>
        </p:nvSpPr>
        <p:spPr>
          <a:xfrm>
            <a:off x="3730680" y="5943600"/>
            <a:ext cx="91440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269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71" name="Скругленный прямоугольник 2"/>
          <p:cNvSpPr/>
          <p:nvPr/>
        </p:nvSpPr>
        <p:spPr>
          <a:xfrm>
            <a:off x="501480" y="3141720"/>
            <a:ext cx="8285400" cy="153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21"/>
          <p:cNvSpPr/>
          <p:nvPr/>
        </p:nvSpPr>
        <p:spPr>
          <a:xfrm>
            <a:off x="324000" y="3141720"/>
            <a:ext cx="84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 называются эти пешеходные переходы? Выбери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324000" y="5548320"/>
            <a:ext cx="846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1 Наземный, подземный , надзем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2Подземный,наземный,надзем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3 Наземный, надземный,подзем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278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80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21"/>
          <p:cNvSpPr/>
          <p:nvPr/>
        </p:nvSpPr>
        <p:spPr>
          <a:xfrm>
            <a:off x="324000" y="3141720"/>
            <a:ext cx="84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  знаменит день 22 сентябр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324000" y="5548320"/>
            <a:ext cx="84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ень создания первого автомоби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Всемирный день без автомоби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1" descr="C:\Users\Viktor\Desktop\1380405116-b73ef361b075b9d6bb554b07e10c23d1.jpg"/>
          <p:cNvPicPr/>
          <p:nvPr/>
        </p:nvPicPr>
        <p:blipFill>
          <a:blip r:embed="rId1"/>
          <a:stretch/>
        </p:blipFill>
        <p:spPr>
          <a:xfrm>
            <a:off x="0" y="0"/>
            <a:ext cx="6950160" cy="44593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2" descr="C:\Users\Viktor\Desktop\5_034.jpg"/>
          <p:cNvPicPr/>
          <p:nvPr/>
        </p:nvPicPr>
        <p:blipFill>
          <a:blip r:embed="rId2"/>
          <a:stretch/>
        </p:blipFill>
        <p:spPr>
          <a:xfrm>
            <a:off x="4896000" y="3200400"/>
            <a:ext cx="3966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12" descr=""/>
          <p:cNvPicPr/>
          <p:nvPr/>
        </p:nvPicPr>
        <p:blipFill>
          <a:blip r:embed="rId2"/>
          <a:stretch/>
        </p:blipFill>
        <p:spPr>
          <a:xfrm>
            <a:off x="66600" y="4005360"/>
            <a:ext cx="2274840" cy="907920"/>
          </a:xfrm>
          <a:prstGeom prst="rect">
            <a:avLst/>
          </a:prstGeom>
          <a:ln w="0">
            <a:noFill/>
          </a:ln>
        </p:spPr>
      </p:pic>
      <p:sp>
        <p:nvSpPr>
          <p:cNvPr id="289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91" name="Скругленный прямоугольник 2"/>
          <p:cNvSpPr/>
          <p:nvPr/>
        </p:nvSpPr>
        <p:spPr>
          <a:xfrm>
            <a:off x="501480" y="2374920"/>
            <a:ext cx="8285400" cy="15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21"/>
          <p:cNvSpPr/>
          <p:nvPr/>
        </p:nvSpPr>
        <p:spPr>
          <a:xfrm>
            <a:off x="501480" y="2847960"/>
            <a:ext cx="846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то обозначают эти зна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324000" y="4908600"/>
            <a:ext cx="846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1 Мы не знаем таких зна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2 Обозначают пешеходный переход, но  у нас не все эти знаки есть на доро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3 Пешеходный перех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12" descr=""/>
          <p:cNvPicPr/>
          <p:nvPr/>
        </p:nvPicPr>
        <p:blipFill>
          <a:blip r:embed="rId2"/>
          <a:stretch/>
        </p:blipFill>
        <p:spPr>
          <a:xfrm>
            <a:off x="133200" y="4389480"/>
            <a:ext cx="2275200" cy="907920"/>
          </a:xfrm>
          <a:prstGeom prst="rect">
            <a:avLst/>
          </a:prstGeom>
          <a:ln w="0">
            <a:noFill/>
          </a:ln>
        </p:spPr>
      </p:pic>
      <p:sp>
        <p:nvSpPr>
          <p:cNvPr id="298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300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21"/>
          <p:cNvSpPr/>
          <p:nvPr/>
        </p:nvSpPr>
        <p:spPr>
          <a:xfrm>
            <a:off x="324000" y="3141720"/>
            <a:ext cx="84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ое правило необходимо знать, что бы правильно перейти улиц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8"/>
          <p:cNvSpPr/>
          <p:nvPr/>
        </p:nvSpPr>
        <p:spPr>
          <a:xfrm>
            <a:off x="324000" y="5164200"/>
            <a:ext cx="846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ереходить на зеленый свет светофора, строго по пешеходному переходу. Сначала посмотреть налево, дойдя до середины дороги посмотреть напра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70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324000" y="3141720"/>
            <a:ext cx="84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Здесь пишется вопрос, на который будут отвечать коман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24000" y="55483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десь пишется правильный 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81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>
            <a:off x="324000" y="3141720"/>
            <a:ext cx="84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Здесь пишется вопрос, на который будут отвечать коман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24000" y="55483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десь пишется правильный 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http://im4-tub-ru.yandex.net/i?id=255767544-50-72&amp;n=21"/>
          <p:cNvPicPr/>
          <p:nvPr/>
        </p:nvPicPr>
        <p:blipFill>
          <a:blip r:embed="rId1"/>
          <a:stretch/>
        </p:blipFill>
        <p:spPr>
          <a:xfrm>
            <a:off x="2320920" y="422280"/>
            <a:ext cx="565452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89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1"/>
          <p:cNvSpPr/>
          <p:nvPr/>
        </p:nvSpPr>
        <p:spPr>
          <a:xfrm>
            <a:off x="324000" y="3141720"/>
            <a:ext cx="84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 вы думаете, что эт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24000" y="5548320"/>
            <a:ext cx="84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ервый светофор в России. Регулировщик поворачивал стрелку на нужный цв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400640"/>
            <a:ext cx="2273400" cy="909720"/>
          </a:xfrm>
          <a:prstGeom prst="rect">
            <a:avLst/>
          </a:prstGeom>
          <a:ln w="0">
            <a:noFill/>
          </a:ln>
        </p:spPr>
      </p:pic>
      <p:sp>
        <p:nvSpPr>
          <p:cNvPr id="98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2"/>
          <p:cNvSpPr/>
          <p:nvPr/>
        </p:nvSpPr>
        <p:spPr>
          <a:xfrm>
            <a:off x="3240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324000" y="3141720"/>
            <a:ext cx="84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ая особенность есть у дорог, зависящая от направления движения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250920" y="5118120"/>
            <a:ext cx="8464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равостороннее. Это значит, что все машины движутся вперёд по правой стороне проезжей ч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востороннее. Это значит, что все машины в этих странах движутся вперёд по левой стороне проезжей ч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07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09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324000" y="31417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то есть кто на дороге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324000" y="55483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ешеход, водитель, пассаж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2T07:49:57Z</dcterms:created>
  <dc:creator>air</dc:creator>
  <dc:description/>
  <dc:language>en-US</dc:language>
  <cp:lastModifiedBy>Viktor</cp:lastModifiedBy>
  <dcterms:modified xsi:type="dcterms:W3CDTF">2016-09-19T19:56:18Z</dcterms:modified>
  <cp:revision>39</cp:revision>
  <dc:subject/>
  <dc:title>Презентация PowerPoint</dc:title>
</cp:coreProperties>
</file>