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FAA53-37D6-476C-B80D-7DD9F775F6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Оказывается, мало знать, что дорогу надо переходить только по пешеходному переходу и по зелёному сигналу светоф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еобходимо ещё оценить — безопасное ли расстояние отделяет тебя от едущего по дороге автомобиля. Зачем это нужно? Дело в том, что быстро движущаяся машина не может остановиться мгновенно. У каждого вида транспорта существует так называемый тормозной путь. Объяснить что это та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EB7B0-2AB2-4CA9-8E93-A62965216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хорошо ли ребята помнят основные дорожные зн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50455-D4B7-492E-B237-983C343876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же ребята подробно объясняют почему были нарушены правила ПД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B8B5B-EB2F-46EC-8045-B2B522A43A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он свет нам несет , уточнить что обозначает каждый свет и действия пеш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6B4EF-7EBB-4BA7-991C-4D82DBAD03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ить внимание какими пешеходными переходами безопаснее всего польз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1330F-6561-4D61-A350-B197573D83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уматься не только о пользе автомобиля, но и об отрицательных его кач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589F7-8A2C-451A-8C02-8E8369984F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и едины во всех странах благодар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нской конвенции о дорожных знаках и сигнал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от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 ноябр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96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.  Эта конвенция была принята с целью привидения международных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рожных зна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единым знакам и к единым правилам дорожного дви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F160D-E9F6-4066-93CE-5B2EA67F09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дим ответы на вопросы: Кто пешеход? Кто пассажир? Кто водитель? И вывод ПДД должны соблюдать в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78E68-72C9-4C30-BC56-DF1A0A3616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F7E-AC15-4E63-8227-DD53CB7C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44F-B912-49F1-9B6C-0651925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03E-9995-4653-97D1-75F531B9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8CB-773D-4E91-ABEC-DF30B9C9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E14-9593-4A93-A78F-52F07C47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F2A-1FC0-46AA-B12E-48453647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A2C-A3DE-4684-BFD5-34D51DF2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181-8F78-4D87-A66A-C10B0E32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273-AAEF-44CD-BD35-C241B75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14A-13F9-4B2C-BD22-076ECDC9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057-4A3F-4ACB-BF32-13E53D7A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CD0-B270-4BF8-8982-F6A2CA7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07ADF-E31F-4C57-975E-08AD8204A3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машова Ирина виктор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324000" y="31417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чему не может остановиться мгновенно и застыть на месте транспортное средств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и одно транспортное средство не может остановиться мгновен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D:\DOCUME~1\C9A4~1\LOCALS~1\Temp\\msotw9_temp0.jpg"/>
          <p:cNvPicPr/>
          <p:nvPr/>
        </p:nvPicPr>
        <p:blipFill>
          <a:blip r:embed="rId1"/>
          <a:srcRect l="2160" t="4204" r="7658" b="7384"/>
          <a:stretch/>
        </p:blipFill>
        <p:spPr>
          <a:xfrm>
            <a:off x="457200" y="590400"/>
            <a:ext cx="7182000" cy="5457960"/>
          </a:xfrm>
          <a:prstGeom prst="rect">
            <a:avLst/>
          </a:prstGeom>
          <a:ln w="0">
            <a:noFill/>
          </a:ln>
        </p:spPr>
      </p:pic>
      <p:sp>
        <p:nvSpPr>
          <p:cNvPr id="124" name="Line 4"/>
          <p:cNvSpPr/>
          <p:nvPr/>
        </p:nvSpPr>
        <p:spPr>
          <a:xfrm>
            <a:off x="801720" y="801720"/>
            <a:ext cx="6513480" cy="4994280"/>
          </a:xfrm>
          <a:prstGeom prst="line">
            <a:avLst/>
          </a:prstGeom>
          <a:ln w="177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-120492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391968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390600" y="2898720"/>
            <a:ext cx="82850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324000" y="31417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то означает этот зна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0" y="4614840"/>
            <a:ext cx="846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такого дорожного знака не существует;2указывает место, где запрещено движение пешеходов;3предупреждает водителей о приближении к пешеходному перех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36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2"/>
          <p:cNvSpPr/>
          <p:nvPr/>
        </p:nvSpPr>
        <p:spPr>
          <a:xfrm>
            <a:off x="324000" y="2924280"/>
            <a:ext cx="8285040" cy="15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1"/>
          <p:cNvSpPr/>
          <p:nvPr/>
        </p:nvSpPr>
        <p:spPr>
          <a:xfrm>
            <a:off x="324000" y="31417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 каком рисунке показано нарушение правил дорожного движ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исунок 1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D:\DOCUME~1\C9A4~1\LOCALS~1\Temp\\msotw9_temp0.jpg"/>
          <p:cNvPicPr/>
          <p:nvPr/>
        </p:nvPicPr>
        <p:blipFill>
          <a:blip r:embed="rId1"/>
          <a:stretch/>
        </p:blipFill>
        <p:spPr>
          <a:xfrm>
            <a:off x="304920" y="1003320"/>
            <a:ext cx="247320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Picture 3" descr="D:\DOCUME~1\C9A4~1\LOCALS~1\Temp\\msotw9_temp0.jpg"/>
          <p:cNvPicPr/>
          <p:nvPr/>
        </p:nvPicPr>
        <p:blipFill>
          <a:blip r:embed="rId2"/>
          <a:stretch/>
        </p:blipFill>
        <p:spPr>
          <a:xfrm>
            <a:off x="3044880" y="1830240"/>
            <a:ext cx="3200400" cy="303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4" descr="D:\DOCUME~1\C9A4~1\LOCALS~1\Temp\\msotw9_temp0.jpg"/>
          <p:cNvPicPr/>
          <p:nvPr/>
        </p:nvPicPr>
        <p:blipFill>
          <a:blip r:embed="rId3"/>
          <a:stretch/>
        </p:blipFill>
        <p:spPr>
          <a:xfrm>
            <a:off x="6431040" y="3581280"/>
            <a:ext cx="252576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Прямоугольник 4"/>
          <p:cNvSpPr/>
          <p:nvPr/>
        </p:nvSpPr>
        <p:spPr>
          <a:xfrm>
            <a:off x="1863720" y="320760"/>
            <a:ext cx="9144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5330880" y="1212840"/>
            <a:ext cx="91440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8042400" y="2911320"/>
            <a:ext cx="91440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400640"/>
            <a:ext cx="2273400" cy="90972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53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324000" y="314172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 большинстве светофоров используют сигналы трёх цветов: красного, жёлтого и зелёного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250920" y="5148360"/>
            <a:ext cx="846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расный — цвет опасности. Он хорошо виден и днём, и ночью, и в дождь и в туман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елёный цвет резко отличается от красного; их невозможно перепутат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ежду красным и зелёным «глазами» светофора поместили ещё один — жёлтый. Он призывает водителей и пе­шеходов быть внимательным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62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324000" y="3141720"/>
            <a:ext cx="84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бывают дорог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Городские, проселочные, загородные, лесные, временные, объезд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71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324000" y="31417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з каких основных частей состоит дорог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езжая часть, тротуар, обоч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http://bezopasnost-detej.ru/images/2013-2/208-5-pravila-dorozhnogo-dvizheniya-detyam-kartinki.jpg"/>
          <p:cNvPicPr/>
          <p:nvPr/>
        </p:nvPicPr>
        <p:blipFill>
          <a:blip r:embed="rId1"/>
          <a:stretch/>
        </p:blipFill>
        <p:spPr>
          <a:xfrm>
            <a:off x="830160" y="689040"/>
            <a:ext cx="74836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7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81" name="Скругленный прямоугольник 2"/>
          <p:cNvSpPr/>
          <p:nvPr/>
        </p:nvSpPr>
        <p:spPr>
          <a:xfrm>
            <a:off x="390600" y="3000240"/>
            <a:ext cx="8285040" cy="19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324000" y="3141720"/>
            <a:ext cx="84628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равила дорожного движения разрешаю ребятам делать все, что они захотя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дороге, на площадке, на газоне, во дв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Если ты так поступаеш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начит, правила на пять ты знаеш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324000" y="55483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е играйте на дороге. Не катайтесь по дороге  на санках, коньках, роли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ый прямоугольник 2"/>
          <p:cNvSpPr/>
          <p:nvPr/>
        </p:nvSpPr>
        <p:spPr>
          <a:xfrm>
            <a:off x="324000" y="2924280"/>
            <a:ext cx="8285040" cy="184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324000" y="3141720"/>
            <a:ext cx="846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Этот транспорт был изобретен Карлом Бенцем в 1886 году. Он получил общественное признание и был запущен в промышленное производство. Представлял собой трехколесное средство передвижения, с двигателем на 1.7 литра. Управлялось сие средство передвижения при помощи Т-образного руля. Какое это транспортное средство…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8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90" name="Скругленный прямоугольник 2"/>
          <p:cNvSpPr/>
          <p:nvPr/>
        </p:nvSpPr>
        <p:spPr>
          <a:xfrm>
            <a:off x="501480" y="3141720"/>
            <a:ext cx="8285400" cy="15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в разных городах называют полицейских, которые  круглый год на пос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жачие полицейск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7" descr="1_20"/>
          <p:cNvPicPr/>
          <p:nvPr/>
        </p:nvPicPr>
        <p:blipFill>
          <a:blip r:embed="rId1"/>
          <a:stretch/>
        </p:blipFill>
        <p:spPr>
          <a:xfrm>
            <a:off x="611280" y="436680"/>
            <a:ext cx="3905280" cy="330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пешеходный переход"/>
          <p:cNvPicPr/>
          <p:nvPr/>
        </p:nvPicPr>
        <p:blipFill>
          <a:blip r:embed="rId2"/>
          <a:stretch/>
        </p:blipFill>
        <p:spPr>
          <a:xfrm>
            <a:off x="4516560" y="3081240"/>
            <a:ext cx="45241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01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дорожных знака имеют одинаковое название ,но разное знач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ешеходный перех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400640"/>
            <a:ext cx="2273400" cy="909720"/>
          </a:xfrm>
          <a:prstGeom prst="rect">
            <a:avLst/>
          </a:prstGeom>
          <a:ln w="0">
            <a:noFill/>
          </a:ln>
        </p:spPr>
      </p:pic>
      <p:sp>
        <p:nvSpPr>
          <p:cNvPr id="20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10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Назовите на какие группы делятся все дорожные 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77840" y="5302080"/>
            <a:ext cx="871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 предупреждающие; 2 приоритета; 3 запрещающие 4 предписывающие; 5 информационно –указательные; 6 знаки сервиса ;7 знаки доп.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2"/>
          <a:stretch/>
        </p:blipFill>
        <p:spPr>
          <a:xfrm>
            <a:off x="133200" y="4400640"/>
            <a:ext cx="2275200" cy="909720"/>
          </a:xfrm>
          <a:prstGeom prst="rect">
            <a:avLst/>
          </a:prstGeom>
          <a:ln w="0">
            <a:noFill/>
          </a:ln>
        </p:spPr>
      </p:pic>
      <p:sp>
        <p:nvSpPr>
          <p:cNvPr id="217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19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Опишите общие признаки  знаков  серви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324000" y="52592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Знаки сервиса — имеют общий призна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служивания — прямоугольник с широкой голуб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ймой и черным символом на белом фо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26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28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324000" y="3141720"/>
            <a:ext cx="846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авила дорожного движения обязывают мотоциклистов иметь ремень без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кажите, что это за ремень безопас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324000" y="554832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Это мотоциклетный шлем плотно прилегающий и плотно зафиксированный застеж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64508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37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 каком возрасте можно учиться ездить на машине и мотоцик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324000" y="547380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 машине с 16 лет и стар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 мотоцикл с 14 лет, но самостоятельно ездить за рулем только с 16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44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чему светофор называется светофор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Расшифруй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324000" y="5548320"/>
            <a:ext cx="84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ветофор –состоит из двух слов- свет это свет и фор т.е. «форос « –носитель, несущий. Поэтому светофор –это несущий с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avtonauka.ru/wp-content/uploads/2012/12/regulirovschik.jpg"/>
          <p:cNvPicPr/>
          <p:nvPr/>
        </p:nvPicPr>
        <p:blipFill>
          <a:blip r:embed="rId1"/>
          <a:stretch/>
        </p:blipFill>
        <p:spPr>
          <a:xfrm>
            <a:off x="755640" y="1052640"/>
            <a:ext cx="7848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54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56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чему этому человеку можно стоять на проезжей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Это регулировщик дорожного движения, он выполняет роль светоф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чему на российских автомобильных номерах используется только 12 бук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24000" y="5548320"/>
            <a:ext cx="846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пользуются только те буквы которые есть и в кириллице ,и в латинице –А,В,Е,К,М,Н,О,Р,С,Т,У,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http://im4-tub-ru.yandex.net/i?id=203623452-70-72&amp;n=21"/>
          <p:cNvPicPr/>
          <p:nvPr/>
        </p:nvPicPr>
        <p:blipFill>
          <a:blip r:embed="rId1"/>
          <a:stretch/>
        </p:blipFill>
        <p:spPr>
          <a:xfrm>
            <a:off x="5137200" y="174600"/>
            <a:ext cx="3752640" cy="3144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Untitled-Scanned-14"/>
          <p:cNvPicPr/>
          <p:nvPr/>
        </p:nvPicPr>
        <p:blipFill>
          <a:blip r:embed="rId2"/>
          <a:stretch/>
        </p:blipFill>
        <p:spPr>
          <a:xfrm>
            <a:off x="4024440" y="3909960"/>
            <a:ext cx="4498920" cy="2687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http://detsad-kitty.ru/uploads/posts/2010-05/1273164865_rrr.jpg"/>
          <p:cNvPicPr/>
          <p:nvPr/>
        </p:nvPicPr>
        <p:blipFill>
          <a:blip r:embed="rId3"/>
          <a:stretch/>
        </p:blipFill>
        <p:spPr>
          <a:xfrm>
            <a:off x="298440" y="773280"/>
            <a:ext cx="4346640" cy="37004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2647800" y="1052640"/>
            <a:ext cx="1082880" cy="55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6407280" y="2954160"/>
            <a:ext cx="91440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3730680" y="5943600"/>
            <a:ext cx="91440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6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71" name="Скругленный прямоугольник 2"/>
          <p:cNvSpPr/>
          <p:nvPr/>
        </p:nvSpPr>
        <p:spPr>
          <a:xfrm>
            <a:off x="501480" y="3141720"/>
            <a:ext cx="8285400" cy="15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называются эти пешеходные переходы? Выбери правиль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324000" y="5548320"/>
            <a:ext cx="84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 Наземный, подземный , надзем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2Подземный,наземный,надзем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3 Наземный, надземный,подзем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27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80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324000" y="3141720"/>
            <a:ext cx="84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 знаменит день 22 сентяб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ень создания первого автомоби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семирный день без автомоби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1" descr="C:\Users\Viktor\Desktop\1380405116-b73ef361b075b9d6bb554b07e10c23d1.jpg"/>
          <p:cNvPicPr/>
          <p:nvPr/>
        </p:nvPicPr>
        <p:blipFill>
          <a:blip r:embed="rId1"/>
          <a:stretch/>
        </p:blipFill>
        <p:spPr>
          <a:xfrm>
            <a:off x="0" y="0"/>
            <a:ext cx="6950160" cy="44593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2" descr="C:\Users\Viktor\Desktop\5_034.jpg"/>
          <p:cNvPicPr/>
          <p:nvPr/>
        </p:nvPicPr>
        <p:blipFill>
          <a:blip r:embed="rId2"/>
          <a:stretch/>
        </p:blipFill>
        <p:spPr>
          <a:xfrm>
            <a:off x="4896000" y="3200400"/>
            <a:ext cx="3966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2" descr=""/>
          <p:cNvPicPr/>
          <p:nvPr/>
        </p:nvPicPr>
        <p:blipFill>
          <a:blip r:embed="rId2"/>
          <a:stretch/>
        </p:blipFill>
        <p:spPr>
          <a:xfrm>
            <a:off x="66600" y="4005360"/>
            <a:ext cx="2274840" cy="907920"/>
          </a:xfrm>
          <a:prstGeom prst="rect">
            <a:avLst/>
          </a:prstGeom>
          <a:ln w="0">
            <a:noFill/>
          </a:ln>
        </p:spPr>
      </p:pic>
      <p:sp>
        <p:nvSpPr>
          <p:cNvPr id="28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291" name="Скругленный прямоугольник 2"/>
          <p:cNvSpPr/>
          <p:nvPr/>
        </p:nvSpPr>
        <p:spPr>
          <a:xfrm>
            <a:off x="501480" y="2374920"/>
            <a:ext cx="8285400" cy="15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21"/>
          <p:cNvSpPr/>
          <p:nvPr/>
        </p:nvSpPr>
        <p:spPr>
          <a:xfrm>
            <a:off x="501480" y="2847960"/>
            <a:ext cx="846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то обозначают эти зна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324000" y="4908600"/>
            <a:ext cx="846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1 Мы не знаем таких зна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2 Обозначают пешеходный переход, но  у нас не все эти знаки есть на доро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3 Пешеходный перех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2" descr=""/>
          <p:cNvPicPr/>
          <p:nvPr/>
        </p:nvPicPr>
        <p:blipFill>
          <a:blip r:embed="rId2"/>
          <a:stretch/>
        </p:blipFill>
        <p:spPr>
          <a:xfrm>
            <a:off x="133200" y="4389480"/>
            <a:ext cx="2275200" cy="907920"/>
          </a:xfrm>
          <a:prstGeom prst="rect">
            <a:avLst/>
          </a:prstGeom>
          <a:ln w="0">
            <a:noFill/>
          </a:ln>
        </p:spPr>
      </p:pic>
      <p:sp>
        <p:nvSpPr>
          <p:cNvPr id="29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300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ое правило необходимо знать, что бы правильно перейти улиц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324000" y="5164200"/>
            <a:ext cx="84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ереходить на зеленый свет светофора, строго по пешеходному переходу. Сначала посмотреть налево, дойдя до середины дороги посмотреть напра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70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Здесь пишется вопрос, на который будут отвечать коман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десь пишется правильный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324000" y="314172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Здесь пишется вопрос, на который будут отвечать коман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десь пишется правильный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http://im4-tub-ru.yandex.net/i?id=255767544-50-72&amp;n=21"/>
          <p:cNvPicPr/>
          <p:nvPr/>
        </p:nvPicPr>
        <p:blipFill>
          <a:blip r:embed="rId1"/>
          <a:stretch/>
        </p:blipFill>
        <p:spPr>
          <a:xfrm>
            <a:off x="2320920" y="422280"/>
            <a:ext cx="56545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89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324000" y="3141720"/>
            <a:ext cx="84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вы думаете, что э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24000" y="55483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ервый светофор в России. Регулировщик поворачивал стрелку на нужный ц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400640"/>
            <a:ext cx="2273400" cy="909720"/>
          </a:xfrm>
          <a:prstGeom prst="rect">
            <a:avLst/>
          </a:prstGeom>
          <a:ln w="0">
            <a:noFill/>
          </a:ln>
        </p:spPr>
      </p:pic>
      <p:sp>
        <p:nvSpPr>
          <p:cNvPr id="98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3240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324000" y="314172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ая особенность есть у дорог, зависящая от направления движения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50920" y="5118120"/>
            <a:ext cx="846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равостороннее. Это значит, что все машины движутся вперёд по правой стороне проезжей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востороннее. Это значит, что все машины в этих странах движутся вперёд по левой стороне проезжей ч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-139680" y="-496800"/>
            <a:ext cx="9734400" cy="72770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12" descr=""/>
          <p:cNvPicPr/>
          <p:nvPr/>
        </p:nvPicPr>
        <p:blipFill>
          <a:blip r:embed="rId2"/>
          <a:stretch/>
        </p:blipFill>
        <p:spPr>
          <a:xfrm>
            <a:off x="-6480" y="4773600"/>
            <a:ext cx="2273400" cy="907920"/>
          </a:xfrm>
          <a:prstGeom prst="rect">
            <a:avLst/>
          </a:prstGeom>
          <a:ln w="0">
            <a:noFill/>
          </a:ln>
        </p:spPr>
      </p:pic>
      <p:sp>
        <p:nvSpPr>
          <p:cNvPr id="107" name="Управляющая кнопка: домой 14"/>
          <p:cNvSpPr/>
          <p:nvPr/>
        </p:nvSpPr>
        <p:spPr>
          <a:xfrm>
            <a:off x="828684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20" descr=""/>
          <p:cNvPicPr/>
          <p:nvPr/>
        </p:nvPicPr>
        <p:blipFill>
          <a:blip r:embed="rId3"/>
          <a:stretch/>
        </p:blipFill>
        <p:spPr>
          <a:xfrm>
            <a:off x="-79200" y="1195560"/>
            <a:ext cx="2725560" cy="907920"/>
          </a:xfrm>
          <a:prstGeom prst="rect">
            <a:avLst/>
          </a:prstGeom>
          <a:ln w="0">
            <a:noFill/>
          </a:ln>
        </p:spPr>
      </p:pic>
      <p:sp>
        <p:nvSpPr>
          <p:cNvPr id="109" name="Скругленный прямоугольник 2"/>
          <p:cNvSpPr/>
          <p:nvPr/>
        </p:nvSpPr>
        <p:spPr>
          <a:xfrm>
            <a:off x="390600" y="3000240"/>
            <a:ext cx="8285040" cy="153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324000" y="31417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то есть кто на дороге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i.nextmedia.com.au/News/regulation_thinkstock_153500709.jpg"/>
          <p:cNvPicPr/>
          <p:nvPr/>
        </p:nvPicPr>
        <p:blipFill>
          <a:blip r:embed="rId4"/>
          <a:srcRect l="1953" t="10328" r="1082" b="45969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0" y="150840"/>
            <a:ext cx="9144000" cy="284940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24000" y="5548320"/>
            <a:ext cx="84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ешеход, водитель, пассаж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2T07:49:57Z</dcterms:created>
  <dc:creator>air</dc:creator>
  <dc:description/>
  <dc:language>en-US</dc:language>
  <cp:lastModifiedBy>Viktor</cp:lastModifiedBy>
  <dcterms:modified xsi:type="dcterms:W3CDTF">2016-09-19T19:56:18Z</dcterms:modified>
  <cp:revision>39</cp:revision>
  <dc:subject/>
  <dc:title>Презентация PowerPoint</dc:title>
</cp:coreProperties>
</file>