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BC1-D2A5-4580-B6E7-A1B61960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E24-DFFD-4E08-A6D1-0A11F127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1A9-E247-4C24-BD11-BA725C64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672-0AFC-4529-B39E-4CE37DAF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E4B-014C-4225-8E6E-175FA729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40FE-3057-49E6-B78A-4FEA453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8014-646A-42F0-8EF6-A6D9C84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8B1D-DF23-428E-8B91-4F72200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4AB-29D1-4B9E-92F1-008E14E7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AC1-C0B6-4D79-9BD7-5B288192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FD7-8A4F-4071-AC1C-DB38195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85D-B6F6-4713-9CE8-63E506B6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67E-2BB1-4576-A88B-E73F9FA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3E43-E4DF-4C85-89B3-2952835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CB3F-60C3-422B-A26D-AB7E86D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EE1-AA09-4EE3-A3DF-818D4008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79C-3DFF-4B34-9BE5-24434AA2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B82-4A5D-4F29-8F18-09C5976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601-F67D-4955-A313-D23F48E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02D-BA17-49F5-BA89-C4C90704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624-1C22-4502-AF28-7BC471D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1D2-5D51-4690-9069-FEE3B83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AEF-CAEC-4317-93EB-BAF5354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7BD-C71E-439B-A467-46FBE890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CBAF-F329-44E4-A717-AF99158CD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34B-14C9-4CB1-BF22-58AA857CBF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2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ДНС</cp:lastModifiedBy>
  <dcterms:modified xsi:type="dcterms:W3CDTF">2022-03-12T03:09:07Z</dcterms:modified>
  <cp:revision>6</cp:revision>
  <dc:subject/>
  <dc:title>Доклад  «Использование ИКТ на уроках русского языка и литературы»</dc:title>
</cp:coreProperties>
</file>