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0726-68D6-4846-AEC0-0B2F7D96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588-3BA8-4EE4-B9AA-115FFFDA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A5B-6595-4879-9792-B514C7A1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AE53-48AD-4765-88D9-683F4F0C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808E-DA8E-4B35-B0F5-B9FE7F73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28E9-68ED-4AB0-B804-C2D2C3A8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D8CB-05EA-4FF2-B54F-62717A88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9A22-0757-430F-9029-02674BBC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6772-812A-4AD9-AAF0-E96124E4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F3CD-5609-43AA-85AB-4949A8EB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B8B6-ECCB-49DA-B40F-219D9615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397-B6E3-4796-B7D5-9EE0846B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2510-36A1-49C3-B3B9-7229C30C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D717-4268-4982-AE2A-875AEA72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A0A3-BDF9-4402-833E-23A117CF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C3B9-24BA-441D-A870-697CEC01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AFDB-945B-4CE2-A560-0B3478D3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C6C-1E07-4E87-8147-10B9A59D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A1F-7BA6-44D5-861A-CB769FCD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B90-B807-4159-B479-EA20C80C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AEE-CF83-42AF-984D-DA5612D3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E98-650A-43F5-B236-18805CBF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525-6A0C-4C74-9226-51E79BBE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02A-DE11-4901-9505-9FA469AB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7356-3A7F-4144-A910-5EFB61B357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ADAB-2BA0-4177-B3C3-89E63FAF0B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Доклад </a:t>
            </a:r>
            <a:br>
              <a:rPr sz="4800"/>
            </a:b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«Использование ИКТ на уроках русского языка и литературы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556000" y="4436640"/>
            <a:ext cx="64008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готовила: учитель русского языка и литератур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ойган Даниловна Ирг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.Кызыл-Хая,202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й опыт работы обучения орфографии и пунктуации на уроках русского языка при помощи компьютера говорит об эффективности данной технологии, что, мне кажется, объясняется следующим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еник работает активно и самостоятельно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меняется форма контроля знаний: ученика контролирует компьютер, тщательно проверяя и сразу же оценивая работу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няется индивидуализация и дифференциация  обучения: парные виды работы сочетаются с групповыми и индивидуальным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 ученика вырабатывается умение работать, соблюдая тишину, не мешая другим, развивается его коммуникативная культур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ормируется иная, чем на традиционных уроках,  культура поведения учителя  - он наблюдает за ходом работы, оказывая помощь только в случае необходимости, поощряя самообразование и саморазвитие дете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евизом каждого учителя сегодня  пусть станут  слова Эмиля Золя, касающиеся всех сфер нашей жизни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Единственное счастье в жизни - это постоянное стремление вперёд...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Благодарим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за внимание и участие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.Г. Белинский говорил 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Без стремления к новому нет жизни, нет развития, нет прогресса». Слова эти сказаны очень  давно. Тогда о компьютерных технологиях никто и не помышлял. Но, мне кажется, эти слова о нём, о современном учителе, об учителе, который стремится вперёд,  который готов осваивать всё новое, инновационное и с успехом применять  в практике своей работы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ование ИКТ при обучении школьников общеобразовательным предметам в школе ведёт к повышению качества образования. Моя практика показывает, что дети на уроках русского языка и литератур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 большим успехом усваивают учебный материал, если в урок включаются ИКТ;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более значимой становится роль ИКТ  в   плане интеллектуального и эстетического развития обучающихс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формируется их информационная культур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расширяется духовный, социальный, культурный кругозор дете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бы организовать качественное использование ИКТ на уроке необходимо  учителю иметь  достаточную подготовку  в области использования средств ИКТ, а также должную мотивацию  по переводу учебного процесса на  современный уровень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ими целями при обучении русскому языку и литературе я вижу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вышение мотивации обуч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тие познавательной активности учащих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имулирование самостоятельности учащихся при подготовке к урок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дач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ывать у учащихся познавательную активность через умение работать с дополнительной литературой, используя возможности компьютера и сети Интерне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рабатывать умение самостоятельно анализировать, отбирать главное, а затем использовать на урок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вышать эффективность урока, развивая мотивацию, применяя ИК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4358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формационные технологии  помогают мне не только облегчить доступ к информации, открывать возможности  вариативной учебной деятельности, её индивидуализации и дифференциации, но и позволяют по-новому, на более современном уровне организовать сам процесс обучения, построить его так, чтобы ученик был бы активным и равноправным его член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   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едрение ИКТ на уроках русского языка и литературы   позволили мне повысить темп урока, сократить потери рабочего времени до минимума, увеличить объем самостоятельной работы, как на уроке, так и при подготовке домашних заданий, сделать урок более ярким и увлекательным.  Именно ИКТ позволили мне вместе с моими учениками  погрузиться в другой мир, увидеть языковые и литературные процессы другими глазами, стать их участниками. Компьютер обладает достаточно широкими возможностями для создания благоприятных условий для работы по осмыслению орфографического и пунктуационного правил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секрет, что в наше время ученики не очень любят читать. Как же познакомить их с содержанием  программных произведений? Здесь приходят на помощь диски с записями фильмов по их мотивам. Конечно, на уроке нет времени посмотреть фильм в полном объёме, но отдельные эпизоды всё же можно использовать  и сопоставить с авторским текстом, тем самым включить в анализ литературного произведения даже слабоуспевающих учеников, а ещё заинтересовать им ребят, предложив фильм для домашнего просмот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лагаю несколько видов работ, которые могут выполнить ученики с использованием средств  сети Интернет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иск рецензии на какое-либо литературное произведение, творчество поэта или писателя определённого литературного направ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бор картинок или фотографий по теме с комментариями к ни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бор тематических  или наиболее понравившихся стихотворений поэтов, творчество которых будет рассматриваться на предстоящем урок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щё  я использую Интернет для подбора музыкального сопровождения к урокам литературы. Не очень часто, но всё же необходимый материал я могу найти. Романсы на стихи Сергея Есенина, Ф. Тютчева, которые редко можно найти на CD дисках, единственной проблемой при использовании этого вида работы с ИКТ может являться низкая скорость Интернета, из-за которой очень трудно бывает скачать фай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0T06:11:14Z</dcterms:created>
  <dc:creator>Пользователь</dc:creator>
  <dc:description/>
  <dc:language>en-US</dc:language>
  <cp:lastModifiedBy>ДНС</cp:lastModifiedBy>
  <dcterms:modified xsi:type="dcterms:W3CDTF">2022-03-12T03:09:07Z</dcterms:modified>
  <cp:revision>6</cp:revision>
  <dc:subject/>
  <dc:title>Доклад  «Использование ИКТ на уроках русского языка и литературы»</dc:title>
</cp:coreProperties>
</file>