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925-F74C-46B5-91F7-F10C2EE0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4F3-18BF-4693-9FBA-43FE28BA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C01-3D30-40F5-ADD2-06A18AA5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CEE-5BFE-47FB-B1BE-200513D0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7FA6-6387-410E-B452-29BEABB9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C61B-6F7F-434A-9E9E-4622B347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68D1-0680-4E1A-8AF4-B3FC615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0751-C49B-4832-9444-BF50D769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124D-440C-47A5-B62D-B1753225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D343-EB90-4720-A716-48FB1A57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5B76-B46B-4BE1-8E29-0F862DCC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111-25E8-4439-9701-9DB91BFD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652E-9CB0-4B5A-B0FA-6E4A9AA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9028-267A-424F-ABD5-2F812E0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6192-55D6-41EB-AC67-4BA9FC51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5925-AE1F-49B6-A0B6-78FCDEA2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088D-9E28-49C3-9056-FE00A04C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04C-0739-48CD-95E8-2D46C133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BE9-16B1-429E-9A7F-162E7DC8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A14-CB19-4FEE-A495-E26861A8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15E-4051-4319-9B6B-DAFFB562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86F-96AC-400E-A394-E9023DF3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EFF-984E-4A66-ACD5-55FE49D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B85-C33D-451B-8FC3-95B3852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4376-B343-43C2-97E2-46D6BB1032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1E1A-0CDE-4DE2-B2B0-EB17292A02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Доклад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Использование ИКТ на уроках русского языка и литературы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6000" y="4436640"/>
            <a:ext cx="64008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ла: учитель русск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ойган Даниловна Ирг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.Кызыл-Хая,202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й опыт работы обучения орфографии и пунктуации на уроках русского языка при помощи компьютера говорит об эффективности данной технологии, что, мне кажется, объясняется следующим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к работает активно и самостоятельн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яется форма контроля знаний: ученика контролирует компьютер, тщательно проверяя и сразу же оценивая работу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яется индивидуализация и дифференциация  обучения: парные виды работы сочетаются с групповыми и индивидуальным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ученика вырабатывается умение работать, соблюдая тишину, не мешая другим, развивается его коммуникативная культу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уется иная, чем на традиционных уроках,  культура поведения учителя  - он наблюдает за ходом работы, оказывая помощь только в случае необходимости, поощряя самообразование и саморазвитие де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евизом каждого учителя сегодня  пусть станут  слова Эмиля Золя, касающиеся всех сфер нашей жизн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Единственное счастье в жизни - это постоянное стремление вперёд...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Благодарим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за внимание и участие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.Г. Белинский говорил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Без стремления к новому нет жизни, нет развития, нет прогресса». Слова эти сказаны очень  давно. Тогда о компьютерных технологиях никто и не помышлял. Но, мне кажется, эти слова о нём, о современном учителе, об учителе, который стремится вперёд,  который готов осваивать всё новое, инновационное и с успехом применять  в практике своей работ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ИКТ при обучении школьников общеобразовательным предметам в школе ведёт к повышению качества образования. Моя практика показывает, что дети на уроках русского языка и литерату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большим успехом усваивают учебный материал, если в урок включаются ИКТ;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олее значимой становится роль ИКТ  в   плане интеллектуального и эстетического развития обучаю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формируется их информационная культур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сширяется духовный, социальный, культурный кругозор де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бы организовать качественное использование ИКТ на уроке необходимо  учителю иметь  достаточную подготовку  в области использования средств ИКТ, а также должную мотивацию  по переводу учебного процесса на  современный уровен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ими целями при обучении русскому языку и литературе я вижу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мотивации об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познавательной актив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имулирование самостоятельности учащихся при подготовке к уро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у учащихся познавательную активность через умение работать с дополнительной литературой, используя возможности компьютера и сети Интерне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батывать умение самостоятельно анализировать, отбирать главное, а затем использовать на уро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ать эффективность урока, развивая мотивацию, применяя И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ормационные технологии  помогают мне не только облегчить доступ к информации, открывать возможности  вариативной учебной деятельности, её индивидуализации и дифференциации, но и позволяют по-новому, на более современном уровне организовать сам процесс обучения, построить его так, чтобы ученик был бы активным и равноправным его чл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дрение ИКТ на уроках русского языка и литературы   позволили мне повысить темп урока, сократить потери рабочего времени до минимума, увеличить объем самостоятельной работы, как на уроке, так и при подготовке домашних заданий, сделать урок более ярким и увлекательным.  Именно ИКТ позволили мне вместе с моими учениками  погрузиться в другой мир, увидеть языковые и литературные процессы другими глазами, стать их участниками. Компьютер обладает достаточно широкими возможностями для создания благоприятных условий для работы по осмыслению орфографического и пунктуационного прави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секрет, что в наше время ученики не очень любят читать. Как же познакомить их с содержанием  программных произведений? Здесь приходят на помощь диски с записями фильмов по их мотивам. Конечно, на уроке нет времени посмотреть фильм в полном объёме, но отдельные эпизоды всё же можно использовать  и сопоставить с авторским текстом, тем самым включить в анализ литературного произведения даже слабоуспевающих учеников, а ещё заинтересовать им ребят, предложив фильм для домашнего просмот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агаю несколько видов работ, которые могут выполнить ученики с использованием средств  сети Интернет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иск рецензии на какое-либо литературное произведение, творчество поэта или писателя определённого литературного направ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бор картинок или фотографий по теме с комментариями к н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бор тематических  или наиболее понравившихся стихотворений поэтов, творчество которых будет рассматриваться на предстоящем уро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ё  я использую Интернет для подбора музыкального сопровождения к урокам литературы. Не очень часто, но всё же необходимый материал я могу найти. Романсы на стихи Сергея Есенина, Ф. Тютчева, которые редко можно найти на CD дисках, единственной проблемой при использовании этого вида работы с ИКТ может являться низкая скорость Интернета, из-за которой очень трудно бывает скачать фай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06:11:14Z</dcterms:created>
  <dc:creator>Пользователь</dc:creator>
  <dc:description/>
  <dc:language>en-US</dc:language>
  <cp:lastModifiedBy>ДНС</cp:lastModifiedBy>
  <dcterms:modified xsi:type="dcterms:W3CDTF">2022-03-12T03:09:07Z</dcterms:modified>
  <cp:revision>6</cp:revision>
  <dc:subject/>
  <dc:title>Доклад  «Использование ИКТ на уроках русского языка и литературы»</dc:title>
</cp:coreProperties>
</file>