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511-FD56-41B5-BD71-71691CF1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389-8C20-48F3-8E4C-2DD0EB93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0A7-B645-4925-A810-49287083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368-D923-4382-9E17-30F4C2DD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AB38-42EA-4246-AFA1-85A1CDCC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DE26-E861-4B6E-9244-FEEC7415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7677-5ECF-43CD-97C2-C95A61F9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798B-840A-4C99-83F0-F482344E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2C7D-330C-4623-8873-97A92005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93FA-4C93-49C7-9EE2-946C74D0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44CE-C9FF-48E4-BD61-9479A62A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049-9286-4010-B93E-B6906276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A7D9-F68B-4E30-BB2D-E7DC5DF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3BAF-95BE-49CC-8B44-8450C1B5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8616-0ADE-45DA-9269-1B1B4016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DEE0-701C-47B8-9C02-5DF50B75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6208-ED67-4AA0-9A9C-70F71EE4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9C12-0BA1-438A-8CA6-B1735483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53BD-62AA-488B-873D-BD659E35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6D52-094F-42FA-9A5A-98F58A4D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AD68-E249-4C3B-95A5-26222D5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A0A7-B5F5-4C0C-9D15-465498EC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F39-AC71-4BFF-88E8-33B9C54D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20138-3CC1-49F1-939A-A1973C7F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5B87-DD76-44AA-A325-325A0DD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E911C-3B06-4FE8-9AC3-4AA1985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ECF2-7748-4F85-AE93-81C659FD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311E-746B-4EAD-AC03-303EDF23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A57A-87EA-433B-A15A-AFA45904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C50F-B55D-4E48-924B-5CAEFAED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8FAE-D9E1-4BEE-8E05-F4CDC782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38755-B224-4D25-ACCE-2083BF03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A041-2C8D-4F50-AFC1-C85DBA61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DF4-E23A-4B38-A14B-E1192300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B8EF-6CB9-4A88-868A-15BA37E9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223E-6D5A-40F9-8338-BF39B1A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19B0-0C5E-48C0-B156-6B78CF9C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B52B-1180-4372-9679-3AF57CA2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6E006-B9E2-4E22-88FD-F26ECDCF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A635-2718-4091-9BEB-6ED5443F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AB93-E085-424D-9947-262842DE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4C80-1AA6-4547-BA87-F07A61E3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4C7E-A91E-4E96-940E-8689B770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FF4-1A13-4FCD-961C-83AB18CB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919-2D0B-4F3C-81CC-CDFB656F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BB9-DAFC-49F9-92EC-09C1946A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3A0-D6B6-4567-892F-2A97D7DD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013-E399-4347-9534-443F510A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FC0DA0B-FBB5-428A-AEC5-B4BF7357E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8F310CE-5FB8-4B63-A89E-6851A46FA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B2E26CD-E10D-4739-B29A-499193C25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EE7D291-CBB3-4B46-BBF1-74B46190B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360" cy="1684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240" cy="201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МБДОУ «Детский сад общеразвивающего вида №25»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-357120" y="2857680"/>
            <a:ext cx="9857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Чтоб в садике жилось нам друж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143680" y="4643280"/>
            <a:ext cx="2723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оспитатели 1 младшей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Животенко А.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лозова Е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Участие в акци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66434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User\Desktop\jEKq3brLTGw.jpg"/>
          <p:cNvPicPr/>
          <p:nvPr/>
        </p:nvPicPr>
        <p:blipFill>
          <a:blip r:embed="rId5"/>
          <a:stretch/>
        </p:blipFill>
        <p:spPr>
          <a:xfrm>
            <a:off x="3276720" y="1916280"/>
            <a:ext cx="2688840" cy="358740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Помощь в организации праздни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23 феврал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66434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10" descr="ao7SpbDOwKA.jpg"/>
          <p:cNvPicPr/>
          <p:nvPr/>
        </p:nvPicPr>
        <p:blipFill>
          <a:blip r:embed="rId5"/>
          <a:stretch/>
        </p:blipFill>
        <p:spPr>
          <a:xfrm>
            <a:off x="2124000" y="1989000"/>
            <a:ext cx="4535280" cy="340164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Помощь в организации праздни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8 март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66434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одержимое 8" descr="tW2Ke-HWHKc.jpg"/>
          <p:cNvPicPr/>
          <p:nvPr/>
        </p:nvPicPr>
        <p:blipFill>
          <a:blip r:embed="rId5"/>
          <a:stretch/>
        </p:blipFill>
        <p:spPr>
          <a:xfrm>
            <a:off x="2500200" y="2357280"/>
            <a:ext cx="4074840" cy="305712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Помощь в организации праздни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Маслениц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66434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C:\Users\User\Desktop\детский сад 25\1 младшая\d00XkIZe9MI.jpg"/>
          <p:cNvPicPr/>
          <p:nvPr/>
        </p:nvPicPr>
        <p:blipFill>
          <a:blip r:embed="rId5"/>
          <a:stretch/>
        </p:blipFill>
        <p:spPr>
          <a:xfrm>
            <a:off x="2411280" y="2133720"/>
            <a:ext cx="4536720" cy="400176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Игра-тренинг «Моя семья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66434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Содержимое 10" descr="KX_wGdtogyA.jpg"/>
          <p:cNvPicPr/>
          <p:nvPr/>
        </p:nvPicPr>
        <p:blipFill>
          <a:blip r:embed="rId5"/>
          <a:srcRect l="0" t="24255" r="0" b="0"/>
          <a:stretch/>
        </p:blipFill>
        <p:spPr>
          <a:xfrm>
            <a:off x="3214800" y="2214720"/>
            <a:ext cx="2871360" cy="290016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808080"/>
            </a:outerShdw>
          </a:effectLst>
        </p:spPr>
      </p:pic>
      <p:sp>
        <p:nvSpPr>
          <p:cNvPr id="265" name="Текст 9"/>
          <p:cNvSpPr/>
          <p:nvPr/>
        </p:nvSpPr>
        <p:spPr>
          <a:xfrm>
            <a:off x="2000160" y="4643280"/>
            <a:ext cx="3652560" cy="175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214280" y="1643040"/>
            <a:ext cx="66434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Содержимое 10" descr="4ez7OJ8MJ6M.jpg"/>
          <p:cNvPicPr/>
          <p:nvPr/>
        </p:nvPicPr>
        <p:blipFill>
          <a:blip r:embed="rId5"/>
          <a:stretch/>
        </p:blipFill>
        <p:spPr>
          <a:xfrm>
            <a:off x="2843280" y="1700280"/>
            <a:ext cx="3155760" cy="420804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808080"/>
            </a:outerShdw>
          </a:effectLst>
        </p:spPr>
      </p:pic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Игра «Раз фасоль ,два фасоль…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000080" y="1600200"/>
            <a:ext cx="724356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елями проведения : Ознакомление с материальными условиями жизни семьи, её психологическим климатом; Особенностями поведения ребенка в семье; Определение уровня педагогической культуры родителей; Выявление трудностей, испытываемых родителями; Изучение положительного опыта семейного воспитания с целью его распространения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Анкетирование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C:\Users\User\Desktop\детский сад 25\1 младшая\pd8z_zoEkX0.jpg"/>
          <p:cNvPicPr/>
          <p:nvPr/>
        </p:nvPicPr>
        <p:blipFill>
          <a:blip r:embed="rId5"/>
          <a:stretch/>
        </p:blipFill>
        <p:spPr>
          <a:xfrm>
            <a:off x="2286000" y="3643200"/>
            <a:ext cx="4176360" cy="249984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920" y="274680"/>
            <a:ext cx="6697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Цель работы ДОУ с семье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1357200"/>
            <a:ext cx="7272000" cy="22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Установление доверительных, партнерских отношений с родителям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Вовлечение семьи в единое образовательное пространство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Создание условий для благоприятного климата взаимодействия с родителям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920" y="274680"/>
            <a:ext cx="6768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Памятки для родителе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35953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3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C:\Users\User\Desktop\детский сад 25\1 младшая\3MxgCRkiCSo.jpg"/>
          <p:cNvPicPr/>
          <p:nvPr/>
        </p:nvPicPr>
        <p:blipFill>
          <a:blip r:embed="rId5"/>
          <a:stretch/>
        </p:blipFill>
        <p:spPr>
          <a:xfrm>
            <a:off x="2170080" y="2054160"/>
            <a:ext cx="4657320" cy="69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285920" y="1643040"/>
            <a:ext cx="35953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Стенд для родителей, папки передвижки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C:\Users\User\Desktop\детский сад 25\1 младшая\XE8cWmFpacM.jpg"/>
          <p:cNvPicPr/>
          <p:nvPr/>
        </p:nvPicPr>
        <p:blipFill>
          <a:blip r:embed="rId5"/>
          <a:srcRect l="2922" t="0" r="0" b="0"/>
          <a:stretch/>
        </p:blipFill>
        <p:spPr>
          <a:xfrm>
            <a:off x="928800" y="1643040"/>
            <a:ext cx="2999880" cy="231732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pic>
        <p:nvPicPr>
          <p:cNvPr id="193" name="Picture 10" descr="C:\Users\User\Desktop\BKnJ_RWQin4.jpg"/>
          <p:cNvPicPr/>
          <p:nvPr/>
        </p:nvPicPr>
        <p:blipFill>
          <a:blip r:embed="rId6"/>
          <a:srcRect l="0" t="23469" r="0" b="14663"/>
          <a:stretch/>
        </p:blipFill>
        <p:spPr>
          <a:xfrm>
            <a:off x="1000080" y="4071960"/>
            <a:ext cx="3644640" cy="199980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pic>
        <p:nvPicPr>
          <p:cNvPr id="194" name="Picture 9" descr="C:\Users\User\Desktop\-KqJycwn2WA.jpg"/>
          <p:cNvPicPr/>
          <p:nvPr/>
        </p:nvPicPr>
        <p:blipFill>
          <a:blip r:embed="rId7"/>
          <a:srcRect l="0" t="17390" r="2173" b="7247"/>
          <a:stretch/>
        </p:blipFill>
        <p:spPr>
          <a:xfrm>
            <a:off x="4286160" y="1643040"/>
            <a:ext cx="3551040" cy="228564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Досуговые формы работы с родителям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7200" y="1600200"/>
            <a:ext cx="6643440" cy="5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готовление поделок вместе с родителями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Содержимое 13" descr="L3UcJuIz74M.jpg"/>
          <p:cNvPicPr/>
          <p:nvPr/>
        </p:nvPicPr>
        <p:blipFill>
          <a:blip r:embed="rId5"/>
          <a:stretch/>
        </p:blipFill>
        <p:spPr>
          <a:xfrm>
            <a:off x="4500720" y="2276640"/>
            <a:ext cx="3614400" cy="337320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808080"/>
            </a:outerShdw>
          </a:effectLst>
        </p:spPr>
      </p:pic>
      <p:pic>
        <p:nvPicPr>
          <p:cNvPr id="202" name="Picture 9" descr="C:\Users\User\Desktop\Gs0np8cAqF8.jpg"/>
          <p:cNvPicPr/>
          <p:nvPr/>
        </p:nvPicPr>
        <p:blipFill>
          <a:blip r:embed="rId6"/>
          <a:stretch/>
        </p:blipFill>
        <p:spPr>
          <a:xfrm>
            <a:off x="900000" y="2349360"/>
            <a:ext cx="2974680" cy="322848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Изготовление стенгазет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Содержимое 10" descr="dj-RuzB3Ez4.jpg"/>
          <p:cNvPicPr/>
          <p:nvPr/>
        </p:nvPicPr>
        <p:blipFill>
          <a:blip r:embed="rId5"/>
          <a:srcRect l="2356" t="27955" r="-1353" b="11941"/>
          <a:stretch/>
        </p:blipFill>
        <p:spPr>
          <a:xfrm>
            <a:off x="1185840" y="1071720"/>
            <a:ext cx="4171680" cy="293328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808080"/>
            </a:outerShdw>
          </a:effectLst>
        </p:spPr>
      </p:pic>
      <p:pic>
        <p:nvPicPr>
          <p:cNvPr id="209" name="Picture 2" descr="C:\Users\User\Desktop\D1UhGZQ5_Ic.jpg"/>
          <p:cNvPicPr/>
          <p:nvPr/>
        </p:nvPicPr>
        <p:blipFill>
          <a:blip r:embed="rId6"/>
          <a:stretch/>
        </p:blipFill>
        <p:spPr>
          <a:xfrm>
            <a:off x="4429080" y="3573360"/>
            <a:ext cx="3814560" cy="286020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ручения и просьбы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66434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практике работы с семьей оправдывают себя отдельные поручения и просьбы, с которыми воспитатели обращаются к родителям: сшить национальные и профессиональные костюмы для кукол, починить игрушку, построить на участке домик для игры, помочь оформить помещение к празднику, написать статью в стенную газету и т. д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1253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Изготовление дорожек здоровь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C:\Users\User\Desktop\детский сад 25\1 младшая\vCGkm4z691o.jpg"/>
          <p:cNvPicPr/>
          <p:nvPr/>
        </p:nvPicPr>
        <p:blipFill>
          <a:blip r:embed="rId5"/>
          <a:stretch/>
        </p:blipFill>
        <p:spPr>
          <a:xfrm>
            <a:off x="1332000" y="1700280"/>
            <a:ext cx="2812680" cy="385236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pic>
        <p:nvPicPr>
          <p:cNvPr id="222" name="Picture 8" descr="C:\Users\User\Desktop\детский сад 25\1 младшая\YhljiGdMvE8.jpg"/>
          <p:cNvPicPr/>
          <p:nvPr/>
        </p:nvPicPr>
        <p:blipFill>
          <a:blip r:embed="rId6"/>
          <a:stretch/>
        </p:blipFill>
        <p:spPr>
          <a:xfrm>
            <a:off x="5651640" y="1700280"/>
            <a:ext cx="2165040" cy="388440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Изготовление скворечни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66434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C:\Users\User\Desktop\2vd1gcZfitk.jpg"/>
          <p:cNvPicPr/>
          <p:nvPr/>
        </p:nvPicPr>
        <p:blipFill>
          <a:blip r:embed="rId4"/>
          <a:stretch/>
        </p:blipFill>
        <p:spPr>
          <a:xfrm>
            <a:off x="2714760" y="1785960"/>
            <a:ext cx="2999880" cy="425736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  <Paragraphs>43</Paragraphs>
  <Company>КШИ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Елена</cp:lastModifiedBy>
  <dcterms:modified xsi:type="dcterms:W3CDTF">2022-03-29T19:09:24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910000000000010291410207f7000400038000</vt:lpwstr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