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1.gif" ContentType="image/gif"/>
  <Override PartName="/ppt/media/image9.gif" ContentType="image/gif"/>
  <Override PartName="/ppt/media/image12.gif" ContentType="image/gif"/>
  <Override PartName="/ppt/media/image15.png" ContentType="image/png"/>
  <Override PartName="/ppt/media/image7.gif" ContentType="image/gif"/>
  <Override PartName="/ppt/media/image10.gif" ContentType="image/gif"/>
  <Override PartName="/ppt/media/image20.gif" ContentType="image/gif"/>
  <Override PartName="/ppt/media/image18.jpeg" ContentType="image/jpeg"/>
  <Override PartName="/ppt/media/image3.gif" ContentType="image/gif"/>
  <Override PartName="/ppt/media/image17.gif" ContentType="image/gif"/>
  <Override PartName="/ppt/media/image16.gif" ContentType="image/gif"/>
  <Override PartName="/ppt/media/image2.png" ContentType="image/png"/>
  <Override PartName="/ppt/media/image14.gif" ContentType="image/gif"/>
  <Override PartName="/ppt/media/image19.gif" ContentType="image/gif"/>
  <Override PartName="/ppt/media/image1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795D-39E3-4B18-83A6-63BDC67E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B62-182A-4C0C-BFA7-2CA5047C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9B49-E3A1-4744-9F81-D5DA96B0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75A-0145-494E-A762-9AF349FE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F6D1-7205-4CDD-A9AA-EA1F4316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7AEB-6951-4C06-B65D-30BC7971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2018-D97A-4297-B21E-08D9A562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52AD-6010-40B9-A1B7-C713DE76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39A3-EF13-49D3-A41E-BDD4917B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2294-E566-46C6-9693-358E9BF6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659F-64C3-48F8-9DEB-917EFF7D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35F-7E69-46CF-B0DE-9148BFC5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E502-CC72-449B-A7FD-A3DB7D19A7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1258920" y="765000"/>
            <a:ext cx="7040520" cy="4194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7" descr="Бабочка!"/>
          <p:cNvPicPr/>
          <p:nvPr/>
        </p:nvPicPr>
        <p:blipFill>
          <a:blip r:embed="rId3"/>
          <a:stretch/>
        </p:blipFill>
        <p:spPr>
          <a:xfrm rot="18078600">
            <a:off x="7229880" y="1816920"/>
            <a:ext cx="1487520" cy="1225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butterfly_0011"/>
          <p:cNvPicPr/>
          <p:nvPr/>
        </p:nvPicPr>
        <p:blipFill>
          <a:blip r:embed="rId4"/>
          <a:stretch/>
        </p:blipFill>
        <p:spPr>
          <a:xfrm>
            <a:off x="1116000" y="4292640"/>
            <a:ext cx="1676520" cy="1781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butterfly_2004"/>
          <p:cNvPicPr/>
          <p:nvPr/>
        </p:nvPicPr>
        <p:blipFill>
          <a:blip r:embed="rId5"/>
          <a:stretch/>
        </p:blipFill>
        <p:spPr>
          <a:xfrm>
            <a:off x="250920" y="476280"/>
            <a:ext cx="1666800" cy="1324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path" presetID="2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 0.00801 0.011 0.01468 0.015 0.02268 C 0.02 0.01468 0.024 0.00801 0.03 0 C 0.065 -0.0467 0.107 -0.06671 0.124 -0.04536 C 0.14 -0.02268 0.125 0.03336 0.09 0.08006 C 0.084 0.08673 0.079 0.0934 0.073 0.10007 C 0.079 0.10541 0.084 0.11208 0.09 0.12008 C 0.125 0.16678 0.14 0.22282 0.124 0.24417 C 0.107 0.26685 0.065 0.24684 0.03 0.20014 C 0.024 0.19213 0.02 0.18546 0.015 0.17746 C 0.011 0.18546 0.006 0.19213 0 0.20014 C -0.035 0.24684 -0.077 0.26685 -0.094 0.24417 C -0.11 0.22282 -0.095 0.16678 -0.06 0.12008 C -0.054 0.11208 -0.049 0.10541 -0.043 0.10007 C -0.049 0.0934 -0.054 0.08673 -0.06 0.08006 C -0.095 0.03336 -0.11 -0.02268 -0.094 -0.04536 C -0.077 -0.06671 -0.035 -0.0467 0 0 Z">
                                      <p:cBhvr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687960" y="980280"/>
            <a:ext cx="83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Monotype Corsiva"/>
              </a:rPr>
              <a:t>Ex. 3. Make questions and answer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113840" y="1987920"/>
            <a:ext cx="7313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There is a book on your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There is a fish on teacher’s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There are ten pupils in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204000" y="2635920"/>
            <a:ext cx="25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Yes, there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204360" y="414900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No, there is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204000" y="5515560"/>
            <a:ext cx="309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No, there are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 rot="10800000">
            <a:off x="826920" y="1844640"/>
            <a:ext cx="2084400" cy="287280"/>
          </a:xfrm>
          <a:custGeom>
            <a:avLst/>
            <a:gdLst>
              <a:gd name="textAreaLeft" fmla="*/ 396000 w 2084400"/>
              <a:gd name="textAreaRight" fmla="*/ 1507320 w 208440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09" hR="21600" stAng="10800000" swAng="-5400000"/>
                <a:lnTo>
                  <a:pt x="11515" y="21600"/>
                </a:lnTo>
                <a:arcTo wR="8209" hR="21600" stAng="5400000" swAng="-2824095"/>
                <a:lnTo>
                  <a:pt x="21131" y="7200"/>
                </a:lnTo>
                <a:lnTo>
                  <a:pt x="18071" y="0"/>
                </a:lnTo>
                <a:lnTo>
                  <a:pt x="14073" y="7200"/>
                </a:lnTo>
                <a:lnTo>
                  <a:pt x="15949" y="7200"/>
                </a:lnTo>
                <a:arcTo wR="8209" hR="21600" stAng="2575905" swAng="2556055"/>
                <a:lnTo>
                  <a:pt x="9862" y="21158"/>
                </a:lnTo>
                <a:arcTo wR="8209" hR="21600" stAng="5668040" swAng="5131960"/>
                <a:close/>
              </a:path>
              <a:path fill="darkenLess" w="21600" h="21600">
                <a:moveTo>
                  <a:pt x="0" y="0"/>
                </a:moveTo>
                <a:arcTo wR="8209" hR="21600" stAng="10800000" swAng="-5400000"/>
                <a:lnTo>
                  <a:pt x="11515" y="21600"/>
                </a:lnTo>
                <a:arcTo wR="8209" hR="21600" stAng="5400000" swAng="268040"/>
                <a:lnTo>
                  <a:pt x="9862" y="21158"/>
                </a:lnTo>
                <a:arcTo wR="8209" hR="21600" stAng="5668040" swAng="513196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/>
          <p:cNvSpPr/>
          <p:nvPr/>
        </p:nvSpPr>
        <p:spPr>
          <a:xfrm rot="10800000">
            <a:off x="826920" y="4724280"/>
            <a:ext cx="2084400" cy="287280"/>
          </a:xfrm>
          <a:custGeom>
            <a:avLst/>
            <a:gdLst>
              <a:gd name="textAreaLeft" fmla="*/ 396000 w 2084400"/>
              <a:gd name="textAreaRight" fmla="*/ 1507320 w 208440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09" hR="21600" stAng="10800000" swAng="-5400000"/>
                <a:lnTo>
                  <a:pt x="11515" y="21600"/>
                </a:lnTo>
                <a:arcTo wR="8209" hR="21600" stAng="5400000" swAng="-2824095"/>
                <a:lnTo>
                  <a:pt x="21131" y="7200"/>
                </a:lnTo>
                <a:lnTo>
                  <a:pt x="18071" y="0"/>
                </a:lnTo>
                <a:lnTo>
                  <a:pt x="14073" y="7200"/>
                </a:lnTo>
                <a:lnTo>
                  <a:pt x="15949" y="7200"/>
                </a:lnTo>
                <a:arcTo wR="8209" hR="21600" stAng="2575905" swAng="2556055"/>
                <a:lnTo>
                  <a:pt x="9862" y="21158"/>
                </a:lnTo>
                <a:arcTo wR="8209" hR="21600" stAng="5668040" swAng="5131960"/>
                <a:close/>
              </a:path>
              <a:path fill="darkenLess" w="21600" h="21600">
                <a:moveTo>
                  <a:pt x="0" y="0"/>
                </a:moveTo>
                <a:arcTo wR="8209" hR="21600" stAng="10800000" swAng="-5400000"/>
                <a:lnTo>
                  <a:pt x="11515" y="21600"/>
                </a:lnTo>
                <a:arcTo wR="8209" hR="21600" stAng="5400000" swAng="268040"/>
                <a:lnTo>
                  <a:pt x="9862" y="21158"/>
                </a:lnTo>
                <a:arcTo wR="8209" hR="21600" stAng="5668040" swAng="513196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 rot="10800000">
            <a:off x="826920" y="3213000"/>
            <a:ext cx="2084400" cy="287280"/>
          </a:xfrm>
          <a:custGeom>
            <a:avLst/>
            <a:gdLst>
              <a:gd name="textAreaLeft" fmla="*/ 396000 w 2084400"/>
              <a:gd name="textAreaRight" fmla="*/ 1507320 w 208440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09" hR="21600" stAng="10800000" swAng="-5400000"/>
                <a:lnTo>
                  <a:pt x="11515" y="21600"/>
                </a:lnTo>
                <a:arcTo wR="8209" hR="21600" stAng="5400000" swAng="-2824095"/>
                <a:lnTo>
                  <a:pt x="21131" y="7200"/>
                </a:lnTo>
                <a:lnTo>
                  <a:pt x="18071" y="0"/>
                </a:lnTo>
                <a:lnTo>
                  <a:pt x="14073" y="7200"/>
                </a:lnTo>
                <a:lnTo>
                  <a:pt x="15949" y="7200"/>
                </a:lnTo>
                <a:arcTo wR="8209" hR="21600" stAng="2575905" swAng="2556055"/>
                <a:lnTo>
                  <a:pt x="9862" y="21158"/>
                </a:lnTo>
                <a:arcTo wR="8209" hR="21600" stAng="5668040" swAng="5131960"/>
                <a:close/>
              </a:path>
              <a:path fill="darkenLess" w="21600" h="21600">
                <a:moveTo>
                  <a:pt x="0" y="0"/>
                </a:moveTo>
                <a:arcTo wR="8209" hR="21600" stAng="10800000" swAng="-5400000"/>
                <a:lnTo>
                  <a:pt x="11515" y="21600"/>
                </a:lnTo>
                <a:arcTo wR="8209" hR="21600" stAng="5400000" swAng="268040"/>
                <a:lnTo>
                  <a:pt x="9862" y="21158"/>
                </a:lnTo>
                <a:arcTo wR="8209" hR="21600" stAng="5668040" swAng="513196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31"/>
          <p:cNvPicPr/>
          <p:nvPr/>
        </p:nvPicPr>
        <p:blipFill>
          <a:blip r:embed="rId2"/>
          <a:stretch/>
        </p:blipFill>
        <p:spPr>
          <a:xfrm>
            <a:off x="7308720" y="175572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4100"/>
                            </p:stCondLst>
                            <p:childTnLst>
                              <p:par>
                                <p:cTn id="43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dividers_94"/>
          <p:cNvPicPr/>
          <p:nvPr/>
        </p:nvPicPr>
        <p:blipFill>
          <a:blip r:embed="rId2"/>
          <a:stretch/>
        </p:blipFill>
        <p:spPr>
          <a:xfrm>
            <a:off x="2556000" y="580536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-401760" y="765000"/>
            <a:ext cx="1014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Monotype Corsiva"/>
              </a:rPr>
              <a:t>Ex. </a:t>
            </a:r>
            <a:r>
              <a:rPr b="0" lang="ru-RU" sz="3200" spc="-1" strike="noStrike">
                <a:solidFill>
                  <a:srgbClr val="d60093"/>
                </a:solidFill>
                <a:latin typeface="Monotype Corsiva"/>
              </a:rPr>
              <a:t>4</a:t>
            </a:r>
            <a:r>
              <a:rPr b="0" lang="en-US" sz="3200" spc="-1" strike="noStrike">
                <a:solidFill>
                  <a:srgbClr val="d60093"/>
                </a:solidFill>
                <a:latin typeface="Monotype Corsiv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Monotype Corsiva"/>
              </a:rPr>
              <a:t>Look at the picture and ask your classm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3"/>
          <a:srcRect l="13877" t="37526" r="11647" b="10751"/>
          <a:stretch/>
        </p:blipFill>
        <p:spPr>
          <a:xfrm>
            <a:off x="1835280" y="1484280"/>
            <a:ext cx="5398920" cy="35672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684360" y="5157720"/>
            <a:ext cx="79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Is there… 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?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 Are there… 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?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 What is there…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7000"/>
                            </p:stCondLst>
                            <p:childTnLst>
                              <p:par>
                                <p:cTn id="4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206280" y="765000"/>
            <a:ext cx="83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Monotype Corsiva"/>
              </a:rPr>
              <a:t>Ex. 5.</a:t>
            </a:r>
            <a:r>
              <a:rPr b="1" lang="en-US" sz="3200" spc="-1" strike="noStrike">
                <a:solidFill>
                  <a:srgbClr val="00cc00"/>
                </a:solidFill>
                <a:latin typeface="Monotype Corsiva"/>
              </a:rPr>
              <a:t> Make</a:t>
            </a:r>
            <a:r>
              <a:rPr b="0" lang="en-US" sz="3200" spc="-1" strike="noStrike">
                <a:solidFill>
                  <a:srgbClr val="00cc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Monotype Corsiva"/>
              </a:rPr>
              <a:t>sentences</a:t>
            </a:r>
            <a:r>
              <a:rPr b="0" lang="en-US" sz="3200" spc="-1" strike="noStrike">
                <a:solidFill>
                  <a:srgbClr val="00cc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Monotype Corsiva"/>
              </a:rPr>
              <a:t>from these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995640" y="5444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2050920" y="2852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333440" y="15573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836360" y="1484280"/>
            <a:ext cx="12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3205080" y="1989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3781440" y="14842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4356720" y="206064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2052360" y="2205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5005080" y="148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6086520" y="1773360"/>
            <a:ext cx="10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8102520" y="1557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1333440" y="31417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7"/>
          <p:cNvSpPr/>
          <p:nvPr/>
        </p:nvSpPr>
        <p:spPr>
          <a:xfrm>
            <a:off x="2628720" y="3429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8"/>
          <p:cNvSpPr/>
          <p:nvPr/>
        </p:nvSpPr>
        <p:spPr>
          <a:xfrm>
            <a:off x="3709440" y="350028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"/>
          <p:cNvSpPr/>
          <p:nvPr/>
        </p:nvSpPr>
        <p:spPr>
          <a:xfrm>
            <a:off x="4645440" y="3068640"/>
            <a:ext cx="4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5364000" y="357336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5437080" y="29242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2"/>
          <p:cNvSpPr/>
          <p:nvPr/>
        </p:nvSpPr>
        <p:spPr>
          <a:xfrm>
            <a:off x="6373440" y="3141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3"/>
          <p:cNvSpPr/>
          <p:nvPr/>
        </p:nvSpPr>
        <p:spPr>
          <a:xfrm>
            <a:off x="6733800" y="3716280"/>
            <a:ext cx="11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4"/>
          <p:cNvSpPr/>
          <p:nvPr/>
        </p:nvSpPr>
        <p:spPr>
          <a:xfrm>
            <a:off x="8318520" y="306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333440" y="46530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6"/>
          <p:cNvSpPr/>
          <p:nvPr/>
        </p:nvSpPr>
        <p:spPr>
          <a:xfrm>
            <a:off x="2124720" y="458136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7"/>
          <p:cNvSpPr/>
          <p:nvPr/>
        </p:nvSpPr>
        <p:spPr>
          <a:xfrm>
            <a:off x="3421080" y="44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8"/>
          <p:cNvSpPr/>
          <p:nvPr/>
        </p:nvSpPr>
        <p:spPr>
          <a:xfrm>
            <a:off x="428616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9"/>
          <p:cNvSpPr/>
          <p:nvPr/>
        </p:nvSpPr>
        <p:spPr>
          <a:xfrm>
            <a:off x="4429080" y="4653000"/>
            <a:ext cx="117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0"/>
          <p:cNvSpPr/>
          <p:nvPr/>
        </p:nvSpPr>
        <p:spPr>
          <a:xfrm>
            <a:off x="2845080" y="5300640"/>
            <a:ext cx="4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1"/>
          <p:cNvSpPr/>
          <p:nvPr/>
        </p:nvSpPr>
        <p:spPr>
          <a:xfrm>
            <a:off x="8102520" y="4581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2" descr="dividers_2000"/>
          <p:cNvPicPr/>
          <p:nvPr/>
        </p:nvPicPr>
        <p:blipFill>
          <a:blip r:embed="rId2"/>
          <a:stretch/>
        </p:blipFill>
        <p:spPr>
          <a:xfrm>
            <a:off x="611280" y="2781360"/>
            <a:ext cx="3809880" cy="181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3" descr="dividers_2000"/>
          <p:cNvPicPr/>
          <p:nvPr/>
        </p:nvPicPr>
        <p:blipFill>
          <a:blip r:embed="rId3"/>
          <a:stretch/>
        </p:blipFill>
        <p:spPr>
          <a:xfrm>
            <a:off x="4643280" y="4221000"/>
            <a:ext cx="3810240" cy="181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4" descr="dividers_2000"/>
          <p:cNvPicPr/>
          <p:nvPr/>
        </p:nvPicPr>
        <p:blipFill>
          <a:blip r:embed="rId4"/>
          <a:stretch/>
        </p:blipFill>
        <p:spPr>
          <a:xfrm>
            <a:off x="2700360" y="5950080"/>
            <a:ext cx="3809880" cy="180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7" descr="butterfly_20040"/>
          <p:cNvPicPr/>
          <p:nvPr/>
        </p:nvPicPr>
        <p:blipFill>
          <a:blip r:embed="rId5"/>
          <a:stretch/>
        </p:blipFill>
        <p:spPr>
          <a:xfrm>
            <a:off x="7093080" y="4941720"/>
            <a:ext cx="1733400" cy="1622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08 -0.02108 L -0.29618 -0.06324 E">
                                      <p:cBhvr>
                                        <p:cTn id="510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85 -0.00023 L -0.1993 0.02085 E">
                                      <p:cBhvr>
                                        <p:cTn id="513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4000"/>
                            </p:stCondLst>
                            <p:childTnLst>
                              <p:par>
                                <p:cTn id="5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4.45217E-006 L 0.18906 -0.08408 E">
                                      <p:cBhvr>
                                        <p:cTn id="516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6000"/>
                            </p:stCondLst>
                            <p:childTnLst>
                              <p:par>
                                <p:cTn id="5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9849E-006 L 0.27552 0.02085 E">
                                      <p:cBhvr>
                                        <p:cTn id="519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000"/>
                            </p:stCondLst>
                            <p:childTnLst>
                              <p:par>
                                <p:cTn id="5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74 0.02084 L 0.25365 -0.05282 E">
                                      <p:cBhvr>
                                        <p:cTn id="52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08 -0.02107 L 0.25382 0.02085 E">
                                      <p:cBhvr>
                                        <p:cTn id="525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5.54783E-006 L 0.10243 -0.02107 E">
                                      <p:cBhvr>
                                        <p:cTn id="528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07 -0.00023 L -0.51545 -0.00023 E">
                                      <p:cBhvr>
                                        <p:cTn id="53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77 -0.0315 L -0.50938 -0.08408 E">
                                      <p:cBhvr>
                                        <p:cTn id="535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4000"/>
                            </p:stCondLst>
                            <p:childTnLst>
                              <p:par>
                                <p:cTn id="5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41 3.62984E-006 L 0.04861 -0.04216 E">
                                      <p:cBhvr>
                                        <p:cTn id="53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6000"/>
                            </p:stCondLst>
                            <p:childTnLst>
                              <p:par>
                                <p:cTn id="5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0.02085 L 0.14965 0.04193 E">
                                      <p:cBhvr>
                                        <p:cTn id="541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3 0.01042 L 0.18889 -0.05258 E">
                                      <p:cBhvr>
                                        <p:cTn id="544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15 -0.0315 L 0.20903 0.01043 E">
                                      <p:cBhvr>
                                        <p:cTn id="547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82 -0.0315 L 0.17188 0.03151 E">
                                      <p:cBhvr>
                                        <p:cTn id="550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886 0.03127 L 0.24792 -0.06324 E">
                                      <p:cBhvr>
                                        <p:cTn id="553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427 0.01043 L -0.06788 0.02108 E">
                                      <p:cBhvr>
                                        <p:cTn id="557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84 0.03127 L -0.12847 0.05235 E">
                                      <p:cBhvr>
                                        <p:cTn id="560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1042 L 0.03282 0.04193 E">
                                      <p:cBhvr>
                                        <p:cTn id="563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6000"/>
                            </p:stCondLst>
                            <p:childTnLst>
                              <p:par>
                                <p:cTn id="5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96 -0.0315 L 0.35087 -0.08408 E">
                                      <p:cBhvr>
                                        <p:cTn id="56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8000"/>
                            </p:stCondLst>
                            <p:childTnLst>
                              <p:par>
                                <p:cTn id="5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-0.01065 L 0.2757 -0.10516 E">
                                      <p:cBhvr>
                                        <p:cTn id="569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1114560" y="907920"/>
            <a:ext cx="66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6d29"/>
                </a:solidFill>
                <a:latin typeface="Monotype Corsiva"/>
              </a:rPr>
              <a:t>Ex. 6.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What is there in the 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IMG"/>
          <p:cNvPicPr/>
          <p:nvPr/>
        </p:nvPicPr>
        <p:blipFill>
          <a:blip r:embed="rId2"/>
          <a:stretch/>
        </p:blipFill>
        <p:spPr>
          <a:xfrm>
            <a:off x="2411280" y="1773360"/>
            <a:ext cx="4032360" cy="38829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3"/>
          <p:cNvSpPr/>
          <p:nvPr/>
        </p:nvSpPr>
        <p:spPr>
          <a:xfrm rot="3100800">
            <a:off x="1963080" y="1716840"/>
            <a:ext cx="376200" cy="342720"/>
          </a:xfrm>
          <a:custGeom>
            <a:avLst/>
            <a:gdLst>
              <a:gd name="textAreaLeft" fmla="*/ 2520 w 376200"/>
              <a:gd name="textAreaRight" fmla="*/ 373680 w 376200"/>
              <a:gd name="textAreaTop" fmla="*/ 150840 h 342720"/>
              <a:gd name="textAreaBottom" fmla="*/ 191880 h 342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276"/>
                </a:lnTo>
                <a:lnTo>
                  <a:pt x="9507" y="276"/>
                </a:lnTo>
                <a:lnTo>
                  <a:pt x="9507" y="9507"/>
                </a:lnTo>
                <a:lnTo>
                  <a:pt x="276" y="9507"/>
                </a:lnTo>
                <a:lnTo>
                  <a:pt x="276" y="8640"/>
                </a:lnTo>
                <a:lnTo>
                  <a:pt x="0" y="10800"/>
                </a:lnTo>
                <a:lnTo>
                  <a:pt x="276" y="12960"/>
                </a:lnTo>
                <a:lnTo>
                  <a:pt x="276" y="12093"/>
                </a:lnTo>
                <a:lnTo>
                  <a:pt x="9507" y="12093"/>
                </a:lnTo>
                <a:lnTo>
                  <a:pt x="9507" y="21324"/>
                </a:lnTo>
                <a:lnTo>
                  <a:pt x="8640" y="21324"/>
                </a:lnTo>
                <a:lnTo>
                  <a:pt x="10800" y="21600"/>
                </a:lnTo>
                <a:lnTo>
                  <a:pt x="12960" y="21324"/>
                </a:lnTo>
                <a:lnTo>
                  <a:pt x="12093" y="21324"/>
                </a:lnTo>
                <a:lnTo>
                  <a:pt x="12093" y="12093"/>
                </a:lnTo>
                <a:lnTo>
                  <a:pt x="21324" y="12093"/>
                </a:lnTo>
                <a:lnTo>
                  <a:pt x="21324" y="12960"/>
                </a:lnTo>
                <a:lnTo>
                  <a:pt x="21600" y="10800"/>
                </a:lnTo>
                <a:lnTo>
                  <a:pt x="21324" y="8640"/>
                </a:lnTo>
                <a:lnTo>
                  <a:pt x="21324" y="9507"/>
                </a:lnTo>
                <a:lnTo>
                  <a:pt x="12093" y="9507"/>
                </a:lnTo>
                <a:lnTo>
                  <a:pt x="12093" y="276"/>
                </a:lnTo>
                <a:lnTo>
                  <a:pt x="12960" y="27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 anchorCtr="1" rot="10800000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 rot="3100800">
            <a:off x="4268160" y="4669560"/>
            <a:ext cx="376200" cy="342720"/>
          </a:xfrm>
          <a:custGeom>
            <a:avLst/>
            <a:gdLst>
              <a:gd name="textAreaLeft" fmla="*/ 2520 w 376200"/>
              <a:gd name="textAreaRight" fmla="*/ 373680 w 376200"/>
              <a:gd name="textAreaTop" fmla="*/ 150840 h 342720"/>
              <a:gd name="textAreaBottom" fmla="*/ 191880 h 342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276"/>
                </a:lnTo>
                <a:lnTo>
                  <a:pt x="9507" y="276"/>
                </a:lnTo>
                <a:lnTo>
                  <a:pt x="9507" y="9507"/>
                </a:lnTo>
                <a:lnTo>
                  <a:pt x="276" y="9507"/>
                </a:lnTo>
                <a:lnTo>
                  <a:pt x="276" y="8640"/>
                </a:lnTo>
                <a:lnTo>
                  <a:pt x="0" y="10800"/>
                </a:lnTo>
                <a:lnTo>
                  <a:pt x="276" y="12960"/>
                </a:lnTo>
                <a:lnTo>
                  <a:pt x="276" y="12093"/>
                </a:lnTo>
                <a:lnTo>
                  <a:pt x="9507" y="12093"/>
                </a:lnTo>
                <a:lnTo>
                  <a:pt x="9507" y="21324"/>
                </a:lnTo>
                <a:lnTo>
                  <a:pt x="8640" y="21324"/>
                </a:lnTo>
                <a:lnTo>
                  <a:pt x="10800" y="21600"/>
                </a:lnTo>
                <a:lnTo>
                  <a:pt x="12960" y="21324"/>
                </a:lnTo>
                <a:lnTo>
                  <a:pt x="12093" y="21324"/>
                </a:lnTo>
                <a:lnTo>
                  <a:pt x="12093" y="12093"/>
                </a:lnTo>
                <a:lnTo>
                  <a:pt x="21324" y="12093"/>
                </a:lnTo>
                <a:lnTo>
                  <a:pt x="21324" y="12960"/>
                </a:lnTo>
                <a:lnTo>
                  <a:pt x="21600" y="10800"/>
                </a:lnTo>
                <a:lnTo>
                  <a:pt x="21324" y="8640"/>
                </a:lnTo>
                <a:lnTo>
                  <a:pt x="21324" y="9507"/>
                </a:lnTo>
                <a:lnTo>
                  <a:pt x="12093" y="9507"/>
                </a:lnTo>
                <a:lnTo>
                  <a:pt x="12093" y="276"/>
                </a:lnTo>
                <a:lnTo>
                  <a:pt x="12960" y="27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 anchorCtr="1" rot="10800000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 rot="3100800">
            <a:off x="2970720" y="2940480"/>
            <a:ext cx="376200" cy="343080"/>
          </a:xfrm>
          <a:custGeom>
            <a:avLst/>
            <a:gdLst>
              <a:gd name="textAreaLeft" fmla="*/ 2520 w 376200"/>
              <a:gd name="textAreaRight" fmla="*/ 373680 w 376200"/>
              <a:gd name="textAreaTop" fmla="*/ 150840 h 343080"/>
              <a:gd name="textAreaBottom" fmla="*/ 192240 h 343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276"/>
                </a:lnTo>
                <a:lnTo>
                  <a:pt x="9507" y="276"/>
                </a:lnTo>
                <a:lnTo>
                  <a:pt x="9507" y="9507"/>
                </a:lnTo>
                <a:lnTo>
                  <a:pt x="276" y="9507"/>
                </a:lnTo>
                <a:lnTo>
                  <a:pt x="276" y="8640"/>
                </a:lnTo>
                <a:lnTo>
                  <a:pt x="0" y="10800"/>
                </a:lnTo>
                <a:lnTo>
                  <a:pt x="276" y="12960"/>
                </a:lnTo>
                <a:lnTo>
                  <a:pt x="276" y="12093"/>
                </a:lnTo>
                <a:lnTo>
                  <a:pt x="9507" y="12093"/>
                </a:lnTo>
                <a:lnTo>
                  <a:pt x="9507" y="21324"/>
                </a:lnTo>
                <a:lnTo>
                  <a:pt x="8640" y="21324"/>
                </a:lnTo>
                <a:lnTo>
                  <a:pt x="10800" y="21600"/>
                </a:lnTo>
                <a:lnTo>
                  <a:pt x="12960" y="21324"/>
                </a:lnTo>
                <a:lnTo>
                  <a:pt x="12093" y="21324"/>
                </a:lnTo>
                <a:lnTo>
                  <a:pt x="12093" y="12093"/>
                </a:lnTo>
                <a:lnTo>
                  <a:pt x="21324" y="12093"/>
                </a:lnTo>
                <a:lnTo>
                  <a:pt x="21324" y="12960"/>
                </a:lnTo>
                <a:lnTo>
                  <a:pt x="21600" y="10800"/>
                </a:lnTo>
                <a:lnTo>
                  <a:pt x="21324" y="8640"/>
                </a:lnTo>
                <a:lnTo>
                  <a:pt x="21324" y="9507"/>
                </a:lnTo>
                <a:lnTo>
                  <a:pt x="12093" y="9507"/>
                </a:lnTo>
                <a:lnTo>
                  <a:pt x="12093" y="276"/>
                </a:lnTo>
                <a:lnTo>
                  <a:pt x="12960" y="27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 anchorCtr="1" rot="10800000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04720" y="620640"/>
            <a:ext cx="84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onotype Corsiva"/>
              </a:rPr>
              <a:t>Ex. 7. Find mistakes and correct them.</a:t>
            </a:r>
            <a:r>
              <a:rPr b="0" lang="en-US" sz="3600" spc="-1" strike="noStrike">
                <a:solidFill>
                  <a:srgbClr val="6491ba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468360" y="1558800"/>
            <a:ext cx="8772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92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a sofa in the room and two little lamps on the w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here is no a little brown coffee-table in our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at there is on the flo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How many children is there in the y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here are two bedrooms, a living-room, a bathroom and a kitchen in the fl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1909440" y="1125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1"/>
          <p:cNvSpPr/>
          <p:nvPr/>
        </p:nvSpPr>
        <p:spPr>
          <a:xfrm rot="5400000">
            <a:off x="2412000" y="2996280"/>
            <a:ext cx="358920" cy="1224000"/>
          </a:xfrm>
          <a:custGeom>
            <a:avLst/>
            <a:gdLst>
              <a:gd name="textAreaLeft" fmla="*/ 47880 w 358920"/>
              <a:gd name="textAreaRight" fmla="*/ 311040 w 3589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4068360" y="407664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4501800" y="595008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2411280" y="1700280"/>
            <a:ext cx="48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Monotype Corsiva"/>
              </a:rPr>
              <a:t>The lesson is ov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Monotype Corsiva"/>
              </a:rPr>
              <a:t>        </a:t>
            </a:r>
            <a:r>
              <a:rPr b="1" lang="en-US" sz="4400" spc="-1" strike="noStrike">
                <a:solidFill>
                  <a:srgbClr val="00cc00"/>
                </a:solidFill>
                <a:latin typeface="Monotype Corsiva"/>
              </a:rPr>
              <a:t>Goodb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backgrounds_100022"/>
          <p:cNvPicPr/>
          <p:nvPr/>
        </p:nvPicPr>
        <p:blipFill>
          <a:blip r:embed="rId2"/>
          <a:stretch/>
        </p:blipFill>
        <p:spPr>
          <a:xfrm>
            <a:off x="2340000" y="2421000"/>
            <a:ext cx="2039760" cy="244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butterfly_20024"/>
          <p:cNvPicPr/>
          <p:nvPr/>
        </p:nvPicPr>
        <p:blipFill>
          <a:blip r:embed="rId3"/>
          <a:stretch/>
        </p:blipFill>
        <p:spPr>
          <a:xfrm>
            <a:off x="5508720" y="3068640"/>
            <a:ext cx="2666880" cy="2847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Рисунок1"/>
          <p:cNvPicPr/>
          <p:nvPr/>
        </p:nvPicPr>
        <p:blipFill>
          <a:blip r:embed="rId2"/>
          <a:stretch/>
        </p:blipFill>
        <p:spPr>
          <a:xfrm>
            <a:off x="3059280" y="3068640"/>
            <a:ext cx="617400" cy="901800"/>
          </a:xfrm>
          <a:prstGeom prst="rect">
            <a:avLst/>
          </a:prstGeom>
          <a:ln w="9360">
            <a:solidFill>
              <a:srgbClr val="0f733c"/>
            </a:solidFill>
            <a:miter/>
          </a:ln>
        </p:spPr>
      </p:pic>
      <p:pic>
        <p:nvPicPr>
          <p:cNvPr id="48" name="Picture 7" descr="Детки"/>
          <p:cNvPicPr/>
          <p:nvPr/>
        </p:nvPicPr>
        <p:blipFill>
          <a:blip r:embed="rId3"/>
          <a:stretch/>
        </p:blipFill>
        <p:spPr>
          <a:xfrm>
            <a:off x="5148360" y="4365720"/>
            <a:ext cx="971280" cy="100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12"/>
          <p:cNvSpPr txBox="1"/>
          <p:nvPr/>
        </p:nvSpPr>
        <p:spPr>
          <a:xfrm>
            <a:off x="1908000" y="620640"/>
            <a:ext cx="568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Образование утвердительных </a:t>
            </a:r>
            <a:endParaRPr b="1" i="1" lang="en-US" sz="40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предложений</a:t>
            </a:r>
            <a:endParaRPr b="1" i="1" lang="en-US" sz="40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755640" y="148428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твердительное предложение, которое начинается с обстоятельства места (</a:t>
            </a:r>
            <a:r>
              <a:rPr b="1" i="1" lang="ru-RU" sz="2400" spc="-1" strike="noStrike">
                <a:solidFill>
                  <a:srgbClr val="d60093"/>
                </a:solidFill>
                <a:latin typeface="Times New Roman"/>
              </a:rPr>
              <a:t>где?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),в английском языке начинается с конструк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Arial"/>
              </a:rPr>
              <a:t>There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d60093"/>
                </a:solidFill>
                <a:latin typeface="Arial"/>
              </a:rPr>
              <a:t>There ar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827280" y="321300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i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900000" y="40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комнате ребён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1" i="1" lang="en-US" sz="2400" spc="-1" strike="noStrike">
                <a:solidFill>
                  <a:srgbClr val="d60093"/>
                </a:solidFill>
                <a:latin typeface="Arial"/>
              </a:rPr>
              <a:t>i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a child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2770920" y="4554360"/>
            <a:ext cx="215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ar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7"/>
          <p:cNvSpPr/>
          <p:nvPr/>
        </p:nvSpPr>
        <p:spPr>
          <a:xfrm>
            <a:off x="824760" y="54435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комнате дет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1" i="1" lang="en-US" sz="2400" spc="-1" strike="noStrike">
                <a:solidFill>
                  <a:srgbClr val="d60093"/>
                </a:solidFill>
                <a:latin typeface="Arial"/>
              </a:rPr>
              <a:t>are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childre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room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971640" y="836640"/>
            <a:ext cx="77040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английское предложение начинается с конструкции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There i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There</a:t>
            </a:r>
            <a:r>
              <a:rPr b="1" i="1" lang="ru-RU" sz="28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are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русский язык такое предложение следует переводить начиная с кон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60093"/>
                </a:solidFill>
                <a:latin typeface="Times New Roman"/>
              </a:rPr>
              <a:t>There ar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four books in the bag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 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d60093"/>
                </a:solidFill>
                <a:latin typeface="Times New Roman"/>
              </a:rPr>
              <a:t>В сумк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четыре книг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в предложении несколько подлежащих, то выбор формы глагола (</a:t>
            </a:r>
            <a:r>
              <a:rPr b="1" i="1" lang="en-US" sz="2400" spc="-1" strike="noStrike">
                <a:solidFill>
                  <a:srgbClr val="d60093"/>
                </a:solidFill>
                <a:latin typeface="Times New Roman"/>
              </a:rPr>
              <a:t>i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1" i="1" lang="en-US" sz="2400" spc="-1" strike="noStrike">
                <a:solidFill>
                  <a:srgbClr val="d60093"/>
                </a:solidFill>
                <a:latin typeface="Times New Roman"/>
              </a:rPr>
              <a:t>ar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определяется тем подлежащим, которое стоит пер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1" i="1" lang="en-US" sz="2400" spc="-1" strike="noStrike">
                <a:solidFill>
                  <a:srgbClr val="d60093"/>
                </a:solidFill>
                <a:latin typeface="Times New Roman"/>
              </a:rPr>
              <a:t>i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 p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two books and a pencil in the bag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1" i="1" lang="en-US" sz="2400" spc="-1" strike="noStrike">
                <a:solidFill>
                  <a:srgbClr val="d60093"/>
                </a:solidFill>
                <a:latin typeface="Times New Roman"/>
              </a:rPr>
              <a:t>ar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wo book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pen and a pencil in the ba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7" descr="Бабочка!"/>
          <p:cNvPicPr/>
          <p:nvPr/>
        </p:nvPicPr>
        <p:blipFill>
          <a:blip r:embed="rId2"/>
          <a:stretch/>
        </p:blipFill>
        <p:spPr>
          <a:xfrm rot="19843200">
            <a:off x="2476440" y="2068200"/>
            <a:ext cx="911160" cy="750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Бабочка!"/>
          <p:cNvPicPr/>
          <p:nvPr/>
        </p:nvPicPr>
        <p:blipFill>
          <a:blip r:embed="rId3"/>
          <a:stretch/>
        </p:blipFill>
        <p:spPr>
          <a:xfrm rot="1701600">
            <a:off x="178920" y="5516280"/>
            <a:ext cx="1343160" cy="1106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93 0.00139 C -0.02326 -0.00232 -0.01354 0.00324 -0.0191 -0.00417 C -0.02083 -0.00649 -0.02535 -0.00973 -0.02535 -0.0095 C -0.02882 -0.00927 -0.03247 -0.00973 -0.03594 -0.00834 C -0.04219 -0.00579 -0.04757 0.00417 -0.05174 0.00996 C -0.05538 0.01505 -0.05642 0.02548 -0.06233 0.02803 C -0.06701 0.03011 -0.07118 0.03312 -0.07587 0.03521 C -0.07934 0.03474 -0.08333 0.03613 -0.08646 0.03382 C -0.08837 0.0322 -0.08854 0.02525 -0.08854 0.02548 C -0.08785 0.02108 -0.0875 0.01668 -0.08646 0.01274 C -0.08438 0.0044 -0.07899 -0.00255 -0.07691 -0.01112 C -0.0776 -0.02155 -0.07795 -0.03127 -0.08646 -0.03498 C -0.09149 -0.03984 -0.09392 -0.041 -0.10017 -0.03938 C -0.10243 -0.03614 -0.10538 -0.03405 -0.10747 -0.03081 C -0.10816 -0.02965 -0.10781 -0.0278 -0.10851 -0.02664 C -0.11059 -0.02247 -0.11372 -0.01946 -0.11597 -0.01552 C -0.11806 -0.00672 -0.11632 -0.01228 -0.12326 2.43224E-006 C -0.12639 0.00533 -0.12882 0.01135 -0.13177 0.01691 C -0.13368 0.02038 -0.1441 0.02525 -0.14757 0.02664 C -0.15278 0.02617 -0.15816 0.0264 -0.16337 0.02525 C -0.17205 0.02339 -0.17847 -0.00186 -0.18438 -0.00973 C -0.18872 -0.0278 -0.18368 -0.0505 -0.17587 -0.06602 C -0.17622 -0.08988 -0.17622 -0.11374 -0.17691 -0.1376 C -0.17708 -0.142 -0.17951 -0.14571 -0.18125 -0.14895 C -0.1901 -0.16493 -0.20313 -0.17489 -0.21701 -0.18115 C -0.2217 -0.19366 -0.21615 -0.18115 -0.22222 -0.18949 C -0.22795 -0.19736 -0.22135 -0.19041 -0.22535 -0.19806 C -0.22691 -0.20107 -0.22969 -0.20315 -0.23177 -0.20501 C -0.23316 -0.20779 -0.23507 -0.21335 -0.23802 -0.21335 E">
                                      <p:cBhvr>
                                        <p:cTn id="62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99 -0.01622 C 0.04583 -0.03498 0.06961 -0.04332 0.09114 -0.04726 C 0.15677 -0.04517 0.22222 -0.03822 0.28784 -0.03591 C 0.29774 -0.03753 0.30763 -0.03892 0.31736 -0.04147 C 0.33368 -0.05282 0.30868 -0.03614 0.32691 -0.04587 C 0.33732 -0.05143 0.34843 -0.05768 0.3585 -0.06393 C 0.37066 -0.07135 0.38038 -0.08316 0.39114 -0.09358 C 0.39618 -0.10494 0.40156 -0.11235 0.40486 -0.12578 C 0.40694 -0.13435 0.40937 -0.14339 0.41319 -0.15103 C 0.41441 -0.1596 0.41736 -0.16678 0.41944 -0.17489 C 0.42118 -0.18207 0.4217 -0.18833 0.42482 -0.19458 C 0.42864 -0.22099 0.45434 -0.24763 0.47309 -0.25504 C 0.47899 -0.25736 0.48524 -0.25736 0.49114 -0.25921 C 0.5059 -0.25875 0.52048 -0.25875 0.53524 -0.25782 C 0.55555 -0.25643 0.57239 -0.24624 0.59097 -0.23674 C 0.59826 -0.22724 0.60798 -0.22122 0.61527 -0.21149 C 0.62204 -0.20246 0.63055 -0.1874 0.63854 -0.18068 C 0.64479 -0.16887 0.6526 -0.15891 0.6585 -0.14686 C 0.66458 -0.13459 0.65503 -0.15335 0.66475 -0.13713 C 0.66666 -0.13389 0.66996 -0.12717 0.66996 -0.12694 C 0.67118 -0.12069 0.67395 -0.11629 0.67638 -0.11049 C 0.68211 -0.09636 0.68802 -0.08409 0.69531 -0.07112 C 0.69947 -0.0637 0.70312 -0.05513 0.70902 -0.05004 C 0.71284 -0.03984 0.70885 -0.04841 0.71736 -0.03869 C 0.72534 -0.02965 0.72517 -0.02595 0.7342 -0.02201 C 0.73975 -0.01413 0.75954 -0.01436 0.76788 -0.01205 C 0.771 -0.01251 0.77447 -0.01158 0.77743 -0.01344 C 0.7802 -0.01506 0.78368 -0.02201 0.78368 -0.02178 C 0.78697 -0.03544 0.7868 -0.04448 0.7868 -0.05977 E">
                                      <p:cBhvr>
                                        <p:cTn id="6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1332000" y="490680"/>
            <a:ext cx="67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Образование отрицательн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предло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976680" y="2420280"/>
            <a:ext cx="75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There  </a:t>
            </a:r>
            <a:r>
              <a:rPr b="0" lang="en-US" sz="4000" spc="-1" strike="noStrike">
                <a:solidFill>
                  <a:srgbClr val="d60093"/>
                </a:solidFill>
                <a:latin typeface="Times New Roman"/>
                <a:ea typeface="SimSun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a  flower  in  the  vase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2918880" y="2491920"/>
            <a:ext cx="8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SimSun"/>
              </a:rPr>
              <a:t>no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 rot="3100800">
            <a:off x="3691440" y="2653200"/>
            <a:ext cx="376200" cy="343080"/>
          </a:xfrm>
          <a:custGeom>
            <a:avLst/>
            <a:gdLst>
              <a:gd name="textAreaLeft" fmla="*/ 2520 w 376200"/>
              <a:gd name="textAreaRight" fmla="*/ 373680 w 376200"/>
              <a:gd name="textAreaTop" fmla="*/ 150840 h 343080"/>
              <a:gd name="textAreaBottom" fmla="*/ 192240 h 343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276"/>
                </a:lnTo>
                <a:lnTo>
                  <a:pt x="9507" y="276"/>
                </a:lnTo>
                <a:lnTo>
                  <a:pt x="9507" y="9507"/>
                </a:lnTo>
                <a:lnTo>
                  <a:pt x="276" y="9507"/>
                </a:lnTo>
                <a:lnTo>
                  <a:pt x="276" y="8640"/>
                </a:lnTo>
                <a:lnTo>
                  <a:pt x="0" y="10800"/>
                </a:lnTo>
                <a:lnTo>
                  <a:pt x="276" y="12960"/>
                </a:lnTo>
                <a:lnTo>
                  <a:pt x="276" y="12093"/>
                </a:lnTo>
                <a:lnTo>
                  <a:pt x="9507" y="12093"/>
                </a:lnTo>
                <a:lnTo>
                  <a:pt x="9507" y="21324"/>
                </a:lnTo>
                <a:lnTo>
                  <a:pt x="8640" y="21324"/>
                </a:lnTo>
                <a:lnTo>
                  <a:pt x="10800" y="21600"/>
                </a:lnTo>
                <a:lnTo>
                  <a:pt x="12960" y="21324"/>
                </a:lnTo>
                <a:lnTo>
                  <a:pt x="12093" y="21324"/>
                </a:lnTo>
                <a:lnTo>
                  <a:pt x="12093" y="12093"/>
                </a:lnTo>
                <a:lnTo>
                  <a:pt x="21324" y="12093"/>
                </a:lnTo>
                <a:lnTo>
                  <a:pt x="21324" y="12960"/>
                </a:lnTo>
                <a:lnTo>
                  <a:pt x="21600" y="10800"/>
                </a:lnTo>
                <a:lnTo>
                  <a:pt x="21324" y="8640"/>
                </a:lnTo>
                <a:lnTo>
                  <a:pt x="21324" y="9507"/>
                </a:lnTo>
                <a:lnTo>
                  <a:pt x="12093" y="9507"/>
                </a:lnTo>
                <a:lnTo>
                  <a:pt x="12093" y="276"/>
                </a:lnTo>
                <a:lnTo>
                  <a:pt x="12960" y="27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 anchorCtr="1" rot="10800000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1091880" y="3933000"/>
            <a:ext cx="71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  </a:t>
            </a:r>
            <a:r>
              <a:rPr b="0" lang="en-US" sz="4000" spc="-1" strike="noStrike">
                <a:solidFill>
                  <a:srgbClr val="d60093"/>
                </a:solidFill>
                <a:latin typeface="Times New Roman"/>
              </a:rPr>
              <a:t>ar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cats   on   the  roo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3494520" y="400536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SimSun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butterfly_0011"/>
          <p:cNvPicPr/>
          <p:nvPr/>
        </p:nvPicPr>
        <p:blipFill>
          <a:blip r:embed="rId2"/>
          <a:stretch/>
        </p:blipFill>
        <p:spPr>
          <a:xfrm>
            <a:off x="3995640" y="4869000"/>
            <a:ext cx="1424160" cy="1512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5"/>
          <p:cNvSpPr txBox="1"/>
          <p:nvPr/>
        </p:nvSpPr>
        <p:spPr>
          <a:xfrm>
            <a:off x="2124000" y="836640"/>
            <a:ext cx="5419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Образование общих вопросов </a:t>
            </a:r>
            <a:endParaRPr b="1" lang="en-US" sz="4000" spc="1" strike="noStrike">
              <a:ln w="0">
                <a:noFill/>
              </a:ln>
              <a:solidFill>
                <a:srgbClr val="339966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1470600" y="2204280"/>
            <a:ext cx="505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There </a:t>
            </a:r>
            <a:r>
              <a:rPr b="1" i="1" lang="en-US" sz="3200" spc="-1" strike="noStrike">
                <a:solidFill>
                  <a:srgbClr val="d60093"/>
                </a:solidFill>
                <a:latin typeface="Times New Roman"/>
                <a:ea typeface="SimSun"/>
              </a:rPr>
              <a:t>i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SimSun"/>
              </a:rPr>
              <a:t>a book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on the tabl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 rot="5400000">
            <a:off x="1547280" y="836280"/>
            <a:ext cx="792360" cy="2087640"/>
          </a:xfrm>
          <a:custGeom>
            <a:avLst/>
            <a:gdLst>
              <a:gd name="textAreaLeft" fmla="*/ 106200 w 792360"/>
              <a:gd name="textAreaRight" fmla="*/ 686160 w 792360"/>
              <a:gd name="textAreaTop" fmla="*/ 381960 h 2087640"/>
              <a:gd name="textAreaBottom" fmla="*/ 1496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5" stAng="-5400000" swAng="-5400000"/>
                <a:lnTo>
                  <a:pt x="0" y="11536"/>
                </a:lnTo>
                <a:arcTo wR="21600" hR="7905" stAng="10800000" swAng="-2572161"/>
                <a:lnTo>
                  <a:pt x="13678" y="21049"/>
                </a:lnTo>
                <a:lnTo>
                  <a:pt x="21600" y="17625"/>
                </a:lnTo>
                <a:lnTo>
                  <a:pt x="13678" y="13098"/>
                </a:lnTo>
                <a:lnTo>
                  <a:pt x="13678" y="15258"/>
                </a:lnTo>
                <a:arcTo wR="21600" hR="7905" stAng="8227839" swAng="2276013"/>
                <a:lnTo>
                  <a:pt x="577" y="9720"/>
                </a:lnTo>
                <a:arcTo wR="21600" hR="7905" stAng="-10503852" swAng="5103852"/>
                <a:close/>
              </a:path>
              <a:path fill="darkenLess" w="21600" h="21600">
                <a:moveTo>
                  <a:pt x="21600" y="0"/>
                </a:moveTo>
                <a:arcTo wR="21600" hR="7905" stAng="-5400000" swAng="-5400000"/>
                <a:lnTo>
                  <a:pt x="0" y="7905"/>
                </a:lnTo>
                <a:arcTo wR="21600" hR="7905" stAng="10800000" swAng="-296148"/>
                <a:lnTo>
                  <a:pt x="577" y="9720"/>
                </a:lnTo>
                <a:arcTo wR="21600" hR="7905" stAng="-10503852" swAng="5103852"/>
                <a:close/>
              </a:path>
            </a:pathLst>
          </a:custGeom>
          <a:solidFill>
            <a:srgbClr val="ffff00"/>
          </a:solidFill>
          <a:ln w="9360">
            <a:solidFill>
              <a:srgbClr val="ffc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966600" y="2924280"/>
            <a:ext cx="50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Times New Roman"/>
                <a:ea typeface="SimSun"/>
              </a:rPr>
              <a:t>I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there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SimSun"/>
              </a:rPr>
              <a:t>a book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on the table </a:t>
            </a: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iso"/>
          <p:cNvPicPr/>
          <p:nvPr/>
        </p:nvPicPr>
        <p:blipFill>
          <a:blip r:embed="rId2"/>
          <a:stretch/>
        </p:blipFill>
        <p:spPr>
          <a:xfrm>
            <a:off x="6732720" y="4292640"/>
            <a:ext cx="1682640" cy="2016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0"/>
          <p:cNvSpPr/>
          <p:nvPr/>
        </p:nvSpPr>
        <p:spPr>
          <a:xfrm>
            <a:off x="1615320" y="4005360"/>
            <a:ext cx="54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are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hildre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n the room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897480" y="5013360"/>
            <a:ext cx="56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Ar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hildre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n the room </a:t>
            </a: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5"/>
          <p:cNvSpPr/>
          <p:nvPr/>
        </p:nvSpPr>
        <p:spPr>
          <a:xfrm rot="5400000">
            <a:off x="1763640" y="3716280"/>
            <a:ext cx="647640" cy="2232000"/>
          </a:xfrm>
          <a:custGeom>
            <a:avLst/>
            <a:gdLst>
              <a:gd name="textAreaLeft" fmla="*/ 86760 w 647640"/>
              <a:gd name="textAreaRight" fmla="*/ 560880 w 64764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8"/>
          <p:cNvSpPr/>
          <p:nvPr/>
        </p:nvSpPr>
        <p:spPr>
          <a:xfrm>
            <a:off x="1335960" y="1197000"/>
            <a:ext cx="65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60093"/>
                </a:solidFill>
                <a:latin typeface="Arial"/>
                <a:ea typeface="SimSun"/>
              </a:rPr>
              <a:t>Is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 there </a:t>
            </a:r>
            <a:r>
              <a:rPr b="1" i="1" lang="en-US" sz="3600" spc="-1" strike="noStrike">
                <a:solidFill>
                  <a:srgbClr val="3333cc"/>
                </a:solidFill>
                <a:latin typeface="Arial"/>
                <a:ea typeface="SimSun"/>
              </a:rPr>
              <a:t>a book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 on the table </a:t>
            </a:r>
            <a:r>
              <a:rPr b="1" i="1" lang="ru-RU" sz="3600" spc="-1" strike="noStrike">
                <a:solidFill>
                  <a:srgbClr val="d60093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045800" y="3500280"/>
            <a:ext cx="71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60093"/>
                </a:solidFill>
                <a:latin typeface="Arial"/>
              </a:rPr>
              <a:t>Are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children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in the room </a:t>
            </a:r>
            <a:r>
              <a:rPr b="1" i="1" lang="ru-RU" sz="3600" spc="-1" strike="noStrike">
                <a:solidFill>
                  <a:srgbClr val="d60093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477800" y="2133000"/>
            <a:ext cx="62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Yes, there </a:t>
            </a:r>
            <a:r>
              <a:rPr b="0" lang="en-US" sz="3600" spc="-1" strike="noStrike">
                <a:solidFill>
                  <a:srgbClr val="d60093"/>
                </a:solidFill>
                <a:latin typeface="Arial"/>
                <a:ea typeface="SimSu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. / No, there </a:t>
            </a:r>
            <a:r>
              <a:rPr b="0" lang="en-US" sz="3600" spc="-1" strike="noStrike">
                <a:solidFill>
                  <a:srgbClr val="d60093"/>
                </a:solidFill>
                <a:latin typeface="Arial"/>
                <a:ea typeface="SimSu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n’t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1333440" y="4723920"/>
            <a:ext cx="68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es, there </a:t>
            </a: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/ No, there </a:t>
            </a: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’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>
            <a:off x="2484360" y="1773360"/>
            <a:ext cx="358920" cy="431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>
            <a:off x="1619280" y="1773360"/>
            <a:ext cx="2232000" cy="431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>
            <a:off x="2627280" y="4149720"/>
            <a:ext cx="144360" cy="64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1403280" y="4076640"/>
            <a:ext cx="2448000" cy="792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6" descr="animal_7"/>
          <p:cNvPicPr/>
          <p:nvPr/>
        </p:nvPicPr>
        <p:blipFill>
          <a:blip r:embed="rId2"/>
          <a:stretch/>
        </p:blipFill>
        <p:spPr>
          <a:xfrm>
            <a:off x="3995640" y="54291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6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6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4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4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46836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Monotype Corsiva"/>
              </a:rPr>
              <a:t>Вопросы</a:t>
            </a:r>
            <a:r>
              <a:rPr b="1" lang="en-US" sz="3600" spc="-1" strike="noStrike">
                <a:solidFill>
                  <a:srgbClr val="336600"/>
                </a:solidFill>
                <a:latin typeface="Monotype Corsiva"/>
              </a:rPr>
              <a:t>,</a:t>
            </a:r>
            <a:r>
              <a:rPr b="1" lang="ru-RU" sz="3600" spc="-1" strike="noStrike">
                <a:solidFill>
                  <a:srgbClr val="336600"/>
                </a:solidFill>
                <a:latin typeface="Monotype Corsiva"/>
              </a:rPr>
              <a:t> начинающиеся с вопросительного слова</a:t>
            </a:r>
            <a:r>
              <a:rPr b="1" i="1" lang="ru-RU" sz="2800" spc="-1" strike="noStrike">
                <a:solidFill>
                  <a:srgbClr val="336600"/>
                </a:solidFill>
                <a:latin typeface="Monotype Corsiva"/>
              </a:rPr>
              <a:t> </a:t>
            </a:r>
            <a:r>
              <a:rPr b="1" i="1" lang="en-US" sz="2800" spc="-1" strike="noStrike">
                <a:solidFill>
                  <a:srgbClr val="336600"/>
                </a:solidFill>
                <a:latin typeface="Monotype Corsiva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Monotype Corsiva"/>
              </a:rPr>
              <a:t>w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189440" y="2205000"/>
            <a:ext cx="137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Arial"/>
              </a:rPr>
              <a:t>What</a:t>
            </a:r>
            <a:r>
              <a:rPr b="0" i="1" lang="en-US" sz="3600" spc="-1" strike="noStrike">
                <a:solidFill>
                  <a:srgbClr val="0d0d0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2486160" y="22050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060000" y="2205000"/>
            <a:ext cx="17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60093"/>
                </a:solidFill>
                <a:latin typeface="Arial"/>
              </a:rPr>
              <a:t>is</a:t>
            </a:r>
            <a:r>
              <a:rPr b="1" i="1" lang="en-US" sz="1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d60093"/>
                </a:solidFill>
                <a:latin typeface="Arial"/>
              </a:rPr>
              <a:t>t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293080" y="2205000"/>
            <a:ext cx="28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d0d0d"/>
                </a:solidFill>
                <a:latin typeface="Arial"/>
              </a:rPr>
              <a:t>on the table</a:t>
            </a:r>
            <a:r>
              <a:rPr b="0" i="1" lang="ru-RU" sz="3600" spc="-1" strike="noStrike">
                <a:solidFill>
                  <a:srgbClr val="0d0d0d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4789800" y="22050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-990720" y="3141720"/>
            <a:ext cx="111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Monotype Corsiva"/>
              </a:rPr>
              <a:t>Вопросы , начинающиеся с вопросительн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Monotype Corsiva"/>
              </a:rPr>
              <a:t>слова</a:t>
            </a:r>
            <a:r>
              <a:rPr b="1" lang="ru-RU" sz="3200" spc="-1" strike="noStrike">
                <a:solidFill>
                  <a:srgbClr val="3366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Monotype Corsiva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Monotype Corsiva"/>
              </a:rPr>
              <a:t>How ma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24360" y="486900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How 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2700720" y="4797360"/>
            <a:ext cx="13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d0d0d"/>
                </a:solidFill>
                <a:uFillTx/>
                <a:latin typeface="Arial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4285440" y="4797360"/>
            <a:ext cx="18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Arial"/>
              </a:rPr>
              <a:t>are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6373440" y="4797360"/>
            <a:ext cx="252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d0d0d"/>
                </a:solidFill>
                <a:latin typeface="Arial"/>
              </a:rPr>
              <a:t>on the table</a:t>
            </a:r>
            <a:r>
              <a:rPr b="0" i="1" lang="ru-RU" sz="3200" spc="-1" strike="noStrike">
                <a:solidFill>
                  <a:srgbClr val="0d0d0d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3926160" y="47973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2341800" y="48690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6"/>
          <p:cNvSpPr/>
          <p:nvPr/>
        </p:nvSpPr>
        <p:spPr>
          <a:xfrm>
            <a:off x="6086880" y="47973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7" descr="dividers_75"/>
          <p:cNvPicPr/>
          <p:nvPr/>
        </p:nvPicPr>
        <p:blipFill>
          <a:blip r:embed="rId2"/>
          <a:stretch/>
        </p:blipFill>
        <p:spPr>
          <a:xfrm>
            <a:off x="3203640" y="5445000"/>
            <a:ext cx="2752560" cy="863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571680" y="835920"/>
            <a:ext cx="84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Monotype Corsiva"/>
                <a:ea typeface="SimSun"/>
              </a:rPr>
              <a:t>Ex. 1. Use the right form (there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  <a:ea typeface="SimSun"/>
              </a:rPr>
              <a:t> </a:t>
            </a:r>
            <a:r>
              <a:rPr b="0" lang="en-US" sz="3600" spc="-1" strike="noStrike">
                <a:solidFill>
                  <a:srgbClr val="d60093"/>
                </a:solidFill>
                <a:latin typeface="Monotype Corsiva"/>
                <a:ea typeface="SimSun"/>
              </a:rPr>
              <a:t>is</a:t>
            </a:r>
            <a:r>
              <a:rPr b="0" lang="en-US" sz="3600" spc="-1" strike="noStrike">
                <a:solidFill>
                  <a:srgbClr val="3333cc"/>
                </a:solidFill>
                <a:latin typeface="Monotype Corsiva"/>
                <a:ea typeface="SimSun"/>
              </a:rPr>
              <a:t>/</a:t>
            </a:r>
            <a:r>
              <a:rPr b="0" lang="en-US" sz="3600" spc="-1" strike="noStrike">
                <a:solidFill>
                  <a:srgbClr val="d60093"/>
                </a:solidFill>
                <a:latin typeface="Monotype Corsiva"/>
                <a:ea typeface="SimSun"/>
              </a:rPr>
              <a:t>are</a:t>
            </a:r>
            <a:r>
              <a:rPr b="0" lang="en-US" sz="3600" spc="-1" strike="noStrike">
                <a:solidFill>
                  <a:srgbClr val="3333cc"/>
                </a:solidFill>
                <a:latin typeface="Monotype Corsiva"/>
                <a:ea typeface="SimSun"/>
              </a:rPr>
              <a:t>).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400400" y="1699200"/>
            <a:ext cx="7268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There ____ a big park in our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There  _____ three roses in the v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There ____ a pencil in the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There _____ a fox in the z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There ____ two birds on the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134160" y="1556640"/>
            <a:ext cx="6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  <a:ea typeface="SimSun"/>
              </a:rPr>
              <a:t>is</a:t>
            </a: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3134160" y="3499920"/>
            <a:ext cx="6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  <a:ea typeface="SimSun"/>
              </a:rPr>
              <a:t>is</a:t>
            </a: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3205440" y="4436640"/>
            <a:ext cx="6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  <a:ea typeface="SimSun"/>
              </a:rPr>
              <a:t>is</a:t>
            </a: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988720" y="5444640"/>
            <a:ext cx="9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  <a:ea typeface="SimSun"/>
              </a:rPr>
              <a:t>are</a:t>
            </a: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3133440" y="2565000"/>
            <a:ext cx="9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  <a:ea typeface="SimSun"/>
              </a:rPr>
              <a:t>are</a:t>
            </a: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bird6"/>
          <p:cNvPicPr/>
          <p:nvPr/>
        </p:nvPicPr>
        <p:blipFill>
          <a:blip r:embed="rId2"/>
          <a:stretch/>
        </p:blipFill>
        <p:spPr>
          <a:xfrm>
            <a:off x="7236000" y="4724280"/>
            <a:ext cx="1314360" cy="819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3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-295200" y="764640"/>
            <a:ext cx="877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Monotype Corsiva"/>
              </a:rPr>
              <a:t>Ex. 2. Make these sentences negat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85200" y="1829880"/>
            <a:ext cx="869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   is         a   dictionary    on    the   sh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re    is         a  tree    in    the   ga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re    are        seven   books   in   the   ba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here    is        a   chair   in   her  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re   are        ten    plates  in  the  cupboa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918520" y="515736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2773800" y="429192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061440" y="342864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2845440" y="263628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2845440" y="177264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 rot="3100800">
            <a:off x="3547440" y="2005560"/>
            <a:ext cx="376200" cy="342720"/>
          </a:xfrm>
          <a:custGeom>
            <a:avLst/>
            <a:gdLst>
              <a:gd name="textAreaLeft" fmla="*/ 2520 w 376200"/>
              <a:gd name="textAreaRight" fmla="*/ 373680 w 376200"/>
              <a:gd name="textAreaTop" fmla="*/ 150840 h 342720"/>
              <a:gd name="textAreaBottom" fmla="*/ 191880 h 342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276"/>
                </a:lnTo>
                <a:lnTo>
                  <a:pt x="9507" y="276"/>
                </a:lnTo>
                <a:lnTo>
                  <a:pt x="9507" y="9507"/>
                </a:lnTo>
                <a:lnTo>
                  <a:pt x="276" y="9507"/>
                </a:lnTo>
                <a:lnTo>
                  <a:pt x="276" y="8640"/>
                </a:lnTo>
                <a:lnTo>
                  <a:pt x="0" y="10800"/>
                </a:lnTo>
                <a:lnTo>
                  <a:pt x="276" y="12960"/>
                </a:lnTo>
                <a:lnTo>
                  <a:pt x="276" y="12093"/>
                </a:lnTo>
                <a:lnTo>
                  <a:pt x="9507" y="12093"/>
                </a:lnTo>
                <a:lnTo>
                  <a:pt x="9507" y="21324"/>
                </a:lnTo>
                <a:lnTo>
                  <a:pt x="8640" y="21324"/>
                </a:lnTo>
                <a:lnTo>
                  <a:pt x="10800" y="21600"/>
                </a:lnTo>
                <a:lnTo>
                  <a:pt x="12960" y="21324"/>
                </a:lnTo>
                <a:lnTo>
                  <a:pt x="12093" y="21324"/>
                </a:lnTo>
                <a:lnTo>
                  <a:pt x="12093" y="12093"/>
                </a:lnTo>
                <a:lnTo>
                  <a:pt x="21324" y="12093"/>
                </a:lnTo>
                <a:lnTo>
                  <a:pt x="21324" y="12960"/>
                </a:lnTo>
                <a:lnTo>
                  <a:pt x="21600" y="10800"/>
                </a:lnTo>
                <a:lnTo>
                  <a:pt x="21324" y="8640"/>
                </a:lnTo>
                <a:lnTo>
                  <a:pt x="21324" y="9507"/>
                </a:lnTo>
                <a:lnTo>
                  <a:pt x="12093" y="9507"/>
                </a:lnTo>
                <a:lnTo>
                  <a:pt x="12093" y="276"/>
                </a:lnTo>
                <a:lnTo>
                  <a:pt x="12960" y="27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 anchorCtr="1" rot="10800000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 rot="3100800">
            <a:off x="3618360" y="2868840"/>
            <a:ext cx="376200" cy="343080"/>
          </a:xfrm>
          <a:custGeom>
            <a:avLst/>
            <a:gdLst>
              <a:gd name="textAreaLeft" fmla="*/ 2520 w 376200"/>
              <a:gd name="textAreaRight" fmla="*/ 373680 w 376200"/>
              <a:gd name="textAreaTop" fmla="*/ 150840 h 343080"/>
              <a:gd name="textAreaBottom" fmla="*/ 192240 h 343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276"/>
                </a:lnTo>
                <a:lnTo>
                  <a:pt x="9507" y="276"/>
                </a:lnTo>
                <a:lnTo>
                  <a:pt x="9507" y="9507"/>
                </a:lnTo>
                <a:lnTo>
                  <a:pt x="276" y="9507"/>
                </a:lnTo>
                <a:lnTo>
                  <a:pt x="276" y="8640"/>
                </a:lnTo>
                <a:lnTo>
                  <a:pt x="0" y="10800"/>
                </a:lnTo>
                <a:lnTo>
                  <a:pt x="276" y="12960"/>
                </a:lnTo>
                <a:lnTo>
                  <a:pt x="276" y="12093"/>
                </a:lnTo>
                <a:lnTo>
                  <a:pt x="9507" y="12093"/>
                </a:lnTo>
                <a:lnTo>
                  <a:pt x="9507" y="21324"/>
                </a:lnTo>
                <a:lnTo>
                  <a:pt x="8640" y="21324"/>
                </a:lnTo>
                <a:lnTo>
                  <a:pt x="10800" y="21600"/>
                </a:lnTo>
                <a:lnTo>
                  <a:pt x="12960" y="21324"/>
                </a:lnTo>
                <a:lnTo>
                  <a:pt x="12093" y="21324"/>
                </a:lnTo>
                <a:lnTo>
                  <a:pt x="12093" y="12093"/>
                </a:lnTo>
                <a:lnTo>
                  <a:pt x="21324" y="12093"/>
                </a:lnTo>
                <a:lnTo>
                  <a:pt x="21324" y="12960"/>
                </a:lnTo>
                <a:lnTo>
                  <a:pt x="21600" y="10800"/>
                </a:lnTo>
                <a:lnTo>
                  <a:pt x="21324" y="8640"/>
                </a:lnTo>
                <a:lnTo>
                  <a:pt x="21324" y="9507"/>
                </a:lnTo>
                <a:lnTo>
                  <a:pt x="12093" y="9507"/>
                </a:lnTo>
                <a:lnTo>
                  <a:pt x="12093" y="276"/>
                </a:lnTo>
                <a:lnTo>
                  <a:pt x="12960" y="27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 anchorCtr="1" rot="10800000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 rot="3100800">
            <a:off x="3475440" y="4524840"/>
            <a:ext cx="376200" cy="343080"/>
          </a:xfrm>
          <a:custGeom>
            <a:avLst/>
            <a:gdLst>
              <a:gd name="textAreaLeft" fmla="*/ 2520 w 376200"/>
              <a:gd name="textAreaRight" fmla="*/ 373680 w 376200"/>
              <a:gd name="textAreaTop" fmla="*/ 150840 h 343080"/>
              <a:gd name="textAreaBottom" fmla="*/ 192240 h 343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276"/>
                </a:lnTo>
                <a:lnTo>
                  <a:pt x="9507" y="276"/>
                </a:lnTo>
                <a:lnTo>
                  <a:pt x="9507" y="9507"/>
                </a:lnTo>
                <a:lnTo>
                  <a:pt x="276" y="9507"/>
                </a:lnTo>
                <a:lnTo>
                  <a:pt x="276" y="8640"/>
                </a:lnTo>
                <a:lnTo>
                  <a:pt x="0" y="10800"/>
                </a:lnTo>
                <a:lnTo>
                  <a:pt x="276" y="12960"/>
                </a:lnTo>
                <a:lnTo>
                  <a:pt x="276" y="12093"/>
                </a:lnTo>
                <a:lnTo>
                  <a:pt x="9507" y="12093"/>
                </a:lnTo>
                <a:lnTo>
                  <a:pt x="9507" y="21324"/>
                </a:lnTo>
                <a:lnTo>
                  <a:pt x="8640" y="21324"/>
                </a:lnTo>
                <a:lnTo>
                  <a:pt x="10800" y="21600"/>
                </a:lnTo>
                <a:lnTo>
                  <a:pt x="12960" y="21324"/>
                </a:lnTo>
                <a:lnTo>
                  <a:pt x="12093" y="21324"/>
                </a:lnTo>
                <a:lnTo>
                  <a:pt x="12093" y="12093"/>
                </a:lnTo>
                <a:lnTo>
                  <a:pt x="21324" y="12093"/>
                </a:lnTo>
                <a:lnTo>
                  <a:pt x="21324" y="12960"/>
                </a:lnTo>
                <a:lnTo>
                  <a:pt x="21600" y="10800"/>
                </a:lnTo>
                <a:lnTo>
                  <a:pt x="21324" y="8640"/>
                </a:lnTo>
                <a:lnTo>
                  <a:pt x="21324" y="9507"/>
                </a:lnTo>
                <a:lnTo>
                  <a:pt x="12093" y="9507"/>
                </a:lnTo>
                <a:lnTo>
                  <a:pt x="12093" y="276"/>
                </a:lnTo>
                <a:lnTo>
                  <a:pt x="12960" y="27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 anchorCtr="1" rot="10800000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3" descr="lupa"/>
          <p:cNvPicPr/>
          <p:nvPr/>
        </p:nvPicPr>
        <p:blipFill>
          <a:blip r:embed="rId2"/>
          <a:stretch/>
        </p:blipFill>
        <p:spPr>
          <a:xfrm flipH="1" rot="21315000">
            <a:off x="7350840" y="320760"/>
            <a:ext cx="1163880" cy="1400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100"/>
                            </p:stCondLst>
                            <p:childTnLst>
                              <p:par>
                                <p:cTn id="3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5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5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5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2:44:18Z</dcterms:created>
  <dc:creator>Пользователь</dc:creator>
  <dc:description/>
  <dc:language>en-US</dc:language>
  <cp:lastModifiedBy>Пользователь Windows</cp:lastModifiedBy>
  <dcterms:modified xsi:type="dcterms:W3CDTF">2012-04-16T15:38:44Z</dcterms:modified>
  <cp:revision>26</cp:revision>
  <dc:subject/>
  <dc:title>Слайд 1</dc:title>
</cp:coreProperties>
</file>