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7D18-941D-44F1-9C66-903F5544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44AF-905B-4BCB-8921-81D7647F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AB1-4063-4D92-9E42-CFBD412B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75A-08E0-43F0-8A8D-B60C27F5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A68D-E753-4896-B3FB-5AC549A0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ED2D-476C-4B62-B96A-303F58DF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77B4-E212-4889-AD07-24BB3E34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0749-E69C-4AB1-9996-8E6B75D6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4A4C-A4F9-4E13-9069-C2C9DC4A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C5EE-9455-442D-BB75-D19CA66E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88B8-6AAD-4EB4-B88D-ED935D65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2AA1-0CF3-4731-9D5C-44B8124B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EF70-CA23-498A-86EB-D2A315A2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2281-8B7A-4191-8455-77CCEB5E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7DD3-391B-4FF2-B07F-AF5224D1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25C1-AFCB-48D0-A4DA-8B035624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89B9-7491-4A90-BFB6-DA5D4FD0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9234-6AB0-427C-AB71-C3CB5C5D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C566-E88A-4369-BDB1-E2E84862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A238-1320-42BF-B3B4-4DE37387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40E2-D64E-4D5E-9A77-6D62AC22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E733-5422-4AFC-AED6-22BF002F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08BD-D457-4088-AAFE-EABFABF4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2854-0A78-463C-94D4-2057435D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7523-9D6E-47EB-B3A6-45014505A4A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5A4E-D831-4BC4-9A91-22052B0022D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Verdana"/>
              </a:rPr>
              <a:t>To be going to…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cc0000"/>
                </a:solidFill>
                <a:latin typeface="Verdana"/>
              </a:rPr>
              <a:t>To be going to…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Verdana"/>
              </a:rPr>
              <a:t>Собираться сделать 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Verdana"/>
              </a:rPr>
              <a:t>что-либо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400" spc="-1" strike="noStrike">
                <a:solidFill>
                  <a:srgbClr val="000000"/>
                </a:solidFill>
                <a:latin typeface="Verdana"/>
              </a:rPr>
              <a:t>Глагол </a:t>
            </a:r>
            <a:r>
              <a:rPr b="1" lang="en-US" sz="6800" spc="-1" strike="noStrike">
                <a:solidFill>
                  <a:srgbClr val="000000"/>
                </a:solidFill>
                <a:latin typeface="Verdana"/>
              </a:rPr>
              <a:t>to be</a:t>
            </a:r>
            <a:endParaRPr b="0" lang="en-US" sz="6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en-US" sz="4600" spc="-1" strike="noStrike">
                <a:solidFill>
                  <a:srgbClr val="cc0000"/>
                </a:solidFill>
                <a:latin typeface="Verdana"/>
              </a:rPr>
              <a:t>am</a:t>
            </a: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          We </a:t>
            </a:r>
            <a:r>
              <a:rPr b="1" lang="en-US" sz="4600" spc="-1" strike="noStrike">
                <a:solidFill>
                  <a:srgbClr val="cc0000"/>
                </a:solidFill>
                <a:latin typeface="Verdana"/>
              </a:rPr>
              <a:t>are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You </a:t>
            </a:r>
            <a:r>
              <a:rPr b="1" lang="en-US" sz="4600" spc="-1" strike="noStrike">
                <a:solidFill>
                  <a:srgbClr val="cc0000"/>
                </a:solidFill>
                <a:latin typeface="Verdana"/>
              </a:rPr>
              <a:t>are </a:t>
            </a: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     You </a:t>
            </a:r>
            <a:r>
              <a:rPr b="1" lang="en-US" sz="4600" spc="-1" strike="noStrike">
                <a:solidFill>
                  <a:srgbClr val="cc0000"/>
                </a:solidFill>
                <a:latin typeface="Verdana"/>
              </a:rPr>
              <a:t>are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He, She, It </a:t>
            </a:r>
            <a:r>
              <a:rPr b="1" lang="en-US" sz="4600" spc="-1" strike="noStrike">
                <a:solidFill>
                  <a:srgbClr val="cc0000"/>
                </a:solidFill>
                <a:latin typeface="Verdana"/>
              </a:rPr>
              <a:t>is </a:t>
            </a: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They </a:t>
            </a:r>
            <a:r>
              <a:rPr b="1" lang="en-US" sz="4600" spc="-1" strike="noStrike">
                <a:solidFill>
                  <a:srgbClr val="cc0000"/>
                </a:solidFill>
                <a:latin typeface="Verdana"/>
              </a:rPr>
              <a:t>are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To be going to + V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1 л.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am going to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swim –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Я </a:t>
            </a: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собираюсь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плавать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2 л.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You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are going to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swim –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Ты </a:t>
            </a: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собираешься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плавать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3 л.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He, She, It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is going to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swim –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н, она, оно </a:t>
            </a: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собирается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плавать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09480" y="104940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динственное чис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Множественное число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1 л.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We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are going to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swim –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собираемся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плавать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2 л.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You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are going to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swim –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Вы </a:t>
            </a: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собираетесь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плавать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3 л.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They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are going to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swim –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ни </a:t>
            </a: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собираются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плавать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твердительное предлож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11280" y="1700280"/>
          <a:ext cx="8001000" cy="4479840"/>
        </p:xfrm>
        <a:graphic>
          <a:graphicData uri="http://schemas.openxmlformats.org/drawingml/2006/table">
            <a:tbl>
              <a:tblPr/>
              <a:tblGrid>
                <a:gridCol w="2666880"/>
                <a:gridCol w="2665440"/>
                <a:gridCol w="2668680"/>
              </a:tblGrid>
              <a:tr h="1367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ing to swim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/ She/ I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/ You/ They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просительное предлож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66640" y="1752480"/>
          <a:ext cx="8001000" cy="4399200"/>
        </p:xfrm>
        <a:graphic>
          <a:graphicData uri="http://schemas.openxmlformats.org/drawingml/2006/table">
            <a:tbl>
              <a:tblPr/>
              <a:tblGrid>
                <a:gridCol w="2667240"/>
                <a:gridCol w="2665440"/>
                <a:gridCol w="2668320"/>
              </a:tblGrid>
              <a:tr h="142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ing to swim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/ she/ i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/ you/ they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рицательное предлож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66640" y="1752480"/>
          <a:ext cx="8001000" cy="4287960"/>
        </p:xfrm>
        <a:graphic>
          <a:graphicData uri="http://schemas.openxmlformats.org/drawingml/2006/table">
            <a:tbl>
              <a:tblPr/>
              <a:tblGrid>
                <a:gridCol w="2665440"/>
                <a:gridCol w="1335240"/>
                <a:gridCol w="1333440"/>
                <a:gridCol w="2666880"/>
              </a:tblGrid>
              <a:tr h="14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ing to swim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/ She/ I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/ You/ The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free_20-pic1"/>
          <p:cNvPicPr/>
          <p:nvPr/>
        </p:nvPicPr>
        <p:blipFill>
          <a:blip r:embed="rId2"/>
          <a:stretch/>
        </p:blipFill>
        <p:spPr>
          <a:xfrm>
            <a:off x="0" y="247680"/>
            <a:ext cx="914400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9:13:09Z</dcterms:created>
  <dc:creator>User</dc:creator>
  <dc:description/>
  <dc:language>en-US</dc:language>
  <cp:lastModifiedBy>Дадашева Патимат Умаровна</cp:lastModifiedBy>
  <dcterms:modified xsi:type="dcterms:W3CDTF">2018-03-13T09:28:15Z</dcterms:modified>
  <cp:revision>3</cp:revision>
  <dc:subject/>
  <dc:title>To be going to… </dc:title>
</cp:coreProperties>
</file>