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CA2-808F-4E3F-B220-B9B99329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CEB-C6EE-4335-9457-F2648932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52C-FE4B-4AE5-AC0C-98A514B8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031-993B-4A57-B5E9-62D550B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1B1F-E86A-4E60-BC55-9E61B6C6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5CFF-DDC8-438F-AF40-3DC5413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AACA-4AD1-486D-BA7F-5FF1055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B7C-AC12-4E9D-BE85-96F031A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168B-070B-4BE7-AC43-C9FC2BE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B6EF-E645-42E5-A24A-A9E86A3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8F6D-6895-4709-A72C-BE27CB5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3AC-FC69-44A0-9966-AF47CC3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7B18-61AE-47DE-B4FE-17E26D2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808-7877-4C78-B31B-80556DB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D191-ACEB-48F3-A986-F2FBB81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0B1B-3714-4E0C-A23D-0EC52892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6B48-E1DE-4768-845D-770BF805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D690-E2CC-4E1A-98AA-49C6FBD4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CEF2-E7E0-47F4-8753-924B396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476C-C743-4D45-A87D-74F2ABF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950F-DE61-401D-ACD6-E939659D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3FB8-E2F3-49F6-AA4E-8E93F3DB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481-9806-421F-94C5-1289B60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D33C-3E3D-414C-8DF7-3E732A11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7B28-FF07-4B4B-86B5-129FBF7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98AB-845B-4A9B-AD36-A6F4949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BB92-9961-4B31-9E96-F55E52C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0206-0FA1-43B1-B147-1DB4390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DEE7-7FFD-48EE-AD7E-359BD92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930C-7B87-49C2-A742-3F08ADD5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AE6-FB6E-4804-BB00-A8C2D26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262-F010-457A-9ECC-023D4786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978-A008-4022-A1BB-0BD4526C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8C9-994F-4F90-B061-F3BF2AE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2C0-B165-4674-99D9-2F3D88BB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2BA-E239-42FC-8594-8CCC8CB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A935-28BC-4839-A0F9-F32D30FD8E2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65A-5A0A-4847-8241-89EB0853322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97C-7599-4785-BDD7-5CA4A61CEB3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19080"/>
            <a:ext cx="8727840" cy="3413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rcRect l="0" t="0" r="49" b="99"/>
          <a:stretch/>
        </p:blipFill>
        <p:spPr>
          <a:xfrm>
            <a:off x="571680" y="3571920"/>
            <a:ext cx="4000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12" b="-74"/>
          <a:stretch/>
        </p:blipFill>
        <p:spPr>
          <a:xfrm>
            <a:off x="571680" y="428760"/>
            <a:ext cx="807228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81" b="0"/>
          <a:stretch/>
        </p:blipFill>
        <p:spPr>
          <a:xfrm>
            <a:off x="428760" y="357120"/>
            <a:ext cx="828648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79" b="0"/>
          <a:stretch/>
        </p:blipFill>
        <p:spPr>
          <a:xfrm>
            <a:off x="285840" y="428760"/>
            <a:ext cx="84992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rcRect l="0" t="0" r="79" b="0"/>
          <a:stretch/>
        </p:blipFill>
        <p:spPr>
          <a:xfrm>
            <a:off x="357120" y="500040"/>
            <a:ext cx="83646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0" r="0" b="107"/>
          <a:stretch/>
        </p:blipFill>
        <p:spPr>
          <a:xfrm>
            <a:off x="500040" y="357120"/>
            <a:ext cx="82152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85840" y="642960"/>
            <a:ext cx="8572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?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окката и фуга ре мино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акая музыка?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то делает?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ичное впечатление (ассоциации)?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уть музыки?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0" r="79" b="107"/>
          <a:stretch/>
        </p:blipFill>
        <p:spPr>
          <a:xfrm>
            <a:off x="428760" y="500040"/>
            <a:ext cx="82152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Форма полифонической музыки</a:t>
            </a:r>
            <a:br>
              <a:rPr sz="26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ФУГА</a:t>
            </a:r>
            <a:br>
              <a:rPr sz="4400"/>
            </a:br>
            <a:r>
              <a:rPr b="1" i="1" lang="ru-RU" sz="2600" spc="-1" strike="noStrike">
                <a:solidFill>
                  <a:srgbClr val="c00000"/>
                </a:solidFill>
                <a:latin typeface="Times New Roman"/>
              </a:rPr>
              <a:t>(от лат. – «бег», «погоня», </a:t>
            </a:r>
            <a:br>
              <a:rPr sz="2600"/>
            </a:br>
            <a:r>
              <a:rPr b="1" i="1" lang="ru-RU" sz="2600" spc="-1" strike="noStrike">
                <a:solidFill>
                  <a:srgbClr val="c00000"/>
                </a:solidFill>
                <a:latin typeface="Times New Roman"/>
              </a:rPr>
              <a:t>«быстрое течение»)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ивысшее достижением полифонической музыки.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 фуге присутствует несколько голосов(мелодий), каждый из которых в соответствии со строгими правилами повторяет (в основном или изменённом виде) тему — короткую мелодию, проходящую через всю фуг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071720" y="714240"/>
            <a:ext cx="7500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ликий Бах, ты – музыка Вселенно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ыхание органа обузда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 XXI веке современ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будешь в человеческих сердц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ьём сольется мощное звучань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следний, торжествующий аккорд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человек – частица мирозданья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увствует бессмертия востор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0" t="0" r="79" b="115"/>
          <a:stretch/>
        </p:blipFill>
        <p:spPr>
          <a:xfrm>
            <a:off x="357120" y="642960"/>
            <a:ext cx="8321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3852720" y="781200"/>
            <a:ext cx="4803840" cy="4449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428640" y="1213920"/>
            <a:ext cx="600084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ИОГАНН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СЕБАСТЬЯН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БАХ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rcRect l="0" t="0" r="104" b="70"/>
          <a:stretch/>
        </p:blipFill>
        <p:spPr>
          <a:xfrm>
            <a:off x="285840" y="285840"/>
            <a:ext cx="4143240" cy="61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9" descr=""/>
          <p:cNvPicPr/>
          <p:nvPr/>
        </p:nvPicPr>
        <p:blipFill>
          <a:blip r:embed="rId1"/>
          <a:srcRect l="0" t="0" r="90" b="0"/>
          <a:stretch/>
        </p:blipFill>
        <p:spPr>
          <a:xfrm>
            <a:off x="357120" y="571680"/>
            <a:ext cx="8429760" cy="577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3879720" cy="371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"/>
          <p:cNvPicPr/>
          <p:nvPr/>
        </p:nvPicPr>
        <p:blipFill>
          <a:blip r:embed="rId2"/>
          <a:srcRect l="0" t="0" r="124" b="112"/>
          <a:stretch/>
        </p:blipFill>
        <p:spPr>
          <a:xfrm>
            <a:off x="5072040" y="1214280"/>
            <a:ext cx="338940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615960" y="5114880"/>
            <a:ext cx="8265960" cy="1249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2"/>
          <a:srcRect l="0" t="0" r="0" b="145"/>
          <a:stretch/>
        </p:blipFill>
        <p:spPr>
          <a:xfrm>
            <a:off x="785880" y="42876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bachsons2"/>
          <p:cNvPicPr/>
          <p:nvPr/>
        </p:nvPicPr>
        <p:blipFill>
          <a:blip r:embed="rId2"/>
          <a:stretch/>
        </p:blipFill>
        <p:spPr>
          <a:xfrm>
            <a:off x="1500120" y="1357200"/>
            <a:ext cx="650088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Картинка 36 из 28705"/>
          <p:cNvPicPr/>
          <p:nvPr/>
        </p:nvPicPr>
        <p:blipFill>
          <a:blip r:embed="rId2"/>
          <a:stretch/>
        </p:blipFill>
        <p:spPr>
          <a:xfrm>
            <a:off x="357120" y="1428840"/>
            <a:ext cx="8328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артинка 158 из 28705"/>
          <p:cNvPicPr/>
          <p:nvPr/>
        </p:nvPicPr>
        <p:blipFill>
          <a:blip r:embed="rId2"/>
          <a:stretch/>
        </p:blipFill>
        <p:spPr>
          <a:xfrm>
            <a:off x="500040" y="1643040"/>
            <a:ext cx="3429000" cy="4933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артинка 159 из 28705"/>
          <p:cNvPicPr/>
          <p:nvPr/>
        </p:nvPicPr>
        <p:blipFill>
          <a:blip r:embed="rId3"/>
          <a:stretch/>
        </p:blipFill>
        <p:spPr>
          <a:xfrm>
            <a:off x="4714920" y="1643040"/>
            <a:ext cx="33573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Картинка 237 из 28705"/>
          <p:cNvPicPr/>
          <p:nvPr/>
        </p:nvPicPr>
        <p:blipFill>
          <a:blip r:embed="rId2"/>
          <a:stretch/>
        </p:blipFill>
        <p:spPr>
          <a:xfrm>
            <a:off x="900000" y="2276640"/>
            <a:ext cx="3486240" cy="421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артинка 793 из 30988"/>
          <p:cNvPicPr/>
          <p:nvPr/>
        </p:nvPicPr>
        <p:blipFill>
          <a:blip r:embed="rId3"/>
          <a:stretch/>
        </p:blipFill>
        <p:spPr>
          <a:xfrm>
            <a:off x="4788000" y="2276640"/>
            <a:ext cx="3727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27:20Z</dcterms:created>
  <dc:creator>Oleg</dc:creator>
  <dc:description/>
  <cp:keywords/>
  <dc:language>en-US</dc:language>
  <cp:lastModifiedBy>Администратор</cp:lastModifiedBy>
  <dcterms:modified xsi:type="dcterms:W3CDTF">2018-03-11T07:01:23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260000000000010280400207e700052003a000</vt:lpwstr>
  </property>
  <property fmtid="{D5CDD505-2E9C-101B-9397-08002B2CF9AE}" pid="3" name="_TemplateID">
    <vt:lpwstr>TC010690861049</vt:lpwstr>
  </property>
</Properties>
</file>