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wmf" ContentType="image/x-wmf"/>
  <Override PartName="/ppt/media/image23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21.gif" ContentType="image/gif"/>
  <Override PartName="/ppt/media/image7.png" ContentType="image/png"/>
  <Override PartName="/ppt/media/image32.png" ContentType="image/png"/>
  <Override PartName="/ppt/media/image12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13.wmf" ContentType="image/x-wmf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35.gif" ContentType="image/gif"/>
  <Override PartName="/ppt/media/image11.png" ContentType="image/png"/>
  <Override PartName="/ppt/media/image29.png" ContentType="image/png"/>
  <Override PartName="/ppt/media/image36.gif" ContentType="image/gif"/>
  <Override PartName="/ppt/media/image3.png" ContentType="image/png"/>
  <Override PartName="/ppt/media/image26.png" ContentType="image/png"/>
  <Override PartName="/ppt/media/image33.gif" ContentType="image/gif"/>
  <Override PartName="/ppt/media/image16.png" ContentType="image/png"/>
  <Override PartName="/ppt/media/image17.png" ContentType="image/png"/>
  <Override PartName="/ppt/media/image15.wmf" ContentType="image/x-wmf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1532-B2A6-4B9A-8426-2B62EF701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E5B3-20F8-4C91-9ECE-DF02F4EEC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3729-8FB9-4223-BACD-BAA279170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E36-AB3B-46A9-B15E-D1F82BD0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ECF-701C-44D6-BCDB-35BA04A9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1A6-BE1F-4642-95F4-CA8129C4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7C2-DCFA-43A7-A271-6EE55E53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2F07A-934A-4BA1-8BDA-8D006759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29D3E-C20F-458B-85C2-0C16A086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A7ABB-13D7-44D7-A37D-72E49247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D275C-F98A-4EBB-874A-B7DC7190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443BF-6AF5-4416-B406-2C524EF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1993B-57BC-46E2-AC37-05F42948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EF5D9-8DF0-46B4-9A2D-E28FED39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065-1073-498F-B8F4-D3CE6607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F3B7F-4D83-472F-97F7-8CFF5AA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155E4-9ABB-4841-9D23-45DB211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50713-B687-4323-A5A1-77B03A90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F5BA0-DCCF-42C3-A96B-CA5A2159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26CA0-0F26-4998-AFE5-F5B9B478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14F-303A-4BEC-90D1-78216090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A5B-79F1-423F-9B34-73BE060B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798-BBD5-4641-A0E1-C20960B8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A03-EC38-4517-9FA0-CCE299F1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C58-6735-4F4F-A667-4F9CA167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A3A-DB39-4E31-97F9-B39ADAD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5DD-C173-44C9-B2E0-33635C84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D87-3FE4-482E-979F-A88E267CB8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0E3F-B6A9-4DF2-97AE-94246E29FD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13.wmf"/><Relationship Id="rId6" Type="http://schemas.openxmlformats.org/officeDocument/2006/relationships/package" Target="../embeddings/oleObject3.pptx"/><Relationship Id="rId7" Type="http://schemas.openxmlformats.org/officeDocument/2006/relationships/image" Target="../media/image14.wmf"/><Relationship Id="rId8" Type="http://schemas.openxmlformats.org/officeDocument/2006/relationships/package" Target="../embeddings/oleObject4.pptx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C:\Users\дашка\Desktop\30.01.2012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9" descr=""/>
          <p:cNvPicPr/>
          <p:nvPr/>
        </p:nvPicPr>
        <p:blipFill>
          <a:blip r:embed="rId2"/>
          <a:stretch/>
        </p:blipFill>
        <p:spPr>
          <a:xfrm>
            <a:off x="6102360" y="4681440"/>
            <a:ext cx="2120760" cy="6033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0" descr=""/>
          <p:cNvPicPr/>
          <p:nvPr/>
        </p:nvPicPr>
        <p:blipFill>
          <a:blip r:embed="rId3"/>
          <a:stretch/>
        </p:blipFill>
        <p:spPr>
          <a:xfrm>
            <a:off x="712800" y="237960"/>
            <a:ext cx="8766000" cy="3327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chool10-01"/>
          <p:cNvPicPr/>
          <p:nvPr/>
        </p:nvPicPr>
        <p:blipFill>
          <a:blip r:embed="rId4"/>
          <a:stretch/>
        </p:blipFill>
        <p:spPr>
          <a:xfrm>
            <a:off x="1692360" y="3141720"/>
            <a:ext cx="309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хема 1" descr=""/>
          <p:cNvPicPr/>
          <p:nvPr/>
        </p:nvPicPr>
        <p:blipFill>
          <a:blip r:embed="rId1"/>
          <a:stretch/>
        </p:blipFill>
        <p:spPr>
          <a:xfrm>
            <a:off x="182520" y="285840"/>
            <a:ext cx="8790120" cy="657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1042920" y="4365720"/>
                <a:ext cx="28576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4859280" y="4365720"/>
                <a:ext cx="35006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4620-7EEB-44CD-A33D-CD7CF1D524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Управляющая кнопка: в начало 6">
            <a:hlinkClick r:id="rId2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279800" y="2205000"/>
            <a:ext cx="713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ANTN027"/>
          <p:cNvPicPr/>
          <p:nvPr/>
        </p:nvPicPr>
        <p:blipFill>
          <a:blip r:embed="rId1"/>
          <a:stretch/>
        </p:blipFill>
        <p:spPr>
          <a:xfrm>
            <a:off x="2987640" y="3213000"/>
            <a:ext cx="2946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125000"/>
            <a:ext cx="46432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1) 2; 5; 8; 11;14; 17;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2) 3; 9; 27; 81; 243;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3) 1; 6; 11; 20; 25;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4) –4; –8; –16; –32; 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5) 5; 25; 35; 45; 55;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6) –2; –4; – 6; – 8;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500720" y="112536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924360" y="836640"/>
            <a:ext cx="49687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</a:rPr>
              <a:t>арифметическая прогрессия   </a:t>
            </a:r>
            <a:r>
              <a:rPr b="0" lang="en-US" sz="2400" spc="-1" strike="noStrike">
                <a:solidFill>
                  <a:srgbClr val="632523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924360" y="4149720"/>
            <a:ext cx="48243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</a:rPr>
              <a:t>арифметическая прогрессия </a:t>
            </a:r>
            <a:r>
              <a:rPr b="0" lang="en-US" sz="2400" spc="-1" strike="noStrike">
                <a:solidFill>
                  <a:srgbClr val="632523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</a:rPr>
              <a:t>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04840" y="1773360"/>
            <a:ext cx="48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</a:rPr>
              <a:t>геометрическая прогрессия    </a:t>
            </a:r>
            <a:r>
              <a:rPr b="0" lang="en-US" sz="2400" spc="-1" strike="noStrike">
                <a:solidFill>
                  <a:srgbClr val="632523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3924360" y="2349360"/>
            <a:ext cx="38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</a:rPr>
              <a:t>последовательность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924360" y="29242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</a:rPr>
              <a:t>геометрическая прогрессия     </a:t>
            </a:r>
            <a:r>
              <a:rPr b="0" lang="en-US" sz="2400" spc="-1" strike="noStrike">
                <a:solidFill>
                  <a:srgbClr val="632523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24360" y="3573360"/>
            <a:ext cx="37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</a:rPr>
              <a:t>последовательность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Рисунок13"/>
          <p:cNvPicPr/>
          <p:nvPr/>
        </p:nvPicPr>
        <p:blipFill>
          <a:blip r:embed="rId1"/>
          <a:stretch/>
        </p:blipFill>
        <p:spPr>
          <a:xfrm>
            <a:off x="7236000" y="1916280"/>
            <a:ext cx="1568160" cy="20160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"/>
          <p:cNvSpPr/>
          <p:nvPr/>
        </p:nvSpPr>
        <p:spPr>
          <a:xfrm>
            <a:off x="7596360" y="189000"/>
            <a:ext cx="1218960" cy="1373040"/>
          </a:xfrm>
          <a:prstGeom prst="cloudCallout">
            <a:avLst>
              <a:gd name="adj1" fmla="val -70157"/>
              <a:gd name="adj2" fmla="val 67805"/>
            </a:avLst>
          </a:prstGeom>
          <a:blipFill rotWithShape="0">
            <a:blip r:embed="rId2">
              <a:alphaModFix amt="82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000044"/>
          <p:cNvPicPr/>
          <p:nvPr/>
        </p:nvPicPr>
        <p:blipFill>
          <a:blip r:embed="rId3"/>
          <a:stretch/>
        </p:blipFill>
        <p:spPr>
          <a:xfrm>
            <a:off x="7740720" y="260280"/>
            <a:ext cx="687240" cy="1513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2151720" y="260280"/>
            <a:ext cx="530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Истинно</a:t>
            </a:r>
            <a:r>
              <a:rPr b="1" lang="ru-RU" sz="3600" spc="-1" strike="noStrike">
                <a:solidFill>
                  <a:srgbClr val="e46c0a"/>
                </a:solidFill>
                <a:latin typeface="Arial"/>
              </a:rPr>
              <a:t> или лож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Arial"/>
              </a:rPr>
              <a:t>каждое высказы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50920" y="1700280"/>
            <a:ext cx="64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1. В арифметической про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2,4; 2,6;… разность равна 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50920" y="3141720"/>
            <a:ext cx="653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2. В геометрической про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0,3; 0,9;… третий член равен 2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24000" y="4653000"/>
            <a:ext cx="85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3. 11-ый член арифметической прогрессии,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которой                                   равен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2556000" y="5229360"/>
                <a:ext cx="2736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,2</m:t>
                    </m:r>
                    <m:r>
                      <m:t xml:space="preserve">;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73240" y="836640"/>
            <a:ext cx="5938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4.  Сумма 5 первых член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геометрической прогресс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у кото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равна 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3132000" y="1844640"/>
                <a:ext cx="23814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6"/>
          <p:cNvSpPr/>
          <p:nvPr/>
        </p:nvSpPr>
        <p:spPr>
          <a:xfrm>
            <a:off x="324000" y="3068640"/>
            <a:ext cx="79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5. Последовательность чисел, кратных 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является  геометрической  прогресс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4000" y="4724280"/>
            <a:ext cx="780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6. Последовательность степеней числ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является арифметической прогресс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BOYSIGN"/>
          <p:cNvPicPr/>
          <p:nvPr/>
        </p:nvPicPr>
        <p:blipFill>
          <a:blip r:embed="rId1"/>
          <a:stretch/>
        </p:blipFill>
        <p:spPr>
          <a:xfrm>
            <a:off x="6227640" y="549360"/>
            <a:ext cx="2281320" cy="2197080"/>
          </a:xfrm>
          <a:prstGeom prst="rect">
            <a:avLst/>
          </a:prstGeom>
          <a:ln w="0">
            <a:noFill/>
          </a:ln>
        </p:spPr>
      </p:pic>
      <p:sp>
        <p:nvSpPr>
          <p:cNvPr id="159" name="WordArt 11"/>
          <p:cNvSpPr txBox="1"/>
          <p:nvPr/>
        </p:nvSpPr>
        <p:spPr>
          <a:xfrm>
            <a:off x="6804000" y="404640"/>
            <a:ext cx="7873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умай!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630080" y="476280"/>
            <a:ext cx="37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оверь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1656000" cy="1439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250920" y="119700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1. В арифметической прогр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2,4; 2,6;… разность равна 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950760" y="2060640"/>
            <a:ext cx="74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d = 2,6 – 2,4 = 0,2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ысказывание л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50920" y="2708280"/>
            <a:ext cx="60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2. В геометрической прогр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0,3; 0,9;… третий член равен 2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971640" y="3573360"/>
                <a:ext cx="29368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Text Box 12"/>
          <p:cNvSpPr/>
          <p:nvPr/>
        </p:nvSpPr>
        <p:spPr>
          <a:xfrm>
            <a:off x="3995640" y="3500280"/>
            <a:ext cx="48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4000" y="44370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3. 11-ый член арифметической прогрессии, у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равен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2050920" y="4797360"/>
                <a:ext cx="2521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,2</m:t>
                    </m:r>
                    <m:r>
                      <m:t xml:space="preserve">;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1547640" y="5445000"/>
                <a:ext cx="5907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,2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,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16"/>
          <p:cNvSpPr/>
          <p:nvPr/>
        </p:nvSpPr>
        <p:spPr>
          <a:xfrm>
            <a:off x="1619280" y="5805360"/>
            <a:ext cx="47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ысказывание л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324000" y="476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4.  Сумма 5 первых членов геометрической прогре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у которой                                   равна 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2484360" y="836640"/>
                <a:ext cx="1878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611280" y="1484280"/>
                <a:ext cx="39909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7"/>
          <p:cNvSpPr/>
          <p:nvPr/>
        </p:nvSpPr>
        <p:spPr>
          <a:xfrm>
            <a:off x="4613400" y="1628640"/>
            <a:ext cx="45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50920" y="2565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5. Последовательность чисел, кратных 5, 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геометрической  прогресс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611280" y="3860640"/>
                <a:ext cx="1382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11"/>
          <p:cNvSpPr/>
          <p:nvPr/>
        </p:nvSpPr>
        <p:spPr>
          <a:xfrm>
            <a:off x="2636280" y="3933720"/>
            <a:ext cx="59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; 10; 15;… - арифм. прогр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1271160" y="3357720"/>
            <a:ext cx="49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ысказывание ложно, т.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50920" y="4508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6. Последовательность степеней числа 3 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арифметической прогресс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93520" y="5300640"/>
            <a:ext cx="51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ысказывание ложно,   т.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6156360" y="5229360"/>
                <a:ext cx="122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Text Box 17"/>
          <p:cNvSpPr/>
          <p:nvPr/>
        </p:nvSpPr>
        <p:spPr>
          <a:xfrm>
            <a:off x="901440" y="5877000"/>
            <a:ext cx="72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; 9; 27;…- геометрическая прогр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правляющая кнопка: в начало 13">
            <a:hlinkClick r:id="rId1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1042920" y="907920"/>
            <a:ext cx="66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Arial"/>
              </a:rPr>
              <a:t>Карточки для индивидуального поль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TN027"/>
          <p:cNvPicPr/>
          <p:nvPr/>
        </p:nvPicPr>
        <p:blipFill>
          <a:blip r:embed="rId1"/>
          <a:stretch/>
        </p:blipFill>
        <p:spPr>
          <a:xfrm>
            <a:off x="2987640" y="3213000"/>
            <a:ext cx="2946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Object 5"/>
          <p:cNvGraphicFramePr/>
          <p:nvPr/>
        </p:nvGraphicFramePr>
        <p:xfrm>
          <a:off x="4514760" y="377352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7735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7905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1)   Дано: (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en-US" sz="3600" spc="-1" strike="noStrike" baseline="-25000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)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рифметическая прогресс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= 5   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= 3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йти: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6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;   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0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Решение: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используя формул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en-US" sz="3600" spc="-1" strike="noStrike" baseline="-25000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=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+(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n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-1)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200" spc="-1" strike="noStrike" baseline="-25000">
                <a:solidFill>
                  <a:srgbClr val="8000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=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2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+5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= 5+  5 </a:t>
            </a:r>
            <a:r>
              <a:rPr b="1" lang="ru-RU" sz="3200" spc="-1" strike="noStrike" baseline="30000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3 =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200" spc="-1" strike="noStrike" baseline="-25000">
                <a:solidFill>
                  <a:srgbClr val="800000"/>
                </a:solidFill>
                <a:latin typeface="Times New Roman"/>
              </a:rPr>
              <a:t>10</a:t>
            </a:r>
            <a:r>
              <a:rPr b="1" lang="ru-RU" sz="3200" spc="-1" strike="noStrike" baseline="-25000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=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2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+9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= 5+  9 </a:t>
            </a:r>
            <a:r>
              <a:rPr b="1" lang="ru-RU" sz="3200" spc="-1" strike="noStrike" baseline="30000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3 = 3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Ответ: 20; 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0" y="6237360"/>
            <a:ext cx="1547640" cy="620640"/>
          </a:xfrm>
          <a:custGeom>
            <a:avLst/>
            <a:gdLst>
              <a:gd name="textAreaLeft" fmla="*/ 39960 w 1547640"/>
              <a:gd name="textAreaRight" fmla="*/ 1507680 w 15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53843" h="21600">
                <a:moveTo>
                  <a:pt x="0" y="0"/>
                </a:moveTo>
                <a:lnTo>
                  <a:pt x="53843" y="0"/>
                </a:lnTo>
                <a:lnTo>
                  <a:pt x="53843" y="21600"/>
                </a:lnTo>
                <a:lnTo>
                  <a:pt x="0" y="21600"/>
                </a:lnTo>
                <a:close/>
              </a:path>
              <a:path fill="lightenLess" w="53843" h="21600">
                <a:moveTo>
                  <a:pt x="0" y="0"/>
                </a:moveTo>
                <a:lnTo>
                  <a:pt x="53843" y="0"/>
                </a:lnTo>
                <a:lnTo>
                  <a:pt x="52444" y="1400"/>
                </a:lnTo>
                <a:lnTo>
                  <a:pt x="1400" y="1400"/>
                </a:lnTo>
                <a:close/>
              </a:path>
              <a:path fill="darken" w="53843" h="21600">
                <a:moveTo>
                  <a:pt x="53843" y="0"/>
                </a:moveTo>
                <a:lnTo>
                  <a:pt x="53843" y="21600"/>
                </a:lnTo>
                <a:lnTo>
                  <a:pt x="52444" y="20200"/>
                </a:lnTo>
                <a:lnTo>
                  <a:pt x="52444" y="1400"/>
                </a:lnTo>
                <a:close/>
              </a:path>
              <a:path fill="darkenLess" w="53843" h="21600">
                <a:moveTo>
                  <a:pt x="53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44" y="20200"/>
                </a:lnTo>
                <a:close/>
              </a:path>
              <a:path fill="lighten" w="53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A:\owl.gif"/>
          <p:cNvPicPr/>
          <p:nvPr/>
        </p:nvPicPr>
        <p:blipFill>
          <a:blip r:embed="rId3"/>
          <a:stretch/>
        </p:blipFill>
        <p:spPr>
          <a:xfrm>
            <a:off x="6804000" y="1052640"/>
            <a:ext cx="2340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050560" y="333000"/>
            <a:ext cx="6913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Дано: (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) геометрическая прогрессия</a:t>
            </a: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=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5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= 3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йти: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; 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5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Решение: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используя формулу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800000"/>
                </a:solidFill>
                <a:latin typeface="Times New Roman"/>
              </a:rPr>
              <a:t>n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3</a:t>
            </a:r>
            <a:r>
              <a:rPr b="1" i="1" lang="en-US" sz="3600" spc="-1" strike="noStrike" baseline="-25000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=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1" i="1" lang="ru-RU" sz="3600" spc="-1" strike="noStrike" baseline="30000">
                <a:solidFill>
                  <a:srgbClr val="800000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 = 5 </a:t>
            </a:r>
            <a:r>
              <a:rPr b="1" lang="ru-RU" sz="3600" spc="-1" strike="noStrike" baseline="30000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i="1" lang="ru-RU" sz="3600" spc="-1" strike="noStrike" baseline="30000">
                <a:solidFill>
                  <a:srgbClr val="800000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 =5 </a:t>
            </a:r>
            <a:r>
              <a:rPr b="1" lang="ru-RU" sz="3600" spc="-1" strike="noStrike" baseline="30000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9=45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5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=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1" i="1" lang="en-US" sz="3600" spc="-1" strike="noStrike" baseline="30000">
                <a:solidFill>
                  <a:srgbClr val="800000"/>
                </a:solidFill>
                <a:latin typeface="Times New Roman"/>
              </a:rPr>
              <a:t>4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 = 5 </a:t>
            </a:r>
            <a:r>
              <a:rPr b="1" lang="ru-RU" sz="3600" spc="-1" strike="noStrike" baseline="30000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i="1" lang="en-US" sz="3600" spc="-1" strike="noStrike" baseline="30000">
                <a:solidFill>
                  <a:srgbClr val="800000"/>
                </a:solidFill>
                <a:latin typeface="Times New Roman"/>
              </a:rPr>
              <a:t>4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 =5 </a:t>
            </a:r>
            <a:r>
              <a:rPr b="1" lang="ru-RU" sz="3600" spc="-1" strike="noStrike" baseline="30000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81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=4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0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5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Ответ: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45; 4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0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5.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0" y="6237360"/>
            <a:ext cx="1619280" cy="431640"/>
          </a:xfrm>
          <a:custGeom>
            <a:avLst/>
            <a:gdLst>
              <a:gd name="textAreaLeft" fmla="*/ 27720 w 1619280"/>
              <a:gd name="textAreaRight" fmla="*/ 1591560 w 16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0982" h="21600">
                <a:moveTo>
                  <a:pt x="0" y="0"/>
                </a:moveTo>
                <a:lnTo>
                  <a:pt x="80982" y="0"/>
                </a:lnTo>
                <a:lnTo>
                  <a:pt x="80982" y="21600"/>
                </a:lnTo>
                <a:lnTo>
                  <a:pt x="0" y="21600"/>
                </a:lnTo>
                <a:close/>
              </a:path>
              <a:path fill="lightenLess" w="80982" h="21600">
                <a:moveTo>
                  <a:pt x="0" y="0"/>
                </a:moveTo>
                <a:lnTo>
                  <a:pt x="80982" y="0"/>
                </a:lnTo>
                <a:lnTo>
                  <a:pt x="79582" y="1400"/>
                </a:lnTo>
                <a:lnTo>
                  <a:pt x="1400" y="1400"/>
                </a:lnTo>
                <a:close/>
              </a:path>
              <a:path fill="darken" w="80982" h="21600">
                <a:moveTo>
                  <a:pt x="80982" y="0"/>
                </a:moveTo>
                <a:lnTo>
                  <a:pt x="80982" y="21600"/>
                </a:lnTo>
                <a:lnTo>
                  <a:pt x="79582" y="20200"/>
                </a:lnTo>
                <a:lnTo>
                  <a:pt x="79582" y="1400"/>
                </a:lnTo>
                <a:close/>
              </a:path>
              <a:path fill="darkenLess" w="80982" h="21600">
                <a:moveTo>
                  <a:pt x="80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2" y="20200"/>
                </a:lnTo>
                <a:close/>
              </a:path>
              <a:path fill="lighten" w="80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A:\owl.gif"/>
          <p:cNvPicPr/>
          <p:nvPr/>
        </p:nvPicPr>
        <p:blipFill>
          <a:blip r:embed="rId1"/>
          <a:stretch/>
        </p:blipFill>
        <p:spPr>
          <a:xfrm>
            <a:off x="0" y="981000"/>
            <a:ext cx="2087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81200" y="33336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Изучена данная тем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Пройдена теории схем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Вы много новых формул узнал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Задачи с прогрессией реша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И вот в этот ур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Нас  красивый лозунг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поведе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ПРОГРЕССИО - ВПЕРЕД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41-33 копия"/>
          <p:cNvPicPr/>
          <p:nvPr/>
        </p:nvPicPr>
        <p:blipFill>
          <a:blip r:embed="rId1"/>
          <a:stretch/>
        </p:blipFill>
        <p:spPr>
          <a:xfrm>
            <a:off x="6227640" y="3284640"/>
            <a:ext cx="1835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78920" y="404280"/>
            <a:ext cx="7488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3)   Дано: (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en-US" sz="3600" spc="-1" strike="noStrike" baseline="-25000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) арифметическая прогресс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= 11   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= 2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йти: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Решение: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используя формул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en-US" sz="3600" spc="-1" strike="noStrike" baseline="-25000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=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+ (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n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– 1)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=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+3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;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= 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4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– 3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=11 –   3 </a:t>
            </a:r>
            <a:r>
              <a:rPr b="1" lang="ru-RU" sz="3600" spc="-1" strike="noStrike" baseline="30000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2 =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                               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Ответ: 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0" y="6237360"/>
            <a:ext cx="1763640" cy="620640"/>
          </a:xfrm>
          <a:custGeom>
            <a:avLst/>
            <a:gdLst>
              <a:gd name="textAreaLeft" fmla="*/ 39960 w 1763640"/>
              <a:gd name="textAreaRight" fmla="*/ 1723680 w 1763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1357" h="21600">
                <a:moveTo>
                  <a:pt x="0" y="0"/>
                </a:moveTo>
                <a:lnTo>
                  <a:pt x="61357" y="0"/>
                </a:lnTo>
                <a:lnTo>
                  <a:pt x="61357" y="21600"/>
                </a:lnTo>
                <a:lnTo>
                  <a:pt x="0" y="21600"/>
                </a:lnTo>
                <a:close/>
              </a:path>
              <a:path fill="lightenLess" w="61357" h="21600">
                <a:moveTo>
                  <a:pt x="0" y="0"/>
                </a:moveTo>
                <a:lnTo>
                  <a:pt x="61357" y="0"/>
                </a:lnTo>
                <a:lnTo>
                  <a:pt x="59957" y="1400"/>
                </a:lnTo>
                <a:lnTo>
                  <a:pt x="1400" y="1400"/>
                </a:lnTo>
                <a:close/>
              </a:path>
              <a:path fill="darken" w="61357" h="21600">
                <a:moveTo>
                  <a:pt x="61357" y="0"/>
                </a:moveTo>
                <a:lnTo>
                  <a:pt x="61357" y="21600"/>
                </a:lnTo>
                <a:lnTo>
                  <a:pt x="59957" y="20200"/>
                </a:lnTo>
                <a:lnTo>
                  <a:pt x="59957" y="1400"/>
                </a:lnTo>
                <a:close/>
              </a:path>
              <a:path fill="darkenLess" w="61357" h="21600">
                <a:moveTo>
                  <a:pt x="61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957" y="20200"/>
                </a:lnTo>
                <a:close/>
              </a:path>
              <a:path fill="lighten" w="61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C41-33 копия"/>
          <p:cNvPicPr/>
          <p:nvPr/>
        </p:nvPicPr>
        <p:blipFill>
          <a:blip r:embed="rId1"/>
          <a:stretch/>
        </p:blipFill>
        <p:spPr>
          <a:xfrm>
            <a:off x="6680160" y="765000"/>
            <a:ext cx="246384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9492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4)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Дано: (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) геометрическая       прогрессия</a:t>
            </a: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4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=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40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= 2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йти: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Решение: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используя формулу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800000"/>
                </a:solidFill>
                <a:latin typeface="Times New Roman"/>
              </a:rPr>
              <a:t>n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4</a:t>
            </a:r>
            <a:r>
              <a:rPr b="1" i="1" lang="en-US" sz="3600" spc="-1" strike="noStrike" baseline="-25000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=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1" i="1" lang="ru-RU" sz="3600" spc="-1" strike="noStrike" baseline="30000">
                <a:solidFill>
                  <a:srgbClr val="8000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;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4</a:t>
            </a:r>
            <a:r>
              <a:rPr b="1" i="1" lang="en-US" sz="3600" spc="-1" strike="noStrike" baseline="-25000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1" i="1" lang="ru-RU" sz="3600" spc="-1" strike="noStrike" baseline="30000">
                <a:solidFill>
                  <a:srgbClr val="8000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=40:2</a:t>
            </a:r>
            <a:r>
              <a:rPr b="1" i="1" lang="ru-RU" sz="3600" spc="-1" strike="noStrike" baseline="30000">
                <a:solidFill>
                  <a:srgbClr val="8000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 =40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: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8=5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Ответ: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5.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0" y="6237360"/>
            <a:ext cx="1619280" cy="431640"/>
          </a:xfrm>
          <a:custGeom>
            <a:avLst/>
            <a:gdLst>
              <a:gd name="textAreaLeft" fmla="*/ 27720 w 1619280"/>
              <a:gd name="textAreaRight" fmla="*/ 1591560 w 16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0982" h="21600">
                <a:moveTo>
                  <a:pt x="0" y="0"/>
                </a:moveTo>
                <a:lnTo>
                  <a:pt x="80982" y="0"/>
                </a:lnTo>
                <a:lnTo>
                  <a:pt x="80982" y="21600"/>
                </a:lnTo>
                <a:lnTo>
                  <a:pt x="0" y="21600"/>
                </a:lnTo>
                <a:close/>
              </a:path>
              <a:path fill="lightenLess" w="80982" h="21600">
                <a:moveTo>
                  <a:pt x="0" y="0"/>
                </a:moveTo>
                <a:lnTo>
                  <a:pt x="80982" y="0"/>
                </a:lnTo>
                <a:lnTo>
                  <a:pt x="79582" y="1400"/>
                </a:lnTo>
                <a:lnTo>
                  <a:pt x="1400" y="1400"/>
                </a:lnTo>
                <a:close/>
              </a:path>
              <a:path fill="darken" w="80982" h="21600">
                <a:moveTo>
                  <a:pt x="80982" y="0"/>
                </a:moveTo>
                <a:lnTo>
                  <a:pt x="80982" y="21600"/>
                </a:lnTo>
                <a:lnTo>
                  <a:pt x="79582" y="20200"/>
                </a:lnTo>
                <a:lnTo>
                  <a:pt x="79582" y="1400"/>
                </a:lnTo>
                <a:close/>
              </a:path>
              <a:path fill="darkenLess" w="80982" h="21600">
                <a:moveTo>
                  <a:pt x="80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2" y="20200"/>
                </a:lnTo>
                <a:close/>
              </a:path>
              <a:path fill="lighten" w="80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6" descr="MCj04244440000[1]"/>
          <p:cNvPicPr/>
          <p:nvPr/>
        </p:nvPicPr>
        <p:blipFill>
          <a:blip r:embed="rId1"/>
          <a:stretch/>
        </p:blipFill>
        <p:spPr>
          <a:xfrm flipH="1">
            <a:off x="6732720" y="4437000"/>
            <a:ext cx="1800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5)    Дано: (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) арифметическая прогрессия</a:t>
            </a: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4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=12,5; 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6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=17,5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йти: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5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Object 12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school02-28"/>
          <p:cNvPicPr/>
          <p:nvPr/>
        </p:nvPicPr>
        <p:blipFill>
          <a:blip r:embed="rId3"/>
          <a:stretch/>
        </p:blipFill>
        <p:spPr>
          <a:xfrm>
            <a:off x="5796000" y="3429000"/>
            <a:ext cx="15825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6)    Дано: (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) геометрическая прогрес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4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=12,5;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6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=17,5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йти: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3600" spc="-1" strike="noStrike" baseline="-25000">
                <a:solidFill>
                  <a:srgbClr val="800000"/>
                </a:solidFill>
                <a:latin typeface="Times New Roman"/>
              </a:rPr>
              <a:t>5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3252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539640" y="4029120"/>
          <a:ext cx="820764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29120"/>
                    <a:ext cx="820764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467240" y="38772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2" descr="school02-04"/>
          <p:cNvPicPr/>
          <p:nvPr/>
        </p:nvPicPr>
        <p:blipFill>
          <a:blip r:embed="rId3"/>
          <a:stretch/>
        </p:blipFill>
        <p:spPr>
          <a:xfrm>
            <a:off x="1042920" y="3213000"/>
            <a:ext cx="1656000" cy="2060640"/>
          </a:xfrm>
          <a:prstGeom prst="rect">
            <a:avLst/>
          </a:prstGeom>
          <a:ln w="0">
            <a:noFill/>
          </a:ln>
        </p:spPr>
      </p:pic>
      <p:sp>
        <p:nvSpPr>
          <p:cNvPr id="213" name="Управляющая кнопка: в начало 7">
            <a:hlinkClick r:id="rId4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ANTN027"/>
          <p:cNvPicPr/>
          <p:nvPr/>
        </p:nvPicPr>
        <p:blipFill>
          <a:blip r:embed="rId1"/>
          <a:stretch/>
        </p:blipFill>
        <p:spPr>
          <a:xfrm>
            <a:off x="3132000" y="2852640"/>
            <a:ext cx="2944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76464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1)Дано: (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en-US" sz="2800" spc="-1" strike="noStrike" baseline="-25000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),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а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1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= – 3,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= 4.         Найти: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а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– ?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2)Дано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: (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 </a:t>
            </a:r>
            <a:r>
              <a:rPr b="1" lang="en-US" sz="2800" spc="-1" strike="noStrike" baseline="-25000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) ,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 </a:t>
            </a:r>
            <a:r>
              <a:rPr b="1" i="1" lang="en-US" sz="2800" spc="-1" strike="noStrike" baseline="-25000">
                <a:solidFill>
                  <a:srgbClr val="800000"/>
                </a:solidFill>
                <a:latin typeface="Times New Roman"/>
              </a:rPr>
              <a:t>12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= – 32,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800000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= – 16.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 Найти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q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– ?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3)Дано: (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en-US" sz="2800" spc="-1" strike="noStrike" baseline="-25000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),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а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imes New Roman"/>
              </a:rPr>
              <a:t>21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= – 44,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= – 42.Найти: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?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4)Дано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: (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 </a:t>
            </a:r>
            <a:r>
              <a:rPr b="1" lang="en-US" sz="2800" spc="-1" strike="noStrike" baseline="-25000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) ,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b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п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&gt;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4,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800000"/>
                </a:solidFill>
                <a:latin typeface="Times New Roman"/>
              </a:rPr>
              <a:t>4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9.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айти: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– ?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5)Дано: (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en-US" sz="2800" spc="-1" strike="noStrike" baseline="-25000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),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а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= 28,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imes New Roman"/>
              </a:rPr>
              <a:t>21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= 4. Найти: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?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6) Дано: (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 </a:t>
            </a:r>
            <a:r>
              <a:rPr b="1" lang="en-US" sz="2800" spc="-1" strike="noStrike" baseline="-25000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) ,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b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5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= 8 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= 2.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айти: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– ?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) Дано: (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en-US" sz="2800" spc="-1" strike="noStrike" baseline="-25000">
                <a:solidFill>
                  <a:srgbClr val="8000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),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а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7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= 16,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9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= 30.Найти: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а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–?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1)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102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2)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0,5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3)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4)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5)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– 1,2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6)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,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7)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6" descr="school10-01"/>
          <p:cNvPicPr/>
          <p:nvPr/>
        </p:nvPicPr>
        <p:blipFill>
          <a:blip r:embed="rId1"/>
          <a:stretch/>
        </p:blipFill>
        <p:spPr>
          <a:xfrm>
            <a:off x="4788000" y="170028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220" name="Управляющая кнопка: в начало 4">
            <a:hlinkClick r:id="rId2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</a:rPr>
              <a:t>Задания</a:t>
            </a:r>
            <a:r>
              <a:rPr b="1" lang="ru-RU" sz="3600" spc="-1" strike="noStrike">
                <a:solidFill>
                  <a:srgbClr val="e46c0a"/>
                </a:solidFill>
                <a:latin typeface="Times New Roman"/>
              </a:rPr>
              <a:t> ГИ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) Пятый член арифметической прогрессии равен 8,4, а ее десятый член равен 14,4. Найдите пятнадцатый член этой прогре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2) Число –3,8 является восьмым членом арифметической прогрессии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(а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п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),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а число –11 является ее двенадцатым членом. Является ли членом этой прогрессии число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п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= -30,8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3) Между числами 6 и 17 вставьте четыре числа так, чтобы вместе с данными числами они образовали  арифметическую прогресс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4) В геометрической  прогрессии 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12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= 3</a:t>
            </a:r>
            <a:r>
              <a:rPr b="1" lang="ru-RU" sz="2800" spc="-1" strike="noStrike" baseline="30000">
                <a:solidFill>
                  <a:srgbClr val="800000"/>
                </a:solidFill>
                <a:latin typeface="Times New Roman"/>
              </a:rPr>
              <a:t>15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14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 =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ru-RU" sz="2800" spc="-1" strike="noStrike" baseline="30000">
                <a:solidFill>
                  <a:srgbClr val="80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.    Найдите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i="1" lang="ru-RU" sz="28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16" descr="MCj04244440000[1]"/>
          <p:cNvPicPr/>
          <p:nvPr/>
        </p:nvPicPr>
        <p:blipFill>
          <a:blip r:embed="rId1"/>
          <a:stretch/>
        </p:blipFill>
        <p:spPr>
          <a:xfrm>
            <a:off x="0" y="404640"/>
            <a:ext cx="10587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Решит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Курс воздушных ванн начинают с 15 минут в первый день и увеличивают время этой процедуры в каждый следующий день на 10 минут. Сколько дней следует принимать воздушные ванны в указанном режиме, чтобы достичь их максимальной  продолжительности  1 час 45 мин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68360" y="549360"/>
            <a:ext cx="842472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ебенок заболеет ветрянкой, если в его организме окажется не менее 27000 вирусов ветряной оспы. Если заранее не сделана прививка от ветрянки, то каждый день число попавших в организм вирусов утраивается. Если в течении 6 дней после попадания инфекции болезнь не наступает, организм начинает вырабатывать антитела, прекращающие размножение вирусов. Какое минимальное количество вирусов должно попасть в организм, чтобы ребенок, которому не сделали прививку, забол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46c0a"/>
                </a:solidFill>
                <a:uFillTx/>
                <a:latin typeface="Calibri"/>
              </a:rPr>
              <a:t>Основная цель:</a:t>
            </a:r>
            <a:br>
              <a:rPr sz="3600"/>
            </a:b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Повторить и закрепить умения и вычислительные навыки использования основных формул прогрессий при решении задач. Осмыслить и сравнить формулы арифметической и геометрической прогресс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B0B3-6F62-4736-B1AD-9DC299DAE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гр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Ответ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9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1. 20,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2. являетс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3. 6;8,2;10,4;12,6;14,8;17                                           4.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=3</a:t>
            </a:r>
            <a:r>
              <a:rPr b="1" lang="en-US" sz="3600" spc="-1" strike="noStrike" baseline="30000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или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b</a:t>
            </a:r>
            <a:r>
              <a:rPr b="1" lang="en-US" sz="36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=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en-US" sz="3600" spc="-1" strike="noStrike" baseline="30000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5.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6. 7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" descr="C:\Users\Ирина Михайловна\Desktop\3497.gif"/>
          <p:cNvPicPr/>
          <p:nvPr/>
        </p:nvPicPr>
        <p:blipFill>
          <a:blip r:embed="rId1"/>
          <a:stretch/>
        </p:blipFill>
        <p:spPr>
          <a:xfrm>
            <a:off x="5148360" y="3429000"/>
            <a:ext cx="3092400" cy="2341440"/>
          </a:xfrm>
          <a:prstGeom prst="rect">
            <a:avLst/>
          </a:prstGeom>
          <a:ln w="0">
            <a:noFill/>
          </a:ln>
        </p:spPr>
      </p:pic>
      <p:sp>
        <p:nvSpPr>
          <p:cNvPr id="230" name="Управляющая кнопка: в начало 4">
            <a:hlinkClick r:id="rId2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26560" y="54936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Урок сегодня завершён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о каждый должен знать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ознание, упорство, тру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К прогрессу в жизн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  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риведу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5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1674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D:\анимация\6e512718eb4ddfdeb3be803fc4e3f797.gif"/>
          <p:cNvPicPr/>
          <p:nvPr/>
        </p:nvPicPr>
        <p:blipFill>
          <a:blip r:embed="rId1"/>
          <a:stretch/>
        </p:blipFill>
        <p:spPr>
          <a:xfrm>
            <a:off x="6516720" y="4076640"/>
            <a:ext cx="1692360" cy="1954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Ирина Михайловна\Desktop\2783.gif"/>
          <p:cNvPicPr/>
          <p:nvPr/>
        </p:nvPicPr>
        <p:blipFill>
          <a:blip r:embed="rId2"/>
          <a:stretch/>
        </p:blipFill>
        <p:spPr>
          <a:xfrm>
            <a:off x="539640" y="189000"/>
            <a:ext cx="2683080" cy="2882880"/>
          </a:xfrm>
          <a:prstGeom prst="rect">
            <a:avLst/>
          </a:prstGeom>
          <a:ln w="0">
            <a:noFill/>
          </a:ln>
        </p:spPr>
      </p:pic>
      <p:sp>
        <p:nvSpPr>
          <p:cNvPr id="235" name="WordArt 6"/>
          <p:cNvSpPr txBox="1"/>
          <p:nvPr/>
        </p:nvSpPr>
        <p:spPr>
          <a:xfrm>
            <a:off x="971640" y="1089000"/>
            <a:ext cx="7272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пасибо за внимание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WordArt 7"/>
          <p:cNvSpPr/>
          <p:nvPr/>
        </p:nvSpPr>
        <p:spPr>
          <a:xfrm>
            <a:off x="2747880" y="3971880"/>
            <a:ext cx="4753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хема 1" descr=""/>
          <p:cNvPicPr/>
          <p:nvPr/>
        </p:nvPicPr>
        <p:blipFill>
          <a:blip r:embed="rId1"/>
          <a:stretch/>
        </p:blipFill>
        <p:spPr>
          <a:xfrm>
            <a:off x="109440" y="285840"/>
            <a:ext cx="8729640" cy="6095880"/>
          </a:xfrm>
          <a:prstGeom prst="rect">
            <a:avLst/>
          </a:prstGeom>
          <a:ln w="0">
            <a:noFill/>
          </a:ln>
        </p:spPr>
      </p:pic>
      <p:sp>
        <p:nvSpPr>
          <p:cNvPr id="99" name="Управляющая кнопка: в конец 3">
            <a:hlinkClick r:id="rId2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хема 1" descr=""/>
          <p:cNvPicPr/>
          <p:nvPr/>
        </p:nvPicPr>
        <p:blipFill>
          <a:blip r:embed="rId1"/>
          <a:stretch/>
        </p:blipFill>
        <p:spPr>
          <a:xfrm>
            <a:off x="208080" y="285840"/>
            <a:ext cx="8624880" cy="609588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1F33-573C-4F6C-8BA5-87FF5020D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хема 1" descr=""/>
          <p:cNvPicPr/>
          <p:nvPr/>
        </p:nvPicPr>
        <p:blipFill>
          <a:blip r:embed="rId1"/>
          <a:stretch/>
        </p:blipFill>
        <p:spPr>
          <a:xfrm>
            <a:off x="182520" y="285840"/>
            <a:ext cx="8802720" cy="6572160"/>
          </a:xfrm>
          <a:prstGeom prst="rect">
            <a:avLst/>
          </a:prstGeom>
          <a:ln w="0">
            <a:noFill/>
          </a:ln>
        </p:spPr>
      </p:pic>
      <p:sp>
        <p:nvSpPr>
          <p:cNvPr id="10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5E92-9C59-4956-8333-F85A6658F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37360"/>
            <a:ext cx="28958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гр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rcRect l="8331" t="31790" r="56953" b="25963"/>
          <a:stretch/>
        </p:blipFill>
        <p:spPr>
          <a:xfrm>
            <a:off x="971640" y="1700280"/>
            <a:ext cx="3024000" cy="201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rcRect l="51315" t="30079" r="12457" b="26194"/>
          <a:stretch/>
        </p:blipFill>
        <p:spPr>
          <a:xfrm>
            <a:off x="5003640" y="1628640"/>
            <a:ext cx="2894040" cy="2016360"/>
          </a:xfrm>
          <a:prstGeom prst="rect">
            <a:avLst/>
          </a:prstGeom>
          <a:ln w="0">
            <a:noFill/>
          </a:ln>
        </p:spPr>
      </p:pic>
      <p:grpSp>
        <p:nvGrpSpPr>
          <p:cNvPr id="107" name="Группа 3"/>
          <p:cNvGrpSpPr/>
          <p:nvPr/>
        </p:nvGrpSpPr>
        <p:grpSpPr>
          <a:xfrm>
            <a:off x="324000" y="476280"/>
            <a:ext cx="8643960" cy="1082520"/>
            <a:chOff x="324000" y="476280"/>
            <a:chExt cx="8643960" cy="1082520"/>
          </a:xfrm>
        </p:grpSpPr>
        <p:sp>
          <p:nvSpPr>
            <p:cNvPr id="108" name="Прямоугольник 4"/>
            <p:cNvSpPr/>
            <p:nvPr/>
          </p:nvSpPr>
          <p:spPr>
            <a:xfrm>
              <a:off x="324000" y="476280"/>
              <a:ext cx="8572680" cy="10825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оугольник 5"/>
            <p:cNvSpPr/>
            <p:nvPr/>
          </p:nvSpPr>
          <p:spPr>
            <a:xfrm>
              <a:off x="395280" y="476280"/>
              <a:ext cx="857268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Calibri"/>
                </a:rPr>
                <a:t>Сравните график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Прямоугольник 9"/>
          <p:cNvSpPr/>
          <p:nvPr/>
        </p:nvSpPr>
        <p:spPr>
          <a:xfrm>
            <a:off x="611280" y="371628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ность двух рядом стоящих членов остается одна и та же, вследствие чего члены прогрессии возрастают (убывают) равноме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4716360" y="371628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ность двух соседних членов увеличивается по мере удаления их от начала ряда: вследствие этого, члены такой прогрессии, по мере их удаления от начала ряда, возрастают всё быстрее и быстрее, что наглядно изображено на 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хема 1" descr=""/>
          <p:cNvPicPr/>
          <p:nvPr/>
        </p:nvPicPr>
        <p:blipFill>
          <a:blip r:embed="rId1"/>
          <a:stretch/>
        </p:blipFill>
        <p:spPr>
          <a:xfrm>
            <a:off x="189000" y="285840"/>
            <a:ext cx="8669160" cy="657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2"/>
          <p:cNvGraphicFramePr/>
          <p:nvPr/>
        </p:nvGraphicFramePr>
        <p:xfrm>
          <a:off x="13858920" y="-2071800"/>
          <a:ext cx="914400" cy="8859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58920" y="-2071800"/>
                    <a:ext cx="9144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14073120" y="-885960"/>
          <a:ext cx="914400" cy="88596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73120" y="-885960"/>
                    <a:ext cx="9144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4"/>
          <p:cNvGraphicFramePr/>
          <p:nvPr/>
        </p:nvGraphicFramePr>
        <p:xfrm>
          <a:off x="14073120" y="0"/>
          <a:ext cx="914400" cy="88596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73120" y="0"/>
                    <a:ext cx="9144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14216040" y="1643040"/>
                <a:ext cx="9144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684360" y="4653000"/>
                <a:ext cx="3500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1" name="Object 7"/>
          <p:cNvGraphicFramePr/>
          <p:nvPr/>
        </p:nvGraphicFramePr>
        <p:xfrm>
          <a:off x="14001840" y="2714760"/>
          <a:ext cx="914400" cy="885600"/>
        </p:xfrm>
        <a:graphic>
          <a:graphicData uri="http://schemas.openxmlformats.org/presentationml/2006/ole">
            <p:oleObj progId="PowerPoint.Show.12" r:id="rId8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001840" y="2714760"/>
                    <a:ext cx="91440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10572840" y="0"/>
                <a:ext cx="9144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5148360" y="5013360"/>
                <a:ext cx="3214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C510-E94D-40C7-A15A-B5A1182D1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гр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хема 1" descr=""/>
          <p:cNvPicPr/>
          <p:nvPr/>
        </p:nvPicPr>
        <p:blipFill>
          <a:blip r:embed="rId1"/>
          <a:stretch/>
        </p:blipFill>
        <p:spPr>
          <a:xfrm>
            <a:off x="219240" y="285840"/>
            <a:ext cx="8753400" cy="657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Object 2"/>
              <p:cNvSpPr txBox="1"/>
              <p:nvPr/>
            </p:nvSpPr>
            <p:spPr>
              <a:xfrm>
                <a:off x="468360" y="4437000"/>
                <a:ext cx="3929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4859280" y="4365720"/>
                <a:ext cx="36432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C96E-6B14-4CAA-BA0E-864622678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09:00:07Z</dcterms:created>
  <dc:creator>Канина</dc:creator>
  <dc:description/>
  <dc:language>en-US</dc:language>
  <cp:lastModifiedBy>Гость</cp:lastModifiedBy>
  <dcterms:modified xsi:type="dcterms:W3CDTF">2022-03-31T08:19:56Z</dcterms:modified>
  <cp:revision>84</cp:revision>
  <dc:subject/>
  <dc:title>Тема урока:   Арифметическая и геометрическая прогрессия</dc:title>
</cp:coreProperties>
</file>