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58A-1DAA-47F8-B8A6-66C297E8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CFA-D165-4775-AC06-44149A54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391-7B8C-420A-A09B-A31EF228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495-C632-461D-92AB-8005150B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2B95-6BB9-438D-AEAE-FD039829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32C3-2115-43F8-A37C-E525792E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6767-D5FB-4A33-910F-0FB6AD7E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979F-F673-4136-A0BA-0AB1A9A0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7E19-CA2B-47CD-AB62-E5D690FE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0035-BCCE-49B6-916E-A7AF15C9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71A-3DDC-440B-A8D0-AC682C07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E1E-B6A4-4FA7-BECF-5DA266C1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9798-8539-4414-8BF2-7A0D6A30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A51C-082D-44C8-89D6-563BCCE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935E-C03E-40B7-85F6-359DBA15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981A-6AFB-4AF9-85CD-956BE316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121F-D870-41FC-819C-DC3B9A9B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6529-BADF-4E19-BC37-34F5E294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5E92-7487-4531-9984-F9533D5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EDF5-58B3-4BEB-AA2C-B72BBC04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5AA1-6AAF-4327-B073-BBCBC019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815E-4E62-4242-952D-16839C7E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ABF-FB46-49E1-9B4D-294DCDAA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C89F-52EE-450B-A57E-9780EA5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51BA-3722-495E-90C6-9A625B7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D973-690D-4D08-887C-43383A1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73FA-8603-4744-BB7E-4ED94E52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0FFC-5C2C-4701-AB86-70910603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F289-B53E-4808-9F7E-64798E47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C1DD-6AE0-4041-B28D-0F1DD936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5C3B-17FF-493E-B770-DBB6350B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5EBD-7FE3-4AF4-9407-3FA4E74E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4D0B-F537-44EA-BB83-2D28EC0A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8F2-D9CA-468D-9AB6-C1689F22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3B94-1C28-47A0-8B4F-B52F25D2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235B-7651-4C06-8A3E-95BB99EC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9C52-E8EF-464A-BC0F-4B74EF15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106F5-7EA6-4AD3-B7C9-B181B937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7F689-AA1C-4000-B427-D0B17FF1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0011-666A-4820-8344-6C2B1B5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91347-7287-4E57-A768-A7BC7A19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93EA-314F-4341-A797-1CFA5A18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801A-D1F1-4EDC-B022-1C92CAB0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465B8-5131-4FAA-952B-0769A159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281-84CE-43AD-B951-60B02D26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0A72-BF1D-4616-BD13-3DC332B5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87876-DD1C-493C-AECE-371463A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2AAB3-E880-4EDD-AB33-8B81D860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9E79E-7193-462F-841A-BCE24CED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6E48-402A-4C1C-B677-3785E8A4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E055-70E8-402B-A9C5-59331CD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C4996-F3CC-4387-A62A-01318BE0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B5E1-2B02-4BDB-AA14-28D37F6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BB697-B258-4E6E-ADD7-D3AFAAE9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A2908-B8F3-4470-A75E-EC13624D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FA8-1716-4EA6-A82E-D047A2B4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6F20-8FE8-4B54-A659-9A208155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864F9-80EF-4B8F-B17A-10D2755E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EA3EF-5C9F-4D9F-ABAE-0C544227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2E0FF-697E-4B40-A949-58E98C49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0EBD2-5B45-48FF-A09D-AD747191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FE40F-2FD4-4ABE-810E-F3F79799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8F764-DA1F-4C9E-9F47-57A624C6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FE782-EF98-473A-9E2A-D93EAE6F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E58C2-1D07-428E-A867-0FA01296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63B3A-BD90-430D-AEE2-EF50329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E56-9108-46A0-971D-E482E77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62AF2-B1E5-455D-847A-C0419848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BDC97-E8CB-416E-A245-DD8D4785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C0081-8495-4BF2-A982-FCDBE027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636BF-0486-4CB9-AB20-123B609D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97FBC-A5AF-49BE-9C2A-C94BEFB5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653E5-24B1-4C3E-A271-F2205A75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B9926-1A94-4BB1-AA50-1D02D14B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447A4-5BD7-439F-9DB3-B07DEB99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CA2AE-7FA8-493C-B881-68A78042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B8DA2-24D3-483C-BFC7-BB75E6B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54C-293C-4314-9B67-EB937E39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37C73-004B-4464-A9F5-342A667E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0B62F-143B-42FB-9A7A-F55A8F3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890CD-5CA4-4604-8886-EC405BF0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C691F-3ABD-43DA-B3AD-6AB69184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E9DBA-FCDC-4608-A2D2-FDC8E975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CEE-9D89-4558-98B7-12D3B9F3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BEAD-67AD-40CA-9488-21261F38BF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7FE2-0C9B-4BD5-A5A5-EBB5DA2844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DCBC-8E0C-4F5A-A490-F74F582000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6BFD-41AF-4CD8-A5A1-F2D9558760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2D44-BBA8-433C-9D26-F99701E4F4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2040-EDBE-480E-BF7B-8024ECFFA9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FB30-715D-40B0-8AF9-BA294674DC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3300"/>
                </a:solidFill>
                <a:latin typeface="Verdana"/>
              </a:rPr>
              <a:t>Берегись</a:t>
            </a:r>
            <a:r>
              <a:rPr b="1" lang="ru-RU" sz="4300" spc="-1" strike="noStrike">
                <a:solidFill>
                  <a:srgbClr val="572314"/>
                </a:solidFill>
                <a:latin typeface="Verdana"/>
              </a:rPr>
              <a:t> </a:t>
            </a:r>
            <a:r>
              <a:rPr b="1" lang="ru-RU" sz="4300" spc="-1" strike="noStrike">
                <a:solidFill>
                  <a:srgbClr val="993300"/>
                </a:solidFill>
                <a:latin typeface="Verdana"/>
              </a:rPr>
              <a:t>автомобиля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28840" y="39290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одготовил учитель начальных класс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узина Ирина Николае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10"/>
          <p:cNvSpPr/>
          <p:nvPr/>
        </p:nvSpPr>
        <p:spPr>
          <a:xfrm>
            <a:off x="395280" y="3645000"/>
            <a:ext cx="5905440" cy="29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40360" y="0"/>
            <a:ext cx="47527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Тема урока:</a:t>
            </a: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cc6600"/>
                </a:solidFill>
                <a:latin typeface="Verdana"/>
              </a:rPr>
              <a:t>«Берегись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Verdana"/>
              </a:rPr>
              <a:t>     автомобиля!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5327640" cy="1944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Verdana"/>
              </a:rPr>
              <a:t>Правил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cc6600"/>
                </a:solidFill>
                <a:latin typeface="Verdana"/>
              </a:rPr>
              <a:t>для больших и маленьких пешеход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6" descr="Правила дорожного движения детям"/>
          <p:cNvPicPr/>
          <p:nvPr/>
        </p:nvPicPr>
        <p:blipFill>
          <a:blip r:embed="rId1"/>
          <a:stretch/>
        </p:blipFill>
        <p:spPr>
          <a:xfrm>
            <a:off x="0" y="0"/>
            <a:ext cx="3995640" cy="3284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big"/>
          <p:cNvPicPr/>
          <p:nvPr/>
        </p:nvPicPr>
        <p:blipFill>
          <a:blip r:embed="rId2"/>
          <a:stretch/>
        </p:blipFill>
        <p:spPr>
          <a:xfrm>
            <a:off x="6516720" y="3716280"/>
            <a:ext cx="2627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4308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Это интересно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148000" y="15998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5" descr="KMO_085444_02037_1_t207"/>
          <p:cNvPicPr/>
          <p:nvPr/>
        </p:nvPicPr>
        <p:blipFill>
          <a:blip r:embed="rId1"/>
          <a:stretch/>
        </p:blipFill>
        <p:spPr>
          <a:xfrm>
            <a:off x="5219640" y="1628640"/>
            <a:ext cx="3313080" cy="3816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Веселый Светофорик"/>
          <p:cNvPicPr/>
          <p:nvPr/>
        </p:nvPicPr>
        <p:blipFill>
          <a:blip r:embed="rId2"/>
          <a:stretch/>
        </p:blipFill>
        <p:spPr>
          <a:xfrm>
            <a:off x="155520" y="46080"/>
            <a:ext cx="1824120" cy="33336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8"/>
          <p:cNvSpPr/>
          <p:nvPr/>
        </p:nvSpPr>
        <p:spPr>
          <a:xfrm>
            <a:off x="5219640" y="54450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Перв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электр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США  20-е годы  ХХ в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095480" y="5303880"/>
            <a:ext cx="369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14" descr="225"/>
          <p:cNvPicPr/>
          <p:nvPr/>
        </p:nvPicPr>
        <p:blipFill>
          <a:blip r:embed="rId3"/>
          <a:stretch/>
        </p:blipFill>
        <p:spPr>
          <a:xfrm>
            <a:off x="1403280" y="155736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5"/>
          <p:cNvSpPr/>
          <p:nvPr/>
        </p:nvSpPr>
        <p:spPr>
          <a:xfrm>
            <a:off x="0" y="5807160"/>
            <a:ext cx="44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Первый уличный семаф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Лондон     1868 г.      </a:t>
            </a: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XIX </a:t>
            </a: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ве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468360" y="3213000"/>
            <a:ext cx="4680000" cy="3240000"/>
            <a:chOff x="468360" y="3213000"/>
            <a:chExt cx="4680000" cy="3240000"/>
          </a:xfrm>
        </p:grpSpPr>
        <p:sp>
          <p:nvSpPr>
            <p:cNvPr id="334" name="Rectangle 3"/>
            <p:cNvSpPr/>
            <p:nvPr/>
          </p:nvSpPr>
          <p:spPr>
            <a:xfrm>
              <a:off x="468360" y="3254760"/>
              <a:ext cx="1386000" cy="3198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Oval 4"/>
            <p:cNvSpPr/>
            <p:nvPr/>
          </p:nvSpPr>
          <p:spPr>
            <a:xfrm>
              <a:off x="800280" y="4394880"/>
              <a:ext cx="801360" cy="83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Oval 5"/>
            <p:cNvSpPr/>
            <p:nvPr/>
          </p:nvSpPr>
          <p:spPr>
            <a:xfrm>
              <a:off x="785880" y="5339520"/>
              <a:ext cx="801720" cy="8362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Rectangle 6"/>
            <p:cNvSpPr/>
            <p:nvPr/>
          </p:nvSpPr>
          <p:spPr>
            <a:xfrm>
              <a:off x="2125800" y="3213000"/>
              <a:ext cx="1385640" cy="319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Oval 7"/>
            <p:cNvSpPr/>
            <p:nvPr/>
          </p:nvSpPr>
          <p:spPr>
            <a:xfrm>
              <a:off x="2471760" y="3437640"/>
              <a:ext cx="801720" cy="83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Oval 8"/>
            <p:cNvSpPr/>
            <p:nvPr/>
          </p:nvSpPr>
          <p:spPr>
            <a:xfrm>
              <a:off x="2484360" y="5348160"/>
              <a:ext cx="800280" cy="83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Rectangle 9"/>
            <p:cNvSpPr/>
            <p:nvPr/>
          </p:nvSpPr>
          <p:spPr>
            <a:xfrm>
              <a:off x="3762360" y="3233880"/>
              <a:ext cx="1386000" cy="319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Oval 10"/>
            <p:cNvSpPr/>
            <p:nvPr/>
          </p:nvSpPr>
          <p:spPr>
            <a:xfrm>
              <a:off x="4110120" y="3458880"/>
              <a:ext cx="799920" cy="83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Oval 11"/>
            <p:cNvSpPr/>
            <p:nvPr/>
          </p:nvSpPr>
          <p:spPr>
            <a:xfrm>
              <a:off x="4095720" y="4375440"/>
              <a:ext cx="800280" cy="836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826920" y="3449880"/>
              <a:ext cx="801720" cy="8362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Oval 13"/>
            <p:cNvSpPr/>
            <p:nvPr/>
          </p:nvSpPr>
          <p:spPr>
            <a:xfrm>
              <a:off x="2484360" y="4399920"/>
              <a:ext cx="801720" cy="836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Oval 14"/>
            <p:cNvSpPr/>
            <p:nvPr/>
          </p:nvSpPr>
          <p:spPr>
            <a:xfrm>
              <a:off x="4067280" y="5348160"/>
              <a:ext cx="801720" cy="8362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6" name="Oval 15"/>
          <p:cNvSpPr/>
          <p:nvPr/>
        </p:nvSpPr>
        <p:spPr>
          <a:xfrm>
            <a:off x="755640" y="3357720"/>
            <a:ext cx="873000" cy="934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Oval 16"/>
          <p:cNvSpPr/>
          <p:nvPr/>
        </p:nvSpPr>
        <p:spPr>
          <a:xfrm>
            <a:off x="2411280" y="4365720"/>
            <a:ext cx="873360" cy="936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3995640" y="5300640"/>
            <a:ext cx="873360" cy="90648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611280" y="1989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Транспор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" name="Group 19"/>
          <p:cNvGrpSpPr/>
          <p:nvPr/>
        </p:nvGrpSpPr>
        <p:grpSpPr>
          <a:xfrm>
            <a:off x="5796000" y="3429000"/>
            <a:ext cx="2879640" cy="1657440"/>
            <a:chOff x="5796000" y="3429000"/>
            <a:chExt cx="2879640" cy="1657440"/>
          </a:xfrm>
        </p:grpSpPr>
        <p:sp>
          <p:nvSpPr>
            <p:cNvPr id="351" name="Rectangle 20"/>
            <p:cNvSpPr/>
            <p:nvPr/>
          </p:nvSpPr>
          <p:spPr>
            <a:xfrm>
              <a:off x="7467480" y="3429000"/>
              <a:ext cx="1208160" cy="164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21"/>
            <p:cNvSpPr/>
            <p:nvPr/>
          </p:nvSpPr>
          <p:spPr>
            <a:xfrm>
              <a:off x="7705800" y="3462480"/>
              <a:ext cx="749160" cy="7538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22"/>
            <p:cNvSpPr/>
            <p:nvPr/>
          </p:nvSpPr>
          <p:spPr>
            <a:xfrm>
              <a:off x="7705800" y="4265640"/>
              <a:ext cx="749160" cy="755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54" name="Group 23"/>
            <p:cNvGrpSpPr/>
            <p:nvPr/>
          </p:nvGrpSpPr>
          <p:grpSpPr>
            <a:xfrm>
              <a:off x="7885080" y="3502080"/>
              <a:ext cx="339480" cy="635040"/>
              <a:chOff x="7885080" y="3502080"/>
              <a:chExt cx="339480" cy="635040"/>
            </a:xfrm>
          </p:grpSpPr>
          <p:sp>
            <p:nvSpPr>
              <p:cNvPr id="355" name="Oval 24"/>
              <p:cNvSpPr/>
              <p:nvPr/>
            </p:nvSpPr>
            <p:spPr>
              <a:xfrm>
                <a:off x="7991280" y="3502080"/>
                <a:ext cx="144720" cy="1652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6" name="Line 25"/>
              <p:cNvSpPr/>
              <p:nvPr/>
            </p:nvSpPr>
            <p:spPr>
              <a:xfrm flipH="1">
                <a:off x="7885080" y="3670560"/>
                <a:ext cx="193680" cy="17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Line 26"/>
              <p:cNvSpPr/>
              <p:nvPr/>
            </p:nvSpPr>
            <p:spPr>
              <a:xfrm>
                <a:off x="8078760" y="3670560"/>
                <a:ext cx="145800" cy="1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8" name="Line 27"/>
              <p:cNvSpPr/>
              <p:nvPr/>
            </p:nvSpPr>
            <p:spPr>
              <a:xfrm flipH="1">
                <a:off x="7989480" y="3713400"/>
                <a:ext cx="73080" cy="41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Line 28"/>
              <p:cNvSpPr/>
              <p:nvPr/>
            </p:nvSpPr>
            <p:spPr>
              <a:xfrm>
                <a:off x="8062920" y="3713400"/>
                <a:ext cx="48960" cy="42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Rectangle 29"/>
            <p:cNvSpPr/>
            <p:nvPr/>
          </p:nvSpPr>
          <p:spPr>
            <a:xfrm>
              <a:off x="5796000" y="3444840"/>
              <a:ext cx="1208160" cy="164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Oval 30"/>
            <p:cNvSpPr/>
            <p:nvPr/>
          </p:nvSpPr>
          <p:spPr>
            <a:xfrm>
              <a:off x="6033960" y="3478320"/>
              <a:ext cx="747720" cy="7538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Oval 31"/>
            <p:cNvSpPr/>
            <p:nvPr/>
          </p:nvSpPr>
          <p:spPr>
            <a:xfrm>
              <a:off x="6033960" y="4282920"/>
              <a:ext cx="747720" cy="7542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3" name="Group 32"/>
            <p:cNvGrpSpPr/>
            <p:nvPr/>
          </p:nvGrpSpPr>
          <p:grpSpPr>
            <a:xfrm>
              <a:off x="6227640" y="4365720"/>
              <a:ext cx="371160" cy="608040"/>
              <a:chOff x="6227640" y="4365720"/>
              <a:chExt cx="371160" cy="608040"/>
            </a:xfrm>
          </p:grpSpPr>
          <p:sp>
            <p:nvSpPr>
              <p:cNvPr id="364" name="Oval 33"/>
              <p:cNvSpPr/>
              <p:nvPr/>
            </p:nvSpPr>
            <p:spPr>
              <a:xfrm>
                <a:off x="6391080" y="4365720"/>
                <a:ext cx="144360" cy="162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Line 34"/>
              <p:cNvSpPr/>
              <p:nvPr/>
            </p:nvSpPr>
            <p:spPr>
              <a:xfrm flipH="1">
                <a:off x="6227640" y="4514760"/>
                <a:ext cx="27144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Line 35"/>
              <p:cNvSpPr/>
              <p:nvPr/>
            </p:nvSpPr>
            <p:spPr>
              <a:xfrm>
                <a:off x="6445080" y="4519440"/>
                <a:ext cx="136440" cy="12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Line 36"/>
              <p:cNvSpPr/>
              <p:nvPr/>
            </p:nvSpPr>
            <p:spPr>
              <a:xfrm flipH="1">
                <a:off x="6339960" y="4559400"/>
                <a:ext cx="136440" cy="226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Line 37"/>
              <p:cNvSpPr/>
              <p:nvPr/>
            </p:nvSpPr>
            <p:spPr>
              <a:xfrm>
                <a:off x="6445080" y="4591080"/>
                <a:ext cx="0" cy="24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Line 38"/>
              <p:cNvSpPr/>
              <p:nvPr/>
            </p:nvSpPr>
            <p:spPr>
              <a:xfrm flipH="1">
                <a:off x="6496920" y="4619520"/>
                <a:ext cx="101880" cy="128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Line 39"/>
              <p:cNvSpPr/>
              <p:nvPr/>
            </p:nvSpPr>
            <p:spPr>
              <a:xfrm>
                <a:off x="6352920" y="4770360"/>
                <a:ext cx="33480" cy="20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Line 40"/>
              <p:cNvSpPr/>
              <p:nvPr/>
            </p:nvSpPr>
            <p:spPr>
              <a:xfrm>
                <a:off x="6445080" y="4807080"/>
                <a:ext cx="14292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72" name="Text Box 41"/>
          <p:cNvSpPr/>
          <p:nvPr/>
        </p:nvSpPr>
        <p:spPr>
          <a:xfrm>
            <a:off x="5651640" y="2060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Пешеход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42"/>
          <p:cNvSpPr/>
          <p:nvPr/>
        </p:nvSpPr>
        <p:spPr>
          <a:xfrm>
            <a:off x="558000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«Идите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43"/>
          <p:cNvSpPr/>
          <p:nvPr/>
        </p:nvSpPr>
        <p:spPr>
          <a:xfrm>
            <a:off x="7164360" y="5545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«Стойте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Verdana"/>
              </a:rPr>
              <a:t>Знаете ли вы сигналы светофора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Verdana"/>
              </a:rPr>
              <a:t>Знаете ли вы дорожные знаки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7" name="Picture 15" descr="ДЗ 1"/>
          <p:cNvPicPr/>
          <p:nvPr/>
        </p:nvPicPr>
        <p:blipFill>
          <a:blip r:embed="rId1"/>
          <a:stretch/>
        </p:blipFill>
        <p:spPr>
          <a:xfrm>
            <a:off x="755640" y="1700280"/>
            <a:ext cx="3745080" cy="32414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468360" y="5519880"/>
            <a:ext cx="331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1440" y="5516640"/>
            <a:ext cx="91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5076720" y="5013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Подземный пешеходный перех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50920" y="5157720"/>
            <a:ext cx="424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Надземный пешеходный перех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13" descr="Безымянный"/>
          <p:cNvPicPr/>
          <p:nvPr/>
        </p:nvPicPr>
        <p:blipFill>
          <a:blip r:embed="rId2"/>
          <a:stretch/>
        </p:blipFill>
        <p:spPr>
          <a:xfrm>
            <a:off x="5076720" y="1700280"/>
            <a:ext cx="35989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Знаете ли вы дорожные знаки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Содержимое 6" descr="4.gif"/>
          <p:cNvPicPr/>
          <p:nvPr/>
        </p:nvPicPr>
        <p:blipFill>
          <a:blip r:embed="rId1"/>
          <a:stretch/>
        </p:blipFill>
        <p:spPr>
          <a:xfrm>
            <a:off x="4932360" y="1557360"/>
            <a:ext cx="3527280" cy="354168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6" descr="1.gif"/>
          <p:cNvPicPr/>
          <p:nvPr/>
        </p:nvPicPr>
        <p:blipFill>
          <a:blip r:embed="rId2"/>
          <a:stretch/>
        </p:blipFill>
        <p:spPr>
          <a:xfrm>
            <a:off x="324000" y="1484280"/>
            <a:ext cx="3456000" cy="36003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6"/>
          <p:cNvSpPr/>
          <p:nvPr/>
        </p:nvSpPr>
        <p:spPr>
          <a:xfrm>
            <a:off x="555480" y="5867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5003640" y="501336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Движение н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велосипед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324000" y="5013360"/>
            <a:ext cx="35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Движе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пешеход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Verdana"/>
              </a:rPr>
              <a:t>Знаете ли вы дорожные знаки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0" name="Рисунок 5" descr="CG33.png"/>
          <p:cNvPicPr/>
          <p:nvPr/>
        </p:nvPicPr>
        <p:blipFill>
          <a:blip r:embed="rId1"/>
          <a:stretch/>
        </p:blipFill>
        <p:spPr>
          <a:xfrm>
            <a:off x="324000" y="1484280"/>
            <a:ext cx="3600360" cy="35625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3" descr="26.gif"/>
          <p:cNvPicPr/>
          <p:nvPr/>
        </p:nvPicPr>
        <p:blipFill>
          <a:blip r:embed="rId2"/>
          <a:stretch/>
        </p:blipFill>
        <p:spPr>
          <a:xfrm>
            <a:off x="5003640" y="1552680"/>
            <a:ext cx="3708720" cy="35352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108000" y="52293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Пешеходн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перех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4932360" y="515772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Пешеходна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Verdana"/>
              </a:rPr>
              <a:t>дорож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53:19Z</dcterms:created>
  <dc:creator>марина</dc:creator>
  <dc:description/>
  <dc:language>en-US</dc:language>
  <cp:lastModifiedBy>Снош</cp:lastModifiedBy>
  <dcterms:modified xsi:type="dcterms:W3CDTF">2022-03-31T08:32:41Z</dcterms:modified>
  <cp:revision>28</cp:revision>
  <dc:subject/>
  <dc:title>Берегись автомобиля!</dc:title>
</cp:coreProperties>
</file>