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0BB-1F5E-4CA3-B0F3-B74E93B9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582-CDA4-475D-A567-CB3B441E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575-1811-463C-A7E5-9A15261F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0C0-48D9-4119-8849-B70D33F8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9EA13-2DD5-466A-82FA-CC9E5C9C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352E8-DB58-4DB5-BD2A-A26DEAEA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8E13F-A384-4538-A147-5EA4C41C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B2292-F1C9-4B85-A97E-5EDE18FB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C601E-B86E-4E64-BB08-EAC01035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DA119-7660-4639-8C07-DE4D6650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94F4F-F0DA-43CF-A6C9-9299767B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92E-A288-4ABF-9F56-2B14FE58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B9AD8-3DA8-436C-8DC7-7A0074CF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1F670-5B0A-45E0-B3BF-2A1A8B93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66D2C-9E18-4B4C-A582-19AD893C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D9913-9D21-4230-B0A0-78A3480C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C5341-4E35-4D60-A483-ED63328E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4CE-B7B7-4F2F-AB6E-B569E264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780-61D2-4B06-ABE9-83DDA4AA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ABA-4B83-4AF3-AED5-5AABEB18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836-F2A5-456C-AE60-F5B72CB0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0F7-0549-4E89-B7D3-BF8852E4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D4D-65C1-4894-844C-129EDC0D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E1A-3162-4B50-9EA9-F81BC618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3F3E-ECDD-49BE-B211-10FF7F196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273F-1537-4CA8-9E1D-A25955A3C7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64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800" spc="-1" strike="noStrike">
                <a:solidFill>
                  <a:srgbClr val="ffff66"/>
                </a:solidFill>
                <a:latin typeface="Tahoma"/>
              </a:rPr>
              <a:t>Чётные и нечётные чис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ahoma"/>
              </a:rPr>
              <a:t>Задание 4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ыполни 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умножь на 2 все четные числа в числовом ряду от 1 до 10. Расскажи, какие получились числа – четные или нечетны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умножь на 2 все нечетные числа в этом же ряду. Расскажи, какие получились числа – четные или нечетны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оверь себ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       2         4         6         8         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        8         12        16      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     1         3         5           7         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        6         10         14         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Tahoma"/>
              </a:rPr>
              <a:t>Делаем выв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записанные числа четные и нечет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ое число, четное или нечетное получается при умножении любого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 2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0_534c6_d5f14a3f_XL"/>
          <p:cNvPicPr/>
          <p:nvPr/>
        </p:nvPicPr>
        <p:blipFill>
          <a:blip r:embed="rId1"/>
          <a:stretch/>
        </p:blipFill>
        <p:spPr>
          <a:xfrm>
            <a:off x="2050920" y="3220920"/>
            <a:ext cx="6624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ff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и умножении любого числа на 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лучается четное числ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942"/>
          <p:cNvPicPr/>
          <p:nvPr/>
        </p:nvPicPr>
        <p:blipFill>
          <a:blip r:embed="rId1"/>
          <a:stretch/>
        </p:blipFill>
        <p:spPr>
          <a:xfrm>
            <a:off x="2556000" y="3213000"/>
            <a:ext cx="3848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III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. Первичное закрепление</a:t>
            </a:r>
            <a:br>
              <a:rPr sz="4000"/>
            </a:b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(использование нового знания при решении задач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5 (а) стр. 6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делайте рисунок и решите задач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емь  ребят  разделились  в  группы  по  2  человека.  Сколько  групп получило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ктическая раб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IV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. Самостоятельная работа в парах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Tahoma"/>
              </a:rPr>
              <a:t>Задание 5 (б) стр. 6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осемь ребят разделились на 2 группы поровну. Сколько человек в одной групп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лан выполнения зад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ъясняют друг другу зад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исывают реш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аимопровер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результата (одним учеником из пар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V. Систематизация и повторени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Tahoma"/>
              </a:rPr>
              <a:t>А) Работа в парах (по варианта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в – № 6 (1, 2 столби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в – № 6 (3, 4 столби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0_5d7fd_eb66e1f1_XL"/>
          <p:cNvPicPr/>
          <p:nvPr/>
        </p:nvPicPr>
        <p:blipFill>
          <a:blip r:embed="rId1"/>
          <a:stretch/>
        </p:blipFill>
        <p:spPr>
          <a:xfrm>
            <a:off x="5076720" y="3716280"/>
            <a:ext cx="35989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Tahoma"/>
              </a:rPr>
              <a:t>Б) Вставь вместо «*» знаки «·» или «: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 * 2 = 4            2 * 5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* 2 = 12          4 * 2 =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 * 2 = 14          18 * 9 =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6 * 8 = 2          3 * 2 =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i7Luv5Gy2F"/>
          <p:cNvPicPr/>
          <p:nvPr/>
        </p:nvPicPr>
        <p:blipFill>
          <a:blip r:embed="rId1"/>
          <a:stretch/>
        </p:blipFill>
        <p:spPr>
          <a:xfrm>
            <a:off x="0" y="2997360"/>
            <a:ext cx="3203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Фронтальная работа, на перестановку четырех элементов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9966"/>
                </a:solidFill>
                <a:latin typeface="Tahoma"/>
              </a:rPr>
              <a:t>9 (стр. 6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различных четных и двузначных чисел можно написать с помощью цифр 1, 3, 2, 0, ес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цифры в числе могут повторять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цифры в числе не повторяю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ffff66"/>
                </a:solidFill>
                <a:latin typeface="Tahoma"/>
              </a:rPr>
              <a:t>. Устный счё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Tahoma"/>
              </a:rPr>
              <a:t>А) «Кто первый решит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        </a:t>
            </a: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(Работа по рядам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 : 9 =               4 х 2 =                        5 х 2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 : 2 =                12 : 2 =                       10 : 5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х 3 =                2 х 2 =                        6 х 2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6 : 2 =              14 : 7 =                       16 : 8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 : 2 =                18 : 2 =                       2  х 8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0 : 2 =              14 : 2 =                       9 х 2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6682eb9cbb91"/>
          <p:cNvPicPr/>
          <p:nvPr/>
        </p:nvPicPr>
        <p:blipFill>
          <a:blip r:embed="rId1"/>
          <a:stretch/>
        </p:blipFill>
        <p:spPr>
          <a:xfrm>
            <a:off x="6335640" y="0"/>
            <a:ext cx="28083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99"/>
                </a:solidFill>
                <a:latin typeface="Tahoma"/>
              </a:rPr>
              <a:t>Проверь себ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10, 12, 20, 30, 32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7" descr="krosh"/>
          <p:cNvPicPr/>
          <p:nvPr/>
        </p:nvPicPr>
        <p:blipFill>
          <a:blip r:embed="rId1"/>
          <a:stretch/>
        </p:blipFill>
        <p:spPr>
          <a:xfrm rot="19260000">
            <a:off x="3634920" y="1843200"/>
            <a:ext cx="508968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VI. Итоги урок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ем занималис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ое задание понравилос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больше вс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ое задание захотелос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ыполнить еще раз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0_6d81a_65187776_XL"/>
          <p:cNvPicPr/>
          <p:nvPr/>
        </p:nvPicPr>
        <p:blipFill>
          <a:blip r:embed="rId1"/>
          <a:stretch/>
        </p:blipFill>
        <p:spPr>
          <a:xfrm>
            <a:off x="5183280" y="1889280"/>
            <a:ext cx="3960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Tahoma"/>
              </a:rPr>
              <a:t>VII. Предполагаемая домашняя работ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7, 8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2043_full"/>
          <p:cNvPicPr/>
          <p:nvPr/>
        </p:nvPicPr>
        <p:blipFill>
          <a:blip r:embed="rId1"/>
          <a:stretch/>
        </p:blipFill>
        <p:spPr>
          <a:xfrm>
            <a:off x="4143240" y="3105000"/>
            <a:ext cx="50007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8" descr="f460a46cf1b9"/>
          <p:cNvPicPr/>
          <p:nvPr/>
        </p:nvPicPr>
        <p:blipFill>
          <a:blip r:embed="rId1"/>
          <a:stretch/>
        </p:blipFill>
        <p:spPr>
          <a:xfrm>
            <a:off x="684360" y="1484280"/>
            <a:ext cx="7848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66"/>
                </a:solidFill>
                <a:latin typeface="Tahoma"/>
              </a:rPr>
              <a:t>б) </a:t>
            </a:r>
            <a:r>
              <a:rPr b="0" i="1" lang="ru-RU" sz="4000" spc="-1" strike="noStrike">
                <a:solidFill>
                  <a:srgbClr val="ff9966"/>
                </a:solidFill>
                <a:latin typeface="Tahoma"/>
              </a:rPr>
              <a:t>Составьте слова, найдите лишне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ПОКТА                     ЧАТРЕП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СОКОН                     ПКА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РЕЖВАКА                 ФР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ие из этих предметов используются только по два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ерно ли выполнено задани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ой вопрос был самым труд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амы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легким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ую оценку заслужи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оверь себ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i?id=458394738-35-72"/>
          <p:cNvPicPr/>
          <p:nvPr/>
        </p:nvPicPr>
        <p:blipFill>
          <a:blip r:embed="rId1"/>
          <a:stretch/>
        </p:blipFill>
        <p:spPr>
          <a:xfrm>
            <a:off x="5219640" y="3429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i?id=62869931-22-72"/>
          <p:cNvPicPr/>
          <p:nvPr/>
        </p:nvPicPr>
        <p:blipFill>
          <a:blip r:embed="rId2"/>
          <a:stretch/>
        </p:blipFill>
        <p:spPr>
          <a:xfrm>
            <a:off x="1692360" y="4941720"/>
            <a:ext cx="140976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?id=165459921-32-72"/>
          <p:cNvPicPr/>
          <p:nvPr/>
        </p:nvPicPr>
        <p:blipFill>
          <a:blip r:embed="rId3"/>
          <a:stretch/>
        </p:blipFill>
        <p:spPr>
          <a:xfrm>
            <a:off x="1835280" y="2133720"/>
            <a:ext cx="733320" cy="142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?id=66570453-40-72"/>
          <p:cNvPicPr/>
          <p:nvPr/>
        </p:nvPicPr>
        <p:blipFill>
          <a:blip r:embed="rId4"/>
          <a:stretch/>
        </p:blipFill>
        <p:spPr>
          <a:xfrm>
            <a:off x="5364000" y="2205000"/>
            <a:ext cx="1428840" cy="9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i?id=303148396-22-72"/>
          <p:cNvPicPr/>
          <p:nvPr/>
        </p:nvPicPr>
        <p:blipFill>
          <a:blip r:embed="rId5"/>
          <a:stretch/>
        </p:blipFill>
        <p:spPr>
          <a:xfrm>
            <a:off x="5508720" y="5013360"/>
            <a:ext cx="113328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i?id=270816996-71-72"/>
          <p:cNvPicPr/>
          <p:nvPr/>
        </p:nvPicPr>
        <p:blipFill>
          <a:blip r:embed="rId6"/>
          <a:stretch/>
        </p:blipFill>
        <p:spPr>
          <a:xfrm>
            <a:off x="1547640" y="3716280"/>
            <a:ext cx="142884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ffff66"/>
                </a:solidFill>
                <a:latin typeface="Tahoma"/>
              </a:rPr>
              <a:t>. «Открытие» нового зн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9966"/>
                </a:solidFill>
                <a:latin typeface="Tahoma"/>
              </a:rPr>
              <a:t>Разложить варежки парами(по д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1" descr="i?id=295165836-33-72"/>
          <p:cNvPicPr/>
          <p:nvPr/>
        </p:nvPicPr>
        <p:blipFill>
          <a:blip r:embed="rId1"/>
          <a:stretch/>
        </p:blipFill>
        <p:spPr>
          <a:xfrm>
            <a:off x="7812000" y="3213000"/>
            <a:ext cx="77148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1" descr="i?id=295165836-33-72"/>
          <p:cNvPicPr/>
          <p:nvPr/>
        </p:nvPicPr>
        <p:blipFill>
          <a:blip r:embed="rId2"/>
          <a:stretch/>
        </p:blipFill>
        <p:spPr>
          <a:xfrm>
            <a:off x="684360" y="2852640"/>
            <a:ext cx="77148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5" descr="i?id=112008042-11-72"/>
          <p:cNvPicPr/>
          <p:nvPr/>
        </p:nvPicPr>
        <p:blipFill>
          <a:blip r:embed="rId3"/>
          <a:stretch/>
        </p:blipFill>
        <p:spPr>
          <a:xfrm>
            <a:off x="1332000" y="4365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i?id=112008042-11-72"/>
          <p:cNvPicPr/>
          <p:nvPr/>
        </p:nvPicPr>
        <p:blipFill>
          <a:blip r:embed="rId4"/>
          <a:stretch/>
        </p:blipFill>
        <p:spPr>
          <a:xfrm>
            <a:off x="5292720" y="2852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9" descr="i?id=399047123-02-72"/>
          <p:cNvPicPr/>
          <p:nvPr/>
        </p:nvPicPr>
        <p:blipFill>
          <a:blip r:embed="rId5"/>
          <a:stretch/>
        </p:blipFill>
        <p:spPr>
          <a:xfrm>
            <a:off x="2627280" y="2852640"/>
            <a:ext cx="1428840" cy="119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i?id=399047123-02-72"/>
          <p:cNvPicPr/>
          <p:nvPr/>
        </p:nvPicPr>
        <p:blipFill>
          <a:blip r:embed="rId6"/>
          <a:stretch/>
        </p:blipFill>
        <p:spPr>
          <a:xfrm>
            <a:off x="6227640" y="46530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3" descr="i?id=298688773-10-72"/>
          <p:cNvPicPr/>
          <p:nvPr/>
        </p:nvPicPr>
        <p:blipFill>
          <a:blip r:embed="rId7"/>
          <a:stretch/>
        </p:blipFill>
        <p:spPr>
          <a:xfrm>
            <a:off x="3851280" y="443700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режки разложить парами в соответствии с их цветами, при этом варежка останется без па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i?id=298688773-10-72"/>
          <p:cNvPicPr/>
          <p:nvPr/>
        </p:nvPicPr>
        <p:blipFill>
          <a:blip r:embed="rId1"/>
          <a:stretch/>
        </p:blipFill>
        <p:spPr>
          <a:xfrm>
            <a:off x="3348000" y="386064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66"/>
                </a:solidFill>
                <a:latin typeface="Tahoma"/>
              </a:rPr>
              <a:t>            </a:t>
            </a:r>
            <a:r>
              <a:rPr b="0" lang="ru-RU" sz="4000" spc="-1" strike="noStrike">
                <a:solidFill>
                  <a:srgbClr val="ff9966"/>
                </a:solidFill>
                <a:latin typeface="Tahoma"/>
              </a:rPr>
              <a:t>Задание 2 (с.66) </a:t>
            </a:r>
            <a:br>
              <a:rPr sz="4000"/>
            </a:br>
            <a:r>
              <a:rPr b="0" lang="ru-RU" sz="4000" spc="-1" strike="noStrike">
                <a:solidFill>
                  <a:srgbClr val="ff9966"/>
                </a:solidFill>
                <a:latin typeface="Tahoma"/>
              </a:rPr>
              <a:t>        Практическая работ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злож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о два 6 красных кружков, 9 синих кружков, 10 зеленых круж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на две равные части 3 красных кружка, 4 синих кружка, 5 зеленых круж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оверь себ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 кружки удалось разложить пара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не удало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, 4, 10            9, 3, 5, 7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079248033474cd7c4ba90e"/>
          <p:cNvPicPr/>
          <p:nvPr/>
        </p:nvPicPr>
        <p:blipFill>
          <a:blip r:embed="rId1"/>
          <a:stretch/>
        </p:blipFill>
        <p:spPr>
          <a:xfrm>
            <a:off x="5940360" y="3284640"/>
            <a:ext cx="3203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а 4, 6, 10 делятся на 2. Они называются </a:t>
            </a:r>
            <a:r>
              <a:rPr b="1" i="1" lang="ru-RU" sz="3600" spc="-1" strike="noStrike">
                <a:solidFill>
                  <a:srgbClr val="ffff66"/>
                </a:solidFill>
                <a:latin typeface="Tahoma"/>
              </a:rPr>
              <a:t>четны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а 3, 5, 7, 9 не делятся на 2. Они называются </a:t>
            </a:r>
            <a:r>
              <a:rPr b="1" i="1" lang="ru-RU" sz="3600" spc="-1" strike="noStrike">
                <a:solidFill>
                  <a:srgbClr val="ffff66"/>
                </a:solidFill>
                <a:latin typeface="Tahoma"/>
              </a:rPr>
              <a:t>нечетны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тные и нечетные числа в числовом ряду чередуют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7a5c32a7267b"/>
          <p:cNvPicPr/>
          <p:nvPr/>
        </p:nvPicPr>
        <p:blipFill>
          <a:blip r:embed="rId1"/>
          <a:stretch/>
        </p:blipFill>
        <p:spPr>
          <a:xfrm>
            <a:off x="3995640" y="0"/>
            <a:ext cx="47530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6:31:19Z</dcterms:created>
  <dc:creator>User402B-13</dc:creator>
  <dc:description/>
  <dc:language>en-US</dc:language>
  <cp:lastModifiedBy>Людмила Владимировна Руденко</cp:lastModifiedBy>
  <dcterms:modified xsi:type="dcterms:W3CDTF">2019-11-22T05:55:04Z</dcterms:modified>
  <cp:revision>5</cp:revision>
  <dc:subject/>
  <dc:title>Чётные и нечётные числа</dc:title>
</cp:coreProperties>
</file>