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CC5-5D96-49B3-8823-93B0539D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7E1-D9E7-4B86-8DFC-937B7BCD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781-AF15-4C8B-88A4-83EBE4C4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A1F-6DBB-4C0D-8B90-25CB0B4C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6A1A-85CF-4B99-AA0A-D6FDB611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7F6F-7268-4193-A1D5-B927F106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AD1F-8166-4D5A-9530-F6C82D9B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A2AE-2C58-4BEF-A6D2-F8974D4C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5CFE-9A7A-4622-8D70-A67FB081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50CF-CF55-4B7F-BB22-E98DD7EC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6DBC-356D-412F-8F87-83CA3013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B39-2528-449D-9D23-A0670D2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2A67-6FA2-4EE3-95B4-EA2A7881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CB3F-3DB5-4FB1-ACFE-471B529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E3A0-0E03-4E71-99F3-A41F8C6F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58AC-1C45-4D50-9F3A-76BDE96C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B8BF-DC5C-40C9-9711-BFA71DB9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095-E30D-467B-9244-5D3489EF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B24-A013-4AF5-9499-19ED63E5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DCC-6526-46EB-AFB7-C350C56A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133-1D05-42DD-A1EE-FA663EDE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4C2-CDC0-49E6-8DFC-2B629B4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811-0064-4A99-8468-2F447E9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B9B-177D-4DEC-8A72-F93D5CD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91D6-5F75-451A-8DD1-F90ADF7492B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0598-567F-4E5E-B73C-3F64A29E0C9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6920" y="1125360"/>
            <a:ext cx="8218440" cy="264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95280" y="404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828720" y="2924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0" y="476280"/>
            <a:ext cx="8934480" cy="56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ткрытый урок в 1 класс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о математик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Тема: Децимет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Учитель: Руденко Л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-459000"/>
            <a:ext cx="785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4000" y="692280"/>
            <a:ext cx="8496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17см  =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19см  =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11см  =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211640" y="119700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995640" y="620640"/>
            <a:ext cx="46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1дм 7см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995640" y="249228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1дм 9см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995640" y="422100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1дм 1см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24000" y="981000"/>
            <a:ext cx="864072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Arial"/>
              </a:rPr>
              <a:t>2 дм  +     дм  =  5дм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Arial"/>
              </a:rPr>
              <a:t>4 дм  +     дм  =  7дм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Arial"/>
              </a:rPr>
              <a:t>8 дм  -      дм  =  7дм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564000" y="981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564000" y="981000"/>
            <a:ext cx="43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64000" y="249228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642120" y="4005360"/>
            <a:ext cx="646920" cy="109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564000" y="249228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35280" y="40053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95280" y="404640"/>
            <a:ext cx="856944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Arial"/>
              </a:rPr>
              <a:t>3 дм       9 дм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Arial"/>
              </a:rPr>
              <a:t>1 дм       10 см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Arial"/>
              </a:rPr>
              <a:t>6 дм       4 дм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132000" y="476280"/>
            <a:ext cx="19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. . .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133080" y="2708280"/>
            <a:ext cx="18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. . .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059280" y="486900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. . .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564000" y="4762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Arial"/>
              </a:rPr>
              <a:t>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3635280" y="2349360"/>
            <a:ext cx="1079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96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3564000" y="4869000"/>
            <a:ext cx="11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Arial"/>
              </a:rPr>
              <a:t>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6"/>
          <p:cNvSpPr txBox="1"/>
          <p:nvPr/>
        </p:nvSpPr>
        <p:spPr>
          <a:xfrm>
            <a:off x="684360" y="836640"/>
            <a:ext cx="2592360" cy="422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3419640" y="836640"/>
            <a:ext cx="41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b800"/>
                </a:solidFill>
                <a:latin typeface="Comic Sans MS"/>
              </a:rPr>
              <a:t>- з н а ю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419640" y="2349360"/>
            <a:ext cx="57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b800"/>
                </a:solidFill>
                <a:latin typeface="Comic Sans MS"/>
              </a:rPr>
              <a:t>- запомни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419640" y="3716280"/>
            <a:ext cx="40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b800"/>
                </a:solidFill>
                <a:latin typeface="Comic Sans MS"/>
              </a:rPr>
              <a:t>- с м о г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116000" y="1773360"/>
            <a:ext cx="684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 о н е ц !!!!!!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4f16f6c6236a"/>
          <p:cNvPicPr/>
          <p:nvPr/>
        </p:nvPicPr>
        <p:blipFill>
          <a:blip r:embed="rId1"/>
          <a:stretch/>
        </p:blipFill>
        <p:spPr>
          <a:xfrm>
            <a:off x="324000" y="620640"/>
            <a:ext cx="280800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31046113"/>
          <p:cNvPicPr/>
          <p:nvPr/>
        </p:nvPicPr>
        <p:blipFill>
          <a:blip r:embed="rId2"/>
          <a:stretch/>
        </p:blipFill>
        <p:spPr>
          <a:xfrm>
            <a:off x="324000" y="2565360"/>
            <a:ext cx="2814480" cy="1982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0_ENL_~1"/>
          <p:cNvPicPr/>
          <p:nvPr/>
        </p:nvPicPr>
        <p:blipFill>
          <a:blip r:embed="rId3"/>
          <a:stretch/>
        </p:blipFill>
        <p:spPr>
          <a:xfrm>
            <a:off x="324000" y="4508640"/>
            <a:ext cx="280800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0_ENL_~1"/>
          <p:cNvPicPr/>
          <p:nvPr/>
        </p:nvPicPr>
        <p:blipFill>
          <a:blip r:embed="rId4"/>
          <a:stretch/>
        </p:blipFill>
        <p:spPr>
          <a:xfrm>
            <a:off x="3132000" y="256536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0_ENL_~1"/>
          <p:cNvPicPr/>
          <p:nvPr/>
        </p:nvPicPr>
        <p:blipFill>
          <a:blip r:embed="rId5"/>
          <a:stretch/>
        </p:blipFill>
        <p:spPr>
          <a:xfrm>
            <a:off x="5940360" y="62064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4f16f6c6236a"/>
          <p:cNvPicPr/>
          <p:nvPr/>
        </p:nvPicPr>
        <p:blipFill>
          <a:blip r:embed="rId6"/>
          <a:stretch/>
        </p:blipFill>
        <p:spPr>
          <a:xfrm>
            <a:off x="5940360" y="2565360"/>
            <a:ext cx="2808360" cy="194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4f16f6c6236a"/>
          <p:cNvPicPr/>
          <p:nvPr/>
        </p:nvPicPr>
        <p:blipFill>
          <a:blip r:embed="rId7"/>
          <a:stretch/>
        </p:blipFill>
        <p:spPr>
          <a:xfrm>
            <a:off x="3132000" y="450864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231046113"/>
          <p:cNvPicPr/>
          <p:nvPr/>
        </p:nvPicPr>
        <p:blipFill>
          <a:blip r:embed="rId8"/>
          <a:stretch/>
        </p:blipFill>
        <p:spPr>
          <a:xfrm>
            <a:off x="3132000" y="620640"/>
            <a:ext cx="2814840" cy="1982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231046113"/>
          <p:cNvPicPr/>
          <p:nvPr/>
        </p:nvPicPr>
        <p:blipFill>
          <a:blip r:embed="rId9"/>
          <a:stretch/>
        </p:blipFill>
        <p:spPr>
          <a:xfrm>
            <a:off x="5867280" y="458136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6"/>
          <p:cNvSpPr/>
          <p:nvPr/>
        </p:nvSpPr>
        <p:spPr>
          <a:xfrm>
            <a:off x="7093080" y="4797360"/>
            <a:ext cx="11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468360" y="28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5,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835280" y="28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9,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203640" y="2852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1,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427640" y="28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3,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867280" y="2852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9,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948360" y="2852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7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4f16f6c6236a"/>
          <p:cNvPicPr/>
          <p:nvPr/>
        </p:nvPicPr>
        <p:blipFill>
          <a:blip r:embed="rId1"/>
          <a:stretch/>
        </p:blipFill>
        <p:spPr>
          <a:xfrm>
            <a:off x="2340000" y="115920"/>
            <a:ext cx="4176720" cy="23032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63640" y="2637000"/>
            <a:ext cx="712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м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с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с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763640" y="40766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Arial"/>
              </a:rPr>
              <a:t>2 д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763640" y="4149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д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WordArt 5"/>
          <p:cNvSpPr txBox="1"/>
          <p:nvPr/>
        </p:nvSpPr>
        <p:spPr>
          <a:xfrm>
            <a:off x="324000" y="549360"/>
            <a:ext cx="842472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циметр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дм)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10 СМ = 1 ДМ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  1 ДМ = 10 С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71640" y="393336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Epicrates-angulifer-2"/>
          <p:cNvPicPr/>
          <p:nvPr/>
        </p:nvPicPr>
        <p:blipFill>
          <a:blip r:embed="rId1"/>
          <a:stretch/>
        </p:blipFill>
        <p:spPr>
          <a:xfrm>
            <a:off x="1116000" y="549360"/>
            <a:ext cx="7056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6696360" cy="5256360"/>
          </a:xfrm>
          <a:prstGeom prst="rect">
            <a:avLst/>
          </a:prstGeom>
          <a:ln w="0">
            <a:noFill/>
          </a:ln>
        </p:spPr>
      </p:pic>
      <p:sp>
        <p:nvSpPr>
          <p:cNvPr id="186" name="Oval 5"/>
          <p:cNvSpPr/>
          <p:nvPr/>
        </p:nvSpPr>
        <p:spPr>
          <a:xfrm>
            <a:off x="1476360" y="2781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7093080" y="2781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1692360" y="2924280"/>
            <a:ext cx="5616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276720" y="1916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omic Sans MS"/>
              </a:rPr>
              <a:t>12 с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59752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3564000" y="189000"/>
            <a:ext cx="3600360" cy="254952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8"/>
          <p:cNvSpPr/>
          <p:nvPr/>
        </p:nvSpPr>
        <p:spPr>
          <a:xfrm rot="13522200">
            <a:off x="5988600" y="2004120"/>
            <a:ext cx="1511280" cy="29700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4160 h 297000"/>
              <a:gd name="textAreaBottom" fmla="*/ 222840 h 297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9"/>
          <p:cNvSpPr/>
          <p:nvPr/>
        </p:nvSpPr>
        <p:spPr>
          <a:xfrm rot="905400">
            <a:off x="2195640" y="836640"/>
            <a:ext cx="1730160" cy="358920"/>
          </a:xfrm>
          <a:custGeom>
            <a:avLst/>
            <a:gdLst>
              <a:gd name="textAreaLeft" fmla="*/ 270360 w 1730160"/>
              <a:gd name="textAreaRight" fmla="*/ 1597320 w 1730160"/>
              <a:gd name="textAreaTop" fmla="*/ 117720 h 358920"/>
              <a:gd name="textAreaBottom" fmla="*/ 241200 h 358920"/>
            </a:gdLst>
            <a:ahLst/>
            <a:rect l="textAreaLeft" t="textAreaTop" r="textAreaRight" b="textAreaBottom"/>
            <a:pathLst>
              <a:path w="21600" h="21600">
                <a:moveTo>
                  <a:pt x="16781" y="0"/>
                </a:moveTo>
                <a:lnTo>
                  <a:pt x="16781" y="7079"/>
                </a:lnTo>
                <a:lnTo>
                  <a:pt x="3375" y="7079"/>
                </a:lnTo>
                <a:lnTo>
                  <a:pt x="3375" y="14521"/>
                </a:lnTo>
                <a:lnTo>
                  <a:pt x="16781" y="14521"/>
                </a:lnTo>
                <a:lnTo>
                  <a:pt x="16781" y="21600"/>
                </a:lnTo>
                <a:lnTo>
                  <a:pt x="21600" y="10800"/>
                </a:lnTo>
                <a:lnTo>
                  <a:pt x="16781" y="0"/>
                </a:lnTo>
                <a:close/>
              </a:path>
              <a:path w="21600" h="21600">
                <a:moveTo>
                  <a:pt x="1350" y="7079"/>
                </a:moveTo>
                <a:lnTo>
                  <a:pt x="1350" y="14521"/>
                </a:lnTo>
                <a:lnTo>
                  <a:pt x="2700" y="14521"/>
                </a:lnTo>
                <a:lnTo>
                  <a:pt x="2700" y="7079"/>
                </a:lnTo>
                <a:lnTo>
                  <a:pt x="1350" y="7079"/>
                </a:lnTo>
                <a:close/>
              </a:path>
              <a:path w="21600" h="21600">
                <a:moveTo>
                  <a:pt x="0" y="7079"/>
                </a:moveTo>
                <a:lnTo>
                  <a:pt x="0" y="14521"/>
                </a:lnTo>
                <a:lnTo>
                  <a:pt x="675" y="14521"/>
                </a:lnTo>
                <a:lnTo>
                  <a:pt x="675" y="7079"/>
                </a:lnTo>
                <a:lnTo>
                  <a:pt x="0" y="707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24000" y="333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вос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164360" y="263700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обо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692360" y="472428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вост – 3 д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бот - ? на 7 дм больш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слоненка длина хвоста 3 дм, а хобота на 7 дм больше. Чему равна длина хобот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3059280" y="486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6:40:24Z</dcterms:created>
  <dc:creator>1</dc:creator>
  <dc:description/>
  <dc:language>en-US</dc:language>
  <cp:lastModifiedBy>Людмила</cp:lastModifiedBy>
  <dcterms:modified xsi:type="dcterms:W3CDTF">2022-03-31T17:14:27Z</dcterms:modified>
  <cp:revision>13</cp:revision>
  <dc:subject/>
  <dc:title>  10 СМ = 1 ДМ </dc:title>
</cp:coreProperties>
</file>