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902-68D8-4A62-BAA4-7354B721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0AB-DF72-413A-81DD-7F8B212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C22-4049-4662-9D51-6AB5F99F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72C-462F-4673-BCEA-55CCD3CF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946-3D19-4E34-BFA1-E6626D8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1D3-5EFE-4359-9E14-3B51CAF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A78-329D-42F9-BAF1-1CF2BB8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40F5-99C3-4941-A81A-2D563B6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5353-007C-41C0-BBBB-D1AB852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1B1-BCC6-4DFB-B03F-03A07DBA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7235-3ADB-4800-B998-888CCB9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7BD-6F0A-4A43-BF14-B91A5E7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5F1E-E979-4D95-82EF-74A14F9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245C-D521-4CC1-AFC9-25994B9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AD3E-0909-4701-824A-9C20D8BA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982C-0DE8-4CA3-8E8F-978141E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ADE-32BD-4270-9F85-D9AAC9B8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911-A98A-4698-8496-5E3633B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21A-75B5-4460-BFBB-CBA1CC70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F58-F655-47E7-8518-7FC2921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453-668A-446F-A12B-8AA57BC4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784-0334-455D-B524-F2F769E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25D-11ED-4F04-B091-A69996F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A0B-9545-47D2-8821-8F617C9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6C3-C9AD-4183-B4B4-CFCAC4C48E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A24-7337-4F9F-BA4E-35F2BD90F2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zamolxismd.org/m/images.km.ru/health/zdorovie/chel_bolen_1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tatic3.depositphotos.com/1004288/178/i/950/depositphotos_1780995-Young-man-smoking-three-cigarettes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4560" y="1412640"/>
            <a:ext cx="820908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800000"/>
                </a:solidFill>
                <a:latin typeface="Monotype Corsiva"/>
              </a:rPr>
              <a:t>Определение геометрической прогрессии. </a:t>
            </a:r>
            <a:br>
              <a:rPr sz="4200"/>
            </a:br>
            <a:r>
              <a:rPr b="1" i="1" lang="ru-RU" sz="4200" spc="-1" strike="noStrike">
                <a:solidFill>
                  <a:srgbClr val="800000"/>
                </a:solidFill>
                <a:latin typeface="Monotype Corsiva"/>
              </a:rPr>
              <a:t>Формула </a:t>
            </a:r>
            <a:r>
              <a:rPr b="1" i="1" lang="en-US" sz="4200" spc="-1" strike="noStrike">
                <a:solidFill>
                  <a:srgbClr val="800000"/>
                </a:solidFill>
                <a:latin typeface="Monotype Corsiva"/>
              </a:rPr>
              <a:t>n</a:t>
            </a:r>
            <a:r>
              <a:rPr b="1" i="1" lang="ru-RU" sz="4200" spc="-1" strike="noStrike">
                <a:solidFill>
                  <a:srgbClr val="800000"/>
                </a:solidFill>
                <a:latin typeface="Monotype Corsiva"/>
              </a:rPr>
              <a:t>-го члена геометрической прогрессии.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«Все познается в сравн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?id=82454489-15-72"/>
          <p:cNvPicPr/>
          <p:nvPr/>
        </p:nvPicPr>
        <p:blipFill>
          <a:blip r:embed="rId1"/>
          <a:stretch/>
        </p:blipFill>
        <p:spPr>
          <a:xfrm>
            <a:off x="0" y="4335480"/>
            <a:ext cx="2556000" cy="2522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i?id=76534127-63-72"/>
          <p:cNvPicPr/>
          <p:nvPr/>
        </p:nvPicPr>
        <p:blipFill>
          <a:blip r:embed="rId2"/>
          <a:stretch/>
        </p:blipFill>
        <p:spPr>
          <a:xfrm>
            <a:off x="7446960" y="5013360"/>
            <a:ext cx="1697040" cy="1844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411280" y="5473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Times New Roman"/>
              </a:rPr>
              <a:t>Работа в тетрадях</a:t>
            </a:r>
            <a:br>
              <a:rPr sz="3800"/>
            </a:b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Задание 2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но: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) 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еометрическая прогресс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= 2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0" y="6237360"/>
            <a:ext cx="1619280" cy="431640"/>
          </a:xfrm>
          <a:custGeom>
            <a:avLst/>
            <a:gdLst>
              <a:gd name="textAreaLeft" fmla="*/ 27720 w 1619280"/>
              <a:gd name="textAreaRight" fmla="*/ 1591560 w 16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0982" h="21600">
                <a:moveTo>
                  <a:pt x="0" y="0"/>
                </a:moveTo>
                <a:lnTo>
                  <a:pt x="80982" y="0"/>
                </a:lnTo>
                <a:lnTo>
                  <a:pt x="80982" y="21600"/>
                </a:lnTo>
                <a:lnTo>
                  <a:pt x="0" y="21600"/>
                </a:lnTo>
                <a:close/>
              </a:path>
              <a:path fill="lightenLess" w="80982" h="21600">
                <a:moveTo>
                  <a:pt x="0" y="0"/>
                </a:moveTo>
                <a:lnTo>
                  <a:pt x="80982" y="0"/>
                </a:lnTo>
                <a:lnTo>
                  <a:pt x="79582" y="1400"/>
                </a:lnTo>
                <a:lnTo>
                  <a:pt x="1400" y="1400"/>
                </a:lnTo>
                <a:close/>
              </a:path>
              <a:path fill="darken" w="80982" h="21600">
                <a:moveTo>
                  <a:pt x="80982" y="0"/>
                </a:moveTo>
                <a:lnTo>
                  <a:pt x="80982" y="21600"/>
                </a:lnTo>
                <a:lnTo>
                  <a:pt x="79582" y="20200"/>
                </a:lnTo>
                <a:lnTo>
                  <a:pt x="79582" y="1400"/>
                </a:lnTo>
                <a:close/>
              </a:path>
              <a:path fill="darkenLess" w="80982" h="21600">
                <a:moveTo>
                  <a:pt x="80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2" y="20200"/>
                </a:lnTo>
                <a:close/>
              </a:path>
              <a:path fill="lighten" w="80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i?id=33475751-64-72"/>
          <p:cNvPicPr/>
          <p:nvPr/>
        </p:nvPicPr>
        <p:blipFill>
          <a:blip r:embed="rId1"/>
          <a:stretch/>
        </p:blipFill>
        <p:spPr>
          <a:xfrm>
            <a:off x="6012000" y="836640"/>
            <a:ext cx="2700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Times New Roman"/>
              </a:rPr>
              <a:t>Работа в тетрадях</a:t>
            </a:r>
            <a:br>
              <a:rPr sz="3800"/>
            </a:b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Задание 3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но: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) 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еометрическая прогресс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2,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=-5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0" y="6237360"/>
            <a:ext cx="1619280" cy="431640"/>
          </a:xfrm>
          <a:custGeom>
            <a:avLst/>
            <a:gdLst>
              <a:gd name="textAreaLeft" fmla="*/ 27720 w 1619280"/>
              <a:gd name="textAreaRight" fmla="*/ 1591560 w 16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0982" h="21600">
                <a:moveTo>
                  <a:pt x="0" y="0"/>
                </a:moveTo>
                <a:lnTo>
                  <a:pt x="80982" y="0"/>
                </a:lnTo>
                <a:lnTo>
                  <a:pt x="80982" y="21600"/>
                </a:lnTo>
                <a:lnTo>
                  <a:pt x="0" y="21600"/>
                </a:lnTo>
                <a:close/>
              </a:path>
              <a:path fill="lightenLess" w="80982" h="21600">
                <a:moveTo>
                  <a:pt x="0" y="0"/>
                </a:moveTo>
                <a:lnTo>
                  <a:pt x="80982" y="0"/>
                </a:lnTo>
                <a:lnTo>
                  <a:pt x="79582" y="1400"/>
                </a:lnTo>
                <a:lnTo>
                  <a:pt x="1400" y="1400"/>
                </a:lnTo>
                <a:close/>
              </a:path>
              <a:path fill="darken" w="80982" h="21600">
                <a:moveTo>
                  <a:pt x="80982" y="0"/>
                </a:moveTo>
                <a:lnTo>
                  <a:pt x="80982" y="21600"/>
                </a:lnTo>
                <a:lnTo>
                  <a:pt x="79582" y="20200"/>
                </a:lnTo>
                <a:lnTo>
                  <a:pt x="79582" y="1400"/>
                </a:lnTo>
                <a:close/>
              </a:path>
              <a:path fill="darkenLess" w="80982" h="21600">
                <a:moveTo>
                  <a:pt x="80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2" y="20200"/>
                </a:lnTo>
                <a:close/>
              </a:path>
              <a:path fill="lighten" w="80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i?id=388406602-67-72"/>
          <p:cNvPicPr/>
          <p:nvPr/>
        </p:nvPicPr>
        <p:blipFill>
          <a:blip r:embed="rId1"/>
          <a:stretch/>
        </p:blipFill>
        <p:spPr>
          <a:xfrm>
            <a:off x="6608880" y="333360"/>
            <a:ext cx="2116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640" y="233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атематике должно учить в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шк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щё с той целью, чтобы по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десь приобретаемые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остаточными для обыкнов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требност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Л.Лобач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i?id=82975861-29-72&amp;n=17"/>
          <p:cNvPicPr/>
          <p:nvPr/>
        </p:nvPicPr>
        <p:blipFill>
          <a:blip r:embed="rId1"/>
          <a:stretch/>
        </p:blipFill>
        <p:spPr>
          <a:xfrm>
            <a:off x="539640" y="333360"/>
            <a:ext cx="2006640" cy="2664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Cj04147140000[1]"/>
          <p:cNvPicPr/>
          <p:nvPr/>
        </p:nvPicPr>
        <p:blipFill>
          <a:blip r:embed="rId2"/>
          <a:stretch/>
        </p:blipFill>
        <p:spPr>
          <a:xfrm>
            <a:off x="6300720" y="4941720"/>
            <a:ext cx="2538360" cy="1625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?id=267871324-71-72&amp;n=15"/>
          <p:cNvPicPr/>
          <p:nvPr/>
        </p:nvPicPr>
        <p:blipFill>
          <a:blip r:embed="rId3"/>
          <a:stretch/>
        </p:blipFill>
        <p:spPr>
          <a:xfrm>
            <a:off x="1619280" y="3284640"/>
            <a:ext cx="1716120" cy="147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i?id=408595470-05-72"/>
          <p:cNvPicPr/>
          <p:nvPr/>
        </p:nvPicPr>
        <p:blipFill>
          <a:blip r:embed="rId4"/>
          <a:stretch/>
        </p:blipFill>
        <p:spPr>
          <a:xfrm>
            <a:off x="6156360" y="3205080"/>
            <a:ext cx="1655640" cy="163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i?id=401731297-23-72"/>
          <p:cNvPicPr/>
          <p:nvPr/>
        </p:nvPicPr>
        <p:blipFill>
          <a:blip r:embed="rId5"/>
          <a:stretch/>
        </p:blipFill>
        <p:spPr>
          <a:xfrm>
            <a:off x="3780000" y="4653000"/>
            <a:ext cx="1787400" cy="139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i?id=165700097-08-72"/>
          <p:cNvPicPr/>
          <p:nvPr/>
        </p:nvPicPr>
        <p:blipFill>
          <a:blip r:embed="rId6"/>
          <a:stretch/>
        </p:blipFill>
        <p:spPr>
          <a:xfrm>
            <a:off x="395280" y="4941720"/>
            <a:ext cx="1871640" cy="1397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i?id=94112605-26-72"/>
          <p:cNvPicPr/>
          <p:nvPr/>
        </p:nvPicPr>
        <p:blipFill>
          <a:blip r:embed="rId7"/>
          <a:stretch/>
        </p:blipFill>
        <p:spPr>
          <a:xfrm>
            <a:off x="3635280" y="2781360"/>
            <a:ext cx="1944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990720" y="63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3" descr="MPj04097030000[1]"/>
          <p:cNvPicPr/>
          <p:nvPr/>
        </p:nvPicPr>
        <p:blipFill>
          <a:blip r:embed="rId1"/>
          <a:stretch/>
        </p:blipFill>
        <p:spPr>
          <a:xfrm>
            <a:off x="0" y="0"/>
            <a:ext cx="1311120" cy="2089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403280" y="235440"/>
            <a:ext cx="73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ждое простейшее одноклеточное животное инфузория туфелька размножается делением на 2 части. Сколько инфузорий было первоначально, если после шестикратного деления их стало 3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68360" y="1987920"/>
            <a:ext cx="78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Легкая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ост дрожжевых клеток происходит делением каж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летки на две части. Сколько стало клеток после их десятикратного деления, если первоначально б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6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i?id=165700097-08-72"/>
          <p:cNvPicPr/>
          <p:nvPr/>
        </p:nvPicPr>
        <p:blipFill>
          <a:blip r:embed="rId2"/>
          <a:stretch/>
        </p:blipFill>
        <p:spPr>
          <a:xfrm>
            <a:off x="7128000" y="1916280"/>
            <a:ext cx="2016000" cy="150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979640" y="3572280"/>
            <a:ext cx="71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Имеется радиоактивное вещество массой 256г, масса которого за сутки уменьшается вдвое. Какова станет масса вещества на вторые сутки? На третьи? На пяты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Hydra001.jpg"/>
          <p:cNvPicPr/>
          <p:nvPr/>
        </p:nvPicPr>
        <p:blipFill>
          <a:blip r:embed="rId3"/>
          <a:stretch/>
        </p:blipFill>
        <p:spPr>
          <a:xfrm>
            <a:off x="7020000" y="4902120"/>
            <a:ext cx="2124000" cy="195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i?id=390588182-47-72"/>
          <p:cNvPicPr/>
          <p:nvPr/>
        </p:nvPicPr>
        <p:blipFill>
          <a:blip r:embed="rId4"/>
          <a:stretch/>
        </p:blipFill>
        <p:spPr>
          <a:xfrm>
            <a:off x="0" y="3573360"/>
            <a:ext cx="197964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5"/>
          <p:cNvSpPr/>
          <p:nvPr/>
        </p:nvSpPr>
        <p:spPr>
          <a:xfrm>
            <a:off x="36604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395280" y="4929480"/>
            <a:ext cx="662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Гидра размножается почкованием, причём при каждом делении получается 5 новых особей. Какое количество делений необходимо для получения 625 особ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4356000" y="14533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 инфузорий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2126160" y="328392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6144 кл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4789800" y="4823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28; 64;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3278880" y="62319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 д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дготовка к ГИ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Заданы три первых члена числовых последовательностей. Известно, ч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одна из этих последовательност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не является ни геометрической, ни арифметической  прогресси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Укажите её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  1;  2;  3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.  1;  2;  4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  1;  4;  16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 1;  4;  9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i?id=208436370-36-72"/>
          <p:cNvPicPr/>
          <p:nvPr/>
        </p:nvPicPr>
        <p:blipFill>
          <a:blip r:embed="rId1"/>
          <a:stretch/>
        </p:blipFill>
        <p:spPr>
          <a:xfrm>
            <a:off x="6372360" y="3068640"/>
            <a:ext cx="239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indefinite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дготовка к ГИ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726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Заданы три первых члена числовых последовательностей. Известно, чт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одна из этих последовательност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не является геометрическ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прогрессией. Укажите её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  -3; 1;      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. -3; -9; -27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 -3; 5; -7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-3;       ; -1;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692360" y="3789360"/>
                <a:ext cx="52704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332000" y="5516640"/>
                <a:ext cx="533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73" name="Picture 6" descr="i?id=98736784-01-72"/>
          <p:cNvPicPr/>
          <p:nvPr/>
        </p:nvPicPr>
        <p:blipFill>
          <a:blip r:embed="rId1"/>
          <a:stretch/>
        </p:blipFill>
        <p:spPr>
          <a:xfrm>
            <a:off x="6804000" y="404640"/>
            <a:ext cx="2097000" cy="3745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i?id=493647834-56-72"/>
          <p:cNvPicPr/>
          <p:nvPr/>
        </p:nvPicPr>
        <p:blipFill>
          <a:blip r:embed="rId2"/>
          <a:stretch/>
        </p:blipFill>
        <p:spPr>
          <a:xfrm>
            <a:off x="3583080" y="393372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дготовка к ГИ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546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следовательности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,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даны формулами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-го чл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ставьте в соответствие ка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следовательности верное   утвер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i?id=502999127-61-72"/>
          <p:cNvPicPr/>
          <p:nvPr/>
        </p:nvPicPr>
        <p:blipFill>
          <a:blip r:embed="rId1"/>
          <a:stretch/>
        </p:blipFill>
        <p:spPr>
          <a:xfrm>
            <a:off x="6948360" y="0"/>
            <a:ext cx="212724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258920" y="3429000"/>
                <a:ext cx="995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1"/>
              <p:cNvSpPr txBox="1"/>
              <p:nvPr/>
            </p:nvSpPr>
            <p:spPr>
              <a:xfrm>
                <a:off x="1258920" y="3933720"/>
                <a:ext cx="1123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1258920" y="4508640"/>
                <a:ext cx="12096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3"/>
          <p:cNvSpPr/>
          <p:nvPr/>
        </p:nvSpPr>
        <p:spPr>
          <a:xfrm>
            <a:off x="826920" y="292392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819360" y="3677760"/>
            <a:ext cx="5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28360" y="4299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3132000" y="3069360"/>
            <a:ext cx="51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следовательно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следовательность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ни арифметиче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геометрической прогре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19280" y="5229360"/>
          <a:ext cx="2084400" cy="974520"/>
        </p:xfrm>
        <a:graphic>
          <a:graphicData uri="http://schemas.openxmlformats.org/drawingml/2006/table">
            <a:tbl>
              <a:tblPr/>
              <a:tblGrid>
                <a:gridCol w="695160"/>
                <a:gridCol w="693720"/>
                <a:gridCol w="6955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Arial"/>
              </a:rPr>
              <a:t>Придумайте или найдите задачи, позволяющие использовать геометрическую прогрессию; оформите их решение в тетрад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?id=383683583-44-72"/>
          <p:cNvPicPr/>
          <p:nvPr/>
        </p:nvPicPr>
        <p:blipFill>
          <a:blip r:embed="rId1"/>
          <a:stretch/>
        </p:blipFill>
        <p:spPr>
          <a:xfrm>
            <a:off x="6743880" y="3573360"/>
            <a:ext cx="2062080" cy="2436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i?id=314429146-32-72"/>
          <p:cNvPicPr/>
          <p:nvPr/>
        </p:nvPicPr>
        <p:blipFill>
          <a:blip r:embed="rId2"/>
          <a:stretch/>
        </p:blipFill>
        <p:spPr>
          <a:xfrm>
            <a:off x="3851280" y="3933720"/>
            <a:ext cx="1819440" cy="2149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?id=430270037-50-72"/>
          <p:cNvPicPr/>
          <p:nvPr/>
        </p:nvPicPr>
        <p:blipFill>
          <a:blip r:embed="rId3"/>
          <a:stretch/>
        </p:blipFill>
        <p:spPr>
          <a:xfrm>
            <a:off x="179280" y="342900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Устная работ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рифметическая прогресс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 1, 3, 5, 7, 9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1, -2, -3, -4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 = 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2, -4, -6, -8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 = -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Геометрическая прогресс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 1, 2, 4, 8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q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, 15, 45, 135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q =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; 0,1; 0,001;0,0001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q = 0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, 2/3, 4/9, 8/27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q =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116000" y="6237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148360" y="6264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4211640" y="1052640"/>
            <a:ext cx="0" cy="51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392720" y="8892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Найдите закономер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i?id=389470191-00-72"/>
          <p:cNvPicPr/>
          <p:nvPr/>
        </p:nvPicPr>
        <p:blipFill>
          <a:blip r:embed="rId1"/>
          <a:stretch/>
        </p:blipFill>
        <p:spPr>
          <a:xfrm>
            <a:off x="3295800" y="5300640"/>
            <a:ext cx="1504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69440" cy="53992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рифметичес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Геометр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,а</a:t>
            </a:r>
            <a:r>
              <a:rPr b="0" lang="ru-RU" sz="3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,а</a:t>
            </a:r>
            <a:r>
              <a:rPr b="0" lang="ru-RU" sz="3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,…а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,..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,b</a:t>
            </a:r>
            <a:r>
              <a:rPr b="0" lang="en-US" sz="3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,b</a:t>
            </a:r>
            <a:r>
              <a:rPr b="0" lang="en-US" sz="3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,…b</a:t>
            </a:r>
            <a:r>
              <a:rPr b="0" lang="en-US" sz="3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,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ледовательност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тличных от нул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лен которой, начиная со второго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 предыдущему чле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оженному с од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тем же чис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572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457200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457200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716360" y="4941720"/>
            <a:ext cx="4114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множенному на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 то ж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89600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ловая последова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,а</a:t>
            </a:r>
            <a:r>
              <a:rPr b="0" lang="ru-RU" sz="3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,а</a:t>
            </a:r>
            <a:r>
              <a:rPr b="0" lang="ru-RU" sz="3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,…а</a:t>
            </a:r>
            <a:r>
              <a:rPr b="0" lang="en-US" sz="3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,..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3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0000cc"/>
                </a:solidFill>
                <a:latin typeface="Arial"/>
              </a:rPr>
              <a:t>,b</a:t>
            </a:r>
            <a:r>
              <a:rPr b="0" lang="en-US" sz="3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cc"/>
                </a:solidFill>
                <a:latin typeface="Arial"/>
              </a:rPr>
              <a:t>,b</a:t>
            </a:r>
            <a:r>
              <a:rPr b="0" lang="en-US" sz="38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3800" spc="-1" strike="noStrike">
                <a:solidFill>
                  <a:srgbClr val="0000cc"/>
                </a:solidFill>
                <a:latin typeface="Arial"/>
              </a:rPr>
              <a:t>,…b</a:t>
            </a:r>
            <a:r>
              <a:rPr b="0" lang="en-US" sz="38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0000cc"/>
                </a:solidFill>
                <a:latin typeface="Arial"/>
              </a:rPr>
              <a:t>,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рифметичес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еометр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ля всех натуральн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яется 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b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*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57200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4360" y="4724280"/>
            <a:ext cx="2303280" cy="57636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508720" y="4724280"/>
            <a:ext cx="230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457200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457200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3"/>
              <p:cNvSpPr txBox="1"/>
              <p:nvPr/>
            </p:nvSpPr>
            <p:spPr>
              <a:xfrm>
                <a:off x="7885080" y="5373720"/>
                <a:ext cx="7192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ая прогрессия возраст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ая прогрессия у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360" y="220500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ая прогрессия возраст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q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ая прогрессия у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788000" y="162864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042920" y="1700280"/>
                <a:ext cx="32400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5292720" y="1413000"/>
                <a:ext cx="19447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i?id=109946521-60-72"/>
          <p:cNvPicPr/>
          <p:nvPr/>
        </p:nvPicPr>
        <p:blipFill>
          <a:blip r:embed="rId1"/>
          <a:stretch/>
        </p:blipFill>
        <p:spPr>
          <a:xfrm>
            <a:off x="5796000" y="2492280"/>
            <a:ext cx="3348000" cy="3179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00"/>
                </a:solidFill>
                <a:latin typeface="Garamond"/>
              </a:rPr>
              <a:t>Определите вид прогресс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 третьем тысячелетии високосными годами будут 2008, 2012 ,2016, 2020. В какой последовательности записаны год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 искусственном водоеме 10 к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одорослей. Через три дня 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стало 20 кг. Через шесть дн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–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40    кг, а через девять – 80 кг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 какой последова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увеличивается мас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одорослей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ормула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го члена прогресс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326844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заданы 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d=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d+d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d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(n-1)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6000" y="1052640"/>
            <a:ext cx="4038840" cy="324000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задан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q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q*q=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……………………………………………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= b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* q</a:t>
            </a:r>
            <a:r>
              <a:rPr b="0" lang="en-US" sz="2800" spc="-1" strike="noStrike" baseline="30000">
                <a:solidFill>
                  <a:srgbClr val="0000cc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55640" y="3429000"/>
            <a:ext cx="2303640" cy="57636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219640" y="3500280"/>
            <a:ext cx="2374920" cy="5032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332000" y="43628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за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ифметическ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ометрическ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ессию, достаточно указать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ый член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рвый член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Составьте геометрическую прогрессию: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жедневно каждый болеющий грип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жет заразить четырех окружающи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има на перемене съел булочку. Во время еды в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ишечник попало 30 дизентерийных палочек. Чере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ждые 20 минут происходит деление бактерий (он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дваивают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ждый курильщик выкуривает в сред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8 сигарет в сутки. После выкуривания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гареты в легких оседает 0,0002 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икотина и табачного дегтя. С каж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следующей сигаретой это колич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величивается в два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Картинка 3 из 665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8480" y="692280"/>
            <a:ext cx="2266920" cy="141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Картинка 1 из 144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00280"/>
            <a:ext cx="1849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Times New Roman"/>
              </a:rPr>
              <a:t>Работа в тетрадях</a:t>
            </a:r>
            <a:br>
              <a:rPr sz="3800"/>
            </a:b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Задание 1.</a:t>
            </a:r>
            <a:r>
              <a:rPr b="1" lang="ru-RU" sz="3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но: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) 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еометрическая прогресс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= 3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;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0" y="6237360"/>
            <a:ext cx="1619280" cy="431640"/>
          </a:xfrm>
          <a:custGeom>
            <a:avLst/>
            <a:gdLst>
              <a:gd name="textAreaLeft" fmla="*/ 27720 w 1619280"/>
              <a:gd name="textAreaRight" fmla="*/ 1591560 w 16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0982" h="21600">
                <a:moveTo>
                  <a:pt x="0" y="0"/>
                </a:moveTo>
                <a:lnTo>
                  <a:pt x="80982" y="0"/>
                </a:lnTo>
                <a:lnTo>
                  <a:pt x="80982" y="21600"/>
                </a:lnTo>
                <a:lnTo>
                  <a:pt x="0" y="21600"/>
                </a:lnTo>
                <a:close/>
              </a:path>
              <a:path fill="lightenLess" w="80982" h="21600">
                <a:moveTo>
                  <a:pt x="0" y="0"/>
                </a:moveTo>
                <a:lnTo>
                  <a:pt x="80982" y="0"/>
                </a:lnTo>
                <a:lnTo>
                  <a:pt x="79582" y="1400"/>
                </a:lnTo>
                <a:lnTo>
                  <a:pt x="1400" y="1400"/>
                </a:lnTo>
                <a:close/>
              </a:path>
              <a:path fill="darken" w="80982" h="21600">
                <a:moveTo>
                  <a:pt x="80982" y="0"/>
                </a:moveTo>
                <a:lnTo>
                  <a:pt x="80982" y="21600"/>
                </a:lnTo>
                <a:lnTo>
                  <a:pt x="79582" y="20200"/>
                </a:lnTo>
                <a:lnTo>
                  <a:pt x="79582" y="1400"/>
                </a:lnTo>
                <a:close/>
              </a:path>
              <a:path fill="darkenLess" w="80982" h="21600">
                <a:moveTo>
                  <a:pt x="80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2" y="20200"/>
                </a:lnTo>
                <a:close/>
              </a:path>
              <a:path fill="lighten" w="80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191269243_c4132"/>
          <p:cNvPicPr/>
          <p:nvPr/>
        </p:nvPicPr>
        <p:blipFill>
          <a:blip r:embed="rId1"/>
          <a:stretch/>
        </p:blipFill>
        <p:spPr>
          <a:xfrm>
            <a:off x="6516720" y="333360"/>
            <a:ext cx="2203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06:57:17Z</dcterms:created>
  <dc:creator>MERGEN</dc:creator>
  <dc:description/>
  <dc:language>en-US</dc:language>
  <cp:lastModifiedBy>Гость</cp:lastModifiedBy>
  <dcterms:modified xsi:type="dcterms:W3CDTF">2022-03-31T08:35:06Z</dcterms:modified>
  <cp:revision>18</cp:revision>
  <dc:subject/>
  <dc:title>Арифметическая и геометрическая прогрессии</dc:title>
</cp:coreProperties>
</file>