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81B-34AF-48B3-A5E9-0246538A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4CC-2D15-40C0-92A4-F2241BE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614-3381-4631-A075-7994DC1B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586-6150-4577-B9E0-82F4146C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CF26-283F-439B-A99B-F7831A8F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803E-592F-416C-8AE8-A36DE77E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165-D755-49D8-B654-98E0E73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D54-A10B-4213-9DD3-30EE172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463C-AC50-4ED0-B469-B5F9852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9434-536C-4BD1-BD9F-6165353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7C0A-BEC4-41D9-B107-207F4FE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175-0655-4EC4-92D4-3D4CE7A5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FF5-2235-4566-8105-49CE91E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DEE-A48E-4C70-9CDF-26B3A84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D5E-5DA4-47F1-BD64-3609DB6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94B-AA86-459D-9564-AF7357CE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1C1-FF24-44B1-9C26-9525AEFF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985-4869-493F-9607-BE1DA9C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6EE-30D2-496D-A375-F70F4B5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7EC-EACA-4566-A58A-B79895FD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E3F-9695-423B-A6C7-B8B1E9C1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559-B7C7-45D6-93AD-509D1C2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719-3620-4E74-8C38-CDE1498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086-B483-43BE-BCD5-7A29D05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BB95-91C6-4863-A150-03DD14694D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1524-EAA4-48ED-A037-77491E9240E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785880"/>
            <a:ext cx="74008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«Кукла оберег» -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мастер – класс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 в группе № 2 «Галактика»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928760"/>
            <a:ext cx="564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Выпонили: воспитате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Рудакова Г. В., Знобищева Е. 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2022г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1785960" y="285840"/>
            <a:ext cx="430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МБДОУ «Детский сад №12 «Звёздный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езульта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266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Рисунок 8" descr="D:\WinUsers\Gigabyte\Desktop\IMG-20220205-WA0004.jpg"/>
          <p:cNvPicPr/>
          <p:nvPr/>
        </p:nvPicPr>
        <p:blipFill>
          <a:blip r:embed="rId1"/>
          <a:stretch/>
        </p:blipFill>
        <p:spPr>
          <a:xfrm>
            <a:off x="1928880" y="1214280"/>
            <a:ext cx="37069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35280" y="333000"/>
            <a:ext cx="22143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Кубышка" - красивая куколка, сидящая на мешке с целебными травами, чтобы в доме царило здоровье. Если кто-то заболевал, то мешочек тёрли пальцами, обходя весь дом, а потом «кубышку» клали к больному в постель, чтобы дух болезни испугался и исчез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Рисунок 6" descr="D:\WinUsers\Gigabyte\Desktop\20220209_085944.jpg"/>
          <p:cNvPicPr/>
          <p:nvPr/>
        </p:nvPicPr>
        <p:blipFill>
          <a:blip r:embed="rId1"/>
          <a:stretch/>
        </p:blipFill>
        <p:spPr>
          <a:xfrm>
            <a:off x="357120" y="285840"/>
            <a:ext cx="4929120" cy="62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5084640"/>
            <a:ext cx="7399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Для прихода в дом хороших вестей делались куклы «Колокольчики» их развешивали сразу по несколько шту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6" descr="D:\WinUsers\Gigabyte\Desktop\20220209_090149.jpg"/>
          <p:cNvPicPr/>
          <p:nvPr/>
        </p:nvPicPr>
        <p:blipFill>
          <a:blip r:embed="rId1"/>
          <a:stretch/>
        </p:blipFill>
        <p:spPr>
          <a:xfrm>
            <a:off x="1785960" y="357120"/>
            <a:ext cx="421488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2912760" cy="49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мысл, вложенный в куколку Желанницу, можно легко угадать по ее названию. Но не спешите выписывать на листок с десяток желаний. Она может исполнить только одну просьбу. Поэтому лучше сосредоточиться на самом важном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5445000"/>
            <a:ext cx="7116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Содержимое 7" descr="D:\WinUsers\Gigabyte\Desktop\20220209_090000.jpg"/>
          <p:cNvPicPr/>
          <p:nvPr/>
        </p:nvPicPr>
        <p:blipFill>
          <a:blip r:embed="rId1"/>
          <a:stretch/>
        </p:blipFill>
        <p:spPr>
          <a:xfrm>
            <a:off x="3071880" y="642960"/>
            <a:ext cx="421488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138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00720" y="765000"/>
            <a:ext cx="302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кла мотанка северная Берегиня считается хранительницей домашнего очага и семейного счастья. Изготавливали обереги с любовью, вкладывая в игрушку надежду на благополучное будущее для всех родных и близких люд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Рисунок 8" descr="D:\WinUsers\Gigabyte\Desktop\20220209_090559.jpg"/>
          <p:cNvPicPr/>
          <p:nvPr/>
        </p:nvPicPr>
        <p:blipFill>
          <a:blip r:embed="rId1"/>
          <a:stretch/>
        </p:blipFill>
        <p:spPr>
          <a:xfrm>
            <a:off x="21420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1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3000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ряпичная куколка На Здоровье, согласно повериям древних славян, ускоряет выздоровление, помогает справиться даже с тяжелыми болезнями. Согласно легендам, Она оберегает своего владельца от любого негатива, способного навредить самочувствию. Большой силой обладает талисман, подаренный мамой ребенку. Мотанка может использоваться даже для новорожденных и оберегать их еще слабый организм от хвор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Содержимое 7" descr="D:\WinUsers\Gigabyte\Desktop\20220209_090624.jpg"/>
          <p:cNvPicPr/>
          <p:nvPr/>
        </p:nvPicPr>
        <p:blipFill>
          <a:blip r:embed="rId1"/>
          <a:stretch/>
        </p:blipFill>
        <p:spPr>
          <a:xfrm>
            <a:off x="357120" y="500040"/>
            <a:ext cx="44719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174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360" y="981000"/>
            <a:ext cx="27352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Кукла Столбушка, то есть Берегиня, охраняет жилище от вторжения тёмных сил, порчи и сглаза, а хозяев – от горестей, уныния и печа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Рисунок 7" descr="D:\WinUsers\Gigabyte\Desktop\20220209_090531.jpg"/>
          <p:cNvPicPr/>
          <p:nvPr/>
        </p:nvPicPr>
        <p:blipFill>
          <a:blip r:embed="rId1"/>
          <a:stretch/>
        </p:blipFill>
        <p:spPr>
          <a:xfrm>
            <a:off x="214200" y="500040"/>
            <a:ext cx="44290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174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7280" y="119664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32000" y="765000"/>
            <a:ext cx="2303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 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бы вся семья была накормлена досыта, и чтобы в доме всегда жили в ладу друг с другом делали куклу - кормилк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Рисунок 7" descr="D:\WinUsers\Gigabyte\Desktop\20220209_090027.jpg"/>
          <p:cNvPicPr/>
          <p:nvPr/>
        </p:nvPicPr>
        <p:blipFill>
          <a:blip r:embed="rId1"/>
          <a:stretch/>
        </p:blipFill>
        <p:spPr>
          <a:xfrm>
            <a:off x="392040" y="285840"/>
            <a:ext cx="432288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Спасибо за внима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549000"/>
            <a:ext cx="74768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428840"/>
            <a:ext cx="7386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     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ознакомить с ролью куклы в         жизни наших предков, с видами кукол. Научить делать куклу-обере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Роль куклы в жизни наших предков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Славянские куклы-обереги были сильным помощницами в личной жизни наших предков, а так же служили украшением быта или служили игрушкой для ребенка. Куколки делались в качестве подарков или обрядовых символов на свадьбу или рождение ребёнка, а также просто изготавливались по случаю народных праздников (например: масленицы) или в качестве спутниц-хранительниц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Представьте себе быт наших предков, который строился на циклах природы, уход зимы, приход весны, новый урожай, к различным случаям жизни делалась своя куколка, которая имела свой смысл. Куколка на масленицу сжигалась – как символ очищения, другая куколка наполнялась зерном, привлекая в дом достаток и благополуч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499760"/>
            <a:ext cx="7399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тер-клас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Рисунок 6" descr="D:\WinUsers\Gigabyte\Downloads\20220204_102557.jpg"/>
          <p:cNvPicPr/>
          <p:nvPr/>
        </p:nvPicPr>
        <p:blipFill>
          <a:blip r:embed="rId1"/>
          <a:stretch/>
        </p:blipFill>
        <p:spPr>
          <a:xfrm>
            <a:off x="214200" y="1071720"/>
            <a:ext cx="750096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28400" y="404280"/>
            <a:ext cx="7221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Рисунок 6" descr="D:\WinUsers\Gigabyte\Downloads\20220204_103136.jpg"/>
          <p:cNvPicPr/>
          <p:nvPr/>
        </p:nvPicPr>
        <p:blipFill>
          <a:blip r:embed="rId1"/>
          <a:stretch/>
        </p:blipFill>
        <p:spPr>
          <a:xfrm>
            <a:off x="142920" y="1285920"/>
            <a:ext cx="3571920" cy="46609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D:\WinUsers\Gigabyte\Desktop\20220204_103140.jpg"/>
          <p:cNvPicPr/>
          <p:nvPr/>
        </p:nvPicPr>
        <p:blipFill>
          <a:blip r:embed="rId2"/>
          <a:stretch/>
        </p:blipFill>
        <p:spPr>
          <a:xfrm>
            <a:off x="4071960" y="1285920"/>
            <a:ext cx="357192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138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400" y="1052640"/>
            <a:ext cx="6786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7640" y="764640"/>
            <a:ext cx="2592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09" name="Рисунок 7" descr="D:\WinUsers\Gigabyte\Downloads\20220204_103403.jpg"/>
          <p:cNvPicPr/>
          <p:nvPr/>
        </p:nvPicPr>
        <p:blipFill>
          <a:blip r:embed="rId1"/>
          <a:stretch/>
        </p:blipFill>
        <p:spPr>
          <a:xfrm>
            <a:off x="214200" y="1428840"/>
            <a:ext cx="3643560" cy="5119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D:\WinUsers\Gigabyte\Downloads\20220204_103856.jpg"/>
          <p:cNvPicPr/>
          <p:nvPr/>
        </p:nvPicPr>
        <p:blipFill>
          <a:blip r:embed="rId2"/>
          <a:stretch/>
        </p:blipFill>
        <p:spPr>
          <a:xfrm>
            <a:off x="3929040" y="1428840"/>
            <a:ext cx="3571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26800"/>
            <a:ext cx="5904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73990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Кукла «Кувадка» участвовала при родах. «Кувадка» служила оберегом для отвода тёмных сил от настоящего ребёнка. После родов «Кувадку» сжига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6" descr="D:\WinUsers\Gigabyte\Downloads\20220204_105840 (1).jpg"/>
          <p:cNvPicPr/>
          <p:nvPr/>
        </p:nvPicPr>
        <p:blipFill>
          <a:blip r:embed="rId1"/>
          <a:stretch/>
        </p:blipFill>
        <p:spPr>
          <a:xfrm>
            <a:off x="571680" y="142920"/>
            <a:ext cx="664344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Работа с родителя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324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астер-класс по выполнению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клы-оберег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истопрудово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сен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6000" y="765000"/>
            <a:ext cx="2933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</a:rPr>
              <a:t>Инструменты и материал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10" descr="D:\WinUsers\Gigabyte\Desktop\IMG-20220205-WA0003.jpg"/>
          <p:cNvPicPr/>
          <p:nvPr/>
        </p:nvPicPr>
        <p:blipFill>
          <a:blip r:embed="rId1"/>
          <a:stretch/>
        </p:blipFill>
        <p:spPr>
          <a:xfrm>
            <a:off x="4143240" y="1714680"/>
            <a:ext cx="350064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од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00720" y="836280"/>
            <a:ext cx="31492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1" name="Рисунок 8" descr="D:\WinUsers\Gigabyte\Desktop\IMG-20220205-WA0005.jpg"/>
          <p:cNvPicPr/>
          <p:nvPr/>
        </p:nvPicPr>
        <p:blipFill>
          <a:blip r:embed="rId1"/>
          <a:stretch/>
        </p:blipFill>
        <p:spPr>
          <a:xfrm>
            <a:off x="2143080" y="2143080"/>
            <a:ext cx="3429000" cy="4143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D:\WinUsers\Gigabyte\Desktop\20220209_090258.jpg"/>
          <p:cNvPicPr/>
          <p:nvPr/>
        </p:nvPicPr>
        <p:blipFill>
          <a:blip r:embed="rId2"/>
          <a:stretch/>
        </p:blipFill>
        <p:spPr>
          <a:xfrm>
            <a:off x="214200" y="500040"/>
            <a:ext cx="2414880" cy="32194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D:\WinUsers\Gigabyte\Desktop\20220209_090326.jpg"/>
          <p:cNvPicPr/>
          <p:nvPr/>
        </p:nvPicPr>
        <p:blipFill>
          <a:blip r:embed="rId3"/>
          <a:stretch/>
        </p:blipFill>
        <p:spPr>
          <a:xfrm>
            <a:off x="5572080" y="3286080"/>
            <a:ext cx="25243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8:39:50Z</dcterms:created>
  <dc:creator>2013</dc:creator>
  <dc:description/>
  <dc:language>en-US</dc:language>
  <cp:lastModifiedBy>Пользователь Gigabyte</cp:lastModifiedBy>
  <dcterms:modified xsi:type="dcterms:W3CDTF">2022-03-31T11:33:42Z</dcterms:modified>
  <cp:revision>31</cp:revision>
  <dc:subject/>
  <dc:title>Тема: «Кукла оберег из ниток»    Цель: Познакомить с                           ролью куклы в жизни наших  предков. Познакомить  с видами кукол. Научить делать  куклу-оберег из ниток.</dc:title>
</cp:coreProperties>
</file>