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B8D2-ABF0-4D11-84C9-8CE0612B8A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0554-23A4-4131-A382-A02D0A0023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ем триггер, что позволяет учащимся определить последовательность решения примеров. Нажмите на голубой прямоугольник – появится соответствующий правильный отв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045C-D7B7-425F-8A10-4CAB49165F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ем триггер, что позволяет учащимся определить последовательность решения примеров. Нажмите на голубой прямоугольник – появится соответствующий правильный отв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55F8-22E8-4A53-A673-FAE8D94F3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A29E-2E6F-4E13-B822-3D463A2F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375D-D185-455F-9604-37535B16D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CD7D-023F-4088-AF20-11637C97A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0D87-D3DA-440A-AA61-1F1FCE38E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93BB-870E-438F-B059-356120B8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FBD8-BFEB-467E-A39E-88E27E08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3C0A-3535-4F02-85D5-1FEC2BE9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1535-FB15-42D6-82CB-2B022ED5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A661-EFD7-4F51-B1F8-9297C82B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1330-5506-4A68-929A-E2095CD9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173E-1044-47A0-9F30-60B14620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AFB3-29BE-47E0-9A3D-91AEA65A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6E83-53C2-4A43-BA6E-0B961189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499A-6031-4EC7-932B-BB8D6430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96DE-709B-41D0-B306-306F2CC69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97C2-1B64-4FAC-9712-EA5E2DE93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CC335-5485-4D28-A73F-EA9CDF241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2FB15-D7C0-4C4F-8135-A6BDBB5C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77E56-BB44-4D9F-8E46-6C72B13A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223F7-39EF-40DB-A82C-3652B8CD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F929C-669B-4128-BAF5-D278D692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64BE-7659-4F63-BE17-062F6EEE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66BED-6C76-4EBD-BE96-AAC149B2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25630-EB02-4FC9-B284-93611EBB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5FED0-A7AA-4926-9F47-1896AE4C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85504-2D0B-4079-865A-347C069F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A20F5-34FC-42A2-8180-C6EA1863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95E42-6F43-4EFC-80FB-27C4ED140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31D8C-6B76-43C4-BAEB-BB12855E4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ECB8D-AE7C-403B-9D93-CCEA94E4A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F2F86-C8C4-4B05-A3FA-7CEDD5DA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A4C37-B293-4B6E-ADD1-6717FB30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CA7D-9672-4811-9EDE-54278FD2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581B4-968B-488E-B4C3-57B716A2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ECB4C-8F7F-4762-AC32-27A517EF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F4EBC-4CA9-41E1-BC97-A9BABB3F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65D13-6629-4F9D-B45F-4B57B9D4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59BC5-B0FE-4B6F-AB82-EC04C488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EED84-CB30-4391-A3F3-F8ECF277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89C47-F6C5-4DFC-A89C-31F24ECE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04E94-FB0D-4D4C-9C7A-23262E98D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81D9B-E0A4-45BE-ACC6-D83434CA3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1FCEF-812D-4B03-A099-96BA75B47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4816-62BE-46E7-A153-C538C55F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A3C07-31E7-4638-A331-0D745951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07EF3-7B09-4A64-B7BD-C9624C31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6701D-EBF2-43AF-AD6B-25EBF9AA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EE2DC-CB22-46FC-A7C5-93002910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15DFC-9A35-40C3-AF3E-C09E0620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FC34D-F3AB-43F9-83BA-DFD9F04C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5129A-24F7-44AC-A4E8-9BC6B80A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A2545-BF44-418D-B300-4F42D251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B055E-9234-4B8C-BF39-27BA81CE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CE391-96A0-40B0-95CA-62030E77F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B48C-23A9-469A-940C-675C45B2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BCF9B-B08A-4268-82E9-46D7A9167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F8B3-B952-4402-9A1A-7865B76F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9BB2-6780-4D0D-9CFF-C939BFF7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B7CF-5F23-486B-98E0-A5FE807F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4DAC-6800-4061-BEA8-44E37EF672E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C80F-E1FB-4758-AE91-4BBC35A1EDF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9362-FD47-4FDB-83DC-E5002A07181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99B9-7DC5-4BFF-9302-B3605828BF5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cubicBezTo>
                  <a:pt x="2296005" y="0"/>
                  <a:pt x="2324605" y="28600"/>
                  <a:pt x="2324605" y="63880"/>
                </a:cubicBezTo>
                <a:lnTo>
                  <a:pt x="2324605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8EED-070E-43B9-BE61-5E2A4E19A67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771f28"/>
                </a:solidFill>
                <a:latin typeface="Verdana"/>
              </a:rPr>
              <a:t>Математический диктант</a:t>
            </a:r>
            <a:endParaRPr b="1" lang="en-US" sz="60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00040" y="500040"/>
            <a:ext cx="8143920" cy="1357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.Множество чисел показанное на рисунке задайте на алгебраическом языке двумя способ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9" name="Group 18"/>
          <p:cNvGrpSpPr/>
          <p:nvPr/>
        </p:nvGrpSpPr>
        <p:grpSpPr>
          <a:xfrm>
            <a:off x="2643120" y="2286000"/>
            <a:ext cx="3960720" cy="653040"/>
            <a:chOff x="2643120" y="2286000"/>
            <a:chExt cx="3960720" cy="653040"/>
          </a:xfrm>
        </p:grpSpPr>
        <p:sp>
          <p:nvSpPr>
            <p:cNvPr id="230" name="Line 19"/>
            <p:cNvSpPr/>
            <p:nvPr/>
          </p:nvSpPr>
          <p:spPr>
            <a:xfrm>
              <a:off x="2643120" y="2430360"/>
              <a:ext cx="3960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1" name="Oval 20"/>
            <p:cNvSpPr/>
            <p:nvPr/>
          </p:nvSpPr>
          <p:spPr>
            <a:xfrm>
              <a:off x="3651120" y="2357640"/>
              <a:ext cx="144360" cy="144360"/>
            </a:xfrm>
            <a:prstGeom prst="ellipse">
              <a:avLst/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Freeform 21"/>
            <p:cNvSpPr/>
            <p:nvPr/>
          </p:nvSpPr>
          <p:spPr>
            <a:xfrm>
              <a:off x="3816360" y="2300400"/>
              <a:ext cx="2541600" cy="1440"/>
            </a:xfrm>
            <a:custGeom>
              <a:avLst/>
              <a:gdLst>
                <a:gd name="textAreaLeft" fmla="*/ 0 w 2541600"/>
                <a:gd name="textAreaRight" fmla="*/ 2541960 w 25416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601" h="1">
                  <a:moveTo>
                    <a:pt x="0" y="0"/>
                  </a:moveTo>
                  <a:lnTo>
                    <a:pt x="1601" y="0"/>
                  </a:lnTo>
                </a:path>
              </a:pathLst>
            </a:custGeom>
            <a:noFill/>
            <a:ln w="1522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" name="Text Box 22"/>
            <p:cNvSpPr/>
            <p:nvPr/>
          </p:nvSpPr>
          <p:spPr>
            <a:xfrm>
              <a:off x="6171480" y="2286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4" name="Text Box 23"/>
            <p:cNvSpPr/>
            <p:nvPr/>
          </p:nvSpPr>
          <p:spPr>
            <a:xfrm>
              <a:off x="3435840" y="2357640"/>
              <a:ext cx="52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5" name="Group 46"/>
          <p:cNvGrpSpPr/>
          <p:nvPr/>
        </p:nvGrpSpPr>
        <p:grpSpPr>
          <a:xfrm>
            <a:off x="2357280" y="3143160"/>
            <a:ext cx="3959280" cy="726120"/>
            <a:chOff x="2357280" y="3143160"/>
            <a:chExt cx="3959280" cy="726120"/>
          </a:xfrm>
        </p:grpSpPr>
        <p:sp>
          <p:nvSpPr>
            <p:cNvPr id="236" name="Line 33"/>
            <p:cNvSpPr/>
            <p:nvPr/>
          </p:nvSpPr>
          <p:spPr>
            <a:xfrm>
              <a:off x="2357280" y="3287880"/>
              <a:ext cx="3959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" name="Oval 34"/>
            <p:cNvSpPr/>
            <p:nvPr/>
          </p:nvSpPr>
          <p:spPr>
            <a:xfrm>
              <a:off x="4805280" y="32162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8" name="Text Box 35"/>
            <p:cNvSpPr/>
            <p:nvPr/>
          </p:nvSpPr>
          <p:spPr>
            <a:xfrm>
              <a:off x="4590360" y="328788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9" name="Line 36"/>
            <p:cNvSpPr/>
            <p:nvPr/>
          </p:nvSpPr>
          <p:spPr>
            <a:xfrm>
              <a:off x="2357280" y="3143160"/>
              <a:ext cx="2521080" cy="0"/>
            </a:xfrm>
            <a:prstGeom prst="line">
              <a:avLst/>
            </a:prstGeom>
            <a:ln w="1522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" name="Text Box 37"/>
            <p:cNvSpPr/>
            <p:nvPr/>
          </p:nvSpPr>
          <p:spPr>
            <a:xfrm>
              <a:off x="5886000" y="32162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41" name="Group 47"/>
          <p:cNvGrpSpPr/>
          <p:nvPr/>
        </p:nvGrpSpPr>
        <p:grpSpPr>
          <a:xfrm>
            <a:off x="2428920" y="4357800"/>
            <a:ext cx="3960720" cy="652680"/>
            <a:chOff x="2428920" y="4357800"/>
            <a:chExt cx="3960720" cy="652680"/>
          </a:xfrm>
        </p:grpSpPr>
        <p:sp>
          <p:nvSpPr>
            <p:cNvPr id="242" name="Line 19"/>
            <p:cNvSpPr/>
            <p:nvPr/>
          </p:nvSpPr>
          <p:spPr>
            <a:xfrm>
              <a:off x="2428920" y="4502160"/>
              <a:ext cx="3960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Oval 20"/>
            <p:cNvSpPr/>
            <p:nvPr/>
          </p:nvSpPr>
          <p:spPr>
            <a:xfrm>
              <a:off x="3436920" y="4429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" name="Freeform 21"/>
            <p:cNvSpPr/>
            <p:nvPr/>
          </p:nvSpPr>
          <p:spPr>
            <a:xfrm>
              <a:off x="3602160" y="4371840"/>
              <a:ext cx="2541600" cy="1800"/>
            </a:xfrm>
            <a:custGeom>
              <a:avLst/>
              <a:gdLst>
                <a:gd name="textAreaLeft" fmla="*/ 0 w 2541600"/>
                <a:gd name="textAreaRight" fmla="*/ 2541960 w 25416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601" h="1">
                  <a:moveTo>
                    <a:pt x="0" y="0"/>
                  </a:moveTo>
                  <a:lnTo>
                    <a:pt x="1601" y="0"/>
                  </a:lnTo>
                </a:path>
              </a:pathLst>
            </a:custGeom>
            <a:noFill/>
            <a:ln w="1522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Text Box 22"/>
            <p:cNvSpPr/>
            <p:nvPr/>
          </p:nvSpPr>
          <p:spPr>
            <a:xfrm>
              <a:off x="5957280" y="4357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6" name="Text Box 23"/>
            <p:cNvSpPr/>
            <p:nvPr/>
          </p:nvSpPr>
          <p:spPr>
            <a:xfrm>
              <a:off x="3221640" y="4429080"/>
              <a:ext cx="52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47" name="Group 58"/>
          <p:cNvGrpSpPr/>
          <p:nvPr/>
        </p:nvGrpSpPr>
        <p:grpSpPr>
          <a:xfrm>
            <a:off x="2357280" y="5572080"/>
            <a:ext cx="3959280" cy="726120"/>
            <a:chOff x="2357280" y="5572080"/>
            <a:chExt cx="3959280" cy="726120"/>
          </a:xfrm>
        </p:grpSpPr>
        <p:sp>
          <p:nvSpPr>
            <p:cNvPr id="248" name="Line 39"/>
            <p:cNvSpPr/>
            <p:nvPr/>
          </p:nvSpPr>
          <p:spPr>
            <a:xfrm>
              <a:off x="2357280" y="5716800"/>
              <a:ext cx="3959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Oval 40"/>
            <p:cNvSpPr/>
            <p:nvPr/>
          </p:nvSpPr>
          <p:spPr>
            <a:xfrm>
              <a:off x="4805280" y="5645160"/>
              <a:ext cx="144360" cy="144360"/>
            </a:xfrm>
            <a:prstGeom prst="ellipse">
              <a:avLst/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Text Box 47"/>
            <p:cNvSpPr/>
            <p:nvPr/>
          </p:nvSpPr>
          <p:spPr>
            <a:xfrm>
              <a:off x="4590000" y="5716800"/>
              <a:ext cx="52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-5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Line 50"/>
            <p:cNvSpPr/>
            <p:nvPr/>
          </p:nvSpPr>
          <p:spPr>
            <a:xfrm>
              <a:off x="2357280" y="5572080"/>
              <a:ext cx="2521080" cy="0"/>
            </a:xfrm>
            <a:prstGeom prst="line">
              <a:avLst/>
            </a:prstGeom>
            <a:ln w="1522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Text Box 54"/>
            <p:cNvSpPr/>
            <p:nvPr/>
          </p:nvSpPr>
          <p:spPr>
            <a:xfrm>
              <a:off x="5885640" y="56451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9"/>
          <p:cNvGrpSpPr/>
          <p:nvPr/>
        </p:nvGrpSpPr>
        <p:grpSpPr>
          <a:xfrm>
            <a:off x="395280" y="2781360"/>
            <a:ext cx="2016000" cy="718920"/>
            <a:chOff x="395280" y="2781360"/>
            <a:chExt cx="2016000" cy="718920"/>
          </a:xfrm>
        </p:grpSpPr>
        <p:grpSp>
          <p:nvGrpSpPr>
            <p:cNvPr id="254" name="Rectangle 7"/>
            <p:cNvGrpSpPr/>
            <p:nvPr/>
          </p:nvGrpSpPr>
          <p:grpSpPr>
            <a:xfrm>
              <a:off x="395280" y="2781360"/>
              <a:ext cx="2016000" cy="718920"/>
              <a:chOff x="395280" y="2781360"/>
              <a:chExt cx="2016000" cy="718920"/>
            </a:xfrm>
          </p:grpSpPr>
          <p:pic>
            <p:nvPicPr>
              <p:cNvPr id="255" name="Rectangl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396000" y="2781360"/>
                <a:ext cx="2015280" cy="71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"/>
              <p:cNvSpPr/>
              <p:nvPr/>
            </p:nvSpPr>
            <p:spPr>
              <a:xfrm>
                <a:off x="395280" y="2782800"/>
                <a:ext cx="2013480" cy="71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57" name="Object 8"/>
                <p:cNvSpPr txBox="1"/>
                <p:nvPr/>
              </p:nvSpPr>
              <p:spPr>
                <a:xfrm>
                  <a:off x="714240" y="2825640"/>
                  <a:ext cx="137340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х</m:t>
                      </m:r>
                      <m:r>
                        <m:t xml:space="preserve">&lt;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8" name="Group 16"/>
          <p:cNvGrpSpPr/>
          <p:nvPr/>
        </p:nvGrpSpPr>
        <p:grpSpPr>
          <a:xfrm>
            <a:off x="395280" y="3932280"/>
            <a:ext cx="2016000" cy="718920"/>
            <a:chOff x="395280" y="3932280"/>
            <a:chExt cx="2016000" cy="718920"/>
          </a:xfrm>
        </p:grpSpPr>
        <p:grpSp>
          <p:nvGrpSpPr>
            <p:cNvPr id="259" name="Rectangle 11"/>
            <p:cNvGrpSpPr/>
            <p:nvPr/>
          </p:nvGrpSpPr>
          <p:grpSpPr>
            <a:xfrm>
              <a:off x="395280" y="3932280"/>
              <a:ext cx="2016000" cy="718920"/>
              <a:chOff x="395280" y="3932280"/>
              <a:chExt cx="2016000" cy="718920"/>
            </a:xfrm>
          </p:grpSpPr>
          <p:pic>
            <p:nvPicPr>
              <p:cNvPr id="260" name="Rectangl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00" y="3932280"/>
                <a:ext cx="2015280" cy="71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1" name=""/>
              <p:cNvSpPr/>
              <p:nvPr/>
            </p:nvSpPr>
            <p:spPr>
              <a:xfrm>
                <a:off x="395280" y="3932280"/>
                <a:ext cx="2013480" cy="71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62" name="Object 12"/>
                <p:cNvSpPr txBox="1"/>
                <p:nvPr/>
              </p:nvSpPr>
              <p:spPr>
                <a:xfrm>
                  <a:off x="414000" y="3974760"/>
                  <a:ext cx="1973160" cy="60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5</m:t>
                      </m:r>
                      <m:r>
                        <m:t xml:space="preserve">х</m:t>
                      </m:r>
                      <m:r>
                        <m:t xml:space="preserve">≥</m:t>
                      </m:r>
                      <m:r>
                        <m:t xml:space="preserve">2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3" name="Group 17"/>
          <p:cNvGrpSpPr/>
          <p:nvPr/>
        </p:nvGrpSpPr>
        <p:grpSpPr>
          <a:xfrm>
            <a:off x="395280" y="5084640"/>
            <a:ext cx="2015640" cy="718920"/>
            <a:chOff x="395280" y="5084640"/>
            <a:chExt cx="2015640" cy="718920"/>
          </a:xfrm>
        </p:grpSpPr>
        <p:grpSp>
          <p:nvGrpSpPr>
            <p:cNvPr id="264" name="Rectangle 14"/>
            <p:cNvGrpSpPr/>
            <p:nvPr/>
          </p:nvGrpSpPr>
          <p:grpSpPr>
            <a:xfrm>
              <a:off x="396360" y="5084640"/>
              <a:ext cx="2014560" cy="718920"/>
              <a:chOff x="396360" y="5084640"/>
              <a:chExt cx="2014560" cy="718920"/>
            </a:xfrm>
          </p:grpSpPr>
          <p:pic>
            <p:nvPicPr>
              <p:cNvPr id="265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397080" y="5084640"/>
                <a:ext cx="2013840" cy="71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6" name=""/>
              <p:cNvSpPr/>
              <p:nvPr/>
            </p:nvSpPr>
            <p:spPr>
              <a:xfrm>
                <a:off x="396360" y="5085000"/>
                <a:ext cx="2012040" cy="71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67" name="Object 15"/>
                <p:cNvSpPr txBox="1"/>
                <p:nvPr/>
              </p:nvSpPr>
              <p:spPr>
                <a:xfrm>
                  <a:off x="395280" y="5127480"/>
                  <a:ext cx="201276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х</m:t>
                      </m:r>
                      <m:r>
                        <m:t xml:space="preserve">&gt;</m:t>
                      </m:r>
                      <m:r>
                        <m:t xml:space="preserve">−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8" name="Text Box 48"/>
          <p:cNvSpPr/>
          <p:nvPr/>
        </p:nvSpPr>
        <p:spPr>
          <a:xfrm>
            <a:off x="2124000" y="1052640"/>
            <a:ext cx="6681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.Запишите множество решений двумя способами- на числовой прямой и в виде промежутк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Rectangle 5"/>
          <p:cNvGrpSpPr/>
          <p:nvPr/>
        </p:nvGrpSpPr>
        <p:grpSpPr>
          <a:xfrm>
            <a:off x="858960" y="189000"/>
            <a:ext cx="8108640" cy="1457280"/>
            <a:chOff x="858960" y="189000"/>
            <a:chExt cx="8108640" cy="1457280"/>
          </a:xfrm>
        </p:grpSpPr>
        <p:pic>
          <p:nvPicPr>
            <p:cNvPr id="270" name="Rectangle 5" descr=""/>
            <p:cNvPicPr/>
            <p:nvPr/>
          </p:nvPicPr>
          <p:blipFill>
            <a:blip r:embed="rId1"/>
            <a:stretch/>
          </p:blipFill>
          <p:spPr>
            <a:xfrm>
              <a:off x="860400" y="189000"/>
              <a:ext cx="810720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858960" y="189000"/>
              <a:ext cx="810576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99"/>
                  </a:solidFill>
                  <a:latin typeface="Times New Roman"/>
                </a:rPr>
                <a:t>3.Решите неравенства и покажите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i="1" lang="ru-RU" sz="3600" spc="-1" strike="noStrike">
                  <a:solidFill>
                    <a:srgbClr val="000099"/>
                  </a:solidFill>
                  <a:latin typeface="Times New Roman"/>
                </a:rPr>
                <a:t>на прямой множество решений: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2" name="Group 10"/>
          <p:cNvGrpSpPr/>
          <p:nvPr/>
        </p:nvGrpSpPr>
        <p:grpSpPr>
          <a:xfrm>
            <a:off x="1547640" y="2781360"/>
            <a:ext cx="3456000" cy="718920"/>
            <a:chOff x="1547640" y="2781360"/>
            <a:chExt cx="3456000" cy="718920"/>
          </a:xfrm>
        </p:grpSpPr>
        <p:grpSp>
          <p:nvGrpSpPr>
            <p:cNvPr id="273" name="Rectangle 8"/>
            <p:cNvGrpSpPr/>
            <p:nvPr/>
          </p:nvGrpSpPr>
          <p:grpSpPr>
            <a:xfrm>
              <a:off x="1547640" y="2781360"/>
              <a:ext cx="3456000" cy="718920"/>
              <a:chOff x="1547640" y="2781360"/>
              <a:chExt cx="3456000" cy="718920"/>
            </a:xfrm>
          </p:grpSpPr>
          <p:pic>
            <p:nvPicPr>
              <p:cNvPr id="274" name="Rectangl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1548000" y="2781360"/>
                <a:ext cx="3455640" cy="71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" name=""/>
              <p:cNvSpPr/>
              <p:nvPr/>
            </p:nvSpPr>
            <p:spPr>
              <a:xfrm>
                <a:off x="1547640" y="2782800"/>
                <a:ext cx="3455280" cy="71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76" name="Object 9"/>
                <p:cNvSpPr txBox="1"/>
                <p:nvPr/>
              </p:nvSpPr>
              <p:spPr>
                <a:xfrm>
                  <a:off x="1908000" y="2854080"/>
                  <a:ext cx="273672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  <m:r>
                        <m:t xml:space="preserve">&gt;</m:t>
                      </m:r>
                      <m:r>
                        <m:t xml:space="preserve">4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7" name="Group 11"/>
          <p:cNvGrpSpPr/>
          <p:nvPr/>
        </p:nvGrpSpPr>
        <p:grpSpPr>
          <a:xfrm>
            <a:off x="1547640" y="3933720"/>
            <a:ext cx="3456000" cy="719280"/>
            <a:chOff x="1547640" y="3933720"/>
            <a:chExt cx="3456000" cy="719280"/>
          </a:xfrm>
        </p:grpSpPr>
        <p:grpSp>
          <p:nvGrpSpPr>
            <p:cNvPr id="278" name="Rectangle 12"/>
            <p:cNvGrpSpPr/>
            <p:nvPr/>
          </p:nvGrpSpPr>
          <p:grpSpPr>
            <a:xfrm>
              <a:off x="1547640" y="3933720"/>
              <a:ext cx="3456000" cy="719280"/>
              <a:chOff x="1547640" y="3933720"/>
              <a:chExt cx="3456000" cy="719280"/>
            </a:xfrm>
          </p:grpSpPr>
          <p:pic>
            <p:nvPicPr>
              <p:cNvPr id="279" name="Rectangl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48000" y="3933720"/>
                <a:ext cx="3455640" cy="71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"/>
              <p:cNvSpPr/>
              <p:nvPr/>
            </p:nvSpPr>
            <p:spPr>
              <a:xfrm>
                <a:off x="1547640" y="3935520"/>
                <a:ext cx="3455280" cy="71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81" name="Object 13"/>
                <p:cNvSpPr txBox="1"/>
                <p:nvPr/>
              </p:nvSpPr>
              <p:spPr>
                <a:xfrm>
                  <a:off x="1806480" y="4006800"/>
                  <a:ext cx="294012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≤</m:t>
                      </m:r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2" name="Group 14"/>
          <p:cNvGrpSpPr/>
          <p:nvPr/>
        </p:nvGrpSpPr>
        <p:grpSpPr>
          <a:xfrm>
            <a:off x="1547640" y="5084640"/>
            <a:ext cx="3456000" cy="718920"/>
            <a:chOff x="1547640" y="5084640"/>
            <a:chExt cx="3456000" cy="718920"/>
          </a:xfrm>
        </p:grpSpPr>
        <p:grpSp>
          <p:nvGrpSpPr>
            <p:cNvPr id="283" name="Rectangle 15"/>
            <p:cNvGrpSpPr/>
            <p:nvPr/>
          </p:nvGrpSpPr>
          <p:grpSpPr>
            <a:xfrm>
              <a:off x="1547640" y="5084640"/>
              <a:ext cx="3456000" cy="718920"/>
              <a:chOff x="1547640" y="5084640"/>
              <a:chExt cx="3456000" cy="718920"/>
            </a:xfrm>
          </p:grpSpPr>
          <p:pic>
            <p:nvPicPr>
              <p:cNvPr id="284" name="Rectangle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1548000" y="5084640"/>
                <a:ext cx="3455640" cy="71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5" name=""/>
              <p:cNvSpPr/>
              <p:nvPr/>
            </p:nvSpPr>
            <p:spPr>
              <a:xfrm>
                <a:off x="1547640" y="5085000"/>
                <a:ext cx="3455280" cy="71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86" name="Object 16"/>
                <p:cNvSpPr txBox="1"/>
                <p:nvPr/>
              </p:nvSpPr>
              <p:spPr>
                <a:xfrm>
                  <a:off x="1806480" y="5155920"/>
                  <a:ext cx="294012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&lt;</m:t>
                      </m:r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18:43:50Z</dcterms:created>
  <dc:creator>User</dc:creator>
  <dc:description/>
  <dc:language>en-US</dc:language>
  <cp:lastModifiedBy>Юльчик</cp:lastModifiedBy>
  <dcterms:modified xsi:type="dcterms:W3CDTF">2016-09-19T18:29:09Z</dcterms:modified>
  <cp:revision>7</cp:revision>
  <dc:subject/>
  <dc:title>Математический диктант</dc:title>
</cp:coreProperties>
</file>