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png" ContentType="image/png"/>
  <Override PartName="/ppt/media/image3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14.png" ContentType="image/png"/>
  <Override PartName="/ppt/media/image10.png" ContentType="image/png"/>
  <Override PartName="/ppt/media/image2.jpeg" ContentType="image/jpeg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7BE-E53D-4B3D-B564-D696014C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C27-F1E5-4E66-9E7A-75770D17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B00-696F-4D51-97AC-EB4EE9F5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941-E064-4A93-84A6-29E8AD4B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C54-3AE0-4F4B-A905-7FEC9919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A08-CF3A-4CAD-B582-DEC3659F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EC8-8DD8-412D-99A5-0ADB0F46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E61-3CB2-4135-A649-0153E9E2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746-1B01-4503-B2F2-DECDFDDE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B84-F5FB-49C2-86BA-1AA65DB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A26-E8D0-46B2-9F46-7D1930F3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D96-4EFE-4A79-A2AB-347F59A3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9D42-4CBC-4D7B-B924-F686BD4FEB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8"/>
          <p:cNvPicPr/>
          <p:nvPr/>
        </p:nvPicPr>
        <p:blipFill>
          <a:blip r:embed="rId1"/>
          <a:stretch/>
        </p:blipFill>
        <p:spPr>
          <a:xfrm>
            <a:off x="3636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684360" y="333360"/>
            <a:ext cx="770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рый день 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473120" y="1376280"/>
            <a:ext cx="734688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Сколько платьев можно сшить из 17 метров ткани, если на одно платье расходуют 3 метра ткани? Сколько метров ткани останется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Rectangle 2"/>
          <p:cNvGrpSpPr/>
          <p:nvPr/>
        </p:nvGrpSpPr>
        <p:grpSpPr>
          <a:xfrm>
            <a:off x="1414440" y="165240"/>
            <a:ext cx="7564320" cy="1249200"/>
            <a:chOff x="1414440" y="165240"/>
            <a:chExt cx="7564320" cy="1249200"/>
          </a:xfrm>
        </p:grpSpPr>
        <p:pic>
          <p:nvPicPr>
            <p:cNvPr id="103" name="Rectangle 2" descr=""/>
            <p:cNvPicPr/>
            <p:nvPr/>
          </p:nvPicPr>
          <p:blipFill>
            <a:blip r:embed="rId1"/>
            <a:stretch/>
          </p:blipFill>
          <p:spPr>
            <a:xfrm>
              <a:off x="1414440" y="165240"/>
              <a:ext cx="75643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73120" y="203040"/>
              <a:ext cx="745344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00000"/>
                  </a:solidFill>
                  <a:latin typeface="Times New Roman"/>
                </a:rPr>
                <a:t>Задача - расчё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6246720" y="3789360"/>
            <a:ext cx="2124000" cy="283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6300720" y="1916280"/>
            <a:ext cx="1513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Rectangle 2"/>
          <p:cNvGrpSpPr/>
          <p:nvPr/>
        </p:nvGrpSpPr>
        <p:grpSpPr>
          <a:xfrm>
            <a:off x="1378080" y="152280"/>
            <a:ext cx="7637400" cy="1249560"/>
            <a:chOff x="1378080" y="152280"/>
            <a:chExt cx="7637400" cy="1249560"/>
          </a:xfrm>
        </p:grpSpPr>
        <p:pic>
          <p:nvPicPr>
            <p:cNvPr id="108" name="Rectangle 2" descr=""/>
            <p:cNvPicPr/>
            <p:nvPr/>
          </p:nvPicPr>
          <p:blipFill>
            <a:blip r:embed="rId1"/>
            <a:stretch/>
          </p:blipFill>
          <p:spPr>
            <a:xfrm>
              <a:off x="1378080" y="152280"/>
              <a:ext cx="76374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76360" y="189000"/>
              <a:ext cx="7416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00000"/>
                  </a:solidFill>
                  <a:latin typeface="Times New Roman"/>
                </a:rPr>
                <a:t>Тест «Деление с остатком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1619280" y="1341360"/>
          <a:ext cx="6624720" cy="237492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  <a:gridCol w="1081080"/>
                <a:gridCol w="1008000"/>
                <a:gridCol w="1150920"/>
                <a:gridCol w="1152720"/>
              </a:tblGrid>
              <a:tr h="1295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3675240" y="4076640"/>
            <a:ext cx="3166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300720" y="1916280"/>
            <a:ext cx="1513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Rectangle 2"/>
          <p:cNvGrpSpPr/>
          <p:nvPr/>
        </p:nvGrpSpPr>
        <p:grpSpPr>
          <a:xfrm>
            <a:off x="1378080" y="152280"/>
            <a:ext cx="7637400" cy="1249560"/>
            <a:chOff x="1378080" y="152280"/>
            <a:chExt cx="7637400" cy="1249560"/>
          </a:xfrm>
        </p:grpSpPr>
        <p:pic>
          <p:nvPicPr>
            <p:cNvPr id="114" name="Rectangle 2" descr=""/>
            <p:cNvPicPr/>
            <p:nvPr/>
          </p:nvPicPr>
          <p:blipFill>
            <a:blip r:embed="rId1"/>
            <a:stretch/>
          </p:blipFill>
          <p:spPr>
            <a:xfrm>
              <a:off x="1378080" y="152280"/>
              <a:ext cx="76374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476360" y="189000"/>
              <a:ext cx="7416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00000"/>
                  </a:solidFill>
                  <a:latin typeface="Times New Roman"/>
                </a:rPr>
                <a:t>Тест «Деление с остатком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1619280" y="1341360"/>
          <a:ext cx="6624720" cy="237492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  <a:gridCol w="1081080"/>
                <a:gridCol w="1008000"/>
                <a:gridCol w="1150920"/>
                <a:gridCol w="1152720"/>
              </a:tblGrid>
              <a:tr h="1295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3645000"/>
            <a:ext cx="5486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цени себ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440" y="4365720"/>
            <a:ext cx="548640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Нет ошибок -  «5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1 – 2 ошибки – «4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-4 ошибки – «3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473120" y="1376280"/>
            <a:ext cx="734688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1. Стр.  35   №  16 ( с проверкой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Придумайте 3 примера  для своего товарища по тем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Rectangle 2"/>
          <p:cNvGrpSpPr/>
          <p:nvPr/>
        </p:nvGrpSpPr>
        <p:grpSpPr>
          <a:xfrm>
            <a:off x="1414440" y="165240"/>
            <a:ext cx="7564320" cy="1249200"/>
            <a:chOff x="1414440" y="165240"/>
            <a:chExt cx="7564320" cy="1249200"/>
          </a:xfrm>
        </p:grpSpPr>
        <p:pic>
          <p:nvPicPr>
            <p:cNvPr id="121" name="Rectangle 2" descr=""/>
            <p:cNvPicPr/>
            <p:nvPr/>
          </p:nvPicPr>
          <p:blipFill>
            <a:blip r:embed="rId1"/>
            <a:stretch/>
          </p:blipFill>
          <p:spPr>
            <a:xfrm>
              <a:off x="1414440" y="165240"/>
              <a:ext cx="75643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73120" y="203040"/>
              <a:ext cx="745344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00000"/>
                  </a:solidFill>
                  <a:latin typeface="Times New Roman"/>
                </a:rPr>
                <a:t>Домашнее задание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Picture 4" descr="MCj04404240000[1]"/>
          <p:cNvPicPr/>
          <p:nvPr/>
        </p:nvPicPr>
        <p:blipFill>
          <a:blip r:embed="rId2"/>
          <a:stretch/>
        </p:blipFill>
        <p:spPr>
          <a:xfrm>
            <a:off x="5508720" y="3789360"/>
            <a:ext cx="27828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80960" y="189000"/>
            <a:ext cx="756144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И на свете нет професси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ы заметьте-к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Где бы вам не пригодилась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Математика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761080" cy="363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80960" y="475920"/>
            <a:ext cx="75614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000000"/>
                </a:solidFill>
                <a:latin typeface="Times New Roman"/>
              </a:rPr>
              <a:t>Чтоб врачом, моряком, </a:t>
            </a:r>
            <a:br>
              <a:rPr sz="5300"/>
            </a:br>
            <a:r>
              <a:rPr b="1" lang="ru-RU" sz="5300" spc="-1" strike="noStrike">
                <a:solidFill>
                  <a:srgbClr val="000000"/>
                </a:solidFill>
                <a:latin typeface="Times New Roman"/>
              </a:rPr>
              <a:t> Или лётчиком стать, </a:t>
            </a:r>
            <a:br>
              <a:rPr sz="5300"/>
            </a:br>
            <a:r>
              <a:rPr b="1" lang="ru-RU" sz="5300" spc="-1" strike="noStrike">
                <a:solidFill>
                  <a:srgbClr val="000000"/>
                </a:solidFill>
                <a:latin typeface="Times New Roman"/>
              </a:rPr>
              <a:t> Надо прежде всего</a:t>
            </a:r>
            <a:br>
              <a:rPr sz="5300"/>
            </a:br>
            <a:r>
              <a:rPr b="1" lang="ru-RU" sz="5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300" spc="-1" strike="noStrike">
                <a:solidFill>
                  <a:srgbClr val="ff0000"/>
                </a:solidFill>
                <a:latin typeface="Times New Roman"/>
              </a:rPr>
              <a:t>Математику</a:t>
            </a:r>
            <a:r>
              <a:rPr b="1" lang="ru-RU" sz="5300" spc="-1" strike="noStrike">
                <a:solidFill>
                  <a:srgbClr val="000000"/>
                </a:solidFill>
                <a:latin typeface="Times New Roman"/>
              </a:rPr>
              <a:t> знать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5292720" y="4076640"/>
            <a:ext cx="3166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76000" y="1483920"/>
            <a:ext cx="7402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26 :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5 =    (ост.     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3     : 5= 6 (ост. 1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300720" y="1916280"/>
            <a:ext cx="1513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Rectangle 2"/>
          <p:cNvGrpSpPr/>
          <p:nvPr/>
        </p:nvGrpSpPr>
        <p:grpSpPr>
          <a:xfrm>
            <a:off x="1414440" y="152280"/>
            <a:ext cx="7534440" cy="1249560"/>
            <a:chOff x="1414440" y="152280"/>
            <a:chExt cx="7534440" cy="1249560"/>
          </a:xfrm>
        </p:grpSpPr>
        <p:pic>
          <p:nvPicPr>
            <p:cNvPr id="48" name="Rectangle 2" descr=""/>
            <p:cNvPicPr/>
            <p:nvPr/>
          </p:nvPicPr>
          <p:blipFill>
            <a:blip r:embed="rId1"/>
            <a:stretch/>
          </p:blipFill>
          <p:spPr>
            <a:xfrm>
              <a:off x="1414440" y="152280"/>
              <a:ext cx="753444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76360" y="189000"/>
              <a:ext cx="7416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00000"/>
                  </a:solidFill>
                  <a:latin typeface="Times New Roman"/>
                </a:rPr>
                <a:t>Ребус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Picture 16" descr="https://png.pngtree.com/png_detail/18/09/10/pngtree-snowflake-png-clipart_931296.jpg"/>
          <p:cNvPicPr/>
          <p:nvPr/>
        </p:nvPicPr>
        <p:blipFill>
          <a:blip r:embed="rId2"/>
          <a:stretch/>
        </p:blipFill>
        <p:spPr>
          <a:xfrm>
            <a:off x="7380360" y="1685880"/>
            <a:ext cx="866880" cy="87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s://png.pngtree.com/png_detail/18/09/10/pngtree-snowflake-png-clipart_931296.jpg"/>
          <p:cNvPicPr/>
          <p:nvPr/>
        </p:nvPicPr>
        <p:blipFill>
          <a:blip r:embed="rId3"/>
          <a:stretch/>
        </p:blipFill>
        <p:spPr>
          <a:xfrm>
            <a:off x="2262240" y="3570120"/>
            <a:ext cx="865080" cy="87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s://png.pngtree.com/png_detail/18/09/10/pngtree-snowflake-png-clipart_931296.jpg"/>
          <p:cNvPicPr/>
          <p:nvPr/>
        </p:nvPicPr>
        <p:blipFill>
          <a:blip r:embed="rId4"/>
          <a:stretch/>
        </p:blipFill>
        <p:spPr>
          <a:xfrm>
            <a:off x="4500720" y="1660680"/>
            <a:ext cx="86508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0960" y="333360"/>
            <a:ext cx="7561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Тема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еление с остатком. Проверка деления с остатком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844640"/>
            <a:ext cx="7129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300720" y="1916280"/>
            <a:ext cx="1513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Rectangle 2"/>
          <p:cNvGrpSpPr/>
          <p:nvPr/>
        </p:nvGrpSpPr>
        <p:grpSpPr>
          <a:xfrm>
            <a:off x="1414440" y="152280"/>
            <a:ext cx="7534440" cy="1249560"/>
            <a:chOff x="1414440" y="152280"/>
            <a:chExt cx="7534440" cy="1249560"/>
          </a:xfrm>
        </p:grpSpPr>
        <p:pic>
          <p:nvPicPr>
            <p:cNvPr id="57" name="Rectangle 2" descr=""/>
            <p:cNvPicPr/>
            <p:nvPr/>
          </p:nvPicPr>
          <p:blipFill>
            <a:blip r:embed="rId1"/>
            <a:stretch/>
          </p:blipFill>
          <p:spPr>
            <a:xfrm>
              <a:off x="1414440" y="152280"/>
              <a:ext cx="753444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476360" y="189000"/>
              <a:ext cx="7416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00000"/>
                  </a:solidFill>
                  <a:latin typeface="Times New Roman"/>
                </a:rPr>
                <a:t>Устный счё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" name=""/>
          <p:cNvGraphicFramePr/>
          <p:nvPr/>
        </p:nvGraphicFramePr>
        <p:xfrm>
          <a:off x="1649520" y="1700280"/>
          <a:ext cx="7068960" cy="3365280"/>
        </p:xfrm>
        <a:graphic>
          <a:graphicData uri="http://schemas.openxmlformats.org/drawingml/2006/table">
            <a:tbl>
              <a:tblPr/>
              <a:tblGrid>
                <a:gridCol w="1482480"/>
                <a:gridCol w="1482840"/>
                <a:gridCol w="1482840"/>
                <a:gridCol w="2620800"/>
              </a:tblGrid>
              <a:tr h="11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6300720" y="1916280"/>
            <a:ext cx="1513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Rectangle 2"/>
          <p:cNvGrpSpPr/>
          <p:nvPr/>
        </p:nvGrpSpPr>
        <p:grpSpPr>
          <a:xfrm>
            <a:off x="1414440" y="152280"/>
            <a:ext cx="7534440" cy="1249560"/>
            <a:chOff x="1414440" y="152280"/>
            <a:chExt cx="7534440" cy="1249560"/>
          </a:xfrm>
        </p:grpSpPr>
        <p:pic>
          <p:nvPicPr>
            <p:cNvPr id="62" name="Rectangle 2" descr=""/>
            <p:cNvPicPr/>
            <p:nvPr/>
          </p:nvPicPr>
          <p:blipFill>
            <a:blip r:embed="rId1"/>
            <a:stretch/>
          </p:blipFill>
          <p:spPr>
            <a:xfrm>
              <a:off x="1414440" y="152280"/>
              <a:ext cx="753444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476360" y="189000"/>
              <a:ext cx="7416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00000"/>
                  </a:solidFill>
                  <a:latin typeface="Times New Roman"/>
                </a:rPr>
                <a:t>КЛЮЧ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1619280" y="1341360"/>
          <a:ext cx="6913440" cy="2374920"/>
        </p:xfrm>
        <a:graphic>
          <a:graphicData uri="http://schemas.openxmlformats.org/drawingml/2006/table">
            <a:tbl>
              <a:tblPr/>
              <a:tblGrid>
                <a:gridCol w="1382760"/>
                <a:gridCol w="1382760"/>
                <a:gridCol w="1382760"/>
                <a:gridCol w="1382400"/>
                <a:gridCol w="1382760"/>
              </a:tblGrid>
              <a:tr h="129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Рисунок 2" descr=""/>
          <p:cNvPicPr/>
          <p:nvPr/>
        </p:nvPicPr>
        <p:blipFill>
          <a:blip r:embed="rId2"/>
          <a:stretch/>
        </p:blipFill>
        <p:spPr>
          <a:xfrm>
            <a:off x="3995640" y="3889440"/>
            <a:ext cx="1656000" cy="259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484360" y="3639960"/>
            <a:ext cx="55404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Rectangle 2"/>
          <p:cNvGrpSpPr/>
          <p:nvPr/>
        </p:nvGrpSpPr>
        <p:grpSpPr>
          <a:xfrm>
            <a:off x="1414440" y="12600"/>
            <a:ext cx="7534440" cy="998640"/>
            <a:chOff x="1414440" y="12600"/>
            <a:chExt cx="7534440" cy="998640"/>
          </a:xfrm>
        </p:grpSpPr>
        <p:pic>
          <p:nvPicPr>
            <p:cNvPr id="68" name="Rectangle 2" descr=""/>
            <p:cNvPicPr/>
            <p:nvPr/>
          </p:nvPicPr>
          <p:blipFill>
            <a:blip r:embed="rId1"/>
            <a:stretch/>
          </p:blipFill>
          <p:spPr>
            <a:xfrm>
              <a:off x="1414440" y="12600"/>
              <a:ext cx="7534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476360" y="189000"/>
              <a:ext cx="74167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00000"/>
                  </a:solidFill>
                  <a:latin typeface="Times New Roman"/>
                </a:rPr>
                <a:t>Математическая цепочк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Рисунок 1" descr=""/>
          <p:cNvPicPr/>
          <p:nvPr/>
        </p:nvPicPr>
        <p:blipFill>
          <a:blip r:embed="rId2"/>
          <a:stretch/>
        </p:blipFill>
        <p:spPr>
          <a:xfrm>
            <a:off x="1549440" y="4694400"/>
            <a:ext cx="2643120" cy="21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71" name="Group 237"/>
          <p:cNvGrpSpPr/>
          <p:nvPr/>
        </p:nvGrpSpPr>
        <p:grpSpPr>
          <a:xfrm>
            <a:off x="584280" y="1069920"/>
            <a:ext cx="2406240" cy="1314000"/>
            <a:chOff x="584280" y="1069920"/>
            <a:chExt cx="2406240" cy="1314000"/>
          </a:xfrm>
        </p:grpSpPr>
        <p:pic>
          <p:nvPicPr>
            <p:cNvPr id="72" name="Picture 238" descr="Копия i90--1x-1"/>
            <p:cNvPicPr/>
            <p:nvPr/>
          </p:nvPicPr>
          <p:blipFill>
            <a:blip r:embed="rId3"/>
            <a:stretch/>
          </p:blipFill>
          <p:spPr>
            <a:xfrm>
              <a:off x="1890720" y="1074240"/>
              <a:ext cx="109980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239"/>
            <p:cNvSpPr/>
            <p:nvPr/>
          </p:nvSpPr>
          <p:spPr>
            <a:xfrm>
              <a:off x="584280" y="1069920"/>
              <a:ext cx="170640" cy="9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3484440" y="1420920"/>
            <a:ext cx="240372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1465200" y="3218040"/>
            <a:ext cx="2590920" cy="131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/>
          <p:cNvPicPr/>
          <p:nvPr/>
        </p:nvPicPr>
        <p:blipFill>
          <a:blip r:embed="rId6"/>
          <a:stretch/>
        </p:blipFill>
        <p:spPr>
          <a:xfrm>
            <a:off x="6373800" y="1119240"/>
            <a:ext cx="2590920" cy="1317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3798720" y="27748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5" descr=""/>
          <p:cNvPicPr/>
          <p:nvPr/>
        </p:nvPicPr>
        <p:blipFill>
          <a:blip r:embed="rId7"/>
          <a:stretch/>
        </p:blipFill>
        <p:spPr>
          <a:xfrm>
            <a:off x="4584600" y="4044960"/>
            <a:ext cx="2590920" cy="131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"/>
          <p:cNvPicPr/>
          <p:nvPr/>
        </p:nvPicPr>
        <p:blipFill>
          <a:blip r:embed="rId8"/>
          <a:stretch/>
        </p:blipFill>
        <p:spPr>
          <a:xfrm>
            <a:off x="3192480" y="1530360"/>
            <a:ext cx="1392120" cy="7509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2052720" y="134460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0" descr=""/>
          <p:cNvPicPr/>
          <p:nvPr/>
        </p:nvPicPr>
        <p:blipFill>
          <a:blip r:embed="rId9"/>
          <a:stretch/>
        </p:blipFill>
        <p:spPr>
          <a:xfrm>
            <a:off x="6059520" y="1417680"/>
            <a:ext cx="1392120" cy="752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10"/>
          <a:stretch/>
        </p:blipFill>
        <p:spPr>
          <a:xfrm rot="1884600">
            <a:off x="7075080" y="2507760"/>
            <a:ext cx="752400" cy="139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"/>
          <p:cNvPicPr/>
          <p:nvPr/>
        </p:nvPicPr>
        <p:blipFill>
          <a:blip r:embed="rId11"/>
          <a:stretch/>
        </p:blipFill>
        <p:spPr>
          <a:xfrm rot="12200400">
            <a:off x="4169880" y="3884040"/>
            <a:ext cx="1390680" cy="7491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3"/>
          <p:cNvSpPr/>
          <p:nvPr/>
        </p:nvSpPr>
        <p:spPr>
          <a:xfrm>
            <a:off x="7937640" y="13446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4959360" y="1728720"/>
            <a:ext cx="78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15"/>
          <p:cNvSpPr/>
          <p:nvPr/>
        </p:nvSpPr>
        <p:spPr>
          <a:xfrm flipH="1">
            <a:off x="6233400" y="4235400"/>
            <a:ext cx="78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3220920" y="3467160"/>
            <a:ext cx="55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440160" y="9921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6254640" y="9334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7669080" y="2851200"/>
            <a:ext cx="11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+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4262400" y="4413240"/>
            <a:ext cx="111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76360" y="1881000"/>
            <a:ext cx="7129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300720" y="1916280"/>
            <a:ext cx="1513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ectangle 2"/>
          <p:cNvGrpSpPr/>
          <p:nvPr/>
        </p:nvGrpSpPr>
        <p:grpSpPr>
          <a:xfrm>
            <a:off x="1414440" y="152280"/>
            <a:ext cx="7534440" cy="1249560"/>
            <a:chOff x="1414440" y="152280"/>
            <a:chExt cx="7534440" cy="1249560"/>
          </a:xfrm>
        </p:grpSpPr>
        <p:pic>
          <p:nvPicPr>
            <p:cNvPr id="95" name="Rectangle 2" descr=""/>
            <p:cNvPicPr/>
            <p:nvPr/>
          </p:nvPicPr>
          <p:blipFill>
            <a:blip r:embed="rId1"/>
            <a:stretch/>
          </p:blipFill>
          <p:spPr>
            <a:xfrm>
              <a:off x="1414440" y="152280"/>
              <a:ext cx="753444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476360" y="189000"/>
              <a:ext cx="7416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b00000"/>
                  </a:solidFill>
                  <a:latin typeface="Times New Roman"/>
                </a:rPr>
                <a:t>Сказка «Три поросёнка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1476360" y="1365120"/>
            <a:ext cx="74167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ubPieSlice"/>
          <p:cNvSpPr/>
          <p:nvPr/>
        </p:nvSpPr>
        <p:spPr>
          <a:xfrm>
            <a:off x="1547640" y="404640"/>
            <a:ext cx="6912000" cy="6193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li10_2"/>
          <p:cNvPicPr/>
          <p:nvPr/>
        </p:nvPicPr>
        <p:blipFill>
          <a:blip r:embed="rId1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38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Света Света</cp:lastModifiedBy>
  <dcterms:modified xsi:type="dcterms:W3CDTF">2022-03-31T13:53:01Z</dcterms:modified>
  <cp:revision>98</cp:revision>
  <dc:subject/>
  <dc:title>Слайд 1</dc:title>
</cp:coreProperties>
</file>