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625-117C-4224-89EE-F3273492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D05-7ABF-45FB-AD77-37D3AEA9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244-651A-4B4A-A839-A837ABF2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90B-97C5-452F-A2F5-B852A7D4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944-972D-4803-8ECB-F9732735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BA5-744C-4A5A-860F-8FB3D2B2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515-700C-44BA-AFA0-3E1BD0AD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0A9-12FA-4727-8C10-2F21C045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AF1-C387-4E97-82D1-9FC571BA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CF82-9E81-4BAA-9DC8-0A8AA050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3C0-E5EA-427F-B6C6-3EE34082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98F-4D69-419E-BC19-3FE15CAE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.А.Ры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2C84-4E50-40B4-9444-E29FDEB943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9900"/>
                </a:solidFill>
                <a:latin typeface="Vivaldi"/>
              </a:rPr>
              <a:t>Проект «Наш веселый оркестр» </a:t>
            </a:r>
            <a:br>
              <a:rPr sz="4800"/>
            </a:br>
            <a:r>
              <a:rPr b="1" i="1" lang="ru-RU" sz="4800" spc="-1" strike="noStrike">
                <a:solidFill>
                  <a:srgbClr val="ff9900"/>
                </a:solidFill>
                <a:latin typeface="Vivaldi"/>
              </a:rPr>
              <a:t>в группе старшего дошкольного возраста №7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ыкальный руководитель: Вдовина Анна Алексе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272880" y="5119560"/>
            <a:ext cx="2197440" cy="16480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"/>
          <p:cNvPicPr/>
          <p:nvPr/>
        </p:nvPicPr>
        <p:blipFill>
          <a:blip r:embed="rId2"/>
          <a:stretch/>
        </p:blipFill>
        <p:spPr>
          <a:xfrm>
            <a:off x="6597720" y="5062680"/>
            <a:ext cx="227340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"/>
          <p:cNvPicPr/>
          <p:nvPr/>
        </p:nvPicPr>
        <p:blipFill>
          <a:blip r:embed="rId3"/>
          <a:stretch/>
        </p:blipFill>
        <p:spPr>
          <a:xfrm>
            <a:off x="3579840" y="5062680"/>
            <a:ext cx="2271600" cy="170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cef5"/>
                </a:solidFill>
                <a:latin typeface="Arial"/>
              </a:rPr>
              <a:t>Изготавливаем гудки-свистуль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Рисунок 4" descr=""/>
          <p:cNvPicPr/>
          <p:nvPr/>
        </p:nvPicPr>
        <p:blipFill>
          <a:blip r:embed="rId1"/>
          <a:stretch/>
        </p:blipFill>
        <p:spPr>
          <a:xfrm>
            <a:off x="539640" y="1155600"/>
            <a:ext cx="4002120" cy="30020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"/>
          <p:cNvPicPr/>
          <p:nvPr/>
        </p:nvPicPr>
        <p:blipFill>
          <a:blip r:embed="rId2"/>
          <a:stretch/>
        </p:blipFill>
        <p:spPr>
          <a:xfrm>
            <a:off x="5219640" y="2390760"/>
            <a:ext cx="3238560" cy="43164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4716360" y="1155600"/>
            <a:ext cx="455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шестом мастер-классе был продолжен разговор, начатый в первом полугодии, – о духовых музыкальных инструмент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301680" y="4121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ята самостоятельно смастерили из трубочек для густых напитков духовые инструменты – гудки, по резкому тембру очень похожие на рожки, жалейки, на игрушку «тещин язык». Самое трудное было научиться правильному звукоизвлечению из данных духовых инструментов. Но все ребята справились на отличн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8680" y="-1508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cef5"/>
                </a:solidFill>
                <a:latin typeface="Arial"/>
              </a:rPr>
              <a:t>Мастерим кастань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Рисунок 4" descr=""/>
          <p:cNvPicPr/>
          <p:nvPr/>
        </p:nvPicPr>
        <p:blipFill>
          <a:blip r:embed="rId1"/>
          <a:stretch/>
        </p:blipFill>
        <p:spPr>
          <a:xfrm>
            <a:off x="6089760" y="765000"/>
            <a:ext cx="3003480" cy="4005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"/>
          <p:cNvPicPr/>
          <p:nvPr/>
        </p:nvPicPr>
        <p:blipFill>
          <a:blip r:embed="rId2"/>
          <a:stretch/>
        </p:blipFill>
        <p:spPr>
          <a:xfrm>
            <a:off x="169920" y="3068640"/>
            <a:ext cx="2752560" cy="3672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8"/>
          <p:cNvSpPr/>
          <p:nvPr/>
        </p:nvSpPr>
        <p:spPr>
          <a:xfrm>
            <a:off x="281160" y="907920"/>
            <a:ext cx="5611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дьмой музыкальный мастер-класс был посвящен кастаньетам. Подобные простые музыкальные инструменты, использовавшиеся для ритмического сопровождения танца и пения, применялись ещё в Древнем Египте и Древней Греции. Дети узнали, что название «кастаньеты» в русском языке заимствовано из испанского, где они называются castañuelas («каштанки») из-за сходства с плодами кашта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3008160" y="3068640"/>
            <a:ext cx="31496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кольку кастаньеты, которыми пользуются испанские танцоры и танцовщицы, обычно изготавливались двух размеров: большие (в левую руку, для отбивания основных движений танца) и, маленькие (в правую руку - отбивать разнообразные музыкальные рисунки песен и танцев), то ребята изготовили свои кастаньеты тоже парными: из крупных и мелких пуговиц, что отразилось и на их звуча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6329520" y="4815000"/>
            <a:ext cx="25905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ем только ни были кастаньеты в наших песнях и играх: и лягушатами, и зевающими котятами, и крокодильчиками-охотниками! Детям было очень весел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cef5"/>
                </a:solidFill>
                <a:latin typeface="Arial"/>
              </a:rPr>
              <a:t>Итоги 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и получили возможность познакомиться с разными видами музыкальных инструментов по способу звукоизвлечения и на практике изготовить некоторые из них своими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детей сформировался устойчивый интерес к миру звуков, к музыкальным инструментам, к музыке в целом, появилось желание исследовать мир зву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Дети приобрели навыки импровизации, сольного и ансамблевого творчества, ритмодеклама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У родителей появился интерес к музыке и совместному творчеству с деть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Опытом данной работы могут воспользоваться в практике воспитатели и музыкальные руководители ДО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Пополнилась коллекция музыкальных инструментов в музыкальном уголке группы и домашняя коллеция музыкальных инструментов у воспитан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3428640"/>
            <a:ext cx="4248000" cy="21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чале проекта дети познакомились с ударными, духовыми и струнными музыкальными инструментами на примере детских музыкальных инструментов, научились отличать группы данных инструментов по внешнему виду и по тембру звучания, приводить свои примеры для каждой из групп. Изучили на практике, чем ударные шумовые инструменты (ложки, маракасы, бубны) отличаются от ударных инструментов с заданной звуковысотностью (металлофон, ксилофон, глюкофон, бумвокерс). </a:t>
            </a:r>
            <a:br>
              <a:rPr sz="20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188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cef5"/>
                </a:solidFill>
                <a:latin typeface="Arial"/>
              </a:rPr>
              <a:t>Знакомство детей с музыкальными инструментами, различными по способу звукоизвл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6796080" y="1700280"/>
            <a:ext cx="1873080" cy="1404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2"/>
          <a:stretch/>
        </p:blipFill>
        <p:spPr>
          <a:xfrm>
            <a:off x="4532400" y="268596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"/>
          <p:cNvPicPr/>
          <p:nvPr/>
        </p:nvPicPr>
        <p:blipFill>
          <a:blip r:embed="rId3"/>
          <a:stretch/>
        </p:blipFill>
        <p:spPr>
          <a:xfrm>
            <a:off x="6751800" y="3800520"/>
            <a:ext cx="1917360" cy="14382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"/>
          <p:cNvPicPr/>
          <p:nvPr/>
        </p:nvPicPr>
        <p:blipFill>
          <a:blip r:embed="rId4"/>
          <a:stretch/>
        </p:blipFill>
        <p:spPr>
          <a:xfrm>
            <a:off x="4543560" y="4797360"/>
            <a:ext cx="2044440" cy="1463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-10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cef5"/>
                </a:solidFill>
                <a:latin typeface="Arial"/>
              </a:rPr>
              <a:t>Самодельные музыкальные инструменты – из чего они сдел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3851280" y="1789200"/>
            <a:ext cx="504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едующим этапом стало постижение детьми готовых самодельных музыкальных инструментов, сделанных педагогом (мною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и рассматривали их, обсуждали из чего они сделаны (природные материалы: ракушки, орехи, дерево, крупы; бросовый материал: пластик, бумага, целлофан, резина и т.д. и их различные комбинации). В ходе игр с данными инструментами («Сыграй свое имя», звуковая импровизация «В осеннем лесу» и др.) дошкольники поиграли на всех инструментах, проявив большой интерес к привычным предметам, которые вдруг зазвучали и стали музыкальны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388800" y="1197000"/>
            <a:ext cx="3289320" cy="2465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"/>
          <p:cNvPicPr/>
          <p:nvPr/>
        </p:nvPicPr>
        <p:blipFill>
          <a:blip r:embed="rId2"/>
          <a:stretch/>
        </p:blipFill>
        <p:spPr>
          <a:xfrm>
            <a:off x="388800" y="3933720"/>
            <a:ext cx="3283200" cy="246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cef5"/>
                </a:solidFill>
                <a:latin typeface="Arial"/>
              </a:rPr>
              <a:t>Мастерим марака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714240" y="1062720"/>
            <a:ext cx="7858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вый мастер-класс был посвящен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готовлению с детьми шумовых музыкальных инструментов -  «маракасов» - из контейнеров от киндер-сюрпризов с мелким и крупным наполнением (использовались крупы с различной величиной зерен: рис, пшено, а также макароны, горох). Проводилось слуховое наблюдение, какой инструмент звучит громче, а какой тише. Дети познакомились с понятием динамика, «форте» и «пиано». Исполнили на маракасах собственного изготовления пьесу, контрастную по динамике. Придумывали различные способы игры на данных инструментах (не только встряхивание, но и удары маракасами друг о друга, трение друг о друга и др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1403280" y="445788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"/>
          <p:cNvPicPr/>
          <p:nvPr/>
        </p:nvPicPr>
        <p:blipFill>
          <a:blip r:embed="rId2"/>
          <a:stretch/>
        </p:blipFill>
        <p:spPr>
          <a:xfrm>
            <a:off x="5241960" y="445788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70920"/>
            <a:ext cx="7408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cef5"/>
                </a:solidFill>
                <a:latin typeface="Arial"/>
              </a:rPr>
              <a:t>Изготавливаем бараб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5292720" y="1081080"/>
            <a:ext cx="3490920" cy="2617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2"/>
          <a:stretch/>
        </p:blipFill>
        <p:spPr>
          <a:xfrm>
            <a:off x="574560" y="386064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449280" y="816120"/>
            <a:ext cx="457200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торой мастер-класс - изготовление с детьми ударного инструмента «барабан» из стаканчика от йогурта и воздушного шарика. Знакомство с понятиями «резонатор», «мембран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сперимент показал, что чем сильнее натянута мембрана (резина воздушного шарика), тем более высокий и звонкий звук получается у бараба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4468680" y="3878280"/>
            <a:ext cx="457200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ята узнали, что барабан – один из древнейших музыкальных инструментов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различного вида барабаны имеются среди народных инструментов у абсолютного большинства народов. И древняя, и современная музыка широко использует барабаны. И у нашей группы получился оркестр дружных барабанщиков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-216360"/>
            <a:ext cx="8201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cef5"/>
                </a:solidFill>
                <a:latin typeface="Arial"/>
              </a:rPr>
              <a:t>Делаем воздушные свистуль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4767120" y="1578960"/>
            <a:ext cx="4232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ий мастер-класс был посвящен знакомству детей с духовыми музыкальными инструментами (флейта, жалейка, свистулька). Дети мастерили «воздушные свистульки», которые начинают звучать, когда раскручиваешь их на веревочке (по методу орф-педагога И.Г. Галянт). Проводилось слуховое наблюдение: ребята анализировали, на что похож данный звук? Дети обратили внимание на то, что характер звучания свистулек зависит от формы отверстия в них. Проводилась игра-импровизация «Птицы в осеннем лесу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2321280" cy="30970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442800" y="3284640"/>
            <a:ext cx="250056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65972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cef5"/>
                </a:solidFill>
                <a:latin typeface="Arial"/>
              </a:rPr>
              <a:t>Мастерим макет струнного инструмент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468360" y="763560"/>
            <a:ext cx="446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Четвертый мастер-класс - знакомство детей со струнными музыкальными инструментами (балалайка, гусли, гитара, арфа, скрипка, виолончель). Дети научились различать струнные щипковые и струнные смычковые инструменты, а также узнали у каких инструментов сколько струн. Извлекли звуки щипком из укулеле, гусель, балалайки, познакомились с понятием «пиццикато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Ребята узнали, что древнейший предок струнных инструментов – это монохорд, состоящий из всего лишь одной натянутой струны. И изготовили свой прообраз струнного инструмента, с тремя струнами - из канцелярской резинки и картонной коробочки. Провели слуховое наблюдение: какой звук струны выше, а какой ниж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2787840" cy="2781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2"/>
          <a:stretch/>
        </p:blipFill>
        <p:spPr>
          <a:xfrm>
            <a:off x="4900680" y="866880"/>
            <a:ext cx="399564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cef5"/>
                </a:solidFill>
                <a:latin typeface="Arial"/>
              </a:rPr>
              <a:t>Делаем своими руками бубенцы на палоч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Рисунок 4" descr=""/>
          <p:cNvPicPr/>
          <p:nvPr/>
        </p:nvPicPr>
        <p:blipFill>
          <a:blip r:embed="rId1"/>
          <a:stretch/>
        </p:blipFill>
        <p:spPr>
          <a:xfrm>
            <a:off x="1042920" y="4484520"/>
            <a:ext cx="3246480" cy="2302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2"/>
          <a:stretch/>
        </p:blipFill>
        <p:spPr>
          <a:xfrm>
            <a:off x="5959440" y="3513240"/>
            <a:ext cx="2627280" cy="21254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6"/>
          <p:cNvSpPr/>
          <p:nvPr/>
        </p:nvSpPr>
        <p:spPr>
          <a:xfrm>
            <a:off x="185760" y="1125360"/>
            <a:ext cx="5538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ятый мастер-класс состоялся вскоре после Нового года и познакомил ребят с самым новогодним ударным музыкальным инструментом – бубенцами (под песню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ing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ll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. Ребята открыли для себя, что бубенец является небольшой металлической погремушкой, представляющей собой полый шарик с маленьким цельным шариком внутри. Было выявлено, что бубенец может крепиться с помощью имеющегося на корпусе ушка к конской упряжи (тройка с бубенцами), одежде, обуви, головным уборам (колпак шута). Были рассмотрены и изучены имеющиеся в группе бубенцы на палочках и на текстильных манжетах (фабричного изготовления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4643280" y="5753160"/>
            <a:ext cx="423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мастер-классе в группе дети изготовили самостоятельно бубенцы на палочке и исполнили с ними несколько музыкально-ритмических композиц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Рисунок 8" descr=""/>
          <p:cNvPicPr/>
          <p:nvPr/>
        </p:nvPicPr>
        <p:blipFill>
          <a:blip r:embed="rId3"/>
          <a:stretch/>
        </p:blipFill>
        <p:spPr>
          <a:xfrm>
            <a:off x="5959440" y="1341360"/>
            <a:ext cx="2627280" cy="19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cef5"/>
                </a:solidFill>
                <a:latin typeface="Arial"/>
              </a:rPr>
              <a:t>Бубенцы на манжет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87280" y="1197000"/>
            <a:ext cx="854064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родолжение разговора о бубенцах детям вместе с родителями было предложено изготовить дома бубенцы на манжетах по предложенному образцу – на руки и на ноги, а позже, в группе, ребята провели целый вечер развлечений, играя с ними в музыкальные игры и исполняя танцы народов ми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Рисунок 4" descr=""/>
          <p:cNvPicPr/>
          <p:nvPr/>
        </p:nvPicPr>
        <p:blipFill>
          <a:blip r:embed="rId1"/>
          <a:stretch/>
        </p:blipFill>
        <p:spPr>
          <a:xfrm>
            <a:off x="6189840" y="3511440"/>
            <a:ext cx="2919240" cy="25196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2"/>
          <a:stretch/>
        </p:blipFill>
        <p:spPr>
          <a:xfrm>
            <a:off x="219240" y="3500280"/>
            <a:ext cx="2922480" cy="25210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"/>
          <p:cNvPicPr/>
          <p:nvPr/>
        </p:nvPicPr>
        <p:blipFill>
          <a:blip r:embed="rId3"/>
          <a:srcRect l="-452" t="23591" r="463" b="-708"/>
          <a:stretch/>
        </p:blipFill>
        <p:spPr>
          <a:xfrm>
            <a:off x="3468600" y="2924280"/>
            <a:ext cx="2619360" cy="369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08:40:24Z</dcterms:created>
  <dc:creator>user</dc:creator>
  <dc:description/>
  <dc:language>en-US</dc:language>
  <cp:lastModifiedBy>Анна Вдовина</cp:lastModifiedBy>
  <dcterms:modified xsi:type="dcterms:W3CDTF">2022-03-30T21:14:23Z</dcterms:modified>
  <cp:revision>130</cp:revision>
  <dc:subject/>
  <dc:title>Мастерим  музыкальные инструменты своими руками</dc:title>
</cp:coreProperties>
</file>