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786040" y="1071720"/>
            <a:ext cx="514368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  <a:ea typeface="DejaVu Sans"/>
              </a:rPr>
              <a:t>«В гостях у русской народной сказки»</a:t>
            </a: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14800" y="4071960"/>
            <a:ext cx="38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  <a:ea typeface="DejaVu Sans"/>
              </a:rPr>
              <a:t>Выполнили: Знобищева Е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  <a:ea typeface="DejaVu Sans"/>
              </a:rPr>
              <a:t>          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  <a:ea typeface="DejaVu Sans"/>
              </a:rPr>
              <a:t>Рудакова Г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14680" y="274680"/>
            <a:ext cx="5857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«Лисичка -сестричка и вол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57160"/>
            <a:ext cx="4714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Мораль: «Хитрость – это ум без добра». Если человек не делает добра, умным его назвать нельзя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68280" y="1341360"/>
            <a:ext cx="660744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68280" y="1414440"/>
            <a:ext cx="6643800" cy="4754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357800" y="785880"/>
            <a:ext cx="3429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Мораль: не</a:t>
            </a:r>
            <a:r>
              <a:rPr b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завидуй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другим.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Друзья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всегда</a:t>
            </a:r>
            <a:br>
              <a:rPr sz="1800"/>
            </a:b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придут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на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помощь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трудную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мину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6080" y="428760"/>
            <a:ext cx="3214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«Заюшкина изб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Дидактическая игра «Отгадай сказ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28800" y="928800"/>
            <a:ext cx="342900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1)На сметане меше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На окошке стуже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Круглый бок, румяный б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Покатился ...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(Колобо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2)Хоть и в погребе ж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Репку вытащить из гря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Деду с бабкой помог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(Мышка из рус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народной сказки "Репка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3)На поляночке лес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Стоял домик распис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сех зверюшек спрятать мог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Что за домик? (Теремо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4)Нет ни речки, ни пруд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Где воды напить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Очень вкусная вод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 ямке от копыт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(Сестрица Аленушка и брате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Иванушка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2280" y="1000080"/>
            <a:ext cx="28987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5)В сказке небо сине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 сказке птицы страш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Реченька, спаси мен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Ты спаси меня и братц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(Гуси-лебед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6)Колотил да колот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По тарелке нос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Ничего не проглот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И остался с но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(Лиса и журавль (русская сказ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7)Всем известна на Рус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Ждали маму с молок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А пустили волка в 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Кто же э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Маленькие дети?"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(Семеро козля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8)Чемпионка по поворотам на мес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(Избушка на курьих ножках из русских сказо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2746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Дидактическая игра «Назови правиль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0080" y="785880"/>
            <a:ext cx="350064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► </a:t>
            </a: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Назовите кличку собаки, которая в русской сказке помогала тащить репку?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а) Каштанка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б) Жучка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) Артемон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г) Шарик.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► В русских сказках лисичка-сестричка, зайчик-побегайчик, коза-... Кто?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а) Стрекоза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б) Егоза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) Бирюза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г) Дереза.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► Какая русская сказка существует?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а) «Утки-аисты»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б) «Куры-индейки»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) «Гуси-лебеди»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г) «Орлы-соколы».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► Какие реки текут между сказочными кисельными берегами?</a:t>
            </a:r>
            <a:br>
              <a:rPr sz="1800"/>
            </a:br>
            <a:br>
              <a:rPr sz="18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785880"/>
            <a:ext cx="350064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а) Молочные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б) Сливочные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) Квасные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г) Медовы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      ► </a:t>
            </a: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Чем печь угощала девочку в русской сказке «Гуси-лебеди»?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а) Блинами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б) Пирожками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) Киселём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г) Кашей. 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► Какие ножки бывают у избушки в русских сказках?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а) Козьи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б) Курьи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) Слоновьи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г) В сапогах.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► В каком сосуде Журавль выставил угощение Лисе в русской народной сказке?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а) В кувшине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б) В тарелке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в) В миске;</a:t>
            </a:r>
            <a:br>
              <a:rPr sz="1800"/>
            </a:br>
            <a:r>
              <a:rPr b="0" lang="ru-RU" sz="1400" spc="-1" strike="noStrike">
                <a:solidFill>
                  <a:srgbClr val="953735"/>
                </a:solidFill>
                <a:latin typeface="Arial"/>
                <a:ea typeface="Arial"/>
              </a:rPr>
              <a:t>г) В блюдце.</a:t>
            </a:r>
            <a:br>
              <a:rPr sz="1800"/>
            </a:br>
            <a:br>
              <a:rPr sz="18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14280" y="274680"/>
            <a:ext cx="70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Постановка сказки «Заюшкина изб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3960" y="1143000"/>
            <a:ext cx="3476520" cy="1643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143240" y="1000080"/>
            <a:ext cx="1847880" cy="295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43760" y="1428840"/>
            <a:ext cx="2435040" cy="2508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214280" y="3000240"/>
            <a:ext cx="2571840" cy="3308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214960" y="3714840"/>
            <a:ext cx="242892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57160" y="274680"/>
            <a:ext cx="7372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Герои сказки «Заюшкина изб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8058240" cy="43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43120" y="214200"/>
            <a:ext cx="3143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                  </a:t>
            </a:r>
            <a:r>
              <a:rPr b="1" lang="ru-RU" sz="2100" spc="-1" strike="noStrike">
                <a:solidFill>
                  <a:srgbClr val="953735"/>
                </a:solidFill>
                <a:latin typeface="Arial"/>
                <a:ea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28840" y="1500120"/>
            <a:ext cx="6286320" cy="4530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7680" y="928800"/>
            <a:ext cx="278604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      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  <a:ea typeface="DejaVu Sans"/>
              </a:rPr>
              <a:t>Кукольный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57240" y="571680"/>
            <a:ext cx="47865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  <a:ea typeface="DejaVu Sans"/>
              </a:rPr>
              <a:t>Настольный театр «Колоб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85880" y="1450800"/>
            <a:ext cx="7643880" cy="44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00120" y="128592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71760" y="500040"/>
            <a:ext cx="693396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DejaVu Sans"/>
              </a:rPr>
              <a:t>Использование сказки в Н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DejaVu Sans"/>
              </a:rPr>
              <a:t>Введение в математику: «Сравнение предметов: больше – мень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28960" y="1101600"/>
            <a:ext cx="3286080" cy="515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28920" y="500040"/>
            <a:ext cx="53928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  <a:ea typeface="DejaVu Sans"/>
              </a:rPr>
              <a:t>Аппликация «Костюм для сказочного геро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4680" y="1357200"/>
            <a:ext cx="5572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  <a:ea typeface="DejaVu Sans"/>
              </a:rPr>
              <a:t>Русские народные сказки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DejaVu Sans"/>
              </a:rPr>
              <a:t>Народные сказки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DejaVu Sans"/>
              </a:rPr>
              <a:t> заключили в себя мудрость и житейский опыт, накопленные человечеством за многие века. «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DejaVu Sans"/>
              </a:rPr>
              <a:t>Сказка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DejaVu Sans"/>
              </a:rPr>
              <a:t> ложь, да в ней намек...» Сложно переоценить важность сказок для развития ребенка: 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DejaVu Sans"/>
              </a:rPr>
              <a:t>сказка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DejaVu Sans"/>
              </a:rPr>
              <a:t> учит смелости, честности, доброте, развивает чувство прекрасного. Расскажите ребенку сказку, он обязательно почерпнет из нее что-либо полез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28800" y="642960"/>
            <a:ext cx="73008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Работа с родителями:</a:t>
            </a:r>
            <a:br>
              <a:rPr sz="1800"/>
            </a:b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1) Консультация: «Роль сказки в воспитании и развитии ребенка»</a:t>
            </a:r>
            <a:br>
              <a:rPr sz="1800"/>
            </a:b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2) Рекомендации по ЧХЛ</a:t>
            </a:r>
            <a:br>
              <a:rPr sz="1800"/>
            </a:b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3)Изготовление самодельной книги по любимой сказке ребенк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57160" y="1857240"/>
            <a:ext cx="7429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28840" y="1000080"/>
            <a:ext cx="642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"/>
                <a:ea typeface="DejaVu Sans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28800" y="642960"/>
            <a:ext cx="714348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Неделя русских народных сказ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в подготовительной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500" spc="-1" strike="noStrike">
                <a:solidFill>
                  <a:srgbClr val="953735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25"/>
              </a:spcBef>
              <a:buClr>
                <a:srgbClr val="953735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700" spc="-1" strike="noStrike">
                <a:solidFill>
                  <a:srgbClr val="953735"/>
                </a:solidFill>
                <a:latin typeface="Arial"/>
                <a:ea typeface="Arial"/>
              </a:rPr>
              <a:t>приучать детей активно участвовать в праздниках, используя умения и навыки, полученные на занятиях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развивать речь детей, расширять активный словарь, активизировать устную речь, развивать артикуляцию и дик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выразительность жестов, мимики, добиваться пластического  изображения походки героев пьесы, совершенствовать элементы актерского мастерства, прививать любовь к устному народному творчест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воспитывать у детей любовь к художественной литерату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через литературные произведения закрепить правила и нормы пове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показать детям удивительный мир сказок, их мудрость и красоту; закрепить любовь и уважение к сказк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поддерживать положительное эмоциональное отношение детей от встречи с любимыми героями сказок, где побеждает добро, дружба, смел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71760" y="42876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казок: 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«Гуси-лебе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3240" y="857160"/>
            <a:ext cx="392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DejaVu Sans"/>
              </a:rPr>
              <a:t>Мораль: надо быть послушным и выполнять то, что велят старшие. А непослушание и эгоизм ни к чему хорошему не привед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09520" y="1414440"/>
            <a:ext cx="685188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71840" y="274680"/>
            <a:ext cx="4429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«Петушок и бобовое зёр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14800" y="785880"/>
            <a:ext cx="5929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                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Мораль: 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чтоб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не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ошибиться,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не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надо</a:t>
            </a:r>
            <a:r>
              <a:rPr b="0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 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торопиться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  <a:ea typeface="Arial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841400" y="1341360"/>
            <a:ext cx="553428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54080" y="1268280"/>
            <a:ext cx="6889680" cy="4961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85960" y="274680"/>
            <a:ext cx="56437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«Лиса и журав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14800" y="1000080"/>
            <a:ext cx="592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Мораль: не обманывай никого и тебя никто не обман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3080" y="274680"/>
            <a:ext cx="49291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«Волк и семеро козля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3200" y="857160"/>
            <a:ext cx="45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       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Мораль: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  <a:ea typeface="Arial"/>
              </a:rPr>
              <a:t> ум, смекалка и находчивость более слабых при большом желании могут одолеть силу 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00240" y="1268280"/>
            <a:ext cx="670068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43040" y="274680"/>
            <a:ext cx="5715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«Жихар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6120" y="857160"/>
            <a:ext cx="4357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Arial"/>
              </a:rPr>
              <a:t>Мораль: смелость и находчивость всегда победит  врагов и поможет с честью выйти из всех передря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341360" y="1414440"/>
            <a:ext cx="6461280" cy="49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71960" y="785880"/>
            <a:ext cx="400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Arial"/>
                <a:ea typeface="DejaVu Sans"/>
              </a:rPr>
              <a:t>Мораль: слушаться старших, любить друг друга и не оставлять близких в б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680" y="357120"/>
            <a:ext cx="7286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«Сестрица Алёнушка и  братец Ивануш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14440" y="1200240"/>
            <a:ext cx="6175440" cy="513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 Gigabyte</dc:creator>
  <dc:description/>
  <dc:language>en-US</dc:language>
  <cp:lastModifiedBy>Пользователь Gigabyte</cp:lastModifiedBy>
  <dcterms:modified xsi:type="dcterms:W3CDTF">2022-03-31T14:30:24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