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C586-37F5-4077-A393-B80BBC4430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D02B-851B-4665-85ED-F80CEE951A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C9EE-1F4E-4480-91BF-EC2505CC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7CAE-5F1C-4A38-805F-21E59CF6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1897-E3D0-45D3-BBA1-B6D3B12F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EDD8-CA36-4C3B-8E5B-3E577D52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D945-0F56-4524-8329-FBEE589D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A9C4-45F9-4C6B-8AFD-FC298EEC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174F-5483-4673-9F8D-0A5B7BE3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EA9C-9EF0-4AD2-B1C5-33AB78A2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03A9-C1F8-4690-88F7-30CB434A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43F6-75C1-4B62-8318-8047F22E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CA85-174F-48D8-BE50-043BC5F0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A9C9-336F-43C4-BB42-347FF497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64AC-20E7-49FC-AA0B-45501D38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EB45-A23B-4629-8349-6A4EDFE8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97FE-9B16-4267-93F2-40591312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CEB1-C873-4315-89BE-C1FD51D0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D45F-9A4E-4F15-907A-E6996F81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B66A7-8201-4E8D-8AEB-C1686F76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31BA1-FBBE-4449-A2EC-6E1CDCC2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B0CAC-4725-465C-B5A6-B2CB37C2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47736-196C-4DBA-9239-C8E09E77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B2B6D-4D57-4868-A954-FD85C7D2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A8A2-20A3-4A4D-B612-6634D10F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7943B-81C6-4E95-AB48-C7D25876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5B591-CFBD-4438-81AF-4D7C4DE3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62D61-95E2-4952-BF11-3DC02CF0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63C92-CFF9-424D-AFA8-86BF6143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2E342-E648-4A59-9C66-B68C9913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4298A-C1D4-4299-B883-3F18F195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3EC9B-1101-413C-9988-BC733736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950E7-39D1-4DD0-BEB1-9AB272A3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7D524-C240-4FE5-AB97-84CB09A3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E6FD0-B477-45B6-BEFF-163641B4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7A19-2568-46AE-A8F9-954BEA63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773F7-0CD5-493A-A9A0-427A5F5C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BFCB2-C081-4BDA-AD19-5A0BD8D7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C2F41-26A9-47D3-8E1C-C3803801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5F3CB-4300-4399-9179-08C782E7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1733F-3267-44A4-8ECE-B6F1DB02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16983-265E-471A-BEE4-8A5F10AF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0264B-6607-4DA6-837C-B99FB9CA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CD605-F510-4965-B527-B00EBB5E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9D357-9B77-487B-9862-34A9EFE6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599C5-1881-460B-958A-55BE9F50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9E2D-2596-4FA4-8F10-3E33418F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7ADC6-548B-4517-A6BB-2EB54F2B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EE7F9-2234-49A4-9A89-07C3A034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8B28A-DB19-4908-90E5-F6A13FE3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A7341-7333-40B2-8116-FF933877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3C1DF-ADE7-4F61-B7EA-9AC45ECE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ABA52-9A8F-4802-A8D4-10473E78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58147-1AF0-4DC2-8063-DD326701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94DCA-F661-4125-A588-7E76C76F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98D98-340D-4DD3-8782-28DD2A71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A15A8-94C5-4FDE-812E-4125B9B4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BBDA-63B2-4D18-8642-9293B59D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7C979-22E4-460A-BD6A-14C44496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4F63C-84F2-4EB8-94A2-06434F21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44EF9-A42C-4F0D-BF35-E824335C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CCA10-E5A7-435B-AF0B-1BBBDD11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60EB4-DBA0-4AF6-B114-86237067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5A5D0-71C2-45C5-810B-7843B8BF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1877D-A64C-4870-B2BD-57B279CC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A1EA7-9CD2-4C74-B0AC-B9705589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42E3B-84A2-442F-AE0D-73414EC6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8E12D-F81C-4D4F-9EFF-98047739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2539-BBFD-4CEE-9079-C18B4C12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FD6E0-EF80-498C-B23F-A332C574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F3BCC-7612-4039-8864-52CEB652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03A98-75FC-40E7-A43A-9D61D916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A90BF-DCD9-49D0-885B-6B2E452D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E62FD-80D7-4B45-B653-0E781233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DEA04-5556-4677-A0FF-A63DE50A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A35F1-E838-4F9F-A3C8-3EB428EC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3B1EA-D67E-41ED-B164-70CD8827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7B065-01F5-471A-9D09-15DFF2B4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CD76F-3B12-43E4-8CF7-763CAF92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925A-7999-42A2-85AF-EEDF4A57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B1B06-014D-47C4-98C9-67B56BBE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CBAA1-B2AF-432E-8BBD-769F2042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1F17A-0A91-4330-BDFA-C0FFF411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35F3C-3CA9-4E41-8CD6-44D22C18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99C34-2791-4491-AD0C-E982D353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376A-E45B-450E-8E71-C5A4160B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fffe9">
              <a:alpha val="33000"/>
            </a:srgbClr>
          </a:solidFill>
          <a:ln cap="rnd" w="3240">
            <a:solidFill>
              <a:srgbClr val="ffe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b1"/>
            </a:solidFill>
            <a:miter/>
          </a:ln>
          <a:effectLst>
            <a:outerShdw dist="12600" dir="5400000" blurRad="0" rotWithShape="0">
              <a:srgbClr val="cec06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F6B4-FFBA-4F0A-BFF1-633B70CF9A61}" type="slidenum"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fffe9">
              <a:alpha val="33000"/>
            </a:srgbClr>
          </a:solidFill>
          <a:ln cap="rnd" w="3240">
            <a:solidFill>
              <a:srgbClr val="ffe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b1"/>
            </a:solidFill>
            <a:miter/>
          </a:ln>
          <a:effectLst>
            <a:outerShdw dist="12600" dir="5400000" blurRad="0" rotWithShape="0">
              <a:srgbClr val="cec06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e0752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83DF-416A-44D7-BF90-A11BE10CB9A8}" type="slidenum"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e0752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82F0-9422-4C6A-86AA-B9657811DF22}" type="slidenum"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1021-5A4C-4D6B-889C-445B57508F8A}" type="slidenum"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BD65-E143-4DB8-BF28-340DB265AAA1}" type="slidenum"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436F-8F8B-449E-A6E8-C49CB0E2CB84}" type="slidenum"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f67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39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8955-0D50-4386-BCF5-85E96D227D1E}" type="slidenum"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06256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5e70"/>
                </a:solidFill>
                <a:latin typeface="Corbel"/>
              </a:rPr>
              <a:t>МИНИСТЕРСТВО ЗДРАВООХРАНЕНИЯ РЕСПУБЛИКИ КАЛМЫКИИ </a:t>
            </a:r>
            <a:br>
              <a:rPr sz="1800"/>
            </a:br>
            <a:r>
              <a:rPr b="1" lang="ru-RU" sz="1800" spc="-1" strike="noStrike">
                <a:solidFill>
                  <a:srgbClr val="545e70"/>
                </a:solidFill>
                <a:latin typeface="Corbel"/>
              </a:rPr>
              <a:t>                БПОУ РК «Калмыцкий медицинский колледж им. Т. Хахлыновой»</a:t>
            </a:r>
            <a:br>
              <a:rPr sz="1800"/>
            </a:br>
            <a:r>
              <a:rPr b="1" lang="ru-RU" sz="1800" spc="-1" strike="noStrike">
                <a:solidFill>
                  <a:srgbClr val="545e70"/>
                </a:solidFill>
                <a:latin typeface="Corbel"/>
              </a:rPr>
              <a:t>     </a:t>
            </a:r>
            <a:br>
              <a:rPr sz="18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ОСОБЕННОСТИ СЕСТРИНСКОГО ПРОЦЕССА ПРИ АТОПИЧЕСКОМ ДЕРМАТИТЕ У ДЕТЕЙ ПЕРВОГО ГОДА ЖИЗНИ</a:t>
            </a:r>
            <a:br>
              <a:rPr sz="1800"/>
            </a:br>
            <a:r>
              <a:rPr b="1" lang="ru-RU" sz="1600" spc="-1" strike="noStrike">
                <a:solidFill>
                  <a:srgbClr val="545e70"/>
                </a:solidFill>
                <a:latin typeface="Corbel"/>
              </a:rPr>
              <a:t>Выпускная квалификационная работа</a:t>
            </a:r>
            <a:br>
              <a:rPr sz="1600"/>
            </a:br>
            <a:r>
              <a:rPr b="1" lang="ru-RU" sz="1600" spc="-1" strike="noStrike">
                <a:solidFill>
                  <a:srgbClr val="545e70"/>
                </a:solidFill>
                <a:latin typeface="Corbel"/>
              </a:rPr>
              <a:t>по специальности: «Сестринское дело» </a:t>
            </a:r>
            <a:br>
              <a:rPr sz="1600"/>
            </a:br>
            <a:r>
              <a:rPr b="1" lang="ru-RU" sz="1600" spc="-1" strike="noStrike">
                <a:solidFill>
                  <a:srgbClr val="545e70"/>
                </a:solidFill>
                <a:latin typeface="Corbel"/>
              </a:rPr>
              <a:t>квалификация: Медицинская сестра</a:t>
            </a:r>
            <a:br>
              <a:rPr sz="1800"/>
            </a:br>
            <a:endParaRPr b="0" lang="en-US" sz="1600" spc="-1" strike="noStrike">
              <a:solidFill>
                <a:srgbClr val="545e70"/>
              </a:solidFill>
              <a:latin typeface="Corbel"/>
            </a:endParaRPr>
          </a:p>
        </p:txBody>
      </p:sp>
      <p:pic>
        <p:nvPicPr>
          <p:cNvPr id="326" name="Picture 2" descr="https://kpoxa.info/wp-content/uploads/2020/03/kartinka-4-grudnichok-kupaetsja-v-otvare.jpg"/>
          <p:cNvPicPr/>
          <p:nvPr/>
        </p:nvPicPr>
        <p:blipFill>
          <a:blip r:embed="rId1"/>
          <a:stretch/>
        </p:blipFill>
        <p:spPr>
          <a:xfrm>
            <a:off x="1928880" y="3357720"/>
            <a:ext cx="579420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e7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545e70"/>
                </a:solidFill>
                <a:latin typeface="Corbel"/>
              </a:rPr>
              <a:t>По результатам исследования статистики работы учреждения можно сделать вывод, что общее количество больных дерматитом детей растет на 211,3%,количество детей с атопическим дерматитом тоже растет, что связано с ухудшением экологичности питания детей и матерей.</a:t>
            </a:r>
            <a:endParaRPr b="0" lang="en-US" sz="18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47" name="Object 1"/>
          <p:cNvGraphicFramePr/>
          <p:nvPr/>
        </p:nvGraphicFramePr>
        <p:xfrm>
          <a:off x="1428840" y="2500200"/>
          <a:ext cx="7286400" cy="378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2500200"/>
                    <a:ext cx="7286400" cy="37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592200" y="437400"/>
            <a:ext cx="772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просе принимали участие 20 родителей детей с атопическим дерматитом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озраст вашего ребенка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от 0 до 1-12че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от 1 до 2-7 че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от 2 до 7 лет-1че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2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50" name="Object 1"/>
          <p:cNvGraphicFramePr/>
          <p:nvPr/>
        </p:nvGraphicFramePr>
        <p:xfrm>
          <a:off x="1785960" y="2357280"/>
          <a:ext cx="6172200" cy="314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5960" y="2357280"/>
                    <a:ext cx="6172200" cy="31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Rectangle 3"/>
          <p:cNvSpPr/>
          <p:nvPr/>
        </p:nvSpPr>
        <p:spPr>
          <a:xfrm>
            <a:off x="2647080" y="5717880"/>
            <a:ext cx="6264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сделать вывод, что атопический дерматит в больших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ях развивается в первом году жизни ребенка 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45e70"/>
              </a:solidFill>
              <a:latin typeface="Corbel"/>
            </a:endParaRPr>
          </a:p>
        </p:txBody>
      </p:sp>
      <p:pic>
        <p:nvPicPr>
          <p:cNvPr id="354" name="Picture 2" descr="https://ds04.infourok.ru/uploads/ex/0155/0019cae4-c175be5e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7030a0"/>
                </a:solidFill>
                <a:latin typeface="Corbel"/>
              </a:rPr>
              <a:t>Профилактика дерматита</a:t>
            </a:r>
            <a:r>
              <a:rPr b="1" lang="ru-RU" sz="3900" spc="-1" strike="noStrike">
                <a:solidFill>
                  <a:srgbClr val="7030a0"/>
                </a:solidFill>
                <a:latin typeface="Corbel"/>
              </a:rPr>
              <a:t>	</a:t>
            </a:r>
            <a:br>
              <a:rPr sz="3900"/>
            </a:br>
            <a:endParaRPr b="0" lang="en-US" sz="39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258560" y="907920"/>
            <a:ext cx="76755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ледует соблюдать правила техники безопасности: аккуратно обращаться с химическими веществами и растениями, способными вызвать раздражение и развитие кожных реакций, а также избегатьдлительного воздействия солнечных лучей, высоких и низких температур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необходимо избегать контакта с аллергенами, а также, по возможности, минимизировать воздействие стрессовых ситуаций и строго соблюдать правила личной гигиены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ÐÐ¾ÑÐµÐ½ÑÐ¸Ð°Ð»ÑÐ½Ð¾ Ð¾Ð¿Ð°ÑÐ½ÑÐµ Ð¿ÑÐ¾Ð´ÑÐºÑÑ Ð¿ÑÐ¸ Ð´ÐµÑÐ¼Ð°ÑÐ¸ÑÐµ"/>
          <p:cNvPicPr/>
          <p:nvPr/>
        </p:nvPicPr>
        <p:blipFill>
          <a:blip r:embed="rId1"/>
          <a:stretch/>
        </p:blipFill>
        <p:spPr>
          <a:xfrm>
            <a:off x="285840" y="3776760"/>
            <a:ext cx="4367160" cy="30812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ÐÑÐ¾Ð´ÑÐºÑÑ, ÑÐµÐºÐ¾Ð¼ÐµÐ½Ð´Ð¾Ð²Ð°Ð½Ð½ÑÐµ Ð¿ÑÐ¸ Ð´ÐµÑÐ¼Ð°ÑÐ¸ÑÐµ"/>
          <p:cNvPicPr/>
          <p:nvPr/>
        </p:nvPicPr>
        <p:blipFill>
          <a:blip r:embed="rId2"/>
          <a:stretch/>
        </p:blipFill>
        <p:spPr>
          <a:xfrm>
            <a:off x="-15840" y="0"/>
            <a:ext cx="4759200" cy="3357720"/>
          </a:xfrm>
          <a:prstGeom prst="rect">
            <a:avLst/>
          </a:prstGeom>
          <a:ln w="0">
            <a:noFill/>
          </a:ln>
        </p:spPr>
      </p:pic>
      <p:sp>
        <p:nvSpPr>
          <p:cNvPr id="365" name="TextBox 5"/>
          <p:cNvSpPr/>
          <p:nvPr/>
        </p:nvSpPr>
        <p:spPr>
          <a:xfrm>
            <a:off x="4896000" y="342900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пасные продукты при дерматит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TextBox 6"/>
          <p:cNvSpPr/>
          <p:nvPr/>
        </p:nvSpPr>
        <p:spPr>
          <a:xfrm>
            <a:off x="0" y="306864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одукты, рекомендованные  и не рекомендованные при дерматит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7" name="Picture 2" descr="https://im0-tub-ru.yandex.net/i?id=02a7831c7a33453361110014f2a50fac&amp;ref=rim&amp;n=33&amp;w=150&amp;h=150"/>
          <p:cNvPicPr/>
          <p:nvPr/>
        </p:nvPicPr>
        <p:blipFill>
          <a:blip r:embed="rId3"/>
          <a:stretch/>
        </p:blipFill>
        <p:spPr>
          <a:xfrm>
            <a:off x="5000760" y="1143000"/>
            <a:ext cx="38574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45e70"/>
              </a:solidFill>
              <a:latin typeface="Corbe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https://proctologys.ru/wp-content/uploads/2019/10/otek-mozga-u-novorozhdennyh-osobennosti-razvitiya-zabolevaniya-i-vozmozhnye-oslozhneniya-1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928800" y="1212840"/>
          <a:ext cx="7858080" cy="4987800"/>
        </p:xfrm>
        <a:graphic>
          <a:graphicData uri="http://schemas.openxmlformats.org/drawingml/2006/table">
            <a:tbl>
              <a:tblPr/>
              <a:tblGrid>
                <a:gridCol w="2070000"/>
                <a:gridCol w="5788080"/>
              </a:tblGrid>
              <a:tr h="195840"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едовательность действ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840"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знакомиться с листом назначен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840"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дентифицировать пацие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ть информацию о вмешательстве и возможных последствиях отказа от нег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360"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необходимости, уточнить готовность пациента к вмешательству( соблюдены ли условия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840"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формить согласие пациента на вмешательств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мыть (обработать) руки на гигиеническом уровн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3400"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готовить оснащение: Вода из крана. Кувшин для ополаскивания. Ванночка. Водный термометр. Стерильное масло. Настои ромашки (100 гр. сухой травы на ванну), хвои (один брикет на ванну); морская соль (100 гр. на ванну) в зависимости от заболевания ребенка. Комплект белья. Пеленальный столик Перчат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0880"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пеленальном столике разложить комплект белья. Поставить в устойчивое положение ванночку (обработанную дез. раствором или вымытую с детским мылом). Облить ванночку кипятк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3400"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анну заполнить - на 1/2 или 1/3. Измерить Т ° воды термометром. Температура воды в ванне 37, 0-38,0 град.С. Заполнить кувшин водой из ванны Т 36,0 – 37,0 град. В ванну добавить приготовленный заранее лечебный раствор. Т воздуха в помещении- 22-24 град.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840"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мыть руки, надеть перчат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360"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деть ребенка. После дефекации подмыть проточной водой. Грязное белье сбросить в бак для использованного материал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3400"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зять ребенка двумя руками: положить на левую руку взрослого, так, чтобы голова находилась на локтевом сгибе, фиксируя этой же рукой левое бедро ребенка. После погружения его в воду, левая рука переносится на левое плечо ребенка. Уровень погружения – до сосков.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Rectangle 1"/>
          <p:cNvSpPr/>
          <p:nvPr/>
        </p:nvSpPr>
        <p:spPr>
          <a:xfrm>
            <a:off x="1412280" y="358200"/>
            <a:ext cx="75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 проведения лечебной ванны грудному ребенку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523880" y="3021120"/>
          <a:ext cx="6096240" cy="197964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12978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я приема пи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дукты (какие, сколько) 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мптомы со стороны кож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менение характера сту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общего состоя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 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Rectangle 1"/>
          <p:cNvSpPr/>
          <p:nvPr/>
        </p:nvSpPr>
        <p:spPr>
          <a:xfrm>
            <a:off x="722880" y="1359000"/>
            <a:ext cx="816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ая схема заполнения «пищевого дневника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5714640" y="1447560"/>
            <a:ext cx="3219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ис.1.Способ определения количества крема или мази с использованием единиц дозирования или пах, 2 FTU - для лица или ступни, 3 FTU - для всей руки, 6 FTU - для всей ноги и 14 FTU - для туловищ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6" name="Picture 2" descr="mb4"/>
          <p:cNvPicPr/>
          <p:nvPr/>
        </p:nvPicPr>
        <p:blipFill>
          <a:blip r:embed="rId1"/>
          <a:stretch/>
        </p:blipFill>
        <p:spPr>
          <a:xfrm>
            <a:off x="1214280" y="1000080"/>
            <a:ext cx="42008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45e70"/>
              </a:solidFill>
              <a:latin typeface="Corbe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1" name="Picture 6" descr="https://mama.ru/wp-content/uploads/2011/12/shutterstock_380032903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ктуальность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новной причиной возникновения атопического дерматита у детей является совокупность генетической расположенности к аллергическим проявлениям в комплексе с неблагоприятными факторами окружающей среды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45e70"/>
                </a:solidFill>
                <a:latin typeface="Corbel"/>
              </a:rPr>
              <a:t>Выводы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99680" y="1447560"/>
            <a:ext cx="843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В ходе исследования решены следующие задачи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1.Определили понятие и факторы развития  атопического дерматита у детей первого года жизни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2. Исследовали методы диагностики и лечения атопического дерматита у детей первого года жизни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3.Исследовали практику сестринской деятельности при атопическом дерматите у детей первого года жизни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3.Определили результативность  сестринской деятельности при атопическом дерматите у детей первого года жизни в БУ РК «Республиканский детский медицинский центр» г.Элиста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4.Предложили практические приемы повышения эффективности сестринской деятельности при атопическом дерматите у детей первого года жизни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На основании исследования можно сделать выводы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Большинство пациентов поступали с атопическим дерматитом в возрасте до года. Основной фактор развития атопического дерматита аллергены. Главное условия снижения риса развития атопического дерматита- соблюдение диеты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Большинство родителей хорошо осведомлены о своем заболевании. В учреждении проводятся профилактические беседы родителями. В основном респонденты получили информацию о заболевании от медицинской сестры, что говорит о высоком уровне профилактической работы в учреждении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Атопический дерматит - наиболее распространенное у детей заболевание кожи аллергического генеза, которым страдают 5-15% всех детей, причем у половины первый эпизод происходит в первые 6 мес. жизни. Проявляется покраснением и отечностью кожи (чаще всего) лица, большим количеством микровезикул (маленькие пузырьки), мокнутием с последующим образованием корок и шелушением. Нередко поражаются волосистая часть головы, ушные раковины, шея, туловище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45e70"/>
                </a:solidFill>
                <a:latin typeface="Corbel"/>
              </a:rPr>
              <a:t>Спасибо за внимание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pic>
        <p:nvPicPr>
          <p:cNvPr id="385" name="Picture 2" descr="https://static-sl.insales.ru/images/products/1/5611/116995563/SH_235465veg_12.jpg"/>
          <p:cNvPicPr/>
          <p:nvPr/>
        </p:nvPicPr>
        <p:blipFill>
          <a:blip r:embed="rId1"/>
          <a:stretch/>
        </p:blipFill>
        <p:spPr>
          <a:xfrm>
            <a:off x="1500120" y="1500120"/>
            <a:ext cx="69962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45e70"/>
                </a:solidFill>
                <a:latin typeface="Corbel"/>
              </a:rPr>
              <a:t>Объект и предмет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ъект выпускной квалификационной работы – медицинские сестры и их роль в лечении  атопического дерматита у детей первого года жизн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мет выпускной квалификационной работы –сестринская деятельность при атопическом дерматите у детей первого года жизн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45e70"/>
                </a:solidFill>
                <a:latin typeface="Corbel"/>
              </a:rPr>
              <a:t>Цель и задачи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Цель выпускной квалификационной работы - определение эффективности сестринской деятельности при атопическом дерматите у детей первого года жизн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адачи выпускной квалификационной работы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.Определить понятие и факторы развития  атопического дерматита у детей первого года жизни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2. Исследовать методы диагностики и лечения атопического дерматита у детей первого года жизни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3.Исследовать практику сестринской деятельности при атопическом дерматите у детей первого года жизн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3.Определить результативность  сестринской деятельности при атопическом дерматите у детей первого года жизни в БУ РК «Республиканский детский медицинский центр» г.Элист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4.Предложить практические приемы повышения эффективности сестринской деятельности при атопическом дерматите у детей первого года жизн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6755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ru-RU" sz="3900" spc="-1" strike="noStrike">
                <a:solidFill>
                  <a:srgbClr val="545e70"/>
                </a:solidFill>
                <a:latin typeface="Corbel"/>
              </a:rPr>
              <a:t>Факторы, провоцирующие развитие дерматита</a:t>
            </a:r>
            <a:br>
              <a:rPr sz="3900"/>
            </a:br>
            <a:endParaRPr b="0" lang="en-US" sz="39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87280" y="1447560"/>
            <a:ext cx="77472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</a:rPr>
              <a:t>Механические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(давление, потертости, опрелости, мозоли)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</a:rPr>
              <a:t>Физические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(ионизирующее и                      УФ-излучение, высокие и низкие температуры, электрический ток)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</a:rPr>
              <a:t>Химические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(лекарственные вещества, щелочи, кислоты, соли тяжелых металлов и пр.)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</a:rPr>
              <a:t>Биологические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(укусы насекомых, воздействие на кожу жалящих растений и стрекающих животных организмов)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7497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45e70"/>
                </a:solidFill>
                <a:latin typeface="Corbel"/>
              </a:rPr>
              <a:t>Классификация дерматитов</a:t>
            </a:r>
            <a:endParaRPr b="0" lang="en-US" sz="32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116000" y="691920"/>
            <a:ext cx="781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Фотодермати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Себорейный дермати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Простой контактный дермати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Контактный аллергический дермати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Атопический дермати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Токсико-аллергический дермати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Рисунок 3" descr="https://avatars.mds.yandex.net/get-turbo/1604167/rth73c86f3d9bab521e11ae7b5816979d09/max_g480_c12_r4x3_pd20"/>
          <p:cNvPicPr/>
          <p:nvPr/>
        </p:nvPicPr>
        <p:blipFill>
          <a:blip r:embed="rId1"/>
          <a:stretch/>
        </p:blipFill>
        <p:spPr>
          <a:xfrm>
            <a:off x="5472000" y="407664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7497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Атопический дерматит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187280" y="1484280"/>
            <a:ext cx="77472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воцируют развитие патологического процесса пищевые продукты (белки животного и растительного происхождения), стрессовые и другие неблагоприятные экзогенные факторы, УФ-излучение, а также агрессивные метеорологические воздейств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45e70"/>
              </a:solidFill>
              <a:latin typeface="Corbe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https://mypresentation.ru/documents_6/2eab83bad375c77289a0af952cededa8/img2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45e70"/>
                </a:solidFill>
                <a:latin typeface="Corbel"/>
              </a:rPr>
              <a:t>База исследования: БУ РК «Республиканский детский медицинский центр» г.Элиста</a:t>
            </a:r>
            <a:br>
              <a:rPr sz="2200"/>
            </a:br>
            <a:endParaRPr b="0" lang="en-US" sz="2200" spc="-1" strike="noStrike">
              <a:solidFill>
                <a:srgbClr val="545e70"/>
              </a:solidFill>
              <a:latin typeface="Corbe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701720" y="2259000"/>
          <a:ext cx="6728040" cy="3290760"/>
        </p:xfrm>
        <a:graphic>
          <a:graphicData uri="http://schemas.openxmlformats.org/drawingml/2006/table">
            <a:tbl>
              <a:tblPr/>
              <a:tblGrid>
                <a:gridCol w="1325520"/>
                <a:gridCol w="1325520"/>
                <a:gridCol w="1325880"/>
                <a:gridCol w="1325520"/>
                <a:gridCol w="1425600"/>
              </a:tblGrid>
              <a:tr h="1828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 (на 100 тыс.че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кол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мат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опический дермат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3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d2d2d"/>
                          </a:solidFill>
                          <a:latin typeface="Times New Roman"/>
                          <a:ea typeface="Times New Roman"/>
                        </a:rPr>
                        <a:t>178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d2d2d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d2d2d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67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d2d2d"/>
                          </a:solidFill>
                          <a:latin typeface="Times New Roman"/>
                          <a:ea typeface="Times New Roman"/>
                        </a:rPr>
                        <a:t>172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d2d2d"/>
                          </a:solidFill>
                          <a:latin typeface="Times New Roman"/>
                          <a:ea typeface="Times New Roman"/>
                        </a:rPr>
                        <a:t>4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d2d2d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2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d2d2d"/>
                          </a:solidFill>
                          <a:latin typeface="Times New Roman"/>
                          <a:ea typeface="Times New Roman"/>
                        </a:rPr>
                        <a:t>17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d2d2d"/>
                          </a:solidFill>
                          <a:latin typeface="Times New Roman"/>
                          <a:ea typeface="Times New Roman"/>
                        </a:rPr>
                        <a:t>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d2d2d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d2d2d"/>
                          </a:solidFill>
                          <a:latin typeface="Times New Roman"/>
                          <a:ea typeface="Times New Roman"/>
                        </a:rPr>
                        <a:t>9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d2d2d"/>
                          </a:solidFill>
                          <a:latin typeface="Times New Roman"/>
                          <a:ea typeface="Times New Roman"/>
                        </a:rPr>
                        <a:t>9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d2d2d"/>
                          </a:solidFill>
                          <a:latin typeface="Times New Roman"/>
                          <a:ea typeface="Times New Roman"/>
                        </a:rPr>
                        <a:t>21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d2d2d"/>
                          </a:solidFill>
                          <a:latin typeface="Times New Roman"/>
                          <a:ea typeface="Times New Roman"/>
                        </a:rPr>
                        <a:t>15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Rectangle 1"/>
          <p:cNvSpPr/>
          <p:nvPr/>
        </p:nvSpPr>
        <p:spPr>
          <a:xfrm>
            <a:off x="2564280" y="1359000"/>
            <a:ext cx="58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.Показатели заболеваемости кожи и подкожно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тчатки у детей от 0-до 7 лет (на 100тыс. чел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7T15:29:31Z</dcterms:created>
  <dc:creator>User</dc:creator>
  <dc:description/>
  <dc:language>en-US</dc:language>
  <cp:lastModifiedBy>Asus x555L</cp:lastModifiedBy>
  <dcterms:modified xsi:type="dcterms:W3CDTF">2021-03-28T11:09:46Z</dcterms:modified>
  <cp:revision>13</cp:revision>
  <dc:subject/>
  <dc:title>«ДЕРМАТИТЫ.  Профилактика дерматитов»</dc:title>
</cp:coreProperties>
</file>