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CD4-30D3-41B8-A620-9C44690A70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510-C4D0-4652-9E54-5D0F442CF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653-871C-4573-B2A5-36D199B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50A-1673-4E16-B884-3B66878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695-3643-4902-8BE6-B0E5975D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E24-BDE0-4BF5-999B-EF29A5E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793B-3CA2-4736-822D-DB041EA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76A2-4792-4A4A-A570-6CDB31B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EFE5-9B62-463B-94C5-8070C67E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4EF-F3D0-40E7-A81B-8488CAC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E6C-4B5C-42A7-A64C-F21F1FAE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26E5-A844-489D-B32E-3AC0879F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F58F-C8E6-4E07-B528-BECDA5F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6D5-0D49-4825-9FCC-B3F4FEFF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9F9E-A572-450C-8A7F-316927D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584C-6C59-4692-B57F-863A98D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8E41-35B4-4785-B9AE-06F48C2F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1CA6-FC18-4E2E-B293-F6C17A5E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E07-250D-40FB-AB44-C4762C20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DCCA-B94E-4817-98B1-BC6595A1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2307-D51C-4B02-890D-A4F7217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9C69-5FA9-4A96-8894-0B7F43F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16A3-BE36-4415-BB1F-E2BF637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C2A8-B6F8-4AA9-AE5C-4B9397B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693-34B8-4A49-A5F6-D32F21E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F100-E2AD-4A3F-BB61-EB13A40B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87E0-1417-4C51-AD13-23FA8D2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673E-ABB8-490C-88C2-1BFE0B1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711B8-6D44-4CF6-ADCB-D107C9C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1377-5C75-43CC-B4A6-4A4D1E95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16B1-3C5F-4B2C-B71E-C30BAE1F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BE0D-D31A-44D4-9230-4D06281E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098D-F082-472D-A741-DFB6114A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BFF5-DE85-4716-9184-15AD9F0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3AD8-71F3-460F-82CF-08CAD494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02E-0E81-401B-BD19-353C523F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E819-CF8B-42D3-87C8-0133184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7346-11BD-40DD-9398-798943F3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68C5-AEE3-4D50-8F50-3EABDAA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59BE-A5B7-4BC5-8D2B-4F277773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FEC2-AC66-4CB4-9796-B2CB2B2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B9AE-1CBA-4865-8605-A09DD64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C9A4-A770-466C-939A-5FBA726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62B6-A37F-48DD-A684-775D6E76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1EB8-8378-4445-9300-61A0D34F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D4BA-C38F-46B9-B71B-B6B9FE74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32E-79A8-41D2-8E84-71A81B8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67E2-E422-48BE-BEC4-B0C32F7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C470-7A48-4A63-A6FA-D10FBD3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B343-6EE2-4B60-A01F-F6F5705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E00E-8CBD-4A4C-BC79-DDB06F4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CECB-2615-49FF-8BE6-92CB41D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CEAB8-2762-4958-AB45-626ACE2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93D5-BC5D-4849-8EA5-DC597D27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4A98-22B5-48F4-BA37-92767F2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FF585-954E-44F1-BF2C-9DEB386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56F0-BD6B-4FA3-A189-EA3FF264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C4F-B3F1-4A89-B4E5-2872FDA1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8A63-D5C9-4A43-9940-B288572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5793-D652-4938-A632-31A4DF70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BE944-65A7-4187-B5B1-A2A67E7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7F12-53F0-4E9B-8C28-FF75A27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4290-A103-449E-8FF3-7CFF49E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311B-B346-4918-A68D-191A4A3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0DF9-1A8B-46C2-80B6-878D477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B73C-5637-4C37-9B61-28B4914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DFEC-6CCF-4636-BAAF-B17B04C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A8493-D302-4AE6-BF3E-62724279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00E-2271-4077-BB44-2FF178A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CA4C-71D9-4CA4-9E6C-23779ADC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6CA6-D164-4501-BA0F-5E07C838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87B36-9D6B-47A0-AAB4-38679AF1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B7AF-2865-47B0-9C4B-CD76DD97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2B8A-BEA8-4282-A5B1-1FBC8EC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933D-B309-420D-A552-DDCC389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59C70-C116-48DA-80E9-CD06FC2A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2C56-3EDD-4582-BCE6-705FB73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9E66-4834-4A56-B0C8-0C5EEDE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8FB5-42E6-4C80-8527-766C6DB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BA9-BE7F-46FD-88D2-EAC736A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B4B9-FDB5-417F-B364-B640CA1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8D7F2-6E22-421B-A75C-CF4E0E3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B580-F013-4679-9387-EBA4533A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7B21-C842-4F21-BF0E-3732A82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2BE8-D3B6-4366-BC1B-FB9EF407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209-C0E3-4D8A-92E4-FB2368B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4A9-24E6-4851-A664-4F3718938C95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8D0-B709-4CD8-A4CD-4B78C2BC8378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1B1-C657-4B6F-B88D-420CE4BA766B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FF7-ECEA-48D0-B3FA-D5925F4201D5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3006-680F-4036-BD98-A496EC19331B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ABD-5C3A-4C81-8F09-5182D53129C3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5622-A1FF-486C-863F-D2F172B79900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0625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МИНИСТЕРСТВО ЗДРАВООХРАНЕНИЯ РЕСПУБЛИКИ КАЛМЫКИИ </a:t>
            </a:r>
            <a:br>
              <a:rPr sz="1800"/>
            </a:b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                БПОУ РК «Калмыцкий медицинский колледж им. Т. Хахлыновой»</a:t>
            </a:r>
            <a:br>
              <a:rPr sz="1800"/>
            </a:br>
            <a:r>
              <a:rPr b="1" lang="ru-RU" sz="1800" spc="-1" strike="noStrike">
                <a:solidFill>
                  <a:srgbClr val="545e70"/>
                </a:solidFill>
                <a:latin typeface="Corbel"/>
              </a:rPr>
              <a:t>     </a:t>
            </a:r>
            <a:br>
              <a:rPr sz="18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ОСОБЕННОСТИ СЕСТРИНСКОГО ПРОЦЕССА ПРИ АТОПИЧЕСКОМ ДЕРМАТИТЕ У ДЕТЕЙ ПЕРВОГО ГОДА ЖИЗНИ</a:t>
            </a:r>
            <a:br>
              <a:rPr sz="18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Выпускная квалификационная работа</a:t>
            </a:r>
            <a:br>
              <a:rPr sz="16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по специальности: «Сестринское дело» </a:t>
            </a:r>
            <a:br>
              <a:rPr sz="1600"/>
            </a:br>
            <a:r>
              <a:rPr b="1" lang="ru-RU" sz="1600" spc="-1" strike="noStrike">
                <a:solidFill>
                  <a:srgbClr val="545e70"/>
                </a:solidFill>
                <a:latin typeface="Corbel"/>
              </a:rPr>
              <a:t>квалификация: Медицинская сестра</a:t>
            </a:r>
            <a:br>
              <a:rPr sz="1800"/>
            </a:br>
            <a:endParaRPr b="0" lang="en-US" sz="16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26" name="Picture 2" descr="https://kpoxa.info/wp-content/uploads/2020/03/kartinka-4-grudnichok-kupaetsja-v-otvare.jpg"/>
          <p:cNvPicPr/>
          <p:nvPr/>
        </p:nvPicPr>
        <p:blipFill>
          <a:blip r:embed="rId1"/>
          <a:stretch/>
        </p:blipFill>
        <p:spPr>
          <a:xfrm>
            <a:off x="1928880" y="3357720"/>
            <a:ext cx="57942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e7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45e70"/>
                </a:solidFill>
                <a:latin typeface="Corbel"/>
              </a:rPr>
              <a:t>По результатам исследования статистики работы учреждения можно сделать вывод, что общее количество больных дерматитом детей растет на 211,3%,количество детей с атопическим дерматитом тоже растет, что связано с ухудшением экологичности питания детей и матерей.</a:t>
            </a:r>
            <a:endParaRPr b="0" lang="en-US" sz="1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Object 1"/>
          <p:cNvGraphicFramePr/>
          <p:nvPr/>
        </p:nvGraphicFramePr>
        <p:xfrm>
          <a:off x="1428840" y="2500200"/>
          <a:ext cx="7286400" cy="37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500200"/>
                    <a:ext cx="728640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592200" y="437400"/>
            <a:ext cx="772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росе принимали участие 20 родителей детей с атопическим дерматито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зраст вашего ребенк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т 0 до 1-12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от 1 до 2-7 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от 2 до 7 лет-1ч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0" name="Object 1"/>
          <p:cNvGraphicFramePr/>
          <p:nvPr/>
        </p:nvGraphicFramePr>
        <p:xfrm>
          <a:off x="1785960" y="2357280"/>
          <a:ext cx="6172200" cy="31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357280"/>
                    <a:ext cx="617220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3"/>
          <p:cNvSpPr/>
          <p:nvPr/>
        </p:nvSpPr>
        <p:spPr>
          <a:xfrm>
            <a:off x="2647080" y="5717880"/>
            <a:ext cx="62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делать вывод, что атопический дерматит в больш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ях развивается в первом году жизни ребенка 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54" name="Picture 2" descr="https://ds04.infourok.ru/uploads/ex/0155/0019cae4-c175be5e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030a0"/>
                </a:solidFill>
                <a:latin typeface="Corbel"/>
              </a:rPr>
              <a:t>Профилактика дерматита</a:t>
            </a:r>
            <a:r>
              <a:rPr b="1" lang="ru-RU" sz="3900" spc="-1" strike="noStrike">
                <a:solidFill>
                  <a:srgbClr val="7030a0"/>
                </a:solidFill>
                <a:latin typeface="Corbel"/>
              </a:rPr>
              <a:t>	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58560" y="907920"/>
            <a:ext cx="76755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едует соблюдать правила техники безопасности: аккуратно обращаться с химическими веществами и растениями, способными вызвать раздражение и развитие кожных реакций, а также избегатьдлительного воздействия солнечных лучей, высоких и низких температур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обходимо избегать контакта с аллергенами, а также, по возможности, минимизировать воздействие стрессовых ситуаций и строго соблюдать правила личной гигиен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ÐÐ¾ÑÐµÐ½ÑÐ¸Ð°Ð»ÑÐ½Ð¾ Ð¾Ð¿Ð°ÑÐ½ÑÐµ Ð¿ÑÐ¾Ð´ÑÐºÑÑ Ð¿ÑÐ¸ Ð´ÐµÑÐ¼Ð°ÑÐ¸ÑÐµ"/>
          <p:cNvPicPr/>
          <p:nvPr/>
        </p:nvPicPr>
        <p:blipFill>
          <a:blip r:embed="rId1"/>
          <a:stretch/>
        </p:blipFill>
        <p:spPr>
          <a:xfrm>
            <a:off x="285840" y="3776760"/>
            <a:ext cx="4367160" cy="3081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ÐÑÐ¾Ð´ÑÐºÑÑ, ÑÐµÐºÐ¾Ð¼ÐµÐ½Ð´Ð¾Ð²Ð°Ð½Ð½ÑÐµ Ð¿ÑÐ¸ Ð´ÐµÑÐ¼Ð°ÑÐ¸ÑÐµ"/>
          <p:cNvPicPr/>
          <p:nvPr/>
        </p:nvPicPr>
        <p:blipFill>
          <a:blip r:embed="rId2"/>
          <a:stretch/>
        </p:blipFill>
        <p:spPr>
          <a:xfrm>
            <a:off x="-15840" y="0"/>
            <a:ext cx="4759200" cy="33577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4896000" y="3429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продукты при дермати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0" y="306864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дукты, рекомендованные  и не рекомендованные при дермати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s://im0-tub-ru.yandex.net/i?id=02a7831c7a33453361110014f2a50fac&amp;ref=rim&amp;n=33&amp;w=150&amp;h=150"/>
          <p:cNvPicPr/>
          <p:nvPr/>
        </p:nvPicPr>
        <p:blipFill>
          <a:blip r:embed="rId3"/>
          <a:stretch/>
        </p:blipFill>
        <p:spPr>
          <a:xfrm>
            <a:off x="5000760" y="1143000"/>
            <a:ext cx="3857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s://proctologys.ru/wp-content/uploads/2019/10/otek-mozga-u-novorozhdennyh-osobennosti-razvitiya-zabolevaniya-i-vozmozhnye-oslozhneniya-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928800" y="1212840"/>
          <a:ext cx="7858080" cy="4987800"/>
        </p:xfrm>
        <a:graphic>
          <a:graphicData uri="http://schemas.openxmlformats.org/drawingml/2006/table">
            <a:tbl>
              <a:tblPr/>
              <a:tblGrid>
                <a:gridCol w="2070000"/>
                <a:gridCol w="5788080"/>
              </a:tblGrid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овательность 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накомиться с листом назнач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овать паци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ь информацию о вмешательстве и возможных последствиях отказа от н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36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обходимости, уточнить готовность пациента к вмешательству( соблюдены ли услов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ить согласие пациента на вмешательст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мыть (обработать) руки на гигиеническом уров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ь оснащение: Вода из крана. Кувшин для ополаскивания. Ванночка. Водный термометр. Стерильное масло. Настои ромашки (100 гр. сухой травы на ванну), хвои (один брикет на ванну); морская соль (100 гр. на ванну) в зависимости от заболевания ребенка. Комплект белья. Пеленальный столик Перча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еленальном столике разложить комплект белья. Поставить в устойчивое положение ванночку (обработанную дез. раствором или вымытую с детским мылом). Облить ванночку кипят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нну заполнить - на 1/2 или 1/3. Измерить Т ° воды термометром. Температура воды в ванне 37, 0-38,0 град.С. Заполнить кувшин водой из ванны Т 36,0 – 37,0 град. В ванну добавить приготовленный заранее лечебный раствор. Т воздуха в помещении- 22-24 град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4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мыть руки, надеть перча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36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еть ребенка. После дефекации подмыть проточной водой. Грязное белье сбросить в бак для использован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ять ребенка двумя руками: положить на левую руку взрослого, так, чтобы голова находилась на локтевом сгибе, фиксируя этой же рукой левое бедро ребенка. После погружения его в воду, левая рука переносится на левое плечо ребенка. Уровень погружения – до сосков.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1"/>
          <p:cNvSpPr/>
          <p:nvPr/>
        </p:nvSpPr>
        <p:spPr>
          <a:xfrm>
            <a:off x="1412280" y="358200"/>
            <a:ext cx="75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оведения лечебной ванны грудному ребен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523880" y="3021120"/>
          <a:ext cx="6096240" cy="19796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297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приема пи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ы (какие, сколько)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птомы со стороны к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ение характера с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обще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1"/>
          <p:cNvSpPr/>
          <p:nvPr/>
        </p:nvSpPr>
        <p:spPr>
          <a:xfrm>
            <a:off x="722880" y="1359000"/>
            <a:ext cx="81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схема заполнения «пищевого дневник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714640" y="1447560"/>
            <a:ext cx="321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1.Способ определения количества крема или мази с использованием единиц дозирования или пах, 2 FTU - для лица или ступни, 3 FTU - для всей руки, 6 FTU - для всей ноги и 14 FTU - для туловищ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mb4"/>
          <p:cNvPicPr/>
          <p:nvPr/>
        </p:nvPicPr>
        <p:blipFill>
          <a:blip r:embed="rId1"/>
          <a:stretch/>
        </p:blipFill>
        <p:spPr>
          <a:xfrm>
            <a:off x="1214280" y="1000080"/>
            <a:ext cx="4200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6" descr="https://mama.ru/wp-content/uploads/2011/12/shutterstock_380032903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уально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ой причиной возникновения атопического дерматита у детей является совокупность генетической расположенности к аллергическим проявлениям в комплексе с неблагоприятными факторами окружающей сред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ходе исследования решены следующие задач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.Определили понятие и факторы развития  атопического дерматита у детей первого года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. Исследовали методы диагностики и лечения атопического дерматита у детей первого года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3.Исследовали практику сестринской деятельности при атопическом дерматите у детей первого года жизн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3.Определили результативность  сестринской деятельности при атопическом дерматите у детей первого года жизни в БУ РК «Республиканский детский медицинский центр» г.Элис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4.Предложили практические приемы повышения эффективности сестринской деятельности при атопическом дерматите у детей первого года жизн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а основании исследования можно сделать вывод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Большинство пациентов поступали с атопическим дерматитом в возрасте до года. Основной фактор развития атопического дерматита аллергены. Главное условия снижения риса развития атопического дерматита- соблюдение диет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Большинство родителей хорошо осведомлены о своем заболевании. В учреждении проводятся профилактические беседы родителями. В основном респонденты получили информацию о заболевании от медицинской сестры, что говорит о высоком уровне профилактической работы в учреждении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Атопический дерматит - наиболее распространенное у детей заболевание кожи аллергического генеза, которым страдают 5-15% всех детей, причем у половины первый эпизод происходит в первые 6 мес. жизни. Проявляется покраснением и отечностью кожи (чаще всего) лица, большим количеством микровезикул (маленькие пузырьки), мокнутием с последующим образованием корок и шелушением. Нередко поражаются волосистая часть головы, ушные раковины, шея, туловищ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Спасибо за внимание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85" name="Picture 2" descr="https://static-sl.insales.ru/images/products/1/5611/116995563/SH_235465veg_12.jpg"/>
          <p:cNvPicPr/>
          <p:nvPr/>
        </p:nvPicPr>
        <p:blipFill>
          <a:blip r:embed="rId1"/>
          <a:stretch/>
        </p:blipFill>
        <p:spPr>
          <a:xfrm>
            <a:off x="1500120" y="1500120"/>
            <a:ext cx="6996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Объект и предмет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ект выпускной квалификационной работы – медицинские сестры и их роль в лечении  атопического дерматита у детей первого года жиз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выпускной квалификационной работы –сестринская деятельность при атопическом дерматите у детей первого года жиз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Цель и задачи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Цель выпускной квалификационной работы - определение эффективности сестринской деятельности при атопическом дерматите у дет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дачи выпускной квалификационной работ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Определить понятие и факторы развития  атопического дерматита у детей первого года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Исследовать методы диагностики и лечения атопического дерматита у детей первого года жизн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Исследовать практику сестринской деятельности при атопическом дерматите у детей первого года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Определить результативность  сестринской деятельности при атопическом дерматите у детей первого года жизни в БУ РК «Республиканский детский медицинский центр» г.Эли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Предложить практические приемы повышения эффективности сестринской деятельности при атопическом дерматите у детей первого года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75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Факторы, провоцирующие развитие дерматита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87280" y="1447560"/>
            <a:ext cx="77472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Механ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давление, потертости, опрелости, мозоли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Физ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ионизирующее и                      УФ-излучение, высокие и низкие температуры, электрический ток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Хим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лекарственные вещества, щелочи, кислоты, соли тяжелых металлов и пр.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</a:rPr>
              <a:t>Биологические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укусы насекомых, воздействие на кожу жалящих растений и стрекающих животных организмов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497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5e70"/>
                </a:solidFill>
                <a:latin typeface="Corbel"/>
              </a:rPr>
              <a:t>Классификация дерматитов</a:t>
            </a:r>
            <a:endParaRPr b="0" lang="en-US" sz="32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16000" y="691920"/>
            <a:ext cx="781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Фотодермати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Себорейны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ростой контактны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Контактный аллерг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Атоп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Токсико-аллергический дермати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https://avatars.mds.yandex.net/get-turbo/1604167/rth73c86f3d9bab521e11ae7b5816979d09/max_g480_c12_r4x3_pd20"/>
          <p:cNvPicPr/>
          <p:nvPr/>
        </p:nvPicPr>
        <p:blipFill>
          <a:blip r:embed="rId1"/>
          <a:stretch/>
        </p:blipFill>
        <p:spPr>
          <a:xfrm>
            <a:off x="5472000" y="4076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97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Атопический дерматит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87280" y="1484280"/>
            <a:ext cx="7747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цируют развитие патологического процесса пищевые продукты (белки животного и растительного происхождения), стрессовые и другие неблагоприятные экзогенные факторы, УФ-излучение, а также агрессивные метеорологические воздейств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ttps://mypresentation.ru/documents_6/2eab83bad375c77289a0af952cededa8/img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45e70"/>
                </a:solidFill>
                <a:latin typeface="Corbel"/>
              </a:rPr>
              <a:t>База исследования: БУ РК «Республиканский детский медицинский центр» г.Элиста</a:t>
            </a:r>
            <a:br>
              <a:rPr sz="2200"/>
            </a:br>
            <a:endParaRPr b="0" lang="en-US" sz="2200" spc="-1" strike="noStrike">
              <a:solidFill>
                <a:srgbClr val="545e70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701720" y="2259000"/>
          <a:ext cx="6728040" cy="329076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5880"/>
                <a:gridCol w="1325520"/>
                <a:gridCol w="1425600"/>
              </a:tblGrid>
              <a:tr h="182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 (на 100 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пический дерма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8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7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2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7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9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9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2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d2d2d"/>
                          </a:solidFill>
                          <a:latin typeface="Times New Roman"/>
                          <a:ea typeface="Times New Roman"/>
                        </a:rPr>
                        <a:t>1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Rectangle 1"/>
          <p:cNvSpPr/>
          <p:nvPr/>
        </p:nvSpPr>
        <p:spPr>
          <a:xfrm>
            <a:off x="2564280" y="1359000"/>
            <a:ext cx="58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Показатели заболеваемости кожи и подкож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чатки у детей от 0-до 7 лет (на 100тыс. чел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15:29:31Z</dcterms:created>
  <dc:creator>User</dc:creator>
  <dc:description/>
  <dc:language>en-US</dc:language>
  <cp:lastModifiedBy>Asus x555L</cp:lastModifiedBy>
  <dcterms:modified xsi:type="dcterms:W3CDTF">2021-03-28T11:09:46Z</dcterms:modified>
  <cp:revision>13</cp:revision>
  <dc:subject/>
  <dc:title>«ДЕРМАТИТЫ.  Профилактика дерматитов»</dc:title>
</cp:coreProperties>
</file>