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BA2-2959-4097-AFA3-F4285893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4F1-5E1D-45EB-B353-993C5A9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941-28F5-40B4-B49A-2B725A9D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A60-9018-4384-99CA-1F34E0AB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C0E-B2C7-47E3-8048-D7150A23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740-EE67-4017-A8AE-9E4F938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967-53A1-4186-AE0D-6ED95094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0D0-C4AF-46E2-9DDD-A3E96A9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254C-C125-46FD-85DB-D6F28229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4E97-5247-43D1-B523-E068C76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FAE9-D04D-4D88-859E-8A997B6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FBE-34A6-4A3F-9BBC-76E49169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A892-92DB-46BE-AFF0-DA49A1F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B01-8018-4723-B41B-5D5C6BB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C46-6170-4ACE-8468-8775E0F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11BA-DD06-4031-A7C5-DAE7A168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039-4516-4FFC-B831-64FADEDD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81D8-4EE5-48A8-AE97-720E8AED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D78F-E0EC-47F5-AD6E-6C659FB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5132-EEB5-4CA2-8918-7CBA036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EA36-1954-44B2-A634-763DB9EE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C580-C789-409E-BCE3-F9F07768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D81-CDBC-4938-90C4-E0F81B2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A03A-7316-479E-BD32-1DE1BD3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8124-5128-4BD9-B336-CCC05B5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3E34-0EAA-40E5-A27C-6A0A8E2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0F5C-9F6B-468D-8B35-D3E7E8F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932A-EC27-48C8-8FC7-F74C104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753B-EA7E-43AC-8BDA-2CB1D2ED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5CE4-43B0-4ADD-B756-A84E25F9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6735-B360-4E13-945E-902097E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3A56-FA69-4295-9CA1-7BBF0DB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4920-C33B-4B82-8663-3FDDBB0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4CD-EAC9-4770-A3B4-1BD870B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8D2C-84F4-444F-86EF-5F60A5E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FDD2-9B01-462E-9C20-2EB3CC0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BEB2-2975-453A-A23C-A77228D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C9D0-1AD4-4BA1-BBE4-767BEAC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8EBC-3B9E-4414-B28C-08C2753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6B36-282F-4984-BFDE-28774D4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1CA5-B141-4C07-A87B-68D761A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8B8C-D12D-4405-80FA-A4547B4C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1C82-6A28-4A65-863F-596ED28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A468-CF0E-412A-984A-8D4EC9D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546-6814-406D-B754-B9C4A5A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B2E6-8C77-47CC-A003-2371D92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9275-4318-413A-8F02-483B894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CE0E-2B98-44DF-B904-AF9610CF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DECE-1529-4854-828C-6DC4A8CA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52B0-65D0-401C-8161-E72DA27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AE49-F19B-4F9A-8E59-42DC9E9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E699-6F1B-4E84-BEAA-1AF12785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72665-393E-4BB9-8B6D-C84A593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B68C-0B19-4D7E-9F2A-279F3B4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A52B-2AB4-4EBD-9E24-22A42D5C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CDA-A3E5-48D4-8F42-1F32775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E209-A942-46A8-83F1-6B925DDF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F3D-5D03-411F-A496-6689B2D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4EF-D1EF-4E97-BBC3-C049FCC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A2C-5AD6-4A14-9E1B-EA5AC5B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DB87-2DB7-41C4-A45F-221567F8BC5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314-DEF9-4631-8D39-764994C9133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124-C9BF-4359-B232-679478A2EA7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317-6F5C-4BCC-A6AC-BEE830A0F18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029B-56CD-451F-AE34-A8C1E4DB023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rusedu.ru/detail_10720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Мои документы\Татар бизэну эйберлэре\татар халык ашлары.jpeg"/>
          <p:cNvPicPr/>
          <p:nvPr/>
        </p:nvPicPr>
        <p:blipFill>
          <a:blip r:embed="rId1"/>
          <a:stretch/>
        </p:blipFill>
        <p:spPr>
          <a:xfrm>
            <a:off x="3657600" y="2209680"/>
            <a:ext cx="4246560" cy="348624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2" descr=""/>
          <p:cNvPicPr/>
          <p:nvPr/>
        </p:nvPicPr>
        <p:blipFill>
          <a:blip r:embed="rId2"/>
          <a:stretch/>
        </p:blipFill>
        <p:spPr>
          <a:xfrm>
            <a:off x="1523880" y="255600"/>
            <a:ext cx="110397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кыстыбый"/>
          <p:cNvPicPr/>
          <p:nvPr/>
        </p:nvPicPr>
        <p:blipFill>
          <a:blip r:embed="rId1"/>
          <a:stretch/>
        </p:blipFill>
        <p:spPr>
          <a:xfrm>
            <a:off x="762120" y="228600"/>
            <a:ext cx="6792840" cy="5141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1471680" y="5410080"/>
            <a:ext cx="47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Кыстыб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242120" cy="1285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мырга 1 стакан кибет каймагы, ике йомырка, чеметеп кенә тоз, ике стакан он алына. Барысын бергә болгатып камыр ясаганнан соң</a:t>
            </a: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аны вак-вак кисәкләргә бүләсең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Әлеге кисәкләрне булдыра алган  кадәр юка итеп җәеп, ике ягын да коры, кызган табада пешереп аласың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Пешкән бәрәңгегә сыер мае, кайнаган сөт салып, эчлекне алдан әзерләп куясың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Җәемне табадан алуга, эчлекне салып төрәсең һәм кыстыбыйны эретелгән сыер мае белән майлап куясың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386"/>
          <p:cNvPicPr/>
          <p:nvPr/>
        </p:nvPicPr>
        <p:blipFill>
          <a:blip r:embed="rId1"/>
          <a:stretch/>
        </p:blipFill>
        <p:spPr>
          <a:xfrm>
            <a:off x="1219320" y="457200"/>
            <a:ext cx="5702040" cy="4395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856880" y="5084640"/>
            <a:ext cx="415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Гөбәд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7242120" cy="128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Яртышар стакан сөт белән суга 1 чәй калагы чүпрә, 1 йомырка, 1 аш кашыгы шикәр комы, 0,5 чәй калагы тоз, 4-5 аш кашыгы үсемлек мае салып гөбәдия камырына баш ясыйм. 15 минутлап вакыт үтүгә, йомшак кына итеп басам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ffffff"/>
                </a:solidFill>
                <a:latin typeface="Trebuchet MS"/>
              </a:rPr>
              <a:t>Астагы өлешен зуррак итеп җәям, капкачын бәләкәйрәк итәм. Астын җәям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ffffff"/>
                </a:solidFill>
                <a:latin typeface="Trebuchet MS"/>
              </a:rPr>
              <a:t>Башта кызыл эремчек һәм шикәр комы, аннары бүрттерергән дөге, дөге өстеннән пешкән йомырка, Һәм соңыннан йөзем салып чыгам.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Шуларның өстенә 17 аш кашыгы эретелгән ак май сибәм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ffffff"/>
                </a:solidFill>
                <a:latin typeface="Trebuchet MS"/>
              </a:rPr>
              <a:t>Капкач камырны каплап, гөбәдиянең кырыйларын чемтеп чыккач, 30-40 минутка духовкага озатам.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2550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620120" cy="1438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Ю.А Ахметзянов, Р.Г. Мухамедов, Х.С. Бикбулатова, Р.Г. Иванов - «Татарская кухня» Казань Татарское книжное издательство, 1985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Использованы фотографии из книги «ТАТАРСКАЯ КУХНЯ». Авторы МАРИНА и МИХАИЛ МЕДВЕДЕВЫ.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©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«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.Art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», 2004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rusedu.ru/detail_10720.htm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http://laysan.ucoz.ru/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2384"/>
          <p:cNvPicPr/>
          <p:nvPr/>
        </p:nvPicPr>
        <p:blipFill>
          <a:blip r:embed="rId1"/>
          <a:stretch/>
        </p:blipFill>
        <p:spPr>
          <a:xfrm>
            <a:off x="1066680" y="304920"/>
            <a:ext cx="5794560" cy="4944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2305080" y="5181480"/>
            <a:ext cx="330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Чәк-чә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7200" y="450720"/>
            <a:ext cx="7242120" cy="1285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Йо</a:t>
            </a: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мыркаларны сытып, он салып йомшак итеп камыр басала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Камырны вак кисәкләргә кисәлә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Казанда сыек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айны кайнатып чыгарала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Вакланган камырны кайнап торган майга салала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Кабарып камыр өскә күтәрелгәч, саргайганчы пешерәлә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Trebuchet MS"/>
              </a:rPr>
              <a:t>Пешкән чәк-чәкләрне зур савытка салып кайнаткан бал белән ботап тәлинкәгә пирамида формасында оеп куялар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2132640" y="5229360"/>
            <a:ext cx="43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Өчпочма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оч почмак"/>
          <p:cNvPicPr/>
          <p:nvPr/>
        </p:nvPicPr>
        <p:blipFill>
          <a:blip r:embed="rId1"/>
          <a:stretch/>
        </p:blipFill>
        <p:spPr>
          <a:xfrm>
            <a:off x="1116000" y="476280"/>
            <a:ext cx="57596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242120" cy="1292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өт, ак май, чүпрә, шикәр комы, тоз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өнбагыш мае һәм он бергә кушып болгатыгыз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а камыр баса башлагыз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ган, ит һәм бәрәңге турагыз, бергә кушыгыз, тоз белән борыч сибегез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амырыгызны кисегез, кабартма кисәкләреннән җәймәләр тәгәрәтеп ясагыз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Җәймәләр уртасына эчлекне салып чыгыгыз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Җәймәне өч ягыннан тотып, бергә китереп кушыгыз да кырыйларын бөкләп чыгыгыз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баны сыек май белән майлагыз да шуңа өчпочмакларны тезеп чыгыгыз. Өчпочмаклы духовкага куегыз да, 30-35 минут тотыгыз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бэлеш"/>
          <p:cNvPicPr/>
          <p:nvPr/>
        </p:nvPicPr>
        <p:blipFill>
          <a:blip r:embed="rId1"/>
          <a:stretch/>
        </p:blipFill>
        <p:spPr>
          <a:xfrm>
            <a:off x="1187280" y="476280"/>
            <a:ext cx="5669280" cy="451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2830320" y="5334120"/>
            <a:ext cx="294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tt-RU" sz="6600" spc="-1" strike="noStrike">
                <a:solidFill>
                  <a:srgbClr val="ffffff"/>
                </a:solidFill>
                <a:latin typeface="Arial"/>
              </a:rPr>
              <a:t>әлеш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242120" cy="1292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ыер ите</a:t>
            </a: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н, б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әрәңгене шакмаклап кисәбез</a:t>
            </a: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, суган турыйбыз,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тоз</a:t>
            </a: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, борыч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салабыз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Камыр өчен иссез май, сөт, шикәр комы, тоз, йомырка кирәк булыр. Болгатабыз Һәм җәябез. Камырны икегә бүләбез. Төбен һәм капкачын ясарг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Табаны майлыйбыз. Астын җәябез. Бәлешнең эчен бушатабыз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rebuchet MS"/>
              </a:rPr>
              <a:t>Һәм матурлап кырыйларын бөклибез. Инде капкач кирәк. Бәлешнең уртасын тишәбез. Өстенә түгәрәк куябыз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200 градуста 1,5 сәгать пешерәбез. Бер сәгатьтән бәлешнең өсте кызаграч, янудан саклар өчен пергамент кәгазь яки камыр капларга бул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Өстен кисәбез. Җайлап кына ачабыз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380880" y="558720"/>
            <a:ext cx="4038840" cy="5811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4964400" y="1676520"/>
            <a:ext cx="213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ош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ел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242120" cy="128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Йомырканың агын сарысыннан аерабыз. Агына сода кушып күбек барлыкка килгәнче болгатабыз һәм шуңа йомырканың сарысын кушабыз. Аз-азлап он кушып, артык каты булмаган камыр басабыз. 1 сәгатькә суыткычка куеп торабыз.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Әзер камырдан бик юка итеп камыр җәябез һәм ромб рәвешендә фигуралар кисәбәз.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Без фигуралар кискән арада уртача зурлыктагы табакка үсемлек мае салып кызарга куябыз.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ай кайнап чыккач, кош телене алтынсу төскә кергәнче пешерәбез. Артык майлы булмасын өчен, кош телене иләккә салып торалар.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ешереп бетергәч, кош телене табынга шикәр оны белән бизәп чыгаралар.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реевы</dc:creator>
  <dc:description/>
  <dc:language>en-US</dc:language>
  <cp:lastModifiedBy>HP</cp:lastModifiedBy>
  <dcterms:modified xsi:type="dcterms:W3CDTF">2022-03-31T10:55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