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41.png" ContentType="image/png"/>
  <Override PartName="/ppt/media/image34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0500-C933-4250-8749-6EEA6D23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A63E-0866-4F69-B113-DC089F90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A184-CD77-419E-9A65-2B1B546E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B2AC-4CE7-4088-85B0-C1EFB055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CA98-197C-40CF-93BB-AC6A6DFC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C28F-DE93-4404-B2C0-6B579739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283-86F7-4DD5-814B-876423B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10EB-BBF2-4209-902B-2E834E7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943A-0895-47C9-AB0A-3AEC108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6C79-D643-4DC9-BEF1-20441A37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E450-EBA5-4851-96E4-8C1F23F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27B3-3D57-4834-8BEC-1CABC9D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5B35-29E1-48FB-8D59-393F8BF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D32-92C9-4E34-8B5D-48CE5B0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2DD-BF9C-49D4-B256-A9C79A4C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9DF-1D20-421B-B8F1-1AF1C3D2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B72E-F611-4E65-BF98-5A8DF8CE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CFE9-7BB3-4D78-897A-53C206E2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94B2-5BB3-41A1-85A0-3888AA0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5C5D-5330-4DB9-A70A-0EADC8BB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4954-509B-4182-B038-DFCDD44F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1107-C88F-4F7D-9F36-ED0191E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6D6A-FC7C-4074-923F-D1FBD8C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CB5B-4F8A-45A0-9C5A-E3EEB2D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312-0E0B-4CE0-93DC-A634B5C8F0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0042-7FBA-45BF-AB5E-52DBE0E6B8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all-origami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Тайна бумажного листа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66880" y="380880"/>
            <a:ext cx="4572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алемальский детский сад «Золотая рыбка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6095880" y="472428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Воспитатель Сязи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3886200" y="6248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2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Что можно сделать из бумаги ру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505320" cy="348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505320" cy="3494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4876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ме оригами из бумаги можно смастерить много интересных ве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можно сделать аппликацию, можно заняться бумажной пласти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259380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6781680" y="685800"/>
            <a:ext cx="19908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3"/>
          <a:stretch/>
        </p:blipFill>
        <p:spPr>
          <a:xfrm>
            <a:off x="609480" y="1447920"/>
            <a:ext cx="317520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Бумажная пл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33520" y="5867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умажной пластике часто применяют цветную бума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кручивание из 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6053040" y="304920"/>
            <a:ext cx="2560680" cy="617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94160" cy="3276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49528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умело скручивать бумажные полоски, то можно собирать интересные бук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222800" cy="422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4146840" cy="4229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2"/>
          <p:cNvSpPr/>
          <p:nvPr/>
        </p:nvSpPr>
        <p:spPr>
          <a:xfrm>
            <a:off x="457200" y="541008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сделать красивые компози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умело подбирать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3049560" cy="403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2"/>
          <a:stretch/>
        </p:blipFill>
        <p:spPr>
          <a:xfrm>
            <a:off x="4568760" y="990720"/>
            <a:ext cx="3832200" cy="40384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5334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зять вместо обычной бумаги гофрированный картон, то легко сделать всяких звер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rcRect l="801" t="0" r="-945" b="0"/>
          <a:stretch/>
        </p:blipFill>
        <p:spPr>
          <a:xfrm>
            <a:off x="1676520" y="457200"/>
            <a:ext cx="5638680" cy="5062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838080" y="556272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ть такие фигур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очень тонкая и кропотлив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990720" y="550800"/>
            <a:ext cx="7315200" cy="619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213372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иболее трудное и интересное занятие - это моделирование из бума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00600" y="3049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380880" y="5181480"/>
            <a:ext cx="4191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533520" y="4495680"/>
            <a:ext cx="396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этом можно создавать точные копии машин, танков, пароходов, поездов, замков и так дал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мага очень хороший материа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ля творчеств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Она хорошо режется, клеится, бывает тонкой, плотной, цве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к работать с чертеж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rcRect l="-1276" t="3017" r="0" b="0"/>
          <a:stretch/>
        </p:blipFill>
        <p:spPr>
          <a:xfrm>
            <a:off x="609480" y="1625760"/>
            <a:ext cx="4724640" cy="336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249720" cy="2597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1371600" y="541008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е модели делаются по точным чертеж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еж выполняется разными лини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стые линии - это линии разре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нктирные - линии сги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круг каждой детали прочерчены места для склеивания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п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257800" cy="362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7011720" y="7621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п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428640" y="106668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3504960" y="1143000"/>
            <a:ext cx="38098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120" y="3581280"/>
            <a:ext cx="3581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чертеже дается схема сборки модели и другая нужная информа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rcRect l="6781" t="5079" r="18646" b="22036"/>
          <a:stretch/>
        </p:blipFill>
        <p:spPr>
          <a:xfrm>
            <a:off x="4495680" y="1828800"/>
            <a:ext cx="4191120" cy="387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095720" cy="20289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2"/>
          <p:cNvSpPr/>
          <p:nvPr/>
        </p:nvSpPr>
        <p:spPr>
          <a:xfrm rot="3426600">
            <a:off x="2853360" y="3394800"/>
            <a:ext cx="2057400" cy="296640"/>
          </a:xfrm>
          <a:prstGeom prst="leftArrow">
            <a:avLst>
              <a:gd name="adj1" fmla="val 50000"/>
              <a:gd name="adj2" fmla="val 1733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к собирать модель из бума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знакомление с черт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ырезание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клеивание всех дета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получить четкие линии сгиба, надо провести по ним шилом или острым предметом. Такая линия не будет лохмат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Сборка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2971800" cy="213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73392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ак, во что превратится обычный лист бумаги, зависит только от умелых рук мас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all-origami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librero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маге более 2000 лет, она была изобретена в Кита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магу делали вручную из шелковичного дерева или бамб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5029200" y="609480"/>
            <a:ext cx="3705120" cy="2824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457200" y="4038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бумагу изготавливают бумагоделательные машины из дерева, макулатуры или тряп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"/>
          <p:cNvPicPr/>
          <p:nvPr/>
        </p:nvPicPr>
        <p:blipFill>
          <a:blip r:embed="rId2"/>
          <a:stretch/>
        </p:blipFill>
        <p:spPr>
          <a:xfrm>
            <a:off x="6400800" y="3581280"/>
            <a:ext cx="2119320" cy="2133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54864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машины производят до 1 км. бумаги в секу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46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только в Японии сохранилось ручное производство бумаги. Это целое искус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бумага высоко ценится, на ней пишут только красивым каллиграфическим почерком, а художники рисуют карт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276720" cy="287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43828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438280" cy="2166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905120" y="3124080"/>
            <a:ext cx="178884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4"/>
          <a:stretch/>
        </p:blipFill>
        <p:spPr>
          <a:xfrm>
            <a:off x="4419720" y="3490920"/>
            <a:ext cx="2057400" cy="1690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5"/>
          <a:stretch/>
        </p:blipFill>
        <p:spPr>
          <a:xfrm>
            <a:off x="7010280" y="60948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6"/>
          <a:stretch/>
        </p:blipFill>
        <p:spPr>
          <a:xfrm>
            <a:off x="7010280" y="2514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7"/>
          <a:stretch/>
        </p:blipFill>
        <p:spPr>
          <a:xfrm>
            <a:off x="7010280" y="4419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04920" y="5257800"/>
            <a:ext cx="7772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Хорошая бумага заставляет дум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 хороших вещах»,- говорят японц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762120" y="6094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гу, сделанную руками мастера, называют «васи» - японская бум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38480" y="91440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ерное, не зря именно в Японии появилось искусство складывания из бумаги - ори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также легенда о том, что если сложить 1000 журавликов - «цуру» и загадать желание, то оно непременно сбуд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rcRect l="12276" t="0" r="14044" b="0"/>
          <a:stretch/>
        </p:blipFill>
        <p:spPr>
          <a:xfrm>
            <a:off x="228600" y="1295280"/>
            <a:ext cx="396252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191120" y="91440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у легенду услышала девочка Садако Сасаки, которая была жертвой ядерной бомбардировки Хиросимы в 1945г. Из-за облучения она сильно заболела.  “Цуру” были ее последней надеждой. Девочка умерла, успев сложить 644 журавлика. С тех пор бумажный журавлик - символ мира и долгол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00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2481120" cy="2895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143000" y="54864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бумаги можно сложить фигурки животных, птиц и даж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91440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1143000"/>
            <a:ext cx="9907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666880" cy="186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3"/>
          <a:stretch/>
        </p:blipFill>
        <p:spPr>
          <a:xfrm>
            <a:off x="1066680" y="990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"/>
          <p:cNvPicPr/>
          <p:nvPr/>
        </p:nvPicPr>
        <p:blipFill>
          <a:blip r:embed="rId4"/>
          <a:stretch/>
        </p:blipFill>
        <p:spPr>
          <a:xfrm>
            <a:off x="3657600" y="33526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394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010640" cy="5235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игами любят заниматься и взрослые 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 Сязи</cp:lastModifiedBy>
  <dcterms:modified xsi:type="dcterms:W3CDTF">2022-03-31T02:30:3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