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5.png" ContentType="image/png"/>
  <Override PartName="/ppt/media/image43.jpeg" ContentType="image/jpeg"/>
  <Override PartName="/ppt/media/image31.jpeg" ContentType="image/jpeg"/>
  <Override PartName="/ppt/media/image41.png" ContentType="image/png"/>
  <Override PartName="/ppt/media/image34.jpeg" ContentType="image/jpeg"/>
  <Override PartName="/ppt/media/image37.png" ContentType="image/png"/>
  <Override PartName="/ppt/media/image45.png" ContentType="image/png"/>
  <Override PartName="/ppt/media/image44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EF503-30F8-4CF5-B791-C6D2C776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AE2D-6AE2-47C1-9472-A916923E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0434-05A9-47F3-8B1A-1C570E4F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7D12-205A-4054-88F5-CE7EF48B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DE12-C57E-4C93-BF7B-ECD2B548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F049-D8EA-4CDB-917F-629747A9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FDFA-D8E0-4B70-A9D8-C1E0195F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6FD9-8701-4075-A93D-9B979DF1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2563-53D2-4E04-9A99-A8EBA079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2BBD-BBC3-4E39-834C-E1567EB6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FCED-D069-4A2E-977A-B83F405E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67E9-2D60-4F8C-8FE4-DBBD1539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33F9-0B12-4B7C-9418-6B350021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7E02-A2B0-421F-8D5C-9D5414B8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8E6C-433B-4E2C-BAF6-51A22E1A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EA09-3C49-4B97-B944-261EB703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18D5-A71D-4E0F-AB6F-DF5AE06A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EF919-BDC9-4F49-9694-4FA13201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04A6-F6B7-4F93-A23F-9050DD0F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19F2-7FD2-4A1F-9735-2BBCE648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0F99-B1F7-489E-955F-02EF52BC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1EE3A-41D4-43A6-B1EA-2C22E54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EA5B-ECB1-4D9E-BB67-9B6459EA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9973-8225-466C-8D55-B4B3144F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8B60-938B-46A1-A229-828AF887CC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30CC-B402-4D54-B3E8-CF8AF3F9C0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all-origami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Тайна бумажного листа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66880" y="380880"/>
            <a:ext cx="457200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алемальский детский сад «Золотая рыбка»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6095880" y="472428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Воспитатель Сязи 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3886200" y="6248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22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Что можно сделать из бумаги ру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3505320" cy="348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505320" cy="34941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4876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ме оригами из бумаги можно смастерить много интересных вещ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можно сделать аппликацию, можно заняться бумажной пласти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2593800" cy="3809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6781680" y="685800"/>
            <a:ext cx="1990800" cy="514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3"/>
          <a:stretch/>
        </p:blipFill>
        <p:spPr>
          <a:xfrm>
            <a:off x="609480" y="1447920"/>
            <a:ext cx="3175200" cy="4114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533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Бумажная пл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533520" y="5867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умажной пластике часто применяют цветную бума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кручивание из бум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6053040" y="304920"/>
            <a:ext cx="2560680" cy="617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94160" cy="3276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49528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умело скручивать бумажные полоски, то можно собирать интересные бук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4222800" cy="4229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4724280" y="838080"/>
            <a:ext cx="4146840" cy="4229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2"/>
          <p:cNvSpPr/>
          <p:nvPr/>
        </p:nvSpPr>
        <p:spPr>
          <a:xfrm>
            <a:off x="457200" y="5410080"/>
            <a:ext cx="754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сделать красивые компози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о умело подбирать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3049560" cy="4038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2"/>
          <a:stretch/>
        </p:blipFill>
        <p:spPr>
          <a:xfrm>
            <a:off x="4568760" y="990720"/>
            <a:ext cx="3832200" cy="40384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5334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зять вместо обычной бумаги гофрированный картон, то легко сделать всяких зверу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45820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1"/>
          <a:srcRect l="801" t="0" r="-945" b="0"/>
          <a:stretch/>
        </p:blipFill>
        <p:spPr>
          <a:xfrm>
            <a:off x="1676520" y="457200"/>
            <a:ext cx="5638680" cy="5062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838080" y="5562720"/>
            <a:ext cx="7620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ть такие фигур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очень тонкая и кропотлив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990720" y="550800"/>
            <a:ext cx="7315200" cy="619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240" y="213372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аиболее трудное и интересное занятие - это моделирование из бумаг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800600" y="30492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4876920" y="33526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2"/>
          <p:cNvSpPr/>
          <p:nvPr/>
        </p:nvSpPr>
        <p:spPr>
          <a:xfrm>
            <a:off x="380880" y="5181480"/>
            <a:ext cx="4191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533520" y="4495680"/>
            <a:ext cx="3962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этом можно создавать точные копии машин, танков, пароходов, поездов, замков и так дал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мага очень хороший материа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ля творчеств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Она хорошо режется, клеится, бывает тонкой, плотной, цвет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к работать с чертеж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1"/>
          <a:srcRect l="-1276" t="3017" r="0" b="0"/>
          <a:stretch/>
        </p:blipFill>
        <p:spPr>
          <a:xfrm>
            <a:off x="609480" y="1625760"/>
            <a:ext cx="4724640" cy="336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2"/>
          <a:stretch/>
        </p:blipFill>
        <p:spPr>
          <a:xfrm>
            <a:off x="5638680" y="533520"/>
            <a:ext cx="3249720" cy="2597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1371600" y="5410080"/>
            <a:ext cx="6400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е модели делаются по точным чертеж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5716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теж выполняется разными линия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лстые линии - это линии разре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нктирные - линии сгиб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круг каждой детали прочерчены места для склеивания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ап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5257800" cy="362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7011720" y="7621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п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3428640" y="1066680"/>
            <a:ext cx="3429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3504960" y="1143000"/>
            <a:ext cx="380988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120" y="3581280"/>
            <a:ext cx="3581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чертеже дается схема сборки модели и другая нужная информа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1"/>
          <a:srcRect l="6781" t="5079" r="18646" b="22036"/>
          <a:stretch/>
        </p:blipFill>
        <p:spPr>
          <a:xfrm>
            <a:off x="4495680" y="1828800"/>
            <a:ext cx="4191120" cy="387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095720" cy="20289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2"/>
          <p:cNvSpPr/>
          <p:nvPr/>
        </p:nvSpPr>
        <p:spPr>
          <a:xfrm rot="3426600">
            <a:off x="2853360" y="3394800"/>
            <a:ext cx="2057400" cy="296640"/>
          </a:xfrm>
          <a:prstGeom prst="leftArrow">
            <a:avLst>
              <a:gd name="adj1" fmla="val 50000"/>
              <a:gd name="adj2" fmla="val 17339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к собирать модель из бума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знакомление с черте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ырезание дета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клеивание всех дета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получить четкие линии сгиба, надо провести по ним шилом или острым предметом. Такая линия не будет лохмато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Сборка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4495680" y="4114800"/>
            <a:ext cx="2971800" cy="2139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733920" cy="26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965160" y="4572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965160" y="4572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965160" y="4572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ак, во что превратится обычный лист бумаги, зависит только от умелых рук мас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ные 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all-origami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.wikip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librero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4572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маге более 2000 лет, она была изобретена в Кита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магу делали вручную из шелковичного дерева или бамбу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1"/>
          <a:stretch/>
        </p:blipFill>
        <p:spPr>
          <a:xfrm>
            <a:off x="5029200" y="609480"/>
            <a:ext cx="3705120" cy="2824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4"/>
          <p:cNvSpPr/>
          <p:nvPr/>
        </p:nvSpPr>
        <p:spPr>
          <a:xfrm>
            <a:off x="457200" y="40384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час бумагу изготавливают бумагоделательные машины из дерева, макулатуры или тряп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"/>
          <p:cNvPicPr/>
          <p:nvPr/>
        </p:nvPicPr>
        <p:blipFill>
          <a:blip r:embed="rId2"/>
          <a:stretch/>
        </p:blipFill>
        <p:spPr>
          <a:xfrm>
            <a:off x="6400800" y="3581280"/>
            <a:ext cx="2119320" cy="2133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8"/>
          <p:cNvSpPr/>
          <p:nvPr/>
        </p:nvSpPr>
        <p:spPr>
          <a:xfrm>
            <a:off x="548640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е машины производят до 1 км. бумаги в секу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46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 только в Японии сохранилось ручное производство бумаги. Это целое искус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бумага высоко ценится, на ней пишут только красивым каллиграфическим почерком, а художники рисуют карт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276720" cy="2874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43828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438280" cy="2166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905120" y="3124080"/>
            <a:ext cx="178884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4"/>
          <a:stretch/>
        </p:blipFill>
        <p:spPr>
          <a:xfrm>
            <a:off x="4419720" y="3490920"/>
            <a:ext cx="2057400" cy="1690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5"/>
          <a:stretch/>
        </p:blipFill>
        <p:spPr>
          <a:xfrm>
            <a:off x="7010280" y="609480"/>
            <a:ext cx="1733760" cy="1733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6"/>
          <a:stretch/>
        </p:blipFill>
        <p:spPr>
          <a:xfrm>
            <a:off x="7010280" y="2514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7"/>
          <a:stretch/>
        </p:blipFill>
        <p:spPr>
          <a:xfrm>
            <a:off x="7010280" y="4419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04920" y="5257800"/>
            <a:ext cx="77724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«Хорошая бумага заставляет дум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 хороших вещах»,- говорят японц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762120" y="6094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магу, сделанную руками мастера, называют «васи» - японская бума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038480" y="914400"/>
            <a:ext cx="472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верное, не зря именно в Японии появилось искусство складывания из бумаги - ори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ет также легенда о том, что если сложить 1000 журавликов - «цуру» и загадать желание, то оно непременно сбуд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1"/>
          <a:srcRect l="12276" t="0" r="14044" b="0"/>
          <a:stretch/>
        </p:blipFill>
        <p:spPr>
          <a:xfrm>
            <a:off x="228600" y="1295280"/>
            <a:ext cx="396252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191120" y="91440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у легенду услышала девочка Садако Сасаки, которая была жертвой ядерной бомбардировки Хиросимы в 1945г. Из-за облучения она сильно заболела.  “Цуру” были ее последней надеждой. Девочка умерла, успев сложить 644 журавлика. С тех пор бумажный журавлик - символ мира и долголе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0067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2481120" cy="2895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1143000" y="548640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бумаги можно сложить фигурки животных, птиц и даж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914400"/>
            <a:ext cx="7621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1143000"/>
            <a:ext cx="9907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2666880" cy="186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3"/>
          <a:stretch/>
        </p:blipFill>
        <p:spPr>
          <a:xfrm>
            <a:off x="1066680" y="990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"/>
          <p:cNvPicPr/>
          <p:nvPr/>
        </p:nvPicPr>
        <p:blipFill>
          <a:blip r:embed="rId4"/>
          <a:stretch/>
        </p:blipFill>
        <p:spPr>
          <a:xfrm>
            <a:off x="3657600" y="33526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"/>
          <p:cNvPicPr/>
          <p:nvPr/>
        </p:nvPicPr>
        <p:blipFill>
          <a:blip r:embed="rId5"/>
          <a:stretch/>
        </p:blipFill>
        <p:spPr>
          <a:xfrm>
            <a:off x="6324480" y="914400"/>
            <a:ext cx="23940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7010640" cy="5235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1219320" y="5867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игами любят заниматься и взрослые и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 Сязи</cp:lastModifiedBy>
  <dcterms:modified xsi:type="dcterms:W3CDTF">2022-03-31T02:30:3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