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584-FE73-4F8B-B564-7B3086C5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E48-6A5F-4680-83C9-1B211EB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4A6-4CE9-4BDC-BF59-AA266CCB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1FE-F29C-4478-BF1D-4ED2EAEF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CF0-80DD-42D4-8E62-BE40FE9C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142-35B4-4D2F-A7AC-F2C8509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EC0-57DD-4FC8-BE3E-2F6C3EED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933-2D4E-4AE8-A062-A29D7EB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246-2BB0-4238-828A-71DA1C1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5EE-A176-4D73-82F4-BC3C19F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802-A0E4-4074-A929-B17C780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130-FE35-41A6-8DF9-843F2A6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109-AD48-4162-89B0-E0A2A3B87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1000080" y="1500120"/>
            <a:ext cx="724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х</a:t>
            </a:r>
            <a:r>
              <a:rPr b="1" lang="tt-RU" sz="4000" spc="-1" strike="noStrike">
                <a:solidFill>
                  <a:srgbClr val="00b050"/>
                </a:solidFill>
                <a:latin typeface="Arial"/>
              </a:rPr>
              <a:t>әрефе һәм аны белдергән  авазл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2916360" y="447660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дрисова Лилия Мансу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БОУ «16 нчы татар-инглиз гимназиясенең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тар теле һәм әдәбияты укытучы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0840" y="1555920"/>
            <a:ext cx="7629480" cy="645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Calibri"/>
              </a:rPr>
              <a:t>Я, я </a:t>
            </a:r>
            <a:r>
              <a:rPr b="0" lang="tt-RU" sz="3600" spc="-1" strike="noStrike">
                <a:solidFill>
                  <a:srgbClr val="000000"/>
                </a:solidFill>
                <a:latin typeface="Calibri"/>
              </a:rPr>
              <a:t>хәреф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52400" y="3284640"/>
            <a:ext cx="7686720" cy="1752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Я я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 хәрефенең ике авазга билге булып йөрүен ачыклау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 хәрефе кергән сүзләрне дөрес әйтергә һәм язарга өйрәт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1028880" y="9079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Calibri"/>
              </a:rPr>
              <a:t>Дәреснең тема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589480" y="2479680"/>
            <a:ext cx="41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әреснең макс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нчы октябрь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йныф эш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я хәреф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усский алфавит. Пишем красиво. Буква Я. Russian handwriting. (1)_cut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Калын сүзләр             Нечкә сүзл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1"/>
          <a:stretch/>
        </p:blipFill>
        <p:spPr>
          <a:xfrm>
            <a:off x="7174080" y="482760"/>
            <a:ext cx="1196640" cy="1763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465200" cy="1667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340000" y="7398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үзләрне ике  баганага бүлеп языг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685800" y="1806480"/>
            <a:ext cx="76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, 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шелчә, 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фрак, сө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, 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лкы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пы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ла, 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ма, о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, би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лә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ш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"/>
          <p:cNvSpPr/>
          <p:nvPr/>
        </p:nvSpPr>
        <p:spPr>
          <a:xfrm>
            <a:off x="4572000" y="3635280"/>
            <a:ext cx="0" cy="251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2920" y="2246040"/>
            <a:ext cx="302436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Калын сүзлә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фр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лкы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пы</a:t>
            </a: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7174080" y="482760"/>
            <a:ext cx="1196640" cy="176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465200" cy="1667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340000" y="7398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кшерәб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"/>
          <p:cNvSpPr/>
          <p:nvPr/>
        </p:nvSpPr>
        <p:spPr>
          <a:xfrm flipH="1">
            <a:off x="4572000" y="1773360"/>
            <a:ext cx="46080" cy="38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4824360" y="2151000"/>
            <a:ext cx="4572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Нечкә сүзлә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шелч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сө</a:t>
            </a: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ө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лә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ff0000"/>
                </a:solidFill>
                <a:latin typeface="Calibri"/>
              </a:rPr>
              <a:t>Я я</a:t>
            </a:r>
            <a:r>
              <a:rPr b="1" lang="tt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Яфрак</a:t>
            </a:r>
            <a:r>
              <a:rPr b="1" lang="tt-RU" sz="4000" spc="-1" strike="noStrike">
                <a:solidFill>
                  <a:srgbClr val="f13b1d"/>
                </a:solidFill>
                <a:latin typeface="Calibri"/>
              </a:rPr>
              <a:t>  </a:t>
            </a: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4000" spc="-1" strike="noStrike">
                <a:solidFill>
                  <a:srgbClr val="f13b1d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tt-RU" sz="4000" spc="-1" strike="noStrike">
                <a:solidFill>
                  <a:srgbClr val="558ed5"/>
                </a:solidFill>
                <a:latin typeface="Calibri"/>
              </a:rPr>
              <a:t>й</a:t>
            </a:r>
            <a:r>
              <a:rPr b="1" lang="tt-RU" sz="4000" spc="-1" strike="noStrike">
                <a:solidFill>
                  <a:srgbClr val="f13b1d"/>
                </a:solidFill>
                <a:latin typeface="Calibri"/>
              </a:rPr>
              <a:t>а</a:t>
            </a: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фрак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яшен </a:t>
            </a:r>
            <a:r>
              <a:rPr b="1" lang="tt-RU" sz="4000" spc="-1" strike="noStrike">
                <a:solidFill>
                  <a:srgbClr val="f13b1d"/>
                </a:solidFill>
                <a:latin typeface="Calibri"/>
              </a:rPr>
              <a:t> </a:t>
            </a: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tt-RU" sz="4000" spc="-1" strike="noStrike">
                <a:solidFill>
                  <a:srgbClr val="558ed5"/>
                </a:solidFill>
                <a:latin typeface="Calibri"/>
              </a:rPr>
              <a:t>й</a:t>
            </a:r>
            <a:r>
              <a:rPr b="1" lang="tt-RU" sz="4000" spc="-1" strike="noStrike">
                <a:solidFill>
                  <a:srgbClr val="f13b1d"/>
                </a:solidFill>
                <a:latin typeface="Calibri"/>
              </a:rPr>
              <a:t>ә</a:t>
            </a: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шен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tt-RU" sz="4000" spc="-1" strike="noStrike">
                <a:solidFill>
                  <a:srgbClr val="558ed5"/>
                </a:solidFill>
                <a:latin typeface="Arial"/>
              </a:rPr>
              <a:t>й</a:t>
            </a: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558ed5"/>
                </a:solidFill>
                <a:latin typeface="Arial"/>
              </a:rPr>
              <a:t>й</a:t>
            </a: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906640" y="2166840"/>
            <a:ext cx="1160640" cy="1457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52840" y="99036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ff0000"/>
                </a:solidFill>
                <a:latin typeface="Calibri"/>
              </a:rPr>
              <a:t>Я 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692360" y="445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лын әйтелешле сүзләрд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75200" y="4454640"/>
            <a:ext cx="26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кә әйтелешле сүзләрд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6"/>
          <p:cNvCxnSpPr/>
          <p:nvPr/>
        </p:nvCxnSpPr>
        <p:spPr>
          <a:xfrm>
            <a:off x="2987280" y="3860640"/>
            <a:ext cx="108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10"/>
          <p:cNvCxnSpPr/>
          <p:nvPr/>
        </p:nvCxnSpPr>
        <p:spPr>
          <a:xfrm flipH="1">
            <a:off x="6103440" y="3860640"/>
            <a:ext cx="576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11"/>
          <p:cNvSpPr/>
          <p:nvPr/>
        </p:nvSpPr>
        <p:spPr>
          <a:xfrm>
            <a:off x="2422440" y="33051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tt-RU" sz="4000" spc="-1" strike="noStrike">
                <a:solidFill>
                  <a:srgbClr val="558ed5"/>
                </a:solidFill>
                <a:latin typeface="Arial"/>
              </a:rPr>
              <a:t>й</a:t>
            </a: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5580000" y="33051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558ed5"/>
                </a:solidFill>
                <a:latin typeface="Arial"/>
              </a:rPr>
              <a:t>й</a:t>
            </a: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944960" y="2195640"/>
            <a:ext cx="11638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79280" y="333360"/>
            <a:ext cx="8748720" cy="137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Туган як, аяз, ямьле, кояш, елмая, яфрак, саргая, озыная, яңгыр ява, җылы якларга, ярд</a:t>
            </a:r>
            <a:r>
              <a:rPr b="1" lang="tt-RU" sz="2800" spc="-1" strike="noStrike">
                <a:solidFill>
                  <a:srgbClr val="984807"/>
                </a:solidFill>
                <a:latin typeface="Calibri"/>
              </a:rPr>
              <a:t>әм,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әкият, ямансу, я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СЕННИЕ ЛИСТОЧКИ.Сл. и муз. Е.В.Кислицина. Перев.Т.Будюк,исп. О.Какасьян._cut(1)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Яфраклар бәйрәме — яфрак (www.mixmuz.ru).mp3" descr=""/>
          <p:cNvPicPr/>
          <p:nvPr/>
        </p:nvPicPr>
        <p:blipFill>
          <a:blip r:embed="rId2"/>
          <a:stretch/>
        </p:blipFill>
        <p:spPr>
          <a:xfrm>
            <a:off x="108000" y="14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8104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92360" y="2133720"/>
            <a:ext cx="6408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 Кояш сүзендә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хәреф, 3 ава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ә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хәреф, 4 ав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хәреф, 5 ав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Кайсы сүздә авазлар саны хәрефләр саныннан күбрә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рм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ә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җә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өл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ыяла сүзендә я хәрефе ничек укы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[йа]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ә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а]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йә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Өч иҗекле сүзне билгелә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як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ә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әкият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ш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Я хәрефе [йә] дип укыла торган сүзләр рәтен та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я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ә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яфра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кә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39640" y="2130120"/>
            <a:ext cx="611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Артта калмаска,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«Икеле» алмаска.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Алмабыз һич тә,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Укырбыз «бишкә»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7"/>
          <p:cNvSpPr/>
          <p:nvPr/>
        </p:nvSpPr>
        <p:spPr>
          <a:xfrm>
            <a:off x="6786720" y="36432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2714760" y="4929120"/>
            <a:ext cx="183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9" descr=""/>
          <p:cNvPicPr/>
          <p:nvPr/>
        </p:nvPicPr>
        <p:blipFill>
          <a:blip r:embed="rId1"/>
          <a:stretch/>
        </p:blipFill>
        <p:spPr>
          <a:xfrm>
            <a:off x="828720" y="719280"/>
            <a:ext cx="7095960" cy="1530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1042920" y="2038320"/>
            <a:ext cx="75614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ган ягымда кө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ә алтын көз килеп җитт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я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ран гы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м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Ялкау гына болытлар йөзә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фракл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рга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шлады. Кайвакы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ңгыр я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рамдагы агачлар кызыл, сары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ш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ызгылт сары төсләргә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я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ып-кызыл булып миләш агачы янып тора. Бу яфраклар аз гына җил исүгә коела башлыйлар. Бөтен дөнь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өрле төстәге яфраклар белән түшәлә. Аяк атлаган саен яфрак келәме шыгырдый Шул яфракларга күмеләсе, уйныйсы килә. Кошлар җылы якларга очалар. Әкияттәй сихри матурлы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000080" y="150012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extBox 1" descr=""/>
          <p:cNvPicPr/>
          <p:nvPr/>
        </p:nvPicPr>
        <p:blipFill>
          <a:blip r:embed="rId1"/>
          <a:stretch/>
        </p:blipFill>
        <p:spPr>
          <a:xfrm>
            <a:off x="884160" y="1511280"/>
            <a:ext cx="7570800" cy="1287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1908000" y="1500120"/>
            <a:ext cx="56167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1116000" y="1293840"/>
            <a:ext cx="734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Сүзләрне иҗекләргә бү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968400" y="2897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р, я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, якш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ә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мб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, ч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, ян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н, ярк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т, 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з, б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1116000" y="1293840"/>
            <a:ext cx="734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Сүзләрне иҗекләргә бү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915840" y="2786040"/>
            <a:ext cx="7742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р, я – 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м – л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, як – ш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ә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м – б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, ч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, ян – 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н, яр – к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т, Г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а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з, б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214200" y="1071720"/>
            <a:ext cx="207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428920" y="1785960"/>
            <a:ext cx="1928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000760" y="857160"/>
            <a:ext cx="33573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786720" y="36432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714760" y="4929120"/>
            <a:ext cx="183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9" descr=""/>
          <p:cNvPicPr/>
          <p:nvPr/>
        </p:nvPicPr>
        <p:blipFill>
          <a:blip r:embed="rId2"/>
          <a:stretch/>
        </p:blipFill>
        <p:spPr>
          <a:xfrm>
            <a:off x="858960" y="1500120"/>
            <a:ext cx="7748640" cy="22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1643040" y="3071880"/>
            <a:ext cx="585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Түгәрәк-түгәрәк шар кебе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Кызыл-кызыл кан кебе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Әчедер дә татлыды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Йотыйм дисәң ташлыды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63664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720720" y="1487520"/>
            <a:ext cx="55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Үзе көнне яра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4f6228"/>
                </a:solidFill>
                <a:latin typeface="Calibri"/>
              </a:rPr>
              <a:t>Якты нурлар тар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206440" y="4537080"/>
            <a:ext cx="155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5049720" y="1916280"/>
            <a:ext cx="37515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Язын дөньяга килә,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Көзен саргаеп үлә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5280" y="4005000"/>
            <a:ext cx="737712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ФР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454720" y="2622600"/>
            <a:ext cx="30034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073480" y="1454040"/>
            <a:ext cx="2624400" cy="30355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857160" y="1077840"/>
            <a:ext cx="53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Җәен соры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кышын 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Аңа шул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яхшыра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000840" y="47862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К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844560" y="21798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Сорыйлар, көтәләр, килсәм бар да качал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086440" y="4297320"/>
            <a:ext cx="170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ҢГ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 rot="751800">
            <a:off x="5499000" y="1038240"/>
            <a:ext cx="30816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5"/>
          <p:cNvSpPr/>
          <p:nvPr/>
        </p:nvSpPr>
        <p:spPr>
          <a:xfrm>
            <a:off x="684360" y="1628640"/>
            <a:ext cx="50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Ялт итте, йолт ит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Елгага төшеп китт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2841120" y="4118040"/>
            <a:ext cx="14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4" descr=""/>
          <p:cNvPicPr/>
          <p:nvPr/>
        </p:nvPicPr>
        <p:blipFill>
          <a:blip r:embed="rId1"/>
          <a:stretch/>
        </p:blipFill>
        <p:spPr>
          <a:xfrm>
            <a:off x="4254480" y="1481040"/>
            <a:ext cx="4889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1028880" y="90792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Calibri"/>
              </a:rPr>
              <a:t>кояш  яфрак  чия          яңгыр  яш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05:15Z</dcterms:created>
  <dc:creator>Мама</dc:creator>
  <dc:description/>
  <dc:language>en-US</dc:language>
  <cp:lastModifiedBy>Звездочка</cp:lastModifiedBy>
  <dcterms:modified xsi:type="dcterms:W3CDTF">2022-03-31T13:51:57Z</dcterms:modified>
  <cp:revision>1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f0000000000010291410207f7000400038000</vt:lpwstr>
  </property>
</Properties>
</file>