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CDD-64AC-4F08-9DA0-D3E3F103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746-6AAE-443A-BB61-95D08B9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57877-4DFB-4016-97C8-07908193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F8EE0-5FFC-4297-8982-615538F0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8D292-3097-4C7B-A22F-83C7A8A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EFE71-89FE-48B4-B57C-24375F6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B0FCD-3CC5-41DB-BDA5-E1BE46C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B1407-D788-454E-A8DA-6197472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DD487-0402-4572-9184-DC35F96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B99A1-6D58-49B2-94B3-E5BD9E59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957DA-735C-460C-A7EC-B02670FB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916-AE07-4202-9FC9-0693D8E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FE-0C57-446D-9507-AE8FDC21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2D988-DF2A-41AC-A8F2-718696B9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7B553-0A12-468C-846E-894F57B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8DEE-C583-4988-B58D-575545AC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E1C92-67B2-43E3-85A7-5B1EDD70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6B09-33CD-4533-BE33-4DBA0079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CD964-F720-40A2-A784-18BADEB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38E6A-EA01-48B0-A500-208C113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2AE-601D-4140-8E71-E42A0DE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3059-5B5E-48EC-9F9E-D533DE4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609B7-1A82-4D52-BDB6-125E8938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FED2F-58C3-452C-BFA9-926D2E5F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B773-37BB-4458-9AED-98FDCD08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99861-BC71-4358-9ED1-54E75215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9003-A597-42F4-810F-0E5B0F3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299F-1131-4FE5-A35E-3478825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B335-D0F5-4F11-A649-10051D93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C1F6-FBF9-4DDC-A1E1-563D7590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7C20-12D8-4B4E-AC41-5E650C0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35F-71F8-4033-8CF2-830D98B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8AEF-C099-4241-B719-B51B0EBA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304B-1F04-4C82-B573-1346648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161D-F4B9-4F79-A4D5-86936876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256E-65AE-428B-86B5-EE61AB01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D586-A5D5-4BE1-9348-9AA2931A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76B6-E45C-4A7A-91A0-49CE6688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CE64-086D-4AA6-9EF5-AEF00090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A1F2F-F766-41EC-B889-E6A0297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3DD90-511A-4C2B-B762-6004A2E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6CC66-ACF2-4FC6-AAE1-AA93D5E4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524-C82E-472B-AF05-6340A14F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599EA-44C1-4995-ACEF-BF719723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64B48-A8E5-4DDC-9989-C64279F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A0572-21BA-4A83-8C91-DEBD8DF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AF01A-104E-4C94-BD74-FEFACDA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8D4C5-E026-41B4-86B1-60730A1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1B3F4-FCCC-4C1C-BEA8-BFB128C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0EE4B-6E37-4BE0-B951-49458474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05233-D0DA-4EEE-9250-78DD1394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4E023-5452-4843-9ADA-E8FA62F2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C11C-CBF6-40C9-A953-13062278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9C6-03A0-4A60-B062-CFA46C9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1F06-0447-4DDF-8DDA-0299F0D9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5615-FBFA-4BB0-BEEB-53AEB84E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B6C0-E022-482D-8C4D-6D29B5F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FF18-BBD0-4A8A-B318-553249C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4A2D-5602-48C4-BAA8-6FCE8E5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ACA3-C2C9-493B-9C65-A135E3D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E888-751C-4F04-A90C-590518D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533F3-C52B-4FDB-B9FF-A9195C2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7067-A194-4FF1-8A6E-212A1CD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6240-DD8F-4901-98B8-841AD36E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34B-B99B-4F7C-AD0D-F206946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8DAB-C44F-4A57-A169-3A53158B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04F7-812B-4813-A2D7-E38610F9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B8439-D988-40C2-8DEC-81E0668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9A1D-4E3B-4EDC-883C-BB74441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146C-9C09-4692-A96F-CC70467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64C0-816A-4C00-8A0B-F6B4918E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FA4AF-EF0B-4203-AB69-F29B275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BC58-A736-4935-BF78-12BB664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0F12-3913-4255-8631-4C94F54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E09E-FDFC-474D-B98A-AC1B54E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17D-382B-414D-AC49-5CF6511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F900-EA7E-4259-88CE-4B730295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AB6A9-331F-49A2-A6DA-D8D4E39F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5C60-4551-4B3F-8BC5-A6AB5094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04F7-CBBA-4935-9D04-CDE5776F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4EC4-5490-4026-B5D3-B5C8C08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0B96-7561-45EF-AA8D-7255830B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1260E-9FF9-4852-BB2E-14C1320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8C21-C191-4CB7-B9F6-3488F2E5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0AC6-463F-4F47-8B01-E330154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1B93-6ABB-43EA-B8AA-CA76825C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362-1D5A-402F-9C31-B6BB3B9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6124A-F360-4DB7-B427-2306A0B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0836-DBA9-4478-93EB-B0018F0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45FC-1075-4A1B-A81B-DD8A345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0608-4BCF-4E04-AA4B-71302E3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9297-65D3-4256-B346-96830D5A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C4944-3F2D-4F34-A94B-FE83F720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00733-708A-436D-8C29-F966287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B4260-CDD5-4426-B811-A5DB277D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F693D-B119-4EE6-8760-0A3E1C6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B4099A-BE4E-4447-93A4-F7A234A8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0F3-0250-454A-A5B9-731A323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F7BA2-A90D-43D6-8ED0-10A5CAA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BDE1C-AC63-413A-8536-D898A4E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07A17-3883-427D-8C5D-646D9EC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543CC-AC5A-4FDB-84A5-021AE3A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C156B-54C2-49D3-958D-166ED3B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C126D-C3F0-4DFA-98D5-653D5B7B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F5BD6-11C4-456B-B739-7BF8B2DF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9B4DBB-96E4-446F-8E73-B7E2BB9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675C3-2816-4A17-8596-083AE69A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CDED5-4558-4184-AEB1-84D81FE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0579-697E-4740-8556-F5A78A0FA139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512-3186-4341-9B12-884B817728FB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17F-B1B3-4FB0-8952-C80A6CC98435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6FCA-F57D-4B7F-BF35-614EDBAC362D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F7E9-C549-4BD1-B015-0312BA763E17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13E-B8E4-4C9A-A1B2-07C09C8F4095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257C-03B9-4BC8-894B-6524B9AD770D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1CF-3349-487F-BEF8-A2F10F87D587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0924-3FD8-44AA-8371-98A555BFA7CF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135023773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Заголовок 1" descr=""/>
          <p:cNvPicPr/>
          <p:nvPr/>
        </p:nvPicPr>
        <p:blipFill>
          <a:blip r:embed="rId2"/>
          <a:stretch/>
        </p:blipFill>
        <p:spPr>
          <a:xfrm>
            <a:off x="-6480" y="109440"/>
            <a:ext cx="9382320" cy="224316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3" descr=""/>
          <p:cNvPicPr/>
          <p:nvPr/>
        </p:nvPicPr>
        <p:blipFill>
          <a:blip r:embed="rId3"/>
          <a:stretch/>
        </p:blipFill>
        <p:spPr>
          <a:xfrm>
            <a:off x="-378000" y="2438280"/>
            <a:ext cx="48834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3" descr="13411271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2" descr=""/>
          <p:cNvPicPr/>
          <p:nvPr/>
        </p:nvPicPr>
        <p:blipFill>
          <a:blip r:embed="rId2"/>
          <a:stretch/>
        </p:blipFill>
        <p:spPr>
          <a:xfrm>
            <a:off x="-133200" y="5205240"/>
            <a:ext cx="945324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48000" y="620280"/>
            <a:ext cx="388764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ратская могила советских воинов образовалась в ходе боевых действий. Захоронено более 560 воинов. Памятник установлен в 1948 году, ремонтно-реставрационные работы произведены в 1984 году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0" name="Рисунок 3" descr="1350237892.jpg"/>
          <p:cNvPicPr/>
          <p:nvPr/>
        </p:nvPicPr>
        <p:blipFill>
          <a:blip r:embed="rId1"/>
          <a:stretch/>
        </p:blipFill>
        <p:spPr>
          <a:xfrm>
            <a:off x="-6480" y="396720"/>
            <a:ext cx="5284800" cy="627876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2" descr=""/>
          <p:cNvPicPr/>
          <p:nvPr/>
        </p:nvPicPr>
        <p:blipFill>
          <a:blip r:embed="rId2"/>
          <a:stretch/>
        </p:blipFill>
        <p:spPr>
          <a:xfrm>
            <a:off x="-6480" y="5370480"/>
            <a:ext cx="53038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4" descr="1439307717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403" name="Содержимое 2" descr=""/>
          <p:cNvPicPr/>
          <p:nvPr/>
        </p:nvPicPr>
        <p:blipFill>
          <a:blip r:embed="rId3"/>
          <a:stretch/>
        </p:blipFill>
        <p:spPr>
          <a:xfrm>
            <a:off x="-23760" y="5638680"/>
            <a:ext cx="9191520" cy="1243080"/>
          </a:xfrm>
          <a:prstGeom prst="rect">
            <a:avLst/>
          </a:prstGeom>
          <a:ln w="0">
            <a:noFill/>
          </a:ln>
        </p:spPr>
      </p:pic>
      <p:sp>
        <p:nvSpPr>
          <p:cNvPr id="404" name="Содержимое 2"/>
          <p:cNvSpPr/>
          <p:nvPr/>
        </p:nvSpPr>
        <p:spPr>
          <a:xfrm>
            <a:off x="4010040" y="3213000"/>
            <a:ext cx="51339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mbria"/>
              </a:rPr>
              <a:t>За обелиском, на бетонном основании с наклонной плоскостью установлены 25 мемориальных плит. Территория площадью 300 кв. м вымощена плиткой и огорожена металлической цепью.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9:41:42Z</dcterms:created>
  <dc:creator>dom</dc:creator>
  <dc:description/>
  <dc:language>en-US</dc:language>
  <cp:lastModifiedBy>dom</cp:lastModifiedBy>
  <dcterms:modified xsi:type="dcterms:W3CDTF">2019-03-23T18:45:58Z</dcterms:modified>
  <cp:revision>7</cp:revision>
  <dc:subject/>
  <dc:title>Братская могила советских воинов</dc:title>
</cp:coreProperties>
</file>