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04E-DC7E-4477-AB3F-5182FCB90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DD9-28FB-489E-A68A-BD472C39A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D265-5FAA-43E8-9CAF-CBF2DDAAC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76F3-C186-40B6-B22E-A675F7FA7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9AA1-5063-4447-BB39-458CB495A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9426-7383-45B7-9956-E21826763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062-B22C-4B7F-BE20-A9C8F561A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2FA6-5128-4163-9C55-773E09DB2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759-78CC-4B00-AA91-55FCE6CBE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A7B6-9CF9-4142-99D2-CA3AFCA86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5643-482D-4648-B36E-8FAD3E8BE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17B4-1546-4B32-A25A-4B2B740F2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8C70-DD3C-4848-BBE9-EB8454B91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C29C-8250-4354-99AC-96B614C69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4F6C-8E12-4FB0-AA62-180F374A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A57C-0839-4BFB-BEBA-BEC67B7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75C7-F10B-4106-9DB7-BC02A4E0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FF63-496F-49DA-BE6A-AA1D110A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2B18-A9F6-44AB-A6EB-E7635F5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33F4-9A9C-4156-BE77-0F3856A7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74FA-EF75-4AC0-A097-A0238AD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FFCE-EF7D-4385-9922-D7EA838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0711-4685-4008-86B8-9AF6AA9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F449-11FA-4694-87E5-9BC097A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A321-AFCE-4BD7-8280-85D9AF1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CD47-924B-4F95-9B20-FC676BE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5C72-1A82-4B73-A5CA-BCCD6BF6C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b5f84"/>
                </a:solidFill>
                <a:latin typeface="Arial"/>
              </a:rPr>
              <a:t>Тема выступления: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«Применение ИКТ в работе старшего воспитателя дошкольного учреждения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b5f84"/>
                </a:solidFill>
                <a:latin typeface="Arial"/>
              </a:rPr>
              <a:t>Подготовил: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старший воспитатель МБДОУ «Детский сад общеразвивающего вида №134»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Тонишева Юлия Александровн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2349000"/>
            <a:ext cx="79200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549000"/>
            <a:ext cx="8507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матические семинары по вопросам информатизации проводятся старшим воспитателем или поручаются опытным педагогам. Они организуются с целью более углубленного погружения в тему, совершенствования умений и навы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здание мультимедийных презентаций 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wer Point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еть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одготовка наглядных и дидактических материалов средствами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icrosoft Offic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153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акой форме, как работа в паре, пару составляет педагог, владеющий информационно-компьютерными технологиями, и педагог с нулевым уровнем работы на компьютере. Данная форма очень эффективна, так как педагог помогает приобрести практические навыки работы на компьютере и отвечает на проблемные вопросы обучаю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3336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56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075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азработанная система повышения ключевой информационной компетентности педагогических работников дала свои результаты, а именно – педаго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меют создавать графические и текстовые документы (самостоятельно оформляют групповую документацию, диагностику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меют применять электронные дидактические и педагогические программные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тивно используют информационные технологии в образовательном проце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ладеют навыками поиска информации в Интерн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ладеют программой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ower Point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для создания мультимедийных презент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меют разрабатывать занятия с использованием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ладеют способами и методами применения компьютерных технологий в работе с детьми и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131400"/>
            <a:ext cx="77929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 данный момент в ДОО созда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нк  компьютерных обучающи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идактических и методических материалов по использованию информационных технологий в работе ДО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электронный банк данных: воспитанников, педагогов,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вой Интернет-сай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еется электронный адр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31400"/>
            <a:ext cx="77929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71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Таким образом, реализуя программу информатизации в ДОО можно с уверенностью сказать, что компьютер является эффективным техническим средством, при помощи которого можно значительно разнообразить воспитание и обучение и всесторонне развить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«Информационная технология – комплекс методов, способов и средств, обеспечивающих хранение, обработку, передачу и отображение информации, ориентированных на повышение эффективности и производительности тру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На современном этапе методы, способы и средства напрямую взаимосвязаны с компьюте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Главной целью внедрения информационных технологий в ДОО является создание единого информационного пространства образовательного учреждения, системы, в которой задействованы и на информационном уровне связаны все участники учебно-воспитательного процесса: администрация, педагоги, воспитанники и их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60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691920"/>
            <a:ext cx="831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новные направления развития ИКТ в работе старшего воспитателя – это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Использование компьютера с целью приобщения педагогов к современным техническим средствам передачи и хранения информации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Применение ИКТ как средства интерактивного обучения, которое позволяет стимулировать активность и участвовать в освоении инноваций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Сотрудничество с семьёй в вопросах воспитания и образования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Осуществление идеи сетевого управления, организации педагогического процесса, методической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чень важно применять ИКТ в образовательной деятельности . Это не только облегчает усвоение учебного материала, но и представляет новые возможности для развития творческих способностей детей: повышает мотивацию воспитанников к изучению нового материала, активизирует познавательную деятельность, развивает мышление и творческие способности ребёнка, формирует активную жизненную позицию в современ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а занятиях применяются информационные технологии в процессе изучения новых для воспитанников понятий, для обобщения и систематизации полученных знаний, при выполнении игровых и творчески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56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емаловажно использование ИКТ и в работе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сновные фор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- Подбор иллюстративного материала к оформлению родительских уголков, группы, информационного материала для оформления стендов, папок-передвижек (сканирование, Интернет, принт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- Создание презентаций в программе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ower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int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ля повышения эффективности проведения родительских собр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- Создание электронной почты, ведения сайта ДОО с ссылками на группы. Особенно важно такое общение с родителями детей, находящихся дома по причине болезни. Им необходимо быть в курсе жизни детского сада,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90440"/>
            <a:ext cx="8302680" cy="4993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000" y="333360"/>
            <a:ext cx="82278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95280" y="4797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95280" y="620640"/>
            <a:ext cx="822816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5280" y="692280"/>
            <a:ext cx="84470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 практике работы старшего воспитателя существуют разные формы работы с педагогами, направленные на повышение их квалификации и мастерства. В нашем учреждении используются следующие формы для повышения ИКТ-компетентности педаго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мастер-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ставнич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матические семин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абота в п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ередовой опыт – самая быстрая, оперативная форма разрешения назревших в практике противоречий, быстрого реагирования на общественные запросы, изменяющуюся ситуац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ля любого педагога, изучающего передовой опыт, важен не только результат, но и методы, приёмы, при помощи которых он достигнут. Это позволяет соизмерить свои возможности и принять решение о внедрение успешного опыта в сво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0" y="96840"/>
            <a:ext cx="91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7d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астер-классы проводятся с целью обучения педагогов методам и приёмам работы с детьми с использованием информационных технологий.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ткрытый показ даёт возможность установить непосредственный контакт с педагогом во время занятия, получить ответы на интересующие вопросы, помогает проникнуть в своего рода творческую лабораторию воспитателя, стать свидетелем педагогического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4292640"/>
            <a:ext cx="75027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Преодоление трудностей и выход на качественно новый уровень профессионализма малопродуктивны в «автономном режиме». Поэтому нужно постоянное взаимодействие «обучающихся» педагогов с теми, кто может оказать содействие в освоении и применении новых технологий. С этой целью нами используется настав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41:46Z</dcterms:created>
  <dc:creator>User</dc:creator>
  <dc:description/>
  <dc:language>en-US</dc:language>
  <cp:lastModifiedBy>Юля</cp:lastModifiedBy>
  <dcterms:modified xsi:type="dcterms:W3CDTF">2022-04-01T11:49:08Z</dcterms:modified>
  <cp:revision>267</cp:revision>
  <dc:subject/>
  <dc:title>Начальная ступень образования: основные направления модернизации  Е.А.Лутцева, канд.пед.наук доцент АПКиППРО</dc:title>
</cp:coreProperties>
</file>