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F9E-FA97-467A-BCBB-052BC571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EDF-2F9B-4679-87F3-C4FC5F14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BF0-5675-4B69-BB60-E6AED26F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2DF-DA5A-4DC3-BDCD-E576DE7E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5A4-6082-49A5-AECE-3651E1B8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394-0DC7-4E8A-A7F5-A2FD56ED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C8B-FDD4-4B12-8A5C-47F9F91D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748-B1BB-4E26-8804-38A4DC6A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CE2-BDED-4A67-9359-9A722344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1B9-1DFB-42EA-B8B0-84DF946A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A3E-F164-44DA-85C0-66BE53E8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246-BE4F-4055-B23E-1B470DEA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2987-61C7-4F47-9DF2-B4F1CFC47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71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" Target="slide6.xml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72.xml"/><Relationship Id="rId6" Type="http://schemas.openxmlformats.org/officeDocument/2006/relationships/image" Target="../media/image1.jpeg"/><Relationship Id="rId7" Type="http://schemas.openxmlformats.org/officeDocument/2006/relationships/slide" Target="slide73.xml"/><Relationship Id="rId8" Type="http://schemas.openxmlformats.org/officeDocument/2006/relationships/image" Target="../media/image2.wmf"/><Relationship Id="rId9" Type="http://schemas.openxmlformats.org/officeDocument/2006/relationships/slide" Target="slide74.xml"/><Relationship Id="rId10" Type="http://schemas.openxmlformats.org/officeDocument/2006/relationships/image" Target="../media/image3.wmf"/><Relationship Id="rId11" Type="http://schemas.openxmlformats.org/officeDocument/2006/relationships/slide" Target="slide76.xml"/><Relationship Id="rId1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4.png"/><Relationship Id="rId3" Type="http://schemas.openxmlformats.org/officeDocument/2006/relationships/slide" Target="slide76.xml"/><Relationship Id="rId4" Type="http://schemas.openxmlformats.org/officeDocument/2006/relationships/slide" Target="slide72.xml"/><Relationship Id="rId5" Type="http://schemas.openxmlformats.org/officeDocument/2006/relationships/image" Target="../media/image1.jpeg"/><Relationship Id="rId6" Type="http://schemas.openxmlformats.org/officeDocument/2006/relationships/slide" Target="slide73.xml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1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20.xml"/><Relationship Id="rId4" Type="http://schemas.openxmlformats.org/officeDocument/2006/relationships/slide" Target="slide19.xml"/><Relationship Id="rId5" Type="http://schemas.openxmlformats.org/officeDocument/2006/relationships/slide" Target="slide77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78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2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79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slide" Target="slide26.xml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" Target="slide26.xml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slide" Target="slide34.xml"/><Relationship Id="rId5" Type="http://schemas.openxmlformats.org/officeDocument/2006/relationships/slide" Target="slide80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8.xml"/><Relationship Id="rId3" Type="http://schemas.openxmlformats.org/officeDocument/2006/relationships/slide" Target="slide40.xml"/><Relationship Id="rId4" Type="http://schemas.openxmlformats.org/officeDocument/2006/relationships/slide" Target="slide39.xml"/><Relationship Id="rId5" Type="http://schemas.openxmlformats.org/officeDocument/2006/relationships/slide" Target="slide81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4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3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5.xml"/><Relationship Id="rId4" Type="http://schemas.openxmlformats.org/officeDocument/2006/relationships/slide" Target="slide82.xml"/><Relationship Id="rId5" Type="http://schemas.openxmlformats.org/officeDocument/2006/relationships/slide" Target="slide72.xml"/><Relationship Id="rId6" Type="http://schemas.openxmlformats.org/officeDocument/2006/relationships/image" Target="../media/image1.jpeg"/><Relationship Id="rId7" Type="http://schemas.openxmlformats.org/officeDocument/2006/relationships/slide" Target="slide73.xml"/><Relationship Id="rId8" Type="http://schemas.openxmlformats.org/officeDocument/2006/relationships/image" Target="../media/image2.wmf"/><Relationship Id="rId9" Type="http://schemas.openxmlformats.org/officeDocument/2006/relationships/slide" Target="slide74.xml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" Target="slide41.xml"/><Relationship Id="rId5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slide" Target="slide50.xml"/><Relationship Id="rId4" Type="http://schemas.openxmlformats.org/officeDocument/2006/relationships/slide" Target="slide49.xml"/><Relationship Id="rId5" Type="http://schemas.openxmlformats.org/officeDocument/2006/relationships/slide" Target="slide83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4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slide" Target="slide55.xml"/><Relationship Id="rId4" Type="http://schemas.openxmlformats.org/officeDocument/2006/relationships/slide" Target="slide54.xml"/><Relationship Id="rId5" Type="http://schemas.openxmlformats.org/officeDocument/2006/relationships/slide" Target="slide84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5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5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58.xml"/><Relationship Id="rId3" Type="http://schemas.openxmlformats.org/officeDocument/2006/relationships/slide" Target="slide60.xml"/><Relationship Id="rId4" Type="http://schemas.openxmlformats.org/officeDocument/2006/relationships/slide" Target="slide59.xml"/><Relationship Id="rId5" Type="http://schemas.openxmlformats.org/officeDocument/2006/relationships/slide" Target="slide85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" Target="slide56.xml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72.xml"/><Relationship Id="rId6" Type="http://schemas.openxmlformats.org/officeDocument/2006/relationships/image" Target="../media/image1.jpeg"/><Relationship Id="rId7" Type="http://schemas.openxmlformats.org/officeDocument/2006/relationships/slide" Target="slide73.xml"/><Relationship Id="rId8" Type="http://schemas.openxmlformats.org/officeDocument/2006/relationships/image" Target="../media/image2.wmf"/><Relationship Id="rId9" Type="http://schemas.openxmlformats.org/officeDocument/2006/relationships/slide" Target="slide74.xml"/><Relationship Id="rId10" Type="http://schemas.openxmlformats.org/officeDocument/2006/relationships/image" Target="../media/image3.wmf"/><Relationship Id="rId11" Type="http://schemas.openxmlformats.org/officeDocument/2006/relationships/slide" Target="slide75.xml"/><Relationship Id="rId1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slide" Target="slide86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slide6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68.xml"/><Relationship Id="rId3" Type="http://schemas.openxmlformats.org/officeDocument/2006/relationships/image" Target="../media/image1.jpeg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76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image" Target="../media/image4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72.xml"/><Relationship Id="rId6" Type="http://schemas.openxmlformats.org/officeDocument/2006/relationships/image" Target="../media/image1.jpeg"/><Relationship Id="rId7" Type="http://schemas.openxmlformats.org/officeDocument/2006/relationships/slide" Target="slide73.xml"/><Relationship Id="rId8" Type="http://schemas.openxmlformats.org/officeDocument/2006/relationships/image" Target="../media/image2.wmf"/><Relationship Id="rId9" Type="http://schemas.openxmlformats.org/officeDocument/2006/relationships/slide" Target="slide74.xml"/><Relationship Id="rId10" Type="http://schemas.openxmlformats.org/officeDocument/2006/relationships/image" Target="../media/image3.wmf"/><Relationship Id="rId11" Type="http://schemas.openxmlformats.org/officeDocument/2006/relationships/slide" Target="slide88.xml"/><Relationship Id="rId12" Type="http://schemas.openxmlformats.org/officeDocument/2006/relationships/slide" Target="slide6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slide" Target="slide74.xml"/><Relationship Id="rId8" Type="http://schemas.openxmlformats.org/officeDocument/2006/relationships/image" Target="../media/image3.wmf"/><Relationship Id="rId9" Type="http://schemas.openxmlformats.org/officeDocument/2006/relationships/slide" Target="slide11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20.xml"/><Relationship Id="rId4" Type="http://schemas.openxmlformats.org/officeDocument/2006/relationships/slide" Target="slide19.xml"/><Relationship Id="rId5" Type="http://schemas.openxmlformats.org/officeDocument/2006/relationships/slide" Target="slide88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" Target="slide16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78.xml"/><Relationship Id="rId6" Type="http://schemas.openxmlformats.org/officeDocument/2006/relationships/slide" Target="slide72.xml"/><Relationship Id="rId7" Type="http://schemas.openxmlformats.org/officeDocument/2006/relationships/image" Target="../media/image1.jpeg"/><Relationship Id="rId8" Type="http://schemas.openxmlformats.org/officeDocument/2006/relationships/slide" Target="slide73.xml"/><Relationship Id="rId9" Type="http://schemas.openxmlformats.org/officeDocument/2006/relationships/image" Target="../media/image2.wmf"/><Relationship Id="rId10" Type="http://schemas.openxmlformats.org/officeDocument/2006/relationships/slide" Target="slide74.xml"/><Relationship Id="rId11" Type="http://schemas.openxmlformats.org/officeDocument/2006/relationships/image" Target="../media/image3.wmf"/><Relationship Id="rId12" Type="http://schemas.openxmlformats.org/officeDocument/2006/relationships/slide" Target="slide2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72.xml"/><Relationship Id="rId6" Type="http://schemas.openxmlformats.org/officeDocument/2006/relationships/image" Target="../media/image1.jpeg"/><Relationship Id="rId7" Type="http://schemas.openxmlformats.org/officeDocument/2006/relationships/slide" Target="slide73.xml"/><Relationship Id="rId8" Type="http://schemas.openxmlformats.org/officeDocument/2006/relationships/image" Target="../media/image2.wmf"/><Relationship Id="rId9" Type="http://schemas.openxmlformats.org/officeDocument/2006/relationships/slide" Target="slide74.xml"/><Relationship Id="rId10" Type="http://schemas.openxmlformats.org/officeDocument/2006/relationships/image" Target="../media/image3.wmf"/><Relationship Id="rId11" Type="http://schemas.openxmlformats.org/officeDocument/2006/relationships/slide" Target="slide26.xm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slide" Target="slide34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3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8.xml"/><Relationship Id="rId3" Type="http://schemas.openxmlformats.org/officeDocument/2006/relationships/slide" Target="slide40.xml"/><Relationship Id="rId4" Type="http://schemas.openxmlformats.org/officeDocument/2006/relationships/slide" Target="slide39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36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5.xml"/><Relationship Id="rId4" Type="http://schemas.openxmlformats.org/officeDocument/2006/relationships/slide" Target="slide44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4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slide" Target="slide50.xml"/><Relationship Id="rId4" Type="http://schemas.openxmlformats.org/officeDocument/2006/relationships/slide" Target="slide49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46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slide" Target="slide55.xml"/><Relationship Id="rId4" Type="http://schemas.openxmlformats.org/officeDocument/2006/relationships/slide" Target="slide54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5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58.xml"/><Relationship Id="rId3" Type="http://schemas.openxmlformats.org/officeDocument/2006/relationships/slide" Target="slide60.xml"/><Relationship Id="rId4" Type="http://schemas.openxmlformats.org/officeDocument/2006/relationships/slide" Target="slide59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56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" Target="slide6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1371600" y="44197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litics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371600" y="5486400"/>
            <a:ext cx="2590920" cy="690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usic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5029200" y="5486400"/>
            <a:ext cx="2590920" cy="690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5029200" y="4343400"/>
            <a:ext cx="2590920" cy="690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ve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cording to the English proverb when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on’t know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to speak about, speak about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’s the name of Barbie's boyfrie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9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 ми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ша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лес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дом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5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w is “Green Peace” translated into Russi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rId11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 ми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ша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лес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дом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w is “Green Peace” translated into Russi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658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 ми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ша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лес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дом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4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w is “Green Peace” translated into Russi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33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 ми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ша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лес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дом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w is “Green Peace” translated into Russi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33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 ми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ша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лес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дом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w is “Green Peace” translated into Russi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9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000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$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05740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banknote doesn’t exist in the U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000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5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3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2133720"/>
            <a:ext cx="6553080" cy="609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banknote doesn’t exist in the U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9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000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5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3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057400"/>
            <a:ext cx="64008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banknote doesn’t exist in the U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33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000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5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3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2057400"/>
            <a:ext cx="670572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banknote doesn’t exist in the U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65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litic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usic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ve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cording to the English proverb when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on’t know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to speak about, speak about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3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000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3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05740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banknote doesn’t exist in the U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933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ssil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otic pla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ax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What exhibits can we see in the fam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Madame Tussaud’s museu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fossil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exotic pla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wax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exhibits can we see in the fam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me Tussaud’s museu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933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fossil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exotic pla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ax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exhibits can we see in the fam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me Tussaud’s museu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933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fossil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exotic pla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wax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exhibits can we see in the fam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me Tussaud’s museu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658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ssil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exotic pla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wax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exhibits can we see in the fam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me Tussaud’s museu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933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world’s largest is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d the smallest contin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world’s largest is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d the smallest contin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658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world’s largest is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d the smallest contin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933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Madagasc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Gre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world’s largest is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d the smallest contin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9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usic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ve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cording to the English proverb when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on’t know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to speak about, speak about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3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Madagascar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Gre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world’s largest is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d the smallest contin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4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933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are the official languages in Can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English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are the official languages in Can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933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English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are the official languages in Can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933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Frenc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English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are the official languages in Can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933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English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are the official languages in Can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3658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he mice will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eps the do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ill help 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o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here is a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 apple a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mice will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keeps the do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will help 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o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there is a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 apple a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933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he mice will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keeps the do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will help 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o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there is a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 apple a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449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3658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mice will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keeps the do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will help 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o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here is a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 apple a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933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usic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ve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cording to the English proverb when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on’t know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to speak about, speak about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3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mice will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keeps the do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will help 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o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there is a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 apple a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471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933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rId4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rId5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highest mark in British schools?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highest mark in British schools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933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highest mark in British schools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933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highest mark in British schools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3658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highest mark in British schools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933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yna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ashing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nicil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tomobil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nvention made Alfred No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mous all over the worl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1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yna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Washing mach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enicil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to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nvention made Alfred No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mous all over the worl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1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3658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yna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Washing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enicil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to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nvention made Alfred No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mous all over the worl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1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93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yna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Washing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enicil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Auto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nvention made Alfred No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mous all over the worl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1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933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li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usic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ather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ve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cording to the English proverb when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on’t know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to speak about, speak about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658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yna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Washing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Penicil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Auto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nvention made Alfred No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mous all over the worl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1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579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4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933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sual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ison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rm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riters and poe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uring the period of colonization British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t to Australia people who wer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usual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prison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rm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writers and poe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uring the period of colonization British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t to Australia people who wer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933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usual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prison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rm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writers and poe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uring the period of colonization British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t to Australia people who wer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611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4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365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usual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 prison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rm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writers and poe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uring the period of colonization British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t to Australia people who wer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933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usual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prison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farm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riters and poe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uring the period of colonization British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t to Australia people who wer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633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933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>
            <a:hlinkClick r:id="rId1" action="ppaction://hlinksldjump"/>
          </p:cNvPr>
          <p:cNvSpPr/>
          <p:nvPr/>
        </p:nvSpPr>
        <p:spPr>
          <a:xfrm>
            <a:off x="1371600" y="4267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iana Spe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rId2" action="ppaction://hlinksldjump"/>
          </p:cNvPr>
          <p:cNvSpPr/>
          <p:nvPr/>
        </p:nvSpPr>
        <p:spPr>
          <a:xfrm>
            <a:off x="1371600" y="5410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ritney Sp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rId3" action="ppaction://hlinksldjump"/>
          </p:cNvPr>
          <p:cNvSpPr/>
          <p:nvPr/>
        </p:nvSpPr>
        <p:spPr>
          <a:xfrm>
            <a:off x="5029200" y="5410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illyn Monr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>
            <a:hlinkClick r:id="rId4" action="ppaction://hlinksldjump"/>
          </p:cNvPr>
          <p:cNvSpPr/>
          <p:nvPr/>
        </p:nvSpPr>
        <p:spPr>
          <a:xfrm>
            <a:off x="5029200" y="4267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rma Jean Baker is a real nam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371600" y="4267080"/>
            <a:ext cx="266688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iana Spe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43000" y="5410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Britney Sp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illyn Monr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029200" y="4267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rma Jean Baker is a real nam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93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iana Spe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219320" y="5334120"/>
            <a:ext cx="2819160" cy="6951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Britney Sp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illyn Monr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29200" y="4267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onna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rma Jean Baker is a real nam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933" fill="hold"/>
                                        <p:tgtEl>
                                          <p:spTgt spid="6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219320" y="4267080"/>
            <a:ext cx="274320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Diana Spe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5410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Britney Sp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029200" y="5410080"/>
            <a:ext cx="274320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illyn Monr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029200" y="4267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Mad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rma Jean Baker is a real nam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933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’s the name of Barbie's boyfrie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rId11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371600" y="4267080"/>
            <a:ext cx="266688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Diana Spe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95280" y="5410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Britney Sp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029200" y="5410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Marillyn Monr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267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Mad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rma Jean Baker is a real nam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3658" fill="hold"/>
                                        <p:tgtEl>
                                          <p:spTgt spid="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he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rc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planet is the nearest to the Sun?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V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rc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planet is the nearest to the S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933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Venus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Merc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planet is the nearest to the S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1933" fill="hold"/>
                                        <p:tgtEl>
                                          <p:spTgt spid="7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V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Merc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planet is the nearest to the S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730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82296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933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he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Venus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Merc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planet is the nearest to the S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4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3658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609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1.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35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 mile is abou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4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5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.609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1.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1.350 met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 mile is abou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3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3658" fill="hold"/>
                                        <p:tgtEl>
                                          <p:spTgt spid="7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.609 metres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1.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1.35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 mile is abou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933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609 met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1.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1.350 met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 mile is abou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954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933" fill="hold"/>
                                        <p:tgtEl>
                                          <p:spTgt spid="7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’s the name of Barbie's boyfrie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3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.609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: 1.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1.35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200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 mile is abou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1933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>
            <a:hlinkClick r:id="rId1" action="ppaction://hlinksldjump"/>
          </p:cNvPr>
          <p:cNvSpPr/>
          <p:nvPr/>
        </p:nvSpPr>
        <p:spPr>
          <a:xfrm>
            <a:off x="1371600" y="44197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litic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>
            <a:hlinkClick r:id="rId2" action="ppaction://hlinksldjump"/>
          </p:cNvPr>
          <p:cNvSpPr/>
          <p:nvPr/>
        </p:nvSpPr>
        <p:spPr>
          <a:xfrm>
            <a:off x="1371600" y="5486400"/>
            <a:ext cx="2590920" cy="690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rId3" action="ppaction://hlinksldjump"/>
          </p:cNvPr>
          <p:cNvSpPr/>
          <p:nvPr/>
        </p:nvSpPr>
        <p:spPr>
          <a:xfrm>
            <a:off x="5029200" y="5486400"/>
            <a:ext cx="2590920" cy="690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rId4" action="ppaction://hlinksldjump"/>
          </p:cNvPr>
          <p:cNvSpPr/>
          <p:nvPr/>
        </p:nvSpPr>
        <p:spPr>
          <a:xfrm>
            <a:off x="5029200" y="4343400"/>
            <a:ext cx="2590920" cy="690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cording to the English proverb when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on’t know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to speak about, speak about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1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8" name="">
            <a:hlinkClick r:id="rId1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1" fill="hold"/>
                                        <p:tgtEl>
                                          <p:spTgt spid="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2057400" y="914040"/>
            <a:ext cx="4572000" cy="2514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09760" y="395748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Звонок дру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>
            <a:off x="77724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26567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6567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7027" fill="hold"/>
                                        <p:tgtEl>
                                          <p:spTgt spid="8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2895480" y="380880"/>
            <a:ext cx="3173400" cy="33480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3111120" y="418608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мощь магис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7696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26567" fill="hold"/>
                                        <p:tgtEl>
                                          <p:spTgt spid="8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6567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7027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ongratulation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                         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You have wo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2125800" cy="213372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6009" fill="hold"/>
                                        <p:tgtEl>
                                          <p:spTgt spid="8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a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>
            <a:hlinkClick r:id="rId5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’s the name of Barbie's boyfrie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832" name="">
            <a:hlinkClick r:id="rId11" action="ppaction://hlinksldjump"/>
          </p:cNvPr>
          <p:cNvSpPr/>
          <p:nvPr/>
        </p:nvSpPr>
        <p:spPr>
          <a:xfrm>
            <a:off x="914400" y="304920"/>
            <a:ext cx="3859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rId12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3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1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 мир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w is “Green Peace” translated into Russi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845" name="">
            <a:hlinkClick r:id="rId9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0"/>
          <a:stretch/>
        </p:blipFill>
        <p:spPr>
          <a:xfrm>
            <a:off x="83818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еленый дом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84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$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371600" y="205740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banknote doesn’t exist in the U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858" name="">
            <a:hlinkClick r:id="rId12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3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84" fill="hold"/>
                                        <p:tgtEl>
                                          <p:spTgt spid="8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ssil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ax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>
            <a:hlinkClick r:id="rId5" action="ppaction://hlinksldjump"/>
          </p:cNvPr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>
            <a:hlinkClick r:id="rId6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exhibits can we see in the fam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me Tussaud’s museu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870" name="">
            <a:hlinkClick r:id="rId12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3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84" fill="hold"/>
                                        <p:tgtEl>
                                          <p:spTgt spid="8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>
            <a:hlinkClick r:id="rId5" action="ppaction://hlinksldjump"/>
          </p:cNvPr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world’s largest is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d the smallest contin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882" name="">
            <a:hlinkClick r:id="rId1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2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84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’s the name of Barbie's boyfrie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658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nglish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English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are the official languages in Can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894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84" fill="hold"/>
                                        <p:tgtEl>
                                          <p:spTgt spid="8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eps the do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ill help 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oor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 apple a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906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84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s the highest mark in British schools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918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84" fill="hold"/>
                                        <p:tgtEl>
                                          <p:spTgt spid="9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yna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nicil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 invention made Alfred No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mous all over the worl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1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930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84" fill="hold"/>
                                        <p:tgtEl>
                                          <p:spTgt spid="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sual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: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ison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uring the period of colonization British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t to Australia people who wer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2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942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84" fill="hold"/>
                                        <p:tgtEl>
                                          <p:spTgt spid="9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>
            <a:hlinkClick r:id="rId1" action="ppaction://hlinksldjump"/>
          </p:cNvPr>
          <p:cNvSpPr/>
          <p:nvPr/>
        </p:nvSpPr>
        <p:spPr>
          <a:xfrm>
            <a:off x="1371600" y="4267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rId2" action="ppaction://hlinksldjump"/>
          </p:cNvPr>
          <p:cNvSpPr/>
          <p:nvPr/>
        </p:nvSpPr>
        <p:spPr>
          <a:xfrm>
            <a:off x="1371600" y="5410080"/>
            <a:ext cx="28195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rId3" action="ppaction://hlinksldjump"/>
          </p:cNvPr>
          <p:cNvSpPr/>
          <p:nvPr/>
        </p:nvSpPr>
        <p:spPr>
          <a:xfrm>
            <a:off x="5029200" y="5410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illyn Monr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>
            <a:hlinkClick r:id="rId4" action="ppaction://hlinksldjump"/>
          </p:cNvPr>
          <p:cNvSpPr/>
          <p:nvPr/>
        </p:nvSpPr>
        <p:spPr>
          <a:xfrm>
            <a:off x="5029200" y="4267080"/>
            <a:ext cx="289548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: Mad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rma Jean Baker is a real nam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3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954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84" fill="hold"/>
                                        <p:tgtEl>
                                          <p:spTgt spid="9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>
            <a:hlinkClick r:id="rId1" action="ppaction://hlinksldjump"/>
          </p:cNvPr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rId2" action="ppaction://hlinksldjump"/>
          </p:cNvPr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>
            <a:hlinkClick r:id="rId3" action="ppaction://hlinksldjump"/>
          </p:cNvPr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Merc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>
            <a:hlinkClick r:id="rId4" action="ppaction://hlinksldjump"/>
          </p:cNvPr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enu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ich planet is the nearest to the Sun?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50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6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7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sp>
        <p:nvSpPr>
          <p:cNvPr id="966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9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84" fill="hold"/>
                                        <p:tgtEl>
                                          <p:spTgt spid="9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609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: 1.350 me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 mile is abou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8534520" y="228600"/>
            <a:ext cx="420480" cy="42228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4"/>
          <a:stretch/>
        </p:blipFill>
        <p:spPr>
          <a:xfrm>
            <a:off x="8305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84" fill="hold"/>
                                        <p:tgtEl>
                                          <p:spTgt spid="9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5410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4267080"/>
            <a:ext cx="2590920" cy="695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4582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14400" y="228600"/>
            <a:ext cx="3859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Verdana"/>
              </a:rPr>
              <a:t>50/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04920"/>
            <a:ext cx="38088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057400"/>
            <a:ext cx="6172200" cy="685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t’s the name of Barbie's boyfrie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20040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4093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3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hakova</cp:lastModifiedBy>
  <dcterms:modified xsi:type="dcterms:W3CDTF">2010-01-25T18:24:4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