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28E-898B-436B-BE4C-D6BDE007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46F-A634-4BB2-B227-530977E9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B883-0D62-4342-8894-97318B0C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D51-10A8-46F2-B346-8C26B21B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ECF-209A-469F-9805-F14F1F72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1BBD-F9EA-464C-B15F-15DD33E3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A9E-1480-40F6-84BC-D24D6A45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DAA-BADA-4CB6-BDB3-B6BFF307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1D0-B812-46E3-8F1E-693C05CE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2DC-CE3A-4ADE-AD83-4FDA77E1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627-E2C7-4E10-BE9D-BE2160E1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8E6-AD0F-42E5-A308-539131C9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C0D8-FF4E-406B-B0F8-85ABC9220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71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" Target="slide6.xml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72.xml"/><Relationship Id="rId6" Type="http://schemas.openxmlformats.org/officeDocument/2006/relationships/image" Target="../media/image1.jpeg"/><Relationship Id="rId7" Type="http://schemas.openxmlformats.org/officeDocument/2006/relationships/slide" Target="slide73.xml"/><Relationship Id="rId8" Type="http://schemas.openxmlformats.org/officeDocument/2006/relationships/image" Target="../media/image2.wmf"/><Relationship Id="rId9" Type="http://schemas.openxmlformats.org/officeDocument/2006/relationships/slide" Target="slide74.xml"/><Relationship Id="rId10" Type="http://schemas.openxmlformats.org/officeDocument/2006/relationships/image" Target="../media/image3.wmf"/><Relationship Id="rId11" Type="http://schemas.openxmlformats.org/officeDocument/2006/relationships/slide" Target="slide76.xml"/><Relationship Id="rId1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4.png"/><Relationship Id="rId3" Type="http://schemas.openxmlformats.org/officeDocument/2006/relationships/slide" Target="slide76.xml"/><Relationship Id="rId4" Type="http://schemas.openxmlformats.org/officeDocument/2006/relationships/slide" Target="slide72.xml"/><Relationship Id="rId5" Type="http://schemas.openxmlformats.org/officeDocument/2006/relationships/image" Target="../media/image1.jpeg"/><Relationship Id="rId6" Type="http://schemas.openxmlformats.org/officeDocument/2006/relationships/slide" Target="slide73.xml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slide1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20.xml"/><Relationship Id="rId4" Type="http://schemas.openxmlformats.org/officeDocument/2006/relationships/slide" Target="slide19.xml"/><Relationship Id="rId5" Type="http://schemas.openxmlformats.org/officeDocument/2006/relationships/slide" Target="slide77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78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slide2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79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slide" Target="slide26.xml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" Target="slide26.xml"/><Relationship Id="rId5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5.xml"/><Relationship Id="rId4" Type="http://schemas.openxmlformats.org/officeDocument/2006/relationships/slide" Target="slide34.xml"/><Relationship Id="rId5" Type="http://schemas.openxmlformats.org/officeDocument/2006/relationships/slide" Target="slide80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8.xml"/><Relationship Id="rId3" Type="http://schemas.openxmlformats.org/officeDocument/2006/relationships/slide" Target="slide40.xml"/><Relationship Id="rId4" Type="http://schemas.openxmlformats.org/officeDocument/2006/relationships/slide" Target="slide39.xml"/><Relationship Id="rId5" Type="http://schemas.openxmlformats.org/officeDocument/2006/relationships/slide" Target="slide81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slide4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slide3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5.xml"/><Relationship Id="rId4" Type="http://schemas.openxmlformats.org/officeDocument/2006/relationships/slide" Target="slide82.xml"/><Relationship Id="rId5" Type="http://schemas.openxmlformats.org/officeDocument/2006/relationships/slide" Target="slide72.xml"/><Relationship Id="rId6" Type="http://schemas.openxmlformats.org/officeDocument/2006/relationships/image" Target="../media/image1.jpeg"/><Relationship Id="rId7" Type="http://schemas.openxmlformats.org/officeDocument/2006/relationships/slide" Target="slide73.xml"/><Relationship Id="rId8" Type="http://schemas.openxmlformats.org/officeDocument/2006/relationships/image" Target="../media/image2.wmf"/><Relationship Id="rId9" Type="http://schemas.openxmlformats.org/officeDocument/2006/relationships/slide" Target="slide74.xml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" Target="slide41.xml"/><Relationship Id="rId5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slide" Target="slide50.xml"/><Relationship Id="rId4" Type="http://schemas.openxmlformats.org/officeDocument/2006/relationships/slide" Target="slide49.xml"/><Relationship Id="rId5" Type="http://schemas.openxmlformats.org/officeDocument/2006/relationships/slide" Target="slide83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slide4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slide" Target="slide55.xml"/><Relationship Id="rId4" Type="http://schemas.openxmlformats.org/officeDocument/2006/relationships/slide" Target="slide54.xml"/><Relationship Id="rId5" Type="http://schemas.openxmlformats.org/officeDocument/2006/relationships/slide" Target="slide84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slide5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slide5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58.xml"/><Relationship Id="rId3" Type="http://schemas.openxmlformats.org/officeDocument/2006/relationships/slide" Target="slide60.xml"/><Relationship Id="rId4" Type="http://schemas.openxmlformats.org/officeDocument/2006/relationships/slide" Target="slide59.xml"/><Relationship Id="rId5" Type="http://schemas.openxmlformats.org/officeDocument/2006/relationships/slide" Target="slide85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" Target="slide56.xml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72.xml"/><Relationship Id="rId6" Type="http://schemas.openxmlformats.org/officeDocument/2006/relationships/image" Target="../media/image1.jpeg"/><Relationship Id="rId7" Type="http://schemas.openxmlformats.org/officeDocument/2006/relationships/slide" Target="slide73.xml"/><Relationship Id="rId8" Type="http://schemas.openxmlformats.org/officeDocument/2006/relationships/image" Target="../media/image2.wmf"/><Relationship Id="rId9" Type="http://schemas.openxmlformats.org/officeDocument/2006/relationships/slide" Target="slide74.xml"/><Relationship Id="rId10" Type="http://schemas.openxmlformats.org/officeDocument/2006/relationships/image" Target="../media/image3.wmf"/><Relationship Id="rId11" Type="http://schemas.openxmlformats.org/officeDocument/2006/relationships/slide" Target="slide75.xml"/><Relationship Id="rId1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slide" Target="slide86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slide6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slide" Target="slide68.xml"/><Relationship Id="rId3" Type="http://schemas.openxmlformats.org/officeDocument/2006/relationships/image" Target="../media/image1.jpeg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76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image" Target="../media/image4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72.xml"/><Relationship Id="rId6" Type="http://schemas.openxmlformats.org/officeDocument/2006/relationships/image" Target="../media/image1.jpeg"/><Relationship Id="rId7" Type="http://schemas.openxmlformats.org/officeDocument/2006/relationships/slide" Target="slide73.xml"/><Relationship Id="rId8" Type="http://schemas.openxmlformats.org/officeDocument/2006/relationships/image" Target="../media/image2.wmf"/><Relationship Id="rId9" Type="http://schemas.openxmlformats.org/officeDocument/2006/relationships/slide" Target="slide74.xml"/><Relationship Id="rId10" Type="http://schemas.openxmlformats.org/officeDocument/2006/relationships/image" Target="../media/image3.wmf"/><Relationship Id="rId11" Type="http://schemas.openxmlformats.org/officeDocument/2006/relationships/slide" Target="slide88.xml"/><Relationship Id="rId12" Type="http://schemas.openxmlformats.org/officeDocument/2006/relationships/slide" Target="slide6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slide" Target="slide74.xml"/><Relationship Id="rId8" Type="http://schemas.openxmlformats.org/officeDocument/2006/relationships/image" Target="../media/image3.wmf"/><Relationship Id="rId9" Type="http://schemas.openxmlformats.org/officeDocument/2006/relationships/slide" Target="slide11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20.xml"/><Relationship Id="rId4" Type="http://schemas.openxmlformats.org/officeDocument/2006/relationships/slide" Target="slide19.xml"/><Relationship Id="rId5" Type="http://schemas.openxmlformats.org/officeDocument/2006/relationships/slide" Target="slide88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" Target="slide16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78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" Target="slide2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72.xml"/><Relationship Id="rId6" Type="http://schemas.openxmlformats.org/officeDocument/2006/relationships/image" Target="../media/image1.jpeg"/><Relationship Id="rId7" Type="http://schemas.openxmlformats.org/officeDocument/2006/relationships/slide" Target="slide73.xml"/><Relationship Id="rId8" Type="http://schemas.openxmlformats.org/officeDocument/2006/relationships/image" Target="../media/image2.wmf"/><Relationship Id="rId9" Type="http://schemas.openxmlformats.org/officeDocument/2006/relationships/slide" Target="slide74.xml"/><Relationship Id="rId10" Type="http://schemas.openxmlformats.org/officeDocument/2006/relationships/image" Target="../media/image3.wmf"/><Relationship Id="rId11" Type="http://schemas.openxmlformats.org/officeDocument/2006/relationships/slide" Target="slide26.xm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5.xml"/><Relationship Id="rId4" Type="http://schemas.openxmlformats.org/officeDocument/2006/relationships/slide" Target="slide34.xml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" Target="slide3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8.xml"/><Relationship Id="rId3" Type="http://schemas.openxmlformats.org/officeDocument/2006/relationships/slide" Target="slide40.xml"/><Relationship Id="rId4" Type="http://schemas.openxmlformats.org/officeDocument/2006/relationships/slide" Target="slide39.xml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" Target="slide36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5.xml"/><Relationship Id="rId4" Type="http://schemas.openxmlformats.org/officeDocument/2006/relationships/slide" Target="slide44.xml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" Target="slide4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slide" Target="slide50.xml"/><Relationship Id="rId4" Type="http://schemas.openxmlformats.org/officeDocument/2006/relationships/slide" Target="slide49.xml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" Target="slide46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slide" Target="slide55.xml"/><Relationship Id="rId4" Type="http://schemas.openxmlformats.org/officeDocument/2006/relationships/slide" Target="slide54.xml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" Target="slide5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58.xml"/><Relationship Id="rId3" Type="http://schemas.openxmlformats.org/officeDocument/2006/relationships/slide" Target="slide60.xml"/><Relationship Id="rId4" Type="http://schemas.openxmlformats.org/officeDocument/2006/relationships/slide" Target="slide59.xml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" Target="slide56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" Target="slide6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1371600" y="4419720"/>
            <a:ext cx="259092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litics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1371600" y="5486400"/>
            <a:ext cx="2590920" cy="690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usic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5029200" y="5486400"/>
            <a:ext cx="2590920" cy="690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5029200" y="4343400"/>
            <a:ext cx="2590920" cy="690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ve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cording to the English proverb when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on’t know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to speak about, speak about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’s the name of Barbie's boyfrie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rId4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9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 ми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ша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лес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дом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5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w is “Green Peace” translated into Russia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rId11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 ми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ша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лес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дом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w is “Green Peace” translated into Russia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658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 ми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ша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лес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дом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4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w is “Green Peace” translated into Russia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933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 ми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ша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лес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дом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w is “Green Peace” translated into Russia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33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 ми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ша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лес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дом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w is “Green Peace” translated into Russia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933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000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5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3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$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057400"/>
            <a:ext cx="655308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banknote doesn’t exist in the US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000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5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3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2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2133720"/>
            <a:ext cx="6553080" cy="609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banknote doesn’t exist in the US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93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000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5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3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2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057400"/>
            <a:ext cx="64008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banknote doesn’t exist in the US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33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000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5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3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2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2057400"/>
            <a:ext cx="670572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banknote doesn’t exist in the US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658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litic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usic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ve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cording to the English proverb when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on’t know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to speak about, speak about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3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000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5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3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057400"/>
            <a:ext cx="655308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banknote doesn’t exist in the US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rId4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933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ssil 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otic pla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i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ax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What exhibits can we see in the fam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Madame Tussaud’s museum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fossil 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exotic pla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pi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wax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exhibits can we see in the fam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ame Tussaud’s museum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933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fossil 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exotic pla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pi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ax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exhibits can we see in the fam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ame Tussaud’s museum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933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fossil 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exotic pla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pi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wax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exhibits can we see in the fam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ame Tussaud’s museum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658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ssil 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exotic pla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pi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wax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exhibits can we see in the fam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ame Tussaud’s museum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933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reat Bri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re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world’s largest isl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d the smallest contin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reat Bri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re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world’s largest isl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d the smallest contin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658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Great Bri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re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world’s largest isl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d the smallest contin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933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reat Bri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Madagasc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Gre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world’s largest isl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d the smallest contin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933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usic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ve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cording to the English proverb when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on’t know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to speak about, speak about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3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reat Bri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Madagascar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Gre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world’s largest isl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d the smallest contin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4" name="">
            <a:hlinkClick r:id="rId4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933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e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are the official languages in Can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e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English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are the official languages in Can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933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e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English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are the official languages in Can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933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e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Frenc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English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are the official languages in Can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933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e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English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are the official languages in Can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3658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he mice will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eps the do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ill help 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or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here is a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 apple a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the mice will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keeps the do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will help 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or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there is a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 apple a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933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he mice will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keeps the do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will help 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or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there is a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 apple a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449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4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3658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the mice will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keeps the do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will help 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or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here is a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 apple a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933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usic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ve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cording to the English proverb when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on’t know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to speak about, speak about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3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the mice will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keeps the do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will help 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or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there is a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 apple a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471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933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rId4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rId5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highest mark in British schools?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highest mark in British schools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933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highest mark in British schools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933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highest mark in British schools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3658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highest mark in British schools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86104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6" name="">
            <a:hlinkClick r:id="rId4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933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yna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ashing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nicil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tomobil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nvention made Alfred No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mous all over the worl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1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Dyna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Washing mach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Penicil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to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nvention made Alfred No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mous all over the worl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1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3658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Dyna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Washing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Penicil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to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nvention made Alfred No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mous all over the worl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1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93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Dyna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Washing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Penicil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Auto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nvention made Alfred No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mous all over the worl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1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933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usic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ather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ve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cording to the English proverb when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on’t know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to speak about, speak about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658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Dyna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Washing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Penicil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Auto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nvention made Alfred No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mous all over the worl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1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579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4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1933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sual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ison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rm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riters and poe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uring the period of colonization British 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t to Australia people who wer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usual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prison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rm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writers and poe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uring the period of colonization British 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t to Australia people who wer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933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usual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prison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rm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writers and poe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uring the period of colonization British 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t to Australia people who wer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611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4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3658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usual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 prison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rm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writers and poe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uring the period of colonization British 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t to Australia people who wer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933" fill="hold"/>
                                        <p:tgtEl>
                                          <p:spTgt spid="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usual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prison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farm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riters and poe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uring the period of colonization British 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t to Australia people who wer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633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4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933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>
            <a:hlinkClick r:id="rId1" action="ppaction://hlinksldjump"/>
          </p:cNvPr>
          <p:cNvSpPr/>
          <p:nvPr/>
        </p:nvSpPr>
        <p:spPr>
          <a:xfrm>
            <a:off x="1371600" y="4267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iana Spen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rId2" action="ppaction://hlinksldjump"/>
          </p:cNvPr>
          <p:cNvSpPr/>
          <p:nvPr/>
        </p:nvSpPr>
        <p:spPr>
          <a:xfrm>
            <a:off x="1371600" y="5410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ritney Sp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>
            <a:hlinkClick r:id="rId3" action="ppaction://hlinksldjump"/>
          </p:cNvPr>
          <p:cNvSpPr/>
          <p:nvPr/>
        </p:nvSpPr>
        <p:spPr>
          <a:xfrm>
            <a:off x="5029200" y="5410080"/>
            <a:ext cx="289548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illyn Monr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>
            <a:hlinkClick r:id="rId4" action="ppaction://hlinksldjump"/>
          </p:cNvPr>
          <p:cNvSpPr/>
          <p:nvPr/>
        </p:nvSpPr>
        <p:spPr>
          <a:xfrm>
            <a:off x="5029200" y="4267080"/>
            <a:ext cx="289548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orma Jean Baker is a real nam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371600" y="4267080"/>
            <a:ext cx="266688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Diana Spen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43000" y="5410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Britney Sp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illyn Monr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029200" y="4267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orma Jean Baker is a real nam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933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Diana Spen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219320" y="5334120"/>
            <a:ext cx="2819160" cy="6951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Britney Sp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illyn Monr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029200" y="4267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onna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orma Jean Baker is a real nam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933" fill="hold"/>
                                        <p:tgtEl>
                                          <p:spTgt spid="6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219320" y="4267080"/>
            <a:ext cx="274320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Diana Spen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5410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Britney Sp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029200" y="5410080"/>
            <a:ext cx="274320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illyn Monr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029200" y="4267080"/>
            <a:ext cx="289548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Mad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orma Jean Baker is a real nam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677" name="">
            <a:hlinkClick r:id="rId4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933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’s the name of Barbie's boyfrie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rId11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371600" y="4267080"/>
            <a:ext cx="266688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Diana Spen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95280" y="5410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Britney Sp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029200" y="5410080"/>
            <a:ext cx="289548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Marillyn Monr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267080"/>
            <a:ext cx="289548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Mad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orma Jean Baker is a real nam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3658" fill="hold"/>
                                        <p:tgtEl>
                                          <p:spTgt spid="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he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rc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planet is the nearest to the Sun?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The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V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rc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planet is the nearest to the Su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933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The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Venus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Merc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planet is the nearest to the Su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1933" fill="hold"/>
                                        <p:tgtEl>
                                          <p:spTgt spid="7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The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V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Merc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planet is the nearest to the Su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730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82296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933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The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Venus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Merc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planet is the nearest to the Su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4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3658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609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1.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35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 mile is abou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1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4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5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.609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1.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1.350 met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2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 mile is abou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1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3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3658" fill="hold"/>
                                        <p:tgtEl>
                                          <p:spTgt spid="7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.609 metres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1.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1.35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2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 mile is abou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1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933" fill="hold"/>
                                        <p:tgtEl>
                                          <p:spTgt spid="7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609 met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1.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1.350 met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2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 mile is abou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954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1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933" fill="hold"/>
                                        <p:tgtEl>
                                          <p:spTgt spid="7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n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’s the name of Barbie's boyfrie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3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.609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1.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1.35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2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 mile is abou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1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1933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>
            <a:hlinkClick r:id="rId1" action="ppaction://hlinksldjump"/>
          </p:cNvPr>
          <p:cNvSpPr/>
          <p:nvPr/>
        </p:nvSpPr>
        <p:spPr>
          <a:xfrm>
            <a:off x="1371600" y="4419720"/>
            <a:ext cx="259092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litic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>
            <a:hlinkClick r:id="rId2" action="ppaction://hlinksldjump"/>
          </p:cNvPr>
          <p:cNvSpPr/>
          <p:nvPr/>
        </p:nvSpPr>
        <p:spPr>
          <a:xfrm>
            <a:off x="1371600" y="5486400"/>
            <a:ext cx="2590920" cy="690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>
            <a:hlinkClick r:id="rId3" action="ppaction://hlinksldjump"/>
          </p:cNvPr>
          <p:cNvSpPr/>
          <p:nvPr/>
        </p:nvSpPr>
        <p:spPr>
          <a:xfrm>
            <a:off x="5029200" y="5486400"/>
            <a:ext cx="2590920" cy="690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>
            <a:hlinkClick r:id="rId4" action="ppaction://hlinksldjump"/>
          </p:cNvPr>
          <p:cNvSpPr/>
          <p:nvPr/>
        </p:nvSpPr>
        <p:spPr>
          <a:xfrm>
            <a:off x="5029200" y="4343400"/>
            <a:ext cx="2590920" cy="690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cording to the English proverb when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on’t know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to speak about, speak about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1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8" name="">
            <a:hlinkClick r:id="rId1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1" fill="hold"/>
                                        <p:tgtEl>
                                          <p:spTgt spid="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2057400" y="914040"/>
            <a:ext cx="4572000" cy="25146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09760" y="395748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Звонок дру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3"/>
          <a:stretch/>
        </p:blipFill>
        <p:spPr>
          <a:xfrm>
            <a:off x="77724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26567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6567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7027" fill="hold"/>
                                        <p:tgtEl>
                                          <p:spTgt spid="8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2895480" y="380880"/>
            <a:ext cx="3173400" cy="334800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3111120" y="418608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мощь магис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7696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26567" fill="hold"/>
                                        <p:tgtEl>
                                          <p:spTgt spid="8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6567"/>
                            </p:stCondLst>
                            <p:childTnLst>
                              <p:par>
                                <p:cTn id="3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7027" fill="hold"/>
                                        <p:tgtEl>
                                          <p:spTgt spid="8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ongratulation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                         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You have wo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2125800" cy="213372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6009" fill="hold"/>
                                        <p:tgtEl>
                                          <p:spTgt spid="8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an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>
            <a:hlinkClick r:id="rId5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’s the name of Barbie's boyfrie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832" name="">
            <a:hlinkClick r:id="rId11" action="ppaction://hlinksldjump"/>
          </p:cNvPr>
          <p:cNvSpPr/>
          <p:nvPr/>
        </p:nvSpPr>
        <p:spPr>
          <a:xfrm>
            <a:off x="914400" y="304920"/>
            <a:ext cx="3859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rId12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3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" dur="1" fill="hold"/>
                                        <p:tgtEl>
                                          <p:spTgt spid="8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 ми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w is “Green Peace” translated into Russia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845" name="">
            <a:hlinkClick r:id="rId9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0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дом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84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5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$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371600" y="2057400"/>
            <a:ext cx="655308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banknote doesn’t exist in the US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858" name="">
            <a:hlinkClick r:id="rId12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3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84" fill="hold"/>
                                        <p:tgtEl>
                                          <p:spTgt spid="8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ssil 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ax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exhibits can we see in the fam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ame Tussaud’s museum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870" name="">
            <a:hlinkClick r:id="rId12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3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84" fill="hold"/>
                                        <p:tgtEl>
                                          <p:spTgt spid="8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>
            <a:hlinkClick r:id="rId5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world’s largest isl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d the smallest contin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882" name="">
            <a:hlinkClick r:id="rId1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2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84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’s the name of Barbie's boyfrie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658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are the official languages in Can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7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894" name="">
            <a:hlinkClick r:id="rId8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9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84" fill="hold"/>
                                        <p:tgtEl>
                                          <p:spTgt spid="8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eps the do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ill help 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or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 apple a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7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906" name="">
            <a:hlinkClick r:id="rId8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9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84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highest mark in British schools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7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918" name="">
            <a:hlinkClick r:id="rId8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9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84" fill="hold"/>
                                        <p:tgtEl>
                                          <p:spTgt spid="9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yna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nicil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nvention made Alfred No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mous all over the worl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1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7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930" name="">
            <a:hlinkClick r:id="rId8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9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84" fill="hold"/>
                                        <p:tgtEl>
                                          <p:spTgt spid="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sual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ison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uring the period of colonization British 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t to Australia people who wer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7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942" name="">
            <a:hlinkClick r:id="rId8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9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84" fill="hold"/>
                                        <p:tgtEl>
                                          <p:spTgt spid="9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>
            <a:hlinkClick r:id="rId1" action="ppaction://hlinksldjump"/>
          </p:cNvPr>
          <p:cNvSpPr/>
          <p:nvPr/>
        </p:nvSpPr>
        <p:spPr>
          <a:xfrm>
            <a:off x="1371600" y="4267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>
            <a:hlinkClick r:id="rId2" action="ppaction://hlinksldjump"/>
          </p:cNvPr>
          <p:cNvSpPr/>
          <p:nvPr/>
        </p:nvSpPr>
        <p:spPr>
          <a:xfrm>
            <a:off x="1371600" y="5410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>
            <a:hlinkClick r:id="rId3" action="ppaction://hlinksldjump"/>
          </p:cNvPr>
          <p:cNvSpPr/>
          <p:nvPr/>
        </p:nvSpPr>
        <p:spPr>
          <a:xfrm>
            <a:off x="5029200" y="5410080"/>
            <a:ext cx="289548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illyn Monr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>
            <a:hlinkClick r:id="rId4" action="ppaction://hlinksldjump"/>
          </p:cNvPr>
          <p:cNvSpPr/>
          <p:nvPr/>
        </p:nvSpPr>
        <p:spPr>
          <a:xfrm>
            <a:off x="5029200" y="4267080"/>
            <a:ext cx="289548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Mad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orma Jean Baker is a real nam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7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954" name="">
            <a:hlinkClick r:id="rId8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9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84" fill="hold"/>
                                        <p:tgtEl>
                                          <p:spTgt spid="9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Merc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enu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planet is the nearest to the Sun?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7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966" name="">
            <a:hlinkClick r:id="rId8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9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84" fill="hold"/>
                                        <p:tgtEl>
                                          <p:spTgt spid="9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609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1.35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 mile is abou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1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4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84" fill="hold"/>
                                        <p:tgtEl>
                                          <p:spTgt spid="9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’s the name of Barbie's boyfrie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93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hakova</cp:lastModifiedBy>
  <dcterms:modified xsi:type="dcterms:W3CDTF">2010-01-25T18:24:4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