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3.jpeg" ContentType="image/jpeg"/>
  <Override PartName="/ppt/media/image4.png" ContentType="image/pn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4.jpeg" ContentType="image/jpeg"/>
  <Override PartName="/ppt/media/image1.wmf" ContentType="image/x-wmf"/>
  <Override PartName="/ppt/media/image2.png" ContentType="image/png"/>
  <Override PartName="/ppt/media/image17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FA61-8E86-4E4D-81ED-AFF3A6F76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AEF5-30AB-4258-9035-08B7421DB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F3A6-1187-4A9D-9599-99B5DEA62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4B95-B86D-497B-ADCF-8020FC5E5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52C00-BB4C-4597-A8A3-6C3ECB3C1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6ED2A-FDC4-49EC-9FB6-62427DF30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AB7C8-6D62-4061-A2A9-162109005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D64D0-6E50-4567-8B96-84912E1A6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0A476-5254-42C3-9254-7124E167D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053DD-4125-45AC-83ED-2B7AFF7CA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71789-01A3-4C47-B045-A85D4D9B8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3DDC-F84A-4574-8801-EDF9C0FD2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17EB3-1458-4609-8F39-3D696FAAA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28A6C-AB4C-466A-96FB-E70745DBB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C570C-7FE9-487F-BAE4-9CE96E9E0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FC87C-4E5E-49BC-A73B-797547A72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E6E36-422C-4E55-A45F-6A5366D83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FFB6-166E-40DE-872D-5C8118602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8FE3-62DC-4FC5-9755-C0AD6D99E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224B-22AE-4C85-A65C-6EFF40EB1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228E-1AE1-4C5B-AA74-3AA5D59A4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96FD-CC77-495C-8B1B-6B527BAA5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4700-B856-43FD-897A-7F285AB0E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3694-8E5E-417E-A00D-AB337A25C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70560"/>
                    <a:ext cx="42840" cy="572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57960"/>
                    <a:ext cx="64800" cy="3780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108000"/>
                    <a:ext cx="23760" cy="619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7ACB1-66D2-4BE7-BC61-299A0465006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360"/>
            <a:ext cx="9159840" cy="6869880"/>
            <a:chOff x="0" y="360"/>
            <a:chExt cx="9159840" cy="686988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00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1080"/>
              <a:ext cx="8078760" cy="199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1080"/>
              <a:ext cx="1203120" cy="685656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360"/>
              <a:ext cx="1295280" cy="6309360"/>
              <a:chOff x="7848720" y="360"/>
              <a:chExt cx="1295280" cy="630936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360"/>
                <a:ext cx="762120" cy="2271600"/>
                <a:chOff x="8381880" y="360"/>
                <a:chExt cx="762120" cy="227160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7320" y="360"/>
                  <a:ext cx="279360" cy="275400"/>
                  <a:chOff x="8707320" y="360"/>
                  <a:chExt cx="279360" cy="27540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7320" y="360"/>
                    <a:ext cx="279360" cy="275400"/>
                    <a:chOff x="8707320" y="360"/>
                    <a:chExt cx="279360" cy="27540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6200" y="-38520"/>
                      <a:ext cx="20124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5560" y="92520"/>
                      <a:ext cx="141120" cy="225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6840" y="1310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60600" y="72000"/>
                    <a:ext cx="42480" cy="572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31520" y="59400"/>
                    <a:ext cx="64800" cy="3780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901000" y="109440"/>
                    <a:ext cx="23760" cy="619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6840" y="192960"/>
                    <a:ext cx="63360" cy="266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5360" y="168120"/>
                    <a:ext cx="37800" cy="410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968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96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46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54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916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200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8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920"/>
                <a:ext cx="828720" cy="4708800"/>
                <a:chOff x="7848720" y="1600920"/>
                <a:chExt cx="828720" cy="470880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9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4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9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5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8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100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5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4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097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3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5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6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960"/>
              <a:ext cx="1190520" cy="193932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8200"/>
              <a:ext cx="1219320" cy="19994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8440"/>
              <a:ext cx="1231920" cy="403596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800"/>
              <a:ext cx="979560" cy="218376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8040"/>
              <a:ext cx="914400" cy="504720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3160"/>
              <a:ext cx="909720" cy="307080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1080"/>
              <a:ext cx="576360" cy="335196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2520"/>
              <a:ext cx="300240" cy="335232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2520"/>
              <a:ext cx="88920" cy="685656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884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4680" y="3316680"/>
              <a:ext cx="685656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13276-6651-449F-9E16-627DE96E403E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50920" y="785880"/>
            <a:ext cx="7400880" cy="392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4000" spc="-1" strike="noStrike">
                <a:solidFill>
                  <a:srgbClr val="f7d47d"/>
                </a:solidFill>
                <a:latin typeface="Times New Roman"/>
              </a:rPr>
              <a:t>«Кукла оберег» - </a:t>
            </a:r>
            <a:br>
              <a:rPr sz="4000"/>
            </a:br>
            <a:r>
              <a:rPr b="1" lang="ru-RU" sz="4000" spc="-1" strike="noStrike">
                <a:solidFill>
                  <a:srgbClr val="f7d47d"/>
                </a:solidFill>
                <a:latin typeface="Times New Roman"/>
              </a:rPr>
              <a:t>мастер – класс</a:t>
            </a:r>
            <a:br>
              <a:rPr sz="4000"/>
            </a:br>
            <a:r>
              <a:rPr b="1" lang="ru-RU" sz="4000" spc="-1" strike="noStrike">
                <a:solidFill>
                  <a:srgbClr val="f7d47d"/>
                </a:solidFill>
                <a:latin typeface="Times New Roman"/>
              </a:rPr>
              <a:t> в группе № 2 «Галактика»</a:t>
            </a:r>
            <a:br>
              <a:rPr sz="4000"/>
            </a:br>
            <a:br>
              <a:rPr sz="2800"/>
            </a:b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727280" y="4928760"/>
            <a:ext cx="56404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311"/>
                </a:solidFill>
                <a:latin typeface="Times New Roman"/>
              </a:rPr>
              <a:t>Выпонили: воспитатели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311"/>
                </a:solidFill>
                <a:latin typeface="Times New Roman"/>
              </a:rPr>
              <a:t>              </a:t>
            </a:r>
            <a:r>
              <a:rPr b="1" lang="ru-RU" sz="2000" spc="-1" strike="noStrike">
                <a:solidFill>
                  <a:srgbClr val="2f1311"/>
                </a:solidFill>
                <a:latin typeface="Times New Roman"/>
              </a:rPr>
              <a:t>Рудакова Г. В., Знобищева Е. В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311"/>
                </a:solidFill>
                <a:latin typeface="Times New Roman"/>
              </a:rPr>
              <a:t>2022г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4" name="Прямоугольник 5"/>
          <p:cNvSpPr/>
          <p:nvPr/>
        </p:nvSpPr>
        <p:spPr>
          <a:xfrm>
            <a:off x="1785960" y="285840"/>
            <a:ext cx="43038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Times New Roman"/>
              </a:rPr>
              <a:t>МБДОУ «Детский сад №12 «Звёздный»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53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Результат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94920" y="105264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43280" y="907560"/>
            <a:ext cx="266544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7" name="Рисунок 8" descr="D:\WinUsers\Gigabyte\Desktop\IMG-20220205-WA0004.jpg"/>
          <p:cNvPicPr/>
          <p:nvPr/>
        </p:nvPicPr>
        <p:blipFill>
          <a:blip r:embed="rId1"/>
          <a:stretch/>
        </p:blipFill>
        <p:spPr>
          <a:xfrm>
            <a:off x="1928880" y="1214280"/>
            <a:ext cx="3706920" cy="494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5435280" y="333000"/>
            <a:ext cx="2214360" cy="57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"</a:t>
            </a:r>
            <a:r>
              <a:rPr b="1" lang="ru-RU" sz="1800" spc="-1" strike="noStrike">
                <a:solidFill>
                  <a:srgbClr val="2f1311"/>
                </a:solidFill>
                <a:latin typeface="Times New Roman"/>
              </a:rPr>
              <a:t>Кубышка" - красивая куколка, сидящая на мешке с целебными травами, чтобы в доме царило здоровье. Если кто-то заболевал, то мешочек тёрли пальцами, обходя весь дом, а потом «кубышку» клали к больному в постель, чтобы дух болезни испугался и исчез.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30" name="Рисунок 6" descr="D:\WinUsers\Gigabyte\Desktop\20220209_085944.jpg"/>
          <p:cNvPicPr/>
          <p:nvPr/>
        </p:nvPicPr>
        <p:blipFill>
          <a:blip r:embed="rId1"/>
          <a:stretch/>
        </p:blipFill>
        <p:spPr>
          <a:xfrm>
            <a:off x="357120" y="285840"/>
            <a:ext cx="4929120" cy="629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250560" y="5084640"/>
            <a:ext cx="7399080" cy="13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2f1311"/>
                </a:solidFill>
                <a:latin typeface="Times New Roman"/>
              </a:rPr>
              <a:t>Для прихода в дом хороших вестей делались куклы «Колокольчики» их развешивали сразу по несколько штук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33" name="Рисунок 6" descr="D:\WinUsers\Gigabyte\Desktop\20220209_090149.jpg"/>
          <p:cNvPicPr/>
          <p:nvPr/>
        </p:nvPicPr>
        <p:blipFill>
          <a:blip r:embed="rId1"/>
          <a:stretch/>
        </p:blipFill>
        <p:spPr>
          <a:xfrm>
            <a:off x="1785960" y="357120"/>
            <a:ext cx="4214880" cy="479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2912760" cy="493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7d47d"/>
                </a:solidFill>
                <a:latin typeface="Arial"/>
              </a:rPr>
              <a:t>Смысл, вложенный в куколку Желанницу, можно легко угадать по ее названию. Но не спешите выписывать на листок с десяток желаний. Она может исполнить только одну просьбу. Поэтому лучше сосредоточиться на самом важном.</a:t>
            </a:r>
            <a:endParaRPr b="0" lang="en-US" sz="2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63160" y="5445000"/>
            <a:ext cx="711684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6" name="Содержимое 7" descr="D:\WinUsers\Gigabyte\Desktop\20220209_090000.jpg"/>
          <p:cNvPicPr/>
          <p:nvPr/>
        </p:nvPicPr>
        <p:blipFill>
          <a:blip r:embed="rId1"/>
          <a:stretch/>
        </p:blipFill>
        <p:spPr>
          <a:xfrm>
            <a:off x="3071880" y="642960"/>
            <a:ext cx="4214880" cy="561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18880" y="138240"/>
            <a:ext cx="7476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00720" y="765000"/>
            <a:ext cx="30240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Кукла мотанка северная Берегиня считается хранительницей домашнего очага и семейного счастья. Изготавливали обереги с любовью, вкладывая в игрушку надежду на благополучное будущее для всех родных и близких людей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40" name="Рисунок 8" descr="D:\WinUsers\Gigabyte\Desktop\20220209_090559.jpg"/>
          <p:cNvPicPr/>
          <p:nvPr/>
        </p:nvPicPr>
        <p:blipFill>
          <a:blip r:embed="rId1"/>
          <a:stretch/>
        </p:blipFill>
        <p:spPr>
          <a:xfrm>
            <a:off x="214200" y="500040"/>
            <a:ext cx="4286520" cy="578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18880" y="210240"/>
            <a:ext cx="7476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642920" y="907560"/>
            <a:ext cx="300060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Тряпичная куколка На Здоровье, согласно повериям древних славян, ускоряет выздоровление, помогает справиться даже с тяжелыми болезнями. Согласно легендам, Она оберегает своего владельца от любого негатива, способного навредить самочувствию. Большой силой обладает талисман, подаренный мамой ребенку. Мотанка может использоваться даже для новорожденных и оберегать их еще слабый организм от хвори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43" name="Содержимое 7" descr="D:\WinUsers\Gigabyte\Desktop\20220209_090624.jpg"/>
          <p:cNvPicPr/>
          <p:nvPr/>
        </p:nvPicPr>
        <p:blipFill>
          <a:blip r:embed="rId1"/>
          <a:stretch/>
        </p:blipFill>
        <p:spPr>
          <a:xfrm>
            <a:off x="357120" y="500040"/>
            <a:ext cx="4471920" cy="581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18880" y="174600"/>
            <a:ext cx="7476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00000" y="1196640"/>
            <a:ext cx="361656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716360" y="981000"/>
            <a:ext cx="273528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2f1311"/>
                </a:solidFill>
                <a:latin typeface="Times New Roman"/>
              </a:rPr>
              <a:t>Кукла Столбушка, то есть Берегиня, охраняет жилище от вторжения тёмных сил, порчи и сглаза, а хозяев – от горестей, уныния и печали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47" name="Рисунок 7" descr="D:\WinUsers\Gigabyte\Desktop\20220209_090531.jpg"/>
          <p:cNvPicPr/>
          <p:nvPr/>
        </p:nvPicPr>
        <p:blipFill>
          <a:blip r:embed="rId1"/>
          <a:stretch/>
        </p:blipFill>
        <p:spPr>
          <a:xfrm>
            <a:off x="214200" y="500040"/>
            <a:ext cx="4429080" cy="589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18880" y="174600"/>
            <a:ext cx="7476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187280" y="1196640"/>
            <a:ext cx="361656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32000" y="765000"/>
            <a:ext cx="230364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   </a:t>
            </a: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Чтобы вся семья была накормлена досыта, и чтобы в доме всегда жили в ладу друг с другом делали куклу - кормилку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51" name="Рисунок 7" descr="D:\WinUsers\Gigabyte\Desktop\20220209_090027.jpg"/>
          <p:cNvPicPr/>
          <p:nvPr/>
        </p:nvPicPr>
        <p:blipFill>
          <a:blip r:embed="rId1"/>
          <a:stretch/>
        </p:blipFill>
        <p:spPr>
          <a:xfrm>
            <a:off x="392040" y="285840"/>
            <a:ext cx="4322880" cy="574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622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f7d47d"/>
                </a:solidFill>
                <a:latin typeface="Times New Roman"/>
              </a:rPr>
              <a:t>Спасибо за внимание.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18880" y="549000"/>
            <a:ext cx="747684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63520" y="1428840"/>
            <a:ext cx="7386480" cy="46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1311"/>
                </a:solidFill>
                <a:latin typeface="Times New Roman"/>
              </a:rPr>
              <a:t>Цель: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1311"/>
                </a:solidFill>
                <a:latin typeface="Times New Roman"/>
              </a:rPr>
              <a:t>     </a:t>
            </a:r>
            <a:r>
              <a:rPr b="1" lang="ru-RU" sz="3200" spc="-1" strike="noStrike">
                <a:solidFill>
                  <a:srgbClr val="2f1311"/>
                </a:solidFill>
                <a:latin typeface="Times New Roman"/>
              </a:rPr>
              <a:t>Познакомить с ролью куклы в         жизни наших предков, с видами кукол. Научить делать куклу-оберег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7d47d"/>
                </a:solidFill>
                <a:latin typeface="Times New Roman"/>
              </a:rPr>
              <a:t>Роль куклы в жизни наших предков.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63520" y="1267920"/>
            <a:ext cx="7386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Times New Roman"/>
              </a:rPr>
              <a:t>Славянские куклы-обереги были сильным помощницами в личной жизни наших предков, а так же служили украшением быта или служили игрушкой для ребенка. Куколки делались в качестве подарков или обрядовых символов на свадьбу или рождение ребёнка, а также просто изготавливались по случаю народных праздников (например: масленицы) или в качестве спутниц-хранительниц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Times New Roman"/>
              </a:rPr>
              <a:t>Представьте себе быт наших предков, который строился на циклах природы, уход зимы, приход весны, новый урожай, к различным случаям жизни делалась своя куколка, которая имела свой смысл. Куколка на масленицу сжигалась – как символ очищения, другая куколка наполнялась зерном, привлекая в дом достаток и благополучие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250560" y="1499760"/>
            <a:ext cx="73990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84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Мастер-класс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1" name="Рисунок 6" descr="D:\WinUsers\Gigabyte\Downloads\20220204_102557.jpg"/>
          <p:cNvPicPr/>
          <p:nvPr/>
        </p:nvPicPr>
        <p:blipFill>
          <a:blip r:embed="rId1"/>
          <a:stretch/>
        </p:blipFill>
        <p:spPr>
          <a:xfrm>
            <a:off x="214200" y="1071720"/>
            <a:ext cx="7500960" cy="550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428400" y="404280"/>
            <a:ext cx="722124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8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4" name="Рисунок 6" descr="D:\WinUsers\Gigabyte\Downloads\20220204_103136.jpg"/>
          <p:cNvPicPr/>
          <p:nvPr/>
        </p:nvPicPr>
        <p:blipFill>
          <a:blip r:embed="rId1"/>
          <a:stretch/>
        </p:blipFill>
        <p:spPr>
          <a:xfrm>
            <a:off x="142920" y="1285920"/>
            <a:ext cx="3571920" cy="4660920"/>
          </a:xfrm>
          <a:prstGeom prst="rect">
            <a:avLst/>
          </a:prstGeom>
          <a:ln w="0">
            <a:noFill/>
          </a:ln>
        </p:spPr>
      </p:pic>
      <p:pic>
        <p:nvPicPr>
          <p:cNvPr id="205" name="Рисунок 7" descr="D:\WinUsers\Gigabyte\Desktop\20220204_103140.jpg"/>
          <p:cNvPicPr/>
          <p:nvPr/>
        </p:nvPicPr>
        <p:blipFill>
          <a:blip r:embed="rId2"/>
          <a:stretch/>
        </p:blipFill>
        <p:spPr>
          <a:xfrm>
            <a:off x="4071960" y="1285920"/>
            <a:ext cx="3571920" cy="464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138240"/>
            <a:ext cx="7476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28400" y="1052640"/>
            <a:ext cx="6786360" cy="51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787640" y="764640"/>
            <a:ext cx="259236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800" spc="-1" strike="noStrike">
              <a:solidFill>
                <a:srgbClr val="2f1311"/>
              </a:solidFill>
              <a:latin typeface="Times New Roman"/>
            </a:endParaRPr>
          </a:p>
        </p:txBody>
      </p:sp>
      <p:pic>
        <p:nvPicPr>
          <p:cNvPr id="209" name="Рисунок 7" descr="D:\WinUsers\Gigabyte\Downloads\20220204_103403.jpg"/>
          <p:cNvPicPr/>
          <p:nvPr/>
        </p:nvPicPr>
        <p:blipFill>
          <a:blip r:embed="rId1"/>
          <a:stretch/>
        </p:blipFill>
        <p:spPr>
          <a:xfrm>
            <a:off x="214200" y="1428840"/>
            <a:ext cx="3643560" cy="5119560"/>
          </a:xfrm>
          <a:prstGeom prst="rect">
            <a:avLst/>
          </a:prstGeom>
          <a:ln w="0">
            <a:noFill/>
          </a:ln>
        </p:spPr>
      </p:pic>
      <p:pic>
        <p:nvPicPr>
          <p:cNvPr id="210" name="Рисунок 8" descr="D:\WinUsers\Gigabyte\Downloads\20220204_103856.jpg"/>
          <p:cNvPicPr/>
          <p:nvPr/>
        </p:nvPicPr>
        <p:blipFill>
          <a:blip r:embed="rId2"/>
          <a:stretch/>
        </p:blipFill>
        <p:spPr>
          <a:xfrm>
            <a:off x="3929040" y="1428840"/>
            <a:ext cx="3571920" cy="506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16000" y="226800"/>
            <a:ext cx="59040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50560" y="4508640"/>
            <a:ext cx="7399080" cy="23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1311"/>
                </a:solidFill>
                <a:latin typeface="Times New Roman"/>
              </a:rPr>
              <a:t>     </a:t>
            </a:r>
            <a:r>
              <a:rPr b="1" lang="ru-RU" sz="2800" spc="-1" strike="noStrike">
                <a:solidFill>
                  <a:srgbClr val="2f1311"/>
                </a:solidFill>
                <a:latin typeface="Times New Roman"/>
              </a:rPr>
              <a:t>Кукла «Кувадка» участвовала при родах. «Кувадка» служила оберегом для отвода тёмных сил от настоящего ребёнка. После родов «Кувадку» сжигали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3" name="Рисунок 6" descr="D:\WinUsers\Gigabyte\Downloads\20220204_105840 (1).jpg"/>
          <p:cNvPicPr/>
          <p:nvPr/>
        </p:nvPicPr>
        <p:blipFill>
          <a:blip r:embed="rId1"/>
          <a:stretch/>
        </p:blipFill>
        <p:spPr>
          <a:xfrm>
            <a:off x="571680" y="142920"/>
            <a:ext cx="6643440" cy="43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75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7d47d"/>
                </a:solidFill>
                <a:latin typeface="Times New Roman"/>
              </a:rPr>
              <a:t>Работа с родителями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3240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Мастер-класс по выполнению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куклы-оберега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Чистопрудовой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Ксении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716000" y="765000"/>
            <a:ext cx="293364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2f1311"/>
                </a:solidFill>
                <a:uFillTx/>
                <a:latin typeface="Times New Roman"/>
              </a:rPr>
              <a:t>Инструменты и материалы: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7" name="Рисунок 10" descr="D:\WinUsers\Gigabyte\Desktop\IMG-20220205-WA0003.jpg"/>
          <p:cNvPicPr/>
          <p:nvPr/>
        </p:nvPicPr>
        <p:blipFill>
          <a:blip r:embed="rId1"/>
          <a:stretch/>
        </p:blipFill>
        <p:spPr>
          <a:xfrm>
            <a:off x="4143240" y="1714680"/>
            <a:ext cx="3500640" cy="478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53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Ход работы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00720" y="836280"/>
            <a:ext cx="3149280" cy="52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800" spc="-1" strike="noStrike">
              <a:solidFill>
                <a:srgbClr val="2f1311"/>
              </a:solidFill>
              <a:latin typeface="Times New Roman"/>
            </a:endParaRPr>
          </a:p>
        </p:txBody>
      </p:sp>
      <p:pic>
        <p:nvPicPr>
          <p:cNvPr id="221" name="Рисунок 8" descr="D:\WinUsers\Gigabyte\Desktop\IMG-20220205-WA0005.jpg"/>
          <p:cNvPicPr/>
          <p:nvPr/>
        </p:nvPicPr>
        <p:blipFill>
          <a:blip r:embed="rId1"/>
          <a:stretch/>
        </p:blipFill>
        <p:spPr>
          <a:xfrm>
            <a:off x="2143080" y="2143080"/>
            <a:ext cx="3429000" cy="4143600"/>
          </a:xfrm>
          <a:prstGeom prst="rect">
            <a:avLst/>
          </a:prstGeom>
          <a:ln w="0">
            <a:noFill/>
          </a:ln>
        </p:spPr>
      </p:pic>
      <p:pic>
        <p:nvPicPr>
          <p:cNvPr id="222" name="Рисунок 10" descr="D:\WinUsers\Gigabyte\Desktop\20220209_090258.jpg"/>
          <p:cNvPicPr/>
          <p:nvPr/>
        </p:nvPicPr>
        <p:blipFill>
          <a:blip r:embed="rId2"/>
          <a:stretch/>
        </p:blipFill>
        <p:spPr>
          <a:xfrm>
            <a:off x="214200" y="500040"/>
            <a:ext cx="2414880" cy="3219480"/>
          </a:xfrm>
          <a:prstGeom prst="rect">
            <a:avLst/>
          </a:prstGeom>
          <a:ln w="0">
            <a:noFill/>
          </a:ln>
        </p:spPr>
      </p:pic>
      <p:pic>
        <p:nvPicPr>
          <p:cNvPr id="223" name="Рисунок 11" descr="D:\WinUsers\Gigabyte\Desktop\20220209_090326.jpg"/>
          <p:cNvPicPr/>
          <p:nvPr/>
        </p:nvPicPr>
        <p:blipFill>
          <a:blip r:embed="rId3"/>
          <a:stretch/>
        </p:blipFill>
        <p:spPr>
          <a:xfrm>
            <a:off x="5572080" y="3286080"/>
            <a:ext cx="2524320" cy="3365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27T18:39:50Z</dcterms:created>
  <dc:creator>2013</dc:creator>
  <dc:description/>
  <dc:language>en-US</dc:language>
  <cp:lastModifiedBy>Пользователь Gigabyte</cp:lastModifiedBy>
  <dcterms:modified xsi:type="dcterms:W3CDTF">2022-03-31T11:33:42Z</dcterms:modified>
  <cp:revision>31</cp:revision>
  <dc:subject/>
  <dc:title>Тема: «Кукла оберег из ниток»    Цель: Познакомить с                           ролью куклы в жизни наших  предков. Познакомить  с видами кукол. Научить делать  куклу-оберег из ниток.</dc:title>
</cp:coreProperties>
</file>