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0DE-25AE-4B50-A00B-959A8E5D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F82B-31F8-4503-B847-3B08E3A6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E15-4837-4063-975C-981837F2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805-3EB8-456C-B4AD-A520E5D6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147-543F-4070-B166-4943070E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7CF-F132-49D7-B474-D4B25710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A5D-74E9-4F8A-8CD1-771DD2A4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45A-F49C-4636-90E2-48607D07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DB9-51D0-49B5-AA0B-53C56B07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168-EDC4-455E-B059-D6BB3193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E69-D069-460F-93F0-288561D6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58E-9C26-459F-A16D-24741893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EAA7-CE52-42C6-BA57-4144E24F15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MG_20190326_155621"/>
          <p:cNvPicPr/>
          <p:nvPr/>
        </p:nvPicPr>
        <p:blipFill>
          <a:blip r:embed="rId1"/>
          <a:stretch/>
        </p:blipFill>
        <p:spPr>
          <a:xfrm>
            <a:off x="-25560" y="0"/>
            <a:ext cx="919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IMG_20190326_102459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_20190326_1025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G_20190326_1025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MG_20190326_1026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G_20190326_1029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_20190326_10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IMG_20190326_103758"/>
          <p:cNvPicPr/>
          <p:nvPr/>
        </p:nvPicPr>
        <p:blipFill>
          <a:blip r:embed="rId1"/>
          <a:srcRect l="15626" t="21874" r="14063" b="22919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IMG_20190326_1555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6T08:45:28Z</dcterms:created>
  <dc:creator>Ольга</dc:creator>
  <dc:description/>
  <dc:language>en-US</dc:language>
  <cp:lastModifiedBy>Пользователь</cp:lastModifiedBy>
  <dcterms:modified xsi:type="dcterms:W3CDTF">2019-03-27T04:53:55Z</dcterms:modified>
  <cp:revision>4</cp:revision>
  <dc:subject/>
  <dc:title>Слайд 1</dc:title>
</cp:coreProperties>
</file>