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B5A-771B-4C03-9429-E2A8AD99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5C4-FA61-4DE1-AF23-AC690D9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7D2-5A2B-4F79-88E1-05ADE6CA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2C8-994A-445C-866B-18B6DD27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51D-2E28-4FEC-982F-26F4603A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838-0CC7-46C2-BBE3-01B83378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1EA-4726-4CDC-8B4C-2E9DC6C8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14A-19C4-4820-8828-3FAF3F04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AD5-319E-4D80-B2EA-7CEA742E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F8F-5317-4516-83AB-E5A4D37E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56B-873A-41AD-A60C-2958FCF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FEC-D555-4DE9-A341-CCD70817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A0503-8261-47C1-93F3-407CA8D7604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ител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гарина И.В.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БОУ школа 4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47280" y="2104560"/>
            <a:ext cx="907092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 (биографи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76000" y="287280"/>
            <a:ext cx="90709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6000"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24-ом году поэт находился в ссылке в своём имении – в селе Михайловское. Там он продолжал работу над «Евгением Онегиным», писал «Бориса Годунова», стихотворения. Находясь в ссылке Александр Сергеевич узнаёт о восстании друзей декабристов, многие из которых в последствии были казнены и отправлены в ссы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28720" y="3672000"/>
            <a:ext cx="6624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лоток своб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44000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marL="42300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сентября 1826 года Николай 1 вызвал Пушкина в Москву, но свобода, дарованная царем, была недолгой, уже в 1828 году вышло постановление Государственного совета о надзоре над Пушкиным. В этом же году он самовольно уехал на Кавказ, где служили его дру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0000" y="3959280"/>
            <a:ext cx="71992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6000" y="331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енитьба и Болдинская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720" y="1008000"/>
            <a:ext cx="4714920" cy="63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1830 году Пушкин посватался, а 1831 году женился на Наталье Гончаровой. Перед женитьбой он уехал в имение в Болдино, где вынужден был задержаться из-за карантина. Этот период в творчестве Пушкина называют Болдинской осенью, в течение которой он написал большое количество литературных произведений самых разных жанров, такие как «Дубровский», «Капитанская дочка» и многие друг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72000" y="1079640"/>
            <a:ext cx="3816360" cy="352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72000" y="475128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э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563480"/>
            <a:ext cx="8496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 февраля 1837 года Пушкин стрелялся на дуэли с Дантесом, был смертельно ранен и скончался 10 февраля в своем доме на Мой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4680" y="3384720"/>
            <a:ext cx="4278240" cy="331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11640" y="3384720"/>
            <a:ext cx="439272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99-183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0720" y="5049360"/>
            <a:ext cx="885672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ликий русский поэт и писател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360" y="1871640"/>
            <a:ext cx="5327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тство Пуш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9080" y="1728720"/>
            <a:ext cx="442620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 родился в Москве 6 июня 1799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раннего детства Пушкин рос и воспитывался в литературной среде, так что можно с уверенностью сказать о том, что его будущее было предопределен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19600" y="1728720"/>
            <a:ext cx="507204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287280"/>
            <a:ext cx="907092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ец Александра Сергеевича был ценителем литературы, имел большую библиотеку, дядя был известным поэтом, в гостях у которого часто бывали многие известные деятели литературы того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640" y="3168720"/>
            <a:ext cx="885672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юбимая ня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56384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омное влияние на будущего поэта оказала его няня, Арина Родионовна, которую поэт будет вспоминать всю свою жизнь и посвятит немало литературных произве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68360" y="3240000"/>
            <a:ext cx="763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иц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22400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11-ом году отец и дядя решают отправить Пушкина в только что открывшийся Царскосельский Лице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но там он начал писать свои первые стих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08000" y="3095640"/>
            <a:ext cx="8352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ое стихо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936360"/>
            <a:ext cx="90712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14 году было опубликовано первое стихотворение тогда еще пятнадцатилетнего Пушкина «К другу стихотворц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68360" y="2952720"/>
            <a:ext cx="76327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изнь после Лиц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окончания Лицея в 1817 году Пушкин не вернулся в Москву, а переехал в Петербург, где поступил на службу в коллегию иностранных дел. И уже через три года, Пушкин дописывает свою знаменитую поэму «Руслан и Людми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49800" y="1928880"/>
            <a:ext cx="442584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с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655640"/>
            <a:ext cx="442584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42732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распространение эпиграмм на различных людей, вольных стихов, в 1820 году Пушкина отправляют в ссылку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сылке, в 1823м году поэт садится за написание романа «Евгений Онегин», который принесёт ему в будущем великую слав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16720" y="5184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431640" indent="-322200" algn="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 четыре года ссылки Пушкиным были написаны такие романтические южные поэмы как «Кавказский пленник», «Бахчисарайский фонтан», «Братья разбойник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4720" y="1728720"/>
            <a:ext cx="43196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5T14:48:17Z</dcterms:created>
  <dc:creator/>
  <dc:description/>
  <dc:language>en-US</dc:language>
  <cp:lastModifiedBy/>
  <dcterms:modified xsi:type="dcterms:W3CDTF">2017-04-25T17:51:06Z</dcterms:modified>
  <cp:revision>1</cp:revision>
  <dc:subject/>
  <dc:title/>
</cp:coreProperties>
</file>