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8F46-52ED-4B7D-8AC6-9EB08EDC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364C-9D11-4B1D-9B66-06E3AB91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776B-F0A4-4E0E-82AC-F659077F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60BD-5A31-4FC6-835B-1B19B959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7C10-6058-486E-8458-D2DEB712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A77A-AAAF-4C1F-8DBC-A939BF07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A373-F546-45E1-B530-1551C0B4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C22-3FDE-4F1E-869A-EA17EBB2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2153-D495-4C70-807D-CAABEE25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38BC-1854-42F1-8A83-6DDEB30C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B191-72D9-4464-AFB4-0948A2FD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3B94-6BC5-4604-8731-4C2DE57F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02665-D29E-4215-9AA5-8DC47329C3F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авитель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агарина И.В.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БОУ школа 4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47280" y="2104560"/>
            <a:ext cx="907092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Александр Сергеевич Пушкин (биография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76000" y="287280"/>
            <a:ext cx="90709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6000"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824-ом году поэт находился в ссылке в своём имении – в селе Михайловское. Там он продолжал работу над «Евгением Онегиным», писал «Бориса Годунова», стихотворения. Находясь в ссылке Александр Сергеевич узнаёт о восстании друзей декабристов, многие из которых в последствии были казнены и отправлены в ссыл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28720" y="3672000"/>
            <a:ext cx="662472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лоток своб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440000"/>
            <a:ext cx="9070920" cy="23796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8000"/>
          </a:bodyPr>
          <a:p>
            <a:pPr marL="42300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 сентября 1826 года Николай 1 вызвал Пушкина в Москву, но свобода, дарованная царем, была недолгой, уже в 1828 году вышло постановление Государственного совета о надзоре над Пушкиным. В этом же году он самовольно уехал на Кавказ, где служили его друз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0000" y="3959280"/>
            <a:ext cx="719928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6000" y="3312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Женитьба и Болдинская о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0720" y="1008000"/>
            <a:ext cx="4714920" cy="63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9000"/>
          </a:bodyPr>
          <a:p>
            <a:pPr marL="42732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1830 году Пушкин посватался, а 1831 году женился на Наталье Гончаровой. Перед женитьбой он уехал в имение в Болдино, где вынужден был задержаться из-за карантина. Этот период в творчестве Пушкина называют Болдинской осенью, в течение которой он написал большое количество литературных произведений самых разных жанров, такие как «Дубровский», «Капитанская дочка» и многие друг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472000" y="1079640"/>
            <a:ext cx="3816360" cy="3527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472000" y="4751280"/>
            <a:ext cx="3816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уэ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0360" y="1563480"/>
            <a:ext cx="8496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8 февраля 1837 года Пушкин стрелялся на дуэли с Дантесом, был смертельно ранен и скончался 10 февраля в своем доме на Мой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44680" y="3384720"/>
            <a:ext cx="4278240" cy="3311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111640" y="3384720"/>
            <a:ext cx="4392720" cy="33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лександр Сергеевич Пушкин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1799-183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20720" y="5049360"/>
            <a:ext cx="885672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еликий русский поэт и писатель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76360" y="1871640"/>
            <a:ext cx="5327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тство Пушк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9080" y="1728720"/>
            <a:ext cx="4426200" cy="5832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ександр Сергеевич Пушкин родился в Москве 6 июня 1799г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раннего детства Пушкин рос и воспитывался в литературной среде, так что можно с уверенностью сказать о том, что его будущее было предопределено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19600" y="1728720"/>
            <a:ext cx="507204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360" y="287280"/>
            <a:ext cx="9070920" cy="26640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ец Александра Сергеевича был ценителем литературы, имел большую библиотеку, дядя был известным поэтом, в гостях у которого часто бывали многие известные деятели литературы того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7640" y="3168720"/>
            <a:ext cx="8856720" cy="37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юбимая ня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563840"/>
            <a:ext cx="9070920" cy="23796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громное влияние на будущего поэта оказала его няня, Арина Родионовна, которую поэт будет вспоминать всю свою жизнь и посвятит немало литературных произвед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68360" y="3240000"/>
            <a:ext cx="7632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иц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224000"/>
            <a:ext cx="9070920" cy="23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811-ом году отец и дядя решают отправить Пушкина в только что открывшийся Царскосельский Лицей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нно там он начал писать свои первые стих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08000" y="3095640"/>
            <a:ext cx="835200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вое стихотво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640" y="936360"/>
            <a:ext cx="90712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814 году было опубликовано первое стихотворение тогда еще пятнадцатилетнего Пушкина «К другу стихотворц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68360" y="2952720"/>
            <a:ext cx="763272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Жизнь после Лиц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 окончания Лицея в 1817 году Пушкин не вернулся в Москву, а переехал в Петербург, где поступил на службу в коллегию иностранных дел. И уже через три года, Пушкин дописывает свою знаменитую поэму «Руслан и Людмил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149800" y="1928880"/>
            <a:ext cx="4425840" cy="38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сы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655640"/>
            <a:ext cx="442584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9000"/>
          </a:bodyPr>
          <a:p>
            <a:pPr marL="42732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 распространение эпиграмм на различных людей, вольных стихов, в 1820 году Пушкина отправляют в ссылку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сылке, в 1823м году поэт садится за написание романа «Евгений Онегин», который принесёт ему в будущем великую слав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16720" y="5184720"/>
            <a:ext cx="381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 marL="431640" indent="-322200" algn="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 четыре года ссылки Пушкиным были написаны такие романтические южные поэмы как «Кавказский пленник», «Бахчисарайский фонтан», «Братья разбойник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184720" y="1728720"/>
            <a:ext cx="4319640" cy="331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5T14:48:17Z</dcterms:created>
  <dc:creator/>
  <dc:description/>
  <dc:language>en-US</dc:language>
  <cp:lastModifiedBy/>
  <dcterms:modified xsi:type="dcterms:W3CDTF">2017-04-25T17:51:06Z</dcterms:modified>
  <cp:revision>1</cp:revision>
  <dc:subject/>
  <dc:title/>
</cp:coreProperties>
</file>