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151-4584-4FEA-91C8-F4F80D349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5BF-5555-484D-83CF-63BCE8431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2D8-30C5-4436-B13A-639BDF0CF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CEF3-478E-44A1-95BE-44BED9112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16D-2755-44AE-823B-AC93171E7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D9D-E61A-428C-9931-40374793A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6EF-ED64-4384-97EA-3CF261394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602C-90D1-406F-BD3F-96986BE8A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913D-35C1-42D4-B164-9E27949F5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F5F-817E-4B9F-A6EE-D3A37E2F8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BE63-FBED-41EC-8364-DB1C9D77E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305-9877-4E55-9CBA-07C86BA9A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95A2-2DA6-4827-8A78-497DEF2F1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01F-A40E-44BA-9112-B985C4828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1B3-541F-4601-990A-B98205050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5B9-EA9B-414F-A8B2-D2B886655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96CE-295F-4D4E-A66B-9EB4767B7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807-0C13-49D9-95BB-0DF4DA0C9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E02-65C7-44D0-ABB1-15406C6E1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D371-16F6-4456-ADF7-726F6278A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684-2117-4BEC-995E-A0D0AE6D5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E4C-DFD7-4632-8021-924FBFD4D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564A-CE54-4D34-B3F4-4CD68F935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209C-E498-4234-BBBC-44D5AF5A1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CE25-0DCE-4701-8E3E-F4360DBB7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85E-2A50-4A26-8A6F-151AAB24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999-78C0-415E-8130-5CC5E0F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C8A-8CE1-4218-BA37-F965685F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7F0-FE0B-4D99-A065-08B8565F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D25-5EEA-4E18-93DB-E120BA4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A22-44A6-456B-8E83-671C264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462-5973-4739-9A50-9B1F945D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994-AA9A-4559-AD92-65A2D70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2FC-0D31-45EC-AC2E-C6F98CB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482-93D8-4FB5-B92E-8CBE984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4AE-D980-4CF9-91A0-CF4BC8C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C84-4FC4-4910-A6AA-9406E9C1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20D-165B-4D71-BA18-2C942E325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54040" y="3573000"/>
            <a:ext cx="2995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ТУР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700360" y="263700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17375e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«СВОЯ ИГРА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17375e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" name="Рисунок 29" descr="444"/>
          <p:cNvPicPr/>
          <p:nvPr/>
        </p:nvPicPr>
        <p:blipFill>
          <a:blip r:embed="rId1"/>
          <a:stretch/>
        </p:blipFill>
        <p:spPr>
          <a:xfrm>
            <a:off x="4427640" y="115920"/>
            <a:ext cx="5205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035080" y="708120"/>
            <a:ext cx="582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Нижне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№ 17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55040" y="5157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лова Викто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943440" y="638640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ий Новгород 2022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Авиценна утверждал: «Если заниматься физическими упражнениями, нет никакой нужды в употреблении…».</a:t>
            </a: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ек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Мои документы\Мама\лекарства.jpg"/>
          <p:cNvPicPr/>
          <p:nvPr/>
        </p:nvPicPr>
        <p:blipFill>
          <a:blip r:embed="rId1"/>
          <a:stretch/>
        </p:blipFill>
        <p:spPr>
          <a:xfrm>
            <a:off x="1071720" y="3286080"/>
            <a:ext cx="403200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7929720" y="21420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домой 6"/>
          <p:cNvSpPr/>
          <p:nvPr/>
        </p:nvSpPr>
        <p:spPr>
          <a:xfrm>
            <a:off x="8215200" y="6215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100008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omic Sans MS"/>
              </a:rPr>
              <a:t>Наука о здоровье, его сохранении и укрепл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игие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7500960" y="214200"/>
            <a:ext cx="1143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Admin\Мои документы\Мама\ГИГИЕНА1.jpg"/>
          <p:cNvPicPr/>
          <p:nvPr/>
        </p:nvPicPr>
        <p:blipFill>
          <a:blip r:embed="rId1"/>
          <a:stretch/>
        </p:blipFill>
        <p:spPr>
          <a:xfrm>
            <a:off x="2786040" y="2214720"/>
            <a:ext cx="3235320" cy="456084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домой 5"/>
          <p:cNvSpPr/>
          <p:nvPr/>
        </p:nvSpPr>
        <p:spPr>
          <a:xfrm>
            <a:off x="828684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В разгар антитабачной кампании в Европе выпустили плакат: знакомая курильщикам пачка сигарет «Кэмел». А что было изображено на пачке вместо верблюд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52858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елет верблю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омой 3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7643880" y="14292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Мои документы\Мама\Курение2.jpg"/>
          <p:cNvPicPr/>
          <p:nvPr/>
        </p:nvPicPr>
        <p:blipFill>
          <a:blip r:embed="rId1"/>
          <a:stretch/>
        </p:blipFill>
        <p:spPr>
          <a:xfrm>
            <a:off x="785880" y="714240"/>
            <a:ext cx="7715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21844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В 1997 году российская группа путешественников решила преодолеть Берингов пролив.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Эта идея обошлась государству примерно в 200 млн.рублей. На что же были затрачены такие деньг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5143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оиски пропавшей экспеди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домой 3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7715160" y="214200"/>
            <a:ext cx="10717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Documents and Settings\Admin\Мои документы\Мама\Путешественники2.jpg"/>
          <p:cNvPicPr/>
          <p:nvPr/>
        </p:nvPicPr>
        <p:blipFill>
          <a:blip r:embed="rId1"/>
          <a:stretch/>
        </p:blipFill>
        <p:spPr>
          <a:xfrm>
            <a:off x="642960" y="785880"/>
            <a:ext cx="8031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960" y="928440"/>
            <a:ext cx="75722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omic Sans MS"/>
              </a:rPr>
              <a:t>Ольга Данилова, Галина Кулакова, Лариса Лазутина, Раиса Сметанина, Вячеслав Веденин, Владимир Смирнов- чемпионы Олимпийских Игр. В каком виде спорта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ыжные го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7643880" y="285840"/>
            <a:ext cx="10713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4"/>
          <p:cNvSpPr/>
          <p:nvPr/>
        </p:nvSpPr>
        <p:spPr>
          <a:xfrm>
            <a:off x="828684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Admin\Мои документы\Мама\ski.jpg"/>
          <p:cNvPicPr/>
          <p:nvPr/>
        </p:nvPicPr>
        <p:blipFill>
          <a:blip r:embed="rId1"/>
          <a:stretch/>
        </p:blipFill>
        <p:spPr>
          <a:xfrm>
            <a:off x="500040" y="1000080"/>
            <a:ext cx="77421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В Канаде в Музее Национальной Хоккейной лиги(НХЛ) представлены два советских хоккеиста.</a:t>
            </a: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Кто эти мас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лерий Харлам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ладислав Третья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домой 3"/>
          <p:cNvSpPr/>
          <p:nvPr/>
        </p:nvSpPr>
        <p:spPr>
          <a:xfrm>
            <a:off x="8572680" y="6357960"/>
            <a:ext cx="285480" cy="28584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1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4"/>
                </a:lnTo>
                <a:lnTo>
                  <a:pt x="16109" y="10814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4"/>
                </a:lnTo>
                <a:lnTo>
                  <a:pt x="3837" y="10814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4"/>
                </a:lnTo>
                <a:lnTo>
                  <a:pt x="5491" y="10814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7858080" y="285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61081.gif"/>
          <p:cNvPicPr/>
          <p:nvPr/>
        </p:nvPicPr>
        <p:blipFill>
          <a:blip r:embed="rId1"/>
          <a:stretch/>
        </p:blipFill>
        <p:spPr>
          <a:xfrm>
            <a:off x="1214280" y="3786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27553.gif"/>
          <p:cNvPicPr/>
          <p:nvPr/>
        </p:nvPicPr>
        <p:blipFill>
          <a:blip r:embed="rId2"/>
          <a:stretch/>
        </p:blipFill>
        <p:spPr>
          <a:xfrm>
            <a:off x="4497480" y="3786120"/>
            <a:ext cx="3198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Известный спортивный комментатор Николай Николаевич Озеров был великим спортсменом- неоднократным чемпионом СССР. В каком виде спорта он выступ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нни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омой 3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715160" y="214200"/>
            <a:ext cx="1143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C:\Documents and Settings\Admin\Мои документы\Мама\озеров.jpg"/>
          <p:cNvPicPr/>
          <p:nvPr/>
        </p:nvPicPr>
        <p:blipFill>
          <a:blip r:embed="rId1"/>
          <a:stretch/>
        </p:blipFill>
        <p:spPr>
          <a:xfrm>
            <a:off x="3143160" y="2786040"/>
            <a:ext cx="2857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omic Sans MS"/>
              </a:rPr>
              <a:t>Назовите самого титулованного футбольного вратаря нашей стра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760" y="450036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в Я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Управляющая кнопка: домой 3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715160" y="214200"/>
            <a:ext cx="10717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1956_2.jpg"/>
          <p:cNvPicPr/>
          <p:nvPr/>
        </p:nvPicPr>
        <p:blipFill>
          <a:blip r:embed="rId1"/>
          <a:stretch/>
        </p:blipFill>
        <p:spPr>
          <a:xfrm>
            <a:off x="1928880" y="357120"/>
            <a:ext cx="49291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omic Sans MS"/>
              </a:rPr>
              <a:t>Кто стал первым российским олимпийским чемпионом и в каком виде спор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414288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лай Панин-Коломенкин Олимпийские Игры – 1908 г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гурное ка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омой 3"/>
          <p:cNvSpPr/>
          <p:nvPr/>
        </p:nvSpPr>
        <p:spPr>
          <a:xfrm>
            <a:off x="8643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7786800" y="214200"/>
            <a:ext cx="10713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panin-kolomenkin_1_s.gif"/>
          <p:cNvPicPr/>
          <p:nvPr/>
        </p:nvPicPr>
        <p:blipFill>
          <a:blip r:embed="rId1"/>
          <a:stretch/>
        </p:blipFill>
        <p:spPr>
          <a:xfrm>
            <a:off x="2500200" y="35712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omic Sans MS"/>
              </a:rPr>
              <a:t>Как выглядит олимпийский симво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 сплетённых колец: вверху – голубой, черный, красный; внизу – зелёный, жёлт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3"/>
          <p:cNvSpPr/>
          <p:nvPr/>
        </p:nvSpPr>
        <p:spPr>
          <a:xfrm>
            <a:off x="8572680" y="6357960"/>
            <a:ext cx="285480" cy="28584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1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4"/>
                </a:lnTo>
                <a:lnTo>
                  <a:pt x="16109" y="10814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4"/>
                </a:lnTo>
                <a:lnTo>
                  <a:pt x="3837" y="10814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4"/>
                </a:lnTo>
                <a:lnTo>
                  <a:pt x="5491" y="10814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786800" y="214200"/>
            <a:ext cx="10713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1.jpg"/>
          <p:cNvPicPr/>
          <p:nvPr/>
        </p:nvPicPr>
        <p:blipFill>
          <a:blip r:embed="rId1"/>
          <a:stretch/>
        </p:blipFill>
        <p:spPr>
          <a:xfrm>
            <a:off x="714240" y="928800"/>
            <a:ext cx="773604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игре могут принимать участие как отдельные игроки (2 и более), так и команды (2 и боле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о первого хода определяется простой жеребьевкой или считалк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астникам игры для обсуждения предлагают четыре темы. В каждой теме по пять вопросов. Вопросы расположены по уровням сложности, каждому уровню сложности присвоены баллы (от 10 до 5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ок (команда), получивший право первого хода, по своему желанию выбирает тему и уровень слож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размышление и обсуждение вопроса дается не более 1 минуты. В том случае, если игрок (команда) не находит ответа или отвечает неправильно, право ответа переходит к соперник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ллы присуждаются игроку (команде), назвавшему правильный отв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omic Sans MS"/>
              </a:rPr>
              <a:t>В каком году Олимпийские игры проводились в нашей стран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198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Управляющая кнопка: домой 3"/>
          <p:cNvSpPr/>
          <p:nvPr/>
        </p:nvSpPr>
        <p:spPr>
          <a:xfrm>
            <a:off x="8572680" y="6357960"/>
            <a:ext cx="285480" cy="28584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1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4"/>
                </a:lnTo>
                <a:lnTo>
                  <a:pt x="16109" y="10814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4"/>
                </a:lnTo>
                <a:lnTo>
                  <a:pt x="3837" y="10814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4"/>
                </a:lnTo>
                <a:lnTo>
                  <a:pt x="5491" y="10814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6929280" y="357120"/>
            <a:ext cx="1143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москва 80.jpg"/>
          <p:cNvPicPr/>
          <p:nvPr/>
        </p:nvPicPr>
        <p:blipFill>
          <a:blip r:embed="rId1"/>
          <a:stretch/>
        </p:blipFill>
        <p:spPr>
          <a:xfrm>
            <a:off x="571680" y="1071720"/>
            <a:ext cx="8137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85920" y="1500120"/>
            <a:ext cx="65721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omic Sans MS"/>
              </a:rPr>
              <a:t>Континент, на котором еще не проводились Олимпийские Иг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7643880" y="285840"/>
            <a:ext cx="10713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домой 4"/>
          <p:cNvSpPr/>
          <p:nvPr/>
        </p:nvSpPr>
        <p:spPr>
          <a:xfrm>
            <a:off x="8072280" y="6286680"/>
            <a:ext cx="500400" cy="428400"/>
          </a:xfrm>
          <a:custGeom>
            <a:avLst/>
            <a:gdLst>
              <a:gd name="textAreaLeft" fmla="*/ 27720 w 500400"/>
              <a:gd name="textAreaRight" fmla="*/ 472680 w 500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27" h="21600">
                <a:moveTo>
                  <a:pt x="0" y="0"/>
                </a:moveTo>
                <a:lnTo>
                  <a:pt x="25227" y="0"/>
                </a:lnTo>
                <a:lnTo>
                  <a:pt x="25227" y="21600"/>
                </a:lnTo>
                <a:lnTo>
                  <a:pt x="0" y="21600"/>
                </a:lnTo>
                <a:close/>
              </a:path>
              <a:path fill="lightenLess" w="25227" h="21600">
                <a:moveTo>
                  <a:pt x="0" y="0"/>
                </a:moveTo>
                <a:lnTo>
                  <a:pt x="25227" y="0"/>
                </a:lnTo>
                <a:lnTo>
                  <a:pt x="23827" y="1400"/>
                </a:lnTo>
                <a:lnTo>
                  <a:pt x="1400" y="1400"/>
                </a:lnTo>
                <a:close/>
              </a:path>
              <a:path fill="darken" w="25227" h="21600">
                <a:moveTo>
                  <a:pt x="25227" y="0"/>
                </a:moveTo>
                <a:lnTo>
                  <a:pt x="25227" y="21600"/>
                </a:lnTo>
                <a:lnTo>
                  <a:pt x="23827" y="20200"/>
                </a:lnTo>
                <a:lnTo>
                  <a:pt x="23827" y="1400"/>
                </a:lnTo>
                <a:close/>
              </a:path>
              <a:path fill="darkenLess" w="25227" h="21600">
                <a:moveTo>
                  <a:pt x="25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27" y="20200"/>
                </a:lnTo>
                <a:close/>
              </a:path>
              <a:path fill="lighten" w="25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27" h="21600">
                <a:moveTo>
                  <a:pt x="12614" y="3837"/>
                </a:moveTo>
                <a:lnTo>
                  <a:pt x="15190" y="6448"/>
                </a:lnTo>
                <a:lnTo>
                  <a:pt x="15190" y="4707"/>
                </a:lnTo>
                <a:lnTo>
                  <a:pt x="16965" y="4707"/>
                </a:lnTo>
                <a:lnTo>
                  <a:pt x="16965" y="8224"/>
                </a:lnTo>
                <a:lnTo>
                  <a:pt x="19577" y="10800"/>
                </a:lnTo>
                <a:lnTo>
                  <a:pt x="17923" y="10800"/>
                </a:lnTo>
                <a:lnTo>
                  <a:pt x="17923" y="17989"/>
                </a:lnTo>
                <a:lnTo>
                  <a:pt x="7304" y="17989"/>
                </a:lnTo>
                <a:lnTo>
                  <a:pt x="7304" y="10800"/>
                </a:lnTo>
                <a:lnTo>
                  <a:pt x="5651" y="10800"/>
                </a:lnTo>
                <a:close/>
              </a:path>
              <a:path fill="darkenLess" w="25227" h="21600">
                <a:moveTo>
                  <a:pt x="15190" y="6448"/>
                </a:moveTo>
                <a:lnTo>
                  <a:pt x="15190" y="4707"/>
                </a:lnTo>
                <a:lnTo>
                  <a:pt x="16965" y="4707"/>
                </a:lnTo>
                <a:lnTo>
                  <a:pt x="16965" y="8224"/>
                </a:lnTo>
                <a:close/>
              </a:path>
              <a:path fill="darkenLess" w="25227" h="21600">
                <a:moveTo>
                  <a:pt x="11691" y="14299"/>
                </a:moveTo>
                <a:lnTo>
                  <a:pt x="13536" y="14299"/>
                </a:lnTo>
                <a:lnTo>
                  <a:pt x="13536" y="17989"/>
                </a:lnTo>
                <a:lnTo>
                  <a:pt x="17923" y="17989"/>
                </a:lnTo>
                <a:lnTo>
                  <a:pt x="17923" y="10800"/>
                </a:lnTo>
                <a:lnTo>
                  <a:pt x="7304" y="10800"/>
                </a:lnTo>
                <a:lnTo>
                  <a:pt x="7304" y="17989"/>
                </a:lnTo>
                <a:lnTo>
                  <a:pt x="1169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Admin\Мои документы\Мама\А.gif"/>
          <p:cNvPicPr/>
          <p:nvPr/>
        </p:nvPicPr>
        <p:blipFill>
          <a:blip r:embed="rId1"/>
          <a:stretch/>
        </p:blipFill>
        <p:spPr>
          <a:xfrm>
            <a:off x="857160" y="190440"/>
            <a:ext cx="67150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omic Sans MS"/>
              </a:rPr>
              <a:t>Кому принадлежит идея возрождения Олимпийских Игр в 1894 год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правляющая кнопка: домой 3"/>
          <p:cNvSpPr/>
          <p:nvPr/>
        </p:nvSpPr>
        <p:spPr>
          <a:xfrm>
            <a:off x="8501040" y="628668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3837"/>
                </a:moveTo>
                <a:lnTo>
                  <a:pt x="13390" y="6448"/>
                </a:lnTo>
                <a:lnTo>
                  <a:pt x="13390" y="4707"/>
                </a:lnTo>
                <a:lnTo>
                  <a:pt x="15165" y="4707"/>
                </a:lnTo>
                <a:lnTo>
                  <a:pt x="15165" y="8224"/>
                </a:lnTo>
                <a:lnTo>
                  <a:pt x="17777" y="10800"/>
                </a:lnTo>
                <a:lnTo>
                  <a:pt x="16123" y="10800"/>
                </a:lnTo>
                <a:lnTo>
                  <a:pt x="16123" y="17989"/>
                </a:lnTo>
                <a:lnTo>
                  <a:pt x="5504" y="17989"/>
                </a:lnTo>
                <a:lnTo>
                  <a:pt x="5504" y="10800"/>
                </a:lnTo>
                <a:lnTo>
                  <a:pt x="3851" y="10800"/>
                </a:lnTo>
                <a:close/>
              </a:path>
              <a:path fill="darkenLess" w="21627" h="21600">
                <a:moveTo>
                  <a:pt x="13390" y="6448"/>
                </a:moveTo>
                <a:lnTo>
                  <a:pt x="13390" y="4707"/>
                </a:lnTo>
                <a:lnTo>
                  <a:pt x="15165" y="4707"/>
                </a:lnTo>
                <a:lnTo>
                  <a:pt x="15165" y="8224"/>
                </a:lnTo>
                <a:close/>
              </a:path>
              <a:path fill="darkenLess" w="21627" h="21600">
                <a:moveTo>
                  <a:pt x="9891" y="14299"/>
                </a:moveTo>
                <a:lnTo>
                  <a:pt x="11736" y="14299"/>
                </a:lnTo>
                <a:lnTo>
                  <a:pt x="11736" y="17989"/>
                </a:lnTo>
                <a:lnTo>
                  <a:pt x="16123" y="17989"/>
                </a:lnTo>
                <a:lnTo>
                  <a:pt x="16123" y="10800"/>
                </a:lnTo>
                <a:lnTo>
                  <a:pt x="5504" y="10800"/>
                </a:lnTo>
                <a:lnTo>
                  <a:pt x="5504" y="17989"/>
                </a:lnTo>
                <a:lnTo>
                  <a:pt x="989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7143840" y="357120"/>
            <a:ext cx="1143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5" descr="кубертен.jpg"/>
          <p:cNvPicPr/>
          <p:nvPr/>
        </p:nvPicPr>
        <p:blipFill>
          <a:blip r:embed="rId1"/>
          <a:stretch/>
        </p:blipFill>
        <p:spPr>
          <a:xfrm>
            <a:off x="571680" y="1000080"/>
            <a:ext cx="81435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Атлет Арсиб в 724 году до н.э. выиграл Олимпиаду. В свой город он вошёл не через ворота, а через пролом в стене. Затем стену заложили снова. Почем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1432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беда вошла в гор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навсегда останется 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Управляющая кнопка: домой 3"/>
          <p:cNvSpPr/>
          <p:nvPr/>
        </p:nvSpPr>
        <p:spPr>
          <a:xfrm>
            <a:off x="857268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7715160" y="214200"/>
            <a:ext cx="10717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C:\Documents and Settings\Admin\Мои документы\Мама\арсиб.jpg"/>
          <p:cNvPicPr/>
          <p:nvPr/>
        </p:nvPicPr>
        <p:blipFill>
          <a:blip r:embed="rId1"/>
          <a:stretch/>
        </p:blipFill>
        <p:spPr>
          <a:xfrm>
            <a:off x="2428920" y="3714840"/>
            <a:ext cx="4357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omic Sans MS"/>
              </a:rPr>
              <a:t>Молодцы!</a:t>
            </a:r>
            <a:br>
              <a:rPr sz="9600"/>
            </a:br>
            <a:r>
              <a:rPr b="1" lang="ru-RU" sz="9600" spc="-1" strike="noStrike">
                <a:solidFill>
                  <a:srgbClr val="c00000"/>
                </a:solidFill>
                <a:latin typeface="Comic Sans MS"/>
              </a:rPr>
              <a:t>Так держать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8760" y="333360"/>
          <a:ext cx="8269200" cy="5810400"/>
        </p:xfrm>
        <a:graphic>
          <a:graphicData uri="http://schemas.openxmlformats.org/drawingml/2006/table">
            <a:tbl>
              <a:tblPr/>
              <a:tblGrid>
                <a:gridCol w="2439720"/>
                <a:gridCol w="1143000"/>
                <a:gridCol w="1214640"/>
                <a:gridCol w="1214280"/>
                <a:gridCol w="1143000"/>
                <a:gridCol w="111456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ГЕРОИ 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ВИДЫ 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В ЗДОРОВОМ ТЕЛЕ- ЗДОРОВЫЙ Д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ОЛИМПИЙСКИ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Стрелка вправо 5"/>
          <p:cNvSpPr/>
          <p:nvPr/>
        </p:nvSpPr>
        <p:spPr>
          <a:xfrm>
            <a:off x="8215200" y="628668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Как называется вид спорта, сочетающий лыжные гонки и стрельб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иат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Admin\Мои документы\Мама\биатлон.jpg"/>
          <p:cNvPicPr/>
          <p:nvPr/>
        </p:nvPicPr>
        <p:blipFill>
          <a:blip r:embed="rId1"/>
          <a:stretch/>
        </p:blipFill>
        <p:spPr>
          <a:xfrm>
            <a:off x="2095560" y="2643120"/>
            <a:ext cx="5391000" cy="4043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7786800" y="285840"/>
            <a:ext cx="10713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омой 5"/>
          <p:cNvSpPr/>
          <p:nvPr/>
        </p:nvSpPr>
        <p:spPr>
          <a:xfrm>
            <a:off x="835812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7215120" y="500040"/>
            <a:ext cx="9288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85840" y="107172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omic Sans MS"/>
              </a:rPr>
              <a:t>Как называется вид спорта, когда акробатические упражнения выполняются в воде под музы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9680" y="4786200"/>
            <a:ext cx="825804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НХРОННОЕ ПЛА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va0322117.jpg"/>
          <p:cNvPicPr/>
          <p:nvPr/>
        </p:nvPicPr>
        <p:blipFill>
          <a:blip r:embed="rId1"/>
          <a:stretch/>
        </p:blipFill>
        <p:spPr>
          <a:xfrm>
            <a:off x="2214720" y="2928960"/>
            <a:ext cx="4857480" cy="36669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643960" y="6286680"/>
            <a:ext cx="315720" cy="35712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357120"/>
              <a:gd name="textAreaBottom" fmla="*/ 336960 h 357120"/>
            </a:gdLst>
            <a:ahLst/>
            <a:rect l="textAreaLeft" t="textAreaTop" r="textAreaRight" b="textAreaBottom"/>
            <a:pathLst>
              <a:path w="21600" h="24429">
                <a:moveTo>
                  <a:pt x="0" y="0"/>
                </a:moveTo>
                <a:lnTo>
                  <a:pt x="21600" y="0"/>
                </a:lnTo>
                <a:lnTo>
                  <a:pt x="21600" y="24429"/>
                </a:lnTo>
                <a:lnTo>
                  <a:pt x="0" y="24429"/>
                </a:lnTo>
                <a:close/>
              </a:path>
              <a:path fill="lightenLess" w="21600" h="244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29">
                <a:moveTo>
                  <a:pt x="21600" y="0"/>
                </a:moveTo>
                <a:lnTo>
                  <a:pt x="21600" y="24429"/>
                </a:lnTo>
                <a:lnTo>
                  <a:pt x="20200" y="23029"/>
                </a:lnTo>
                <a:lnTo>
                  <a:pt x="20200" y="1400"/>
                </a:lnTo>
                <a:close/>
              </a:path>
              <a:path fill="darkenLess" w="21600" h="24429">
                <a:moveTo>
                  <a:pt x="21600" y="24429"/>
                </a:moveTo>
                <a:lnTo>
                  <a:pt x="0" y="24429"/>
                </a:lnTo>
                <a:lnTo>
                  <a:pt x="1400" y="23029"/>
                </a:lnTo>
                <a:lnTo>
                  <a:pt x="20200" y="23029"/>
                </a:lnTo>
                <a:close/>
              </a:path>
              <a:path fill="lighten" w="21600" h="24429">
                <a:moveTo>
                  <a:pt x="0" y="244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29"/>
                </a:lnTo>
                <a:close/>
              </a:path>
              <a:path fill="darken" w="21600" h="24429">
                <a:moveTo>
                  <a:pt x="10800" y="5252"/>
                </a:moveTo>
                <a:lnTo>
                  <a:pt x="13376" y="7863"/>
                </a:lnTo>
                <a:lnTo>
                  <a:pt x="13376" y="6122"/>
                </a:lnTo>
                <a:lnTo>
                  <a:pt x="15152" y="6122"/>
                </a:lnTo>
                <a:lnTo>
                  <a:pt x="15152" y="9638"/>
                </a:lnTo>
                <a:lnTo>
                  <a:pt x="17763" y="12215"/>
                </a:lnTo>
                <a:lnTo>
                  <a:pt x="16109" y="12215"/>
                </a:lnTo>
                <a:lnTo>
                  <a:pt x="16109" y="19404"/>
                </a:lnTo>
                <a:lnTo>
                  <a:pt x="5491" y="19404"/>
                </a:lnTo>
                <a:lnTo>
                  <a:pt x="5491" y="12215"/>
                </a:lnTo>
                <a:lnTo>
                  <a:pt x="3837" y="12215"/>
                </a:lnTo>
                <a:close/>
              </a:path>
              <a:path fill="darkenLess" w="21600" h="24429">
                <a:moveTo>
                  <a:pt x="13376" y="7863"/>
                </a:moveTo>
                <a:lnTo>
                  <a:pt x="13376" y="6122"/>
                </a:lnTo>
                <a:lnTo>
                  <a:pt x="15152" y="6122"/>
                </a:lnTo>
                <a:lnTo>
                  <a:pt x="15152" y="9638"/>
                </a:lnTo>
                <a:close/>
              </a:path>
              <a:path fill="darkenLess" w="21600" h="24429">
                <a:moveTo>
                  <a:pt x="9877" y="15713"/>
                </a:moveTo>
                <a:lnTo>
                  <a:pt x="11723" y="15713"/>
                </a:lnTo>
                <a:lnTo>
                  <a:pt x="11723" y="19404"/>
                </a:lnTo>
                <a:lnTo>
                  <a:pt x="16109" y="19404"/>
                </a:lnTo>
                <a:lnTo>
                  <a:pt x="16109" y="12215"/>
                </a:lnTo>
                <a:lnTo>
                  <a:pt x="5491" y="12215"/>
                </a:lnTo>
                <a:lnTo>
                  <a:pt x="5491" y="19404"/>
                </a:lnTo>
                <a:lnTo>
                  <a:pt x="9877" y="1940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omic Sans MS"/>
              </a:rPr>
              <a:t>В 1314г. в Англии был издан королевский указ, повелевавший прекратить «беснование» с мячом в черте города. О какой игре идет речь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Фу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Admin\Мои документы\Мама\футбол.jpg"/>
          <p:cNvPicPr/>
          <p:nvPr/>
        </p:nvPicPr>
        <p:blipFill>
          <a:blip r:embed="rId1"/>
          <a:stretch/>
        </p:blipFill>
        <p:spPr>
          <a:xfrm>
            <a:off x="1000080" y="928800"/>
            <a:ext cx="7620120" cy="5209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7572240" y="28584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омой 6"/>
          <p:cNvSpPr/>
          <p:nvPr/>
        </p:nvSpPr>
        <p:spPr>
          <a:xfrm>
            <a:off x="8429760" y="635796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12953" y="3837"/>
                </a:moveTo>
                <a:lnTo>
                  <a:pt x="15530" y="6448"/>
                </a:ln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lnTo>
                  <a:pt x="19916" y="10800"/>
                </a:lnTo>
                <a:lnTo>
                  <a:pt x="18263" y="10800"/>
                </a:lnTo>
                <a:lnTo>
                  <a:pt x="18263" y="17989"/>
                </a:lnTo>
                <a:lnTo>
                  <a:pt x="7644" y="17989"/>
                </a:lnTo>
                <a:lnTo>
                  <a:pt x="7644" y="10800"/>
                </a:lnTo>
                <a:lnTo>
                  <a:pt x="5991" y="10800"/>
                </a:lnTo>
                <a:close/>
              </a:path>
              <a:path fill="darkenLess" w="25907" h="21600">
                <a:moveTo>
                  <a:pt x="15530" y="6448"/>
                </a:move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close/>
              </a:path>
              <a:path fill="darkenLess" w="25907" h="21600">
                <a:moveTo>
                  <a:pt x="12031" y="14299"/>
                </a:moveTo>
                <a:lnTo>
                  <a:pt x="13876" y="14299"/>
                </a:lnTo>
                <a:lnTo>
                  <a:pt x="13876" y="17989"/>
                </a:lnTo>
                <a:lnTo>
                  <a:pt x="18263" y="17989"/>
                </a:lnTo>
                <a:lnTo>
                  <a:pt x="18263" y="10800"/>
                </a:lnTo>
                <a:lnTo>
                  <a:pt x="7644" y="10800"/>
                </a:lnTo>
                <a:lnTo>
                  <a:pt x="7644" y="17989"/>
                </a:lnTo>
                <a:lnTo>
                  <a:pt x="1203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omic Sans MS"/>
              </a:rPr>
              <a:t>Спортивная игра на льду, в которой участвуют 2 команды по 4 игрока. Игра осуществляется с использованием снаряда, вес которого 20 кг, основа снаряда изготавливается из гран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ерлин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ама\керл инг.jpg"/>
          <p:cNvPicPr/>
          <p:nvPr/>
        </p:nvPicPr>
        <p:blipFill>
          <a:blip r:embed="rId1"/>
          <a:stretch/>
        </p:blipFill>
        <p:spPr>
          <a:xfrm>
            <a:off x="357120" y="928800"/>
            <a:ext cx="8072640" cy="5381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7786800" y="285840"/>
            <a:ext cx="10713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5"/>
          <p:cNvSpPr/>
          <p:nvPr/>
        </p:nvSpPr>
        <p:spPr>
          <a:xfrm>
            <a:off x="8501040" y="63579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5118" y="3837"/>
                </a:moveTo>
                <a:lnTo>
                  <a:pt x="17694" y="6448"/>
                </a:ln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lnTo>
                  <a:pt x="22081" y="10800"/>
                </a:lnTo>
                <a:lnTo>
                  <a:pt x="20427" y="10800"/>
                </a:lnTo>
                <a:lnTo>
                  <a:pt x="20427" y="17989"/>
                </a:lnTo>
                <a:lnTo>
                  <a:pt x="9809" y="17989"/>
                </a:lnTo>
                <a:lnTo>
                  <a:pt x="9809" y="10800"/>
                </a:lnTo>
                <a:lnTo>
                  <a:pt x="8155" y="10800"/>
                </a:lnTo>
                <a:close/>
              </a:path>
              <a:path fill="darkenLess" w="30236" h="21600">
                <a:moveTo>
                  <a:pt x="17694" y="6448"/>
                </a:move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close/>
              </a:path>
              <a:path fill="darkenLess" w="30236" h="21600">
                <a:moveTo>
                  <a:pt x="14195" y="14299"/>
                </a:moveTo>
                <a:lnTo>
                  <a:pt x="16040" y="14299"/>
                </a:lnTo>
                <a:lnTo>
                  <a:pt x="16040" y="17989"/>
                </a:lnTo>
                <a:lnTo>
                  <a:pt x="20427" y="17989"/>
                </a:lnTo>
                <a:lnTo>
                  <a:pt x="20427" y="10800"/>
                </a:lnTo>
                <a:lnTo>
                  <a:pt x="9809" y="10800"/>
                </a:lnTo>
                <a:lnTo>
                  <a:pt x="9809" y="17989"/>
                </a:lnTo>
                <a:lnTo>
                  <a:pt x="1419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Гарпанон, гарпастум, ла суль, шалига - у разных древних народов она называлась по-разному. А местом рождения современной игры считается таверна на лондонской улице Грейт–Куин-стрит.</a:t>
            </a: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О какой игре идет ре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фу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7786800" y="285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dmin\Мои документы\Мама\футбол1.jpg"/>
          <p:cNvPicPr/>
          <p:nvPr/>
        </p:nvPicPr>
        <p:blipFill>
          <a:blip r:embed="rId1"/>
          <a:stretch/>
        </p:blipFill>
        <p:spPr>
          <a:xfrm>
            <a:off x="500040" y="928800"/>
            <a:ext cx="7908840" cy="526716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омой 5"/>
          <p:cNvSpPr/>
          <p:nvPr/>
        </p:nvSpPr>
        <p:spPr>
          <a:xfrm>
            <a:off x="8429760" y="6215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71720" y="1500120"/>
            <a:ext cx="70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omic Sans MS"/>
              </a:rPr>
              <a:t>Шпандер, Ринго, Чижик, Бабки, Лапта…Что объединяет все эти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названия подвижных иг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8001000" y="285840"/>
            <a:ext cx="10000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домой 4"/>
          <p:cNvSpPr/>
          <p:nvPr/>
        </p:nvSpPr>
        <p:spPr>
          <a:xfrm>
            <a:off x="8429760" y="62866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12953" y="3837"/>
                </a:moveTo>
                <a:lnTo>
                  <a:pt x="15530" y="6448"/>
                </a:ln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lnTo>
                  <a:pt x="19916" y="10800"/>
                </a:lnTo>
                <a:lnTo>
                  <a:pt x="18263" y="10800"/>
                </a:lnTo>
                <a:lnTo>
                  <a:pt x="18263" y="17989"/>
                </a:lnTo>
                <a:lnTo>
                  <a:pt x="7644" y="17989"/>
                </a:lnTo>
                <a:lnTo>
                  <a:pt x="7644" y="10800"/>
                </a:lnTo>
                <a:lnTo>
                  <a:pt x="5991" y="10800"/>
                </a:lnTo>
                <a:close/>
              </a:path>
              <a:path fill="darkenLess" w="25907" h="21600">
                <a:moveTo>
                  <a:pt x="15530" y="6448"/>
                </a:move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close/>
              </a:path>
              <a:path fill="darkenLess" w="25907" h="21600">
                <a:moveTo>
                  <a:pt x="12031" y="14299"/>
                </a:moveTo>
                <a:lnTo>
                  <a:pt x="13876" y="14299"/>
                </a:lnTo>
                <a:lnTo>
                  <a:pt x="13876" y="17989"/>
                </a:lnTo>
                <a:lnTo>
                  <a:pt x="18263" y="17989"/>
                </a:lnTo>
                <a:lnTo>
                  <a:pt x="18263" y="10800"/>
                </a:lnTo>
                <a:lnTo>
                  <a:pt x="7644" y="10800"/>
                </a:lnTo>
                <a:lnTo>
                  <a:pt x="7644" y="17989"/>
                </a:lnTo>
                <a:lnTo>
                  <a:pt x="1203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Admin\Мои документы\Мама\ПИ2.jpg"/>
          <p:cNvPicPr/>
          <p:nvPr/>
        </p:nvPicPr>
        <p:blipFill>
          <a:blip r:embed="rId1"/>
          <a:stretch/>
        </p:blipFill>
        <p:spPr>
          <a:xfrm>
            <a:off x="714240" y="785880"/>
            <a:ext cx="75247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5:52:15Z</dcterms:created>
  <dc:creator>User</dc:creator>
  <dc:description/>
  <dc:language>en-US</dc:language>
  <cp:lastModifiedBy>User</cp:lastModifiedBy>
  <dcterms:modified xsi:type="dcterms:W3CDTF">2022-04-01T12:20:55Z</dcterms:modified>
  <cp:revision>174</cp:revision>
  <dc:subject/>
  <dc:title>СВОЯ ИГРА</dc:title>
</cp:coreProperties>
</file>