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3705-D8FF-448A-95EE-7659FFA0A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7D0B-D20B-4420-B65D-502B0AE3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3417-05DC-42CD-9208-8EC690BD4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BD23-126B-440E-83D0-A0A63A102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AB2E-2F4D-4590-9250-29DF1390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79D0-92A6-4FA6-9894-671AF8D6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192F-D454-4D86-A216-9BBB8888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9AC8-82D8-4E07-878C-F96B8CCC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B38F-C80B-473A-A963-1183D08B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F928-37F0-42E4-B31D-7B186872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047B-AE53-4D55-8805-3BB6F237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B212-D87A-4C6E-8D01-49A3F34D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F832-36A6-4EAF-9147-C235B35519D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В их честь названы улицы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авилов Геннадий Сергеевич (1923-1942) — красноармеец 796-го стрелкового полка 141-й стрелковой дивизии. Родился в Суздальском районе Владимирской области. В бою на улице Ленина 15 июля 1942 года грудью закрыл амбразуру немецкого дзота. Похоронен в братской могиле № 15 (станция Юннатов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7" descr="Вавилов геннадий"/>
          <p:cNvPicPr/>
          <p:nvPr/>
        </p:nvPicPr>
        <p:blipFill>
          <a:blip r:embed="rId1"/>
          <a:stretch/>
        </p:blipFill>
        <p:spPr>
          <a:xfrm>
            <a:off x="5138640" y="1643040"/>
            <a:ext cx="305748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10549" b="0"/>
          <a:stretch/>
        </p:blipFill>
        <p:spPr>
          <a:xfrm>
            <a:off x="2050920" y="0"/>
            <a:ext cx="4897440" cy="3605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3573360"/>
            <a:ext cx="5003640" cy="3284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225a969c012a"/>
          <p:cNvPicPr/>
          <p:nvPr/>
        </p:nvPicPr>
        <p:blipFill>
          <a:blip r:embed="rId3"/>
          <a:stretch/>
        </p:blipFill>
        <p:spPr>
          <a:xfrm>
            <a:off x="4932360" y="3573360"/>
            <a:ext cx="421164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В их честь названы улицы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хорович Франц Иосифович (1894 — 1961 гг.) — советский военачальник, Герой Советского Союза, генерал-лейтенант. Командующий 100-й стрелковой дивизии, сформированой в начале 1942 г. в Волгоградской области. На Воронежский фронт она прибыла 17 июля 1942 г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7" descr="Перхорович_Франц_Иосифович"/>
          <p:cNvPicPr/>
          <p:nvPr/>
        </p:nvPicPr>
        <p:blipFill>
          <a:blip r:embed="rId1"/>
          <a:stretch/>
        </p:blipFill>
        <p:spPr>
          <a:xfrm>
            <a:off x="5321160" y="1600200"/>
            <a:ext cx="2692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3432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492360" y="3398760"/>
            <a:ext cx="565164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В их честь названы улицы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утилин Василий Сергеевич (1924 — 1943 гг.). Уроженец города Воронежа, аппаратчик цеха переработки каучука завода СК имени Кирова. Добровольно ушел на фронт, сражался под Воронежем, на Курской дуге, погиб в Белоруссии. Звание Героя Советского Союза присвоено посмертно. Навечно занесен в списки рабочих завода СК.</a:t>
            </a:r>
            <a:br>
              <a:rPr sz="2000"/>
            </a:br>
            <a:br>
              <a:rPr sz="1800"/>
            </a:br>
            <a:br>
              <a:rPr sz="18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7" descr="путилин василий"/>
          <p:cNvPicPr/>
          <p:nvPr/>
        </p:nvPicPr>
        <p:blipFill>
          <a:blip r:embed="rId1"/>
          <a:stretch/>
        </p:blipFill>
        <p:spPr>
          <a:xfrm>
            <a:off x="5184720" y="1628640"/>
            <a:ext cx="304812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20781" t="19021" r="22532" b="14318"/>
          <a:stretch/>
        </p:blipFill>
        <p:spPr>
          <a:xfrm>
            <a:off x="0" y="0"/>
            <a:ext cx="4788000" cy="3726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rcRect l="0" t="0" r="0" b="9267"/>
          <a:stretch/>
        </p:blipFill>
        <p:spPr>
          <a:xfrm>
            <a:off x="3851280" y="3699000"/>
            <a:ext cx="529272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В их честь названы улицы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ябцева Лидия (1921 — 1942 гг.). Уроженка Воронежа, красноармеец, наводчик счетверенной пулеметной установки 4-го зенитно-пулеметного полка. Работница завода им. Коминтерна. В один из дней второй половины июля она сбила два бомбардировщика и погибла от прямого попадания бомбы в установку. Подруги по расчету нашли от Лиды только часть тела и кисти рук, намертво застывшие на рукоятках пулемета. Лидия Рябцева была посмертно награждена орденом Отечественной войны I степени, ее именем названа бывшая 2-я Автогенная улиц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7" descr="рябцева лидия"/>
          <p:cNvPicPr/>
          <p:nvPr/>
        </p:nvPicPr>
        <p:blipFill>
          <a:blip r:embed="rId1"/>
          <a:stretch/>
        </p:blipFill>
        <p:spPr>
          <a:xfrm>
            <a:off x="5291280" y="1790640"/>
            <a:ext cx="2752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9239" t="24012" r="7481" b="7477"/>
          <a:stretch/>
        </p:blipFill>
        <p:spPr>
          <a:xfrm>
            <a:off x="0" y="0"/>
            <a:ext cx="5508720" cy="3398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427640" y="3321000"/>
            <a:ext cx="471636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В их честь названы улицы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лица Героев Сибиряков – образное название. Получила название в честь воинов сибирских дивизий, сражавшихся за Воронеж во время Великой Отечественной войны. На Воронежском фронте воевали 232-я, 237-я, 284-я, 303-я и 309-я дивиз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826080" cy="33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26973" t="11684" r="23417" b="35951"/>
          <a:stretch/>
        </p:blipFill>
        <p:spPr>
          <a:xfrm>
            <a:off x="1979640" y="0"/>
            <a:ext cx="4716360" cy="3454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27640" y="3357720"/>
            <a:ext cx="4716360" cy="3500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3376440"/>
            <a:ext cx="464328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В их честь названы улицы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енндриков Николай Степанович (1921 – 1945г.г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ладший лейтенант, командир взвода 53-й гвардейской танковой бригады. Родился в селе Меловатке Семилукского района в крестьянской семье. Окончил 7 классов, потом работал слесарем на Воронежском авиационном заводе имени Калинина. Начал службу в Советской Армии с 1941 года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боевом счету Шендрикова 14 уничтоженных танков, 7 орудий и 12 станковых пулемётов противника. Погиб при штурме Берлина. Звание Героя Советского Союза присвоено посмертн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Рисунок 1" descr="http://downtown.ru/files/users/90/images/2e6808eb40e4e98b5ea8e17f9bbced198974.jpeg"/>
          <p:cNvPicPr/>
          <p:nvPr/>
        </p:nvPicPr>
        <p:blipFill>
          <a:blip r:embed="rId1"/>
          <a:srcRect l="0" t="0" r="10682" b="0"/>
          <a:stretch/>
        </p:blipFill>
        <p:spPr>
          <a:xfrm>
            <a:off x="5076720" y="1773360"/>
            <a:ext cx="32403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18208" t="9961" r="12834" b="7356"/>
          <a:stretch/>
        </p:blipFill>
        <p:spPr>
          <a:xfrm>
            <a:off x="0" y="0"/>
            <a:ext cx="4788000" cy="3228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843280" y="3225960"/>
            <a:ext cx="630072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0" r="13020" b="0"/>
          <a:stretch/>
        </p:blipFill>
        <p:spPr>
          <a:xfrm>
            <a:off x="1619280" y="0"/>
            <a:ext cx="5292720" cy="3429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788000" y="3429000"/>
            <a:ext cx="4356000" cy="3429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788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rcRect l="3047" t="8256" r="3047" b="7866"/>
          <a:stretch/>
        </p:blipFill>
        <p:spPr>
          <a:xfrm>
            <a:off x="0" y="0"/>
            <a:ext cx="3816360" cy="2781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18106" t="4417" r="17229" b="12189"/>
          <a:stretch/>
        </p:blipFill>
        <p:spPr>
          <a:xfrm>
            <a:off x="0" y="2781360"/>
            <a:ext cx="3773520" cy="4076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rcRect l="3924" t="11014" r="4823" b="25188"/>
          <a:stretch/>
        </p:blipFill>
        <p:spPr>
          <a:xfrm>
            <a:off x="3780000" y="0"/>
            <a:ext cx="5364000" cy="2814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rcRect l="3924" t="6301" r="6582" b="3933"/>
          <a:stretch/>
        </p:blipFill>
        <p:spPr>
          <a:xfrm>
            <a:off x="3708360" y="2766960"/>
            <a:ext cx="543564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4823" t="6301" r="5705" b="5102"/>
          <a:stretch/>
        </p:blipFill>
        <p:spPr>
          <a:xfrm>
            <a:off x="0" y="0"/>
            <a:ext cx="4535640" cy="3368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rcRect l="4434" t="11823" r="2560" b="5492"/>
          <a:stretch/>
        </p:blipFill>
        <p:spPr>
          <a:xfrm>
            <a:off x="3924360" y="3378240"/>
            <a:ext cx="521964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В их честь названы улицы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уколкин Валентин Иванович(1924-1942) — разведчик батальона народного ополчения. Родился в Воронеже. Работал мотористом на механическом заводе, внештатным заведующим военного отдела Ворошиловского (ныне Ленинского) райкома ВЛКСМ. В составе сводного отряда ополченцев участвовал в боях за Чижовку. Погиб 17 сентября 1942 года. Похоронен в братской могиле № 1 (Чижовский плацдарм). Посмертно награжден орденом Красного Знаме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7" descr="Валентин Куколкин"/>
          <p:cNvPicPr/>
          <p:nvPr/>
        </p:nvPicPr>
        <p:blipFill>
          <a:blip r:embed="rId1"/>
          <a:stretch/>
        </p:blipFill>
        <p:spPr>
          <a:xfrm>
            <a:off x="4648320" y="1774800"/>
            <a:ext cx="403848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6444" t="0" r="42612" b="27690"/>
          <a:stretch/>
        </p:blipFill>
        <p:spPr>
          <a:xfrm>
            <a:off x="0" y="0"/>
            <a:ext cx="4968720" cy="3967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72000" y="3822840"/>
            <a:ext cx="4572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В их честь названы улицы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уцыгин Даниил Максимович(1895-1942) — секретарь Ворошиловского (ныне Ленинского) РК ВКП(б) г. Воронежа, комиссар батальона народного ополчения, старший политрук. Один из организаторов обороны железнодорожных мостов у Отрожки. В составе сводного отряда ополченцев участвовал в боях за Чижовку. Погиб 17 сентября 1942 года. Похоронен в братской могиле № 1 (Чижовский плацдарм). Посмертно награжден орденом красного Знаме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7" descr="Д"/>
          <p:cNvPicPr/>
          <p:nvPr/>
        </p:nvPicPr>
        <p:blipFill>
          <a:blip r:embed="rId1"/>
          <a:stretch/>
        </p:blipFill>
        <p:spPr>
          <a:xfrm>
            <a:off x="4952880" y="1987560"/>
            <a:ext cx="34290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5315" t="17711" r="5217" b="5492"/>
          <a:stretch/>
        </p:blipFill>
        <p:spPr>
          <a:xfrm>
            <a:off x="1763640" y="0"/>
            <a:ext cx="4932360" cy="317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211640" y="3157560"/>
            <a:ext cx="4932360" cy="3700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3129120"/>
            <a:ext cx="421164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В их честь названы улицы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лесниченко Василий Ефремович (1915 — 1942 гг.) Герой Советского Союза, лётчик 573-го истребительного авиационного полка 101-й истребительной авиационной дивизии Воронежско-Борисоглебского дивизионного района ПВО, младший лейтенант. Участник войны с июня 1941 года, на его счету 93 боевых вылета. В 1942 году в воздушном бою под Воронежем, будучи ранен в обе ноги, горящим самолётом таранил вражеский бомбардировщик. Приземлился на парашюте, был доставлен в госпиталь, где и скончался от ран и ожогов. Похоронен в Воронеже в братской могиле в Парке юннатов. За мужество и героизм Колесниченко Василию Ефремовичу посмертно присвоено звание Героя Советского Союза (первому из защитников Воронежа)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7" descr="Колесниченко"/>
          <p:cNvPicPr/>
          <p:nvPr/>
        </p:nvPicPr>
        <p:blipFill>
          <a:blip r:embed="rId1"/>
          <a:stretch/>
        </p:blipFill>
        <p:spPr>
          <a:xfrm>
            <a:off x="5289480" y="1628640"/>
            <a:ext cx="28306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12000" cy="3386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916360" y="3357720"/>
            <a:ext cx="62276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В их честь названы улицы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изюков Александр Ильич (1900 — 1942 гг.) — Герой Советского Союза (1941), генерал-майор. 10 января 1942 года полковнику Лизюкову А. И. присвоено воинское звание генерал-майор, и он назначен командиром 2-го гвардейского стрелкового корпуса, а в июне 1942 года — командующим 5-й танковой армией. 5-ю танковую армию А. И. Лизюкова использовали для контрудара по флангу и тылу группировки немецких войск, наступавших на Воронеж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7" descr="Лизюков"/>
          <p:cNvPicPr/>
          <p:nvPr/>
        </p:nvPicPr>
        <p:blipFill>
          <a:blip r:embed="rId1"/>
          <a:stretch/>
        </p:blipFill>
        <p:spPr>
          <a:xfrm>
            <a:off x="5310360" y="1871640"/>
            <a:ext cx="27144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12:17:07Z</dcterms:created>
  <dc:creator>user</dc:creator>
  <dc:description/>
  <dc:language>en-US</dc:language>
  <cp:lastModifiedBy>Admin</cp:lastModifiedBy>
  <dcterms:modified xsi:type="dcterms:W3CDTF">2002-03-26T06:31:26Z</dcterms:modified>
  <cp:revision>39</cp:revision>
  <dc:subject/>
  <dc:title>Презентация на тему: «71-летие освобождения г. Воронежа от фашистских захватчиков»</dc:title>
</cp:coreProperties>
</file>