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20.jpeg" ContentType="image/jpeg"/>
  <Override PartName="/ppt/media/image5.jpeg" ContentType="image/jpeg"/>
  <Override PartName="/ppt/media/image26.jpeg" ContentType="image/jpeg"/>
  <Override PartName="/ppt/media/image7.png" ContentType="image/png"/>
  <Override PartName="/ppt/media/image34.jpeg" ContentType="image/jpeg"/>
  <Override PartName="/ppt/media/image28.jpeg" ContentType="image/jpeg"/>
  <Override PartName="/ppt/media/image8.jpeg" ContentType="image/jpeg"/>
  <Override PartName="/ppt/media/image13.jpeg" ContentType="image/jpeg"/>
  <Override PartName="/ppt/media/image23.png" ContentType="image/png"/>
  <Override PartName="/ppt/media/image11.jpeg" ContentType="image/jpeg"/>
  <Override PartName="/ppt/media/image9.jpeg" ContentType="image/jpeg"/>
  <Override PartName="/ppt/media/image27.jpeg" ContentType="image/jpeg"/>
  <Override PartName="/ppt/media/image35.jpeg" ContentType="image/jpeg"/>
  <Override PartName="/ppt/media/image10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12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9031-B89A-4108-B536-A399470619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620D-1C53-4E7E-AA6C-D143299EF5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0EFE-C02F-4AB6-AF9D-2EBEBF493D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C501-EBF5-4B6F-9751-AC8B7B6524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FCD0-7F7B-4889-8324-B622438240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92EB-51C0-48CF-B311-3585E7E2FB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B688-53F9-4944-9153-F4107FE97F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EF29-62BD-4542-9DEA-B8FC3EF0C9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C4C1-C0E9-4E07-A760-92586DE8B6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0239-FC84-409C-A45C-C77E464460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88FF-1779-4F2E-94AD-0B50C74215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8E32-3798-4DA6-9E15-AC2C2E79A8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635A-D8B7-4BC5-8E27-C9CFD82AF9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016D-6AE1-48F4-8226-9C2DE20B85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02EE-BAFA-41F9-BDEC-490889986F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D1BC-9B52-4856-9B76-EC2DAF6B60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9C4A-81DB-4BCF-8888-929B806615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9A7E-1DB7-4BBB-A2B4-7A91EFCDEC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90F0-42C4-4274-A956-55E9E163BB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F947-5949-4CDE-8ED4-060C365FD5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E794-0D67-4208-9CF1-5AD82CE33D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686A-F46E-401D-97D3-97B68C2BEB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53ED-6A58-410F-94B3-D1AF50163E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3D9A-2A70-479F-B28D-7323EF1F09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04495-0FA7-4446-AD4C-6F211426D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FFF9D-6E1E-4A1A-8E94-8BDDCF41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15190-0B44-4C33-810D-54ACDFF8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29FD5-3888-4673-8C77-B8D53DB0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083B-63A6-4A2F-9CDB-1539F71B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D535-43DF-4CED-850A-64511A4E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D250-19FA-4196-BC88-540F5D84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08BC-E23C-4015-8BC3-FEB2994B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C588-9EEE-466B-BC1B-63868BFC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0ED8-2866-406A-A0D5-8899D0CC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3D98-3788-4CDE-A719-A47E7D51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BF63F-852E-4565-982E-FDA33873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B18D-802D-4308-97DB-6C97B605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841E-2ED5-47E3-96DC-170764B4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BCE7-3018-4939-87DA-6FEDE367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DFAD-8010-400A-80B4-7656707AA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3C14-4428-429B-92AB-A170844F9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8A0C8-06E7-46C1-B275-5345D42E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1D103-DD31-4178-870A-B1CC5184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C4E3C-47BD-4CD6-94CC-C8FF3CA5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40174-D8DB-421F-AD21-5668398D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5BF5C-D063-4D3B-B412-B09F69E7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BBB08-7C28-4EFE-8CA7-FCEC5FCF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9C1A5-99E1-4BDD-9988-7674895E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7969-ECE2-415F-8F19-6ACCDED93E6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FCE6-3C7F-48D5-AFAE-D2C4C269E27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4240" y="2781000"/>
            <a:ext cx="842976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1818ff"/>
                </a:solidFill>
                <a:latin typeface="Arial"/>
              </a:rPr>
              <a:t>Тема:</a:t>
            </a:r>
            <a:br>
              <a:rPr sz="3800"/>
            </a:b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5000"/>
            </a:b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      Химическая </a:t>
            </a: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связь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246560" y="189000"/>
            <a:ext cx="489744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4641840" y="5715000"/>
            <a:ext cx="45021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C:\Users\ИРИНА\Pictures\Химия\Хим_связь\p0032.jpg"/>
          <p:cNvPicPr/>
          <p:nvPr/>
        </p:nvPicPr>
        <p:blipFill>
          <a:blip r:embed="rId1"/>
          <a:stretch/>
        </p:blipFill>
        <p:spPr>
          <a:xfrm>
            <a:off x="1214280" y="2928960"/>
            <a:ext cx="7286760" cy="39290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e"/>
                </a:solidFill>
                <a:latin typeface="Arial"/>
              </a:rPr>
              <a:t>Донорно-акцепторный механизм образования ковалентной св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5" descr="безымянный1"/>
          <p:cNvPicPr/>
          <p:nvPr/>
        </p:nvPicPr>
        <p:blipFill>
          <a:blip r:embed="rId2"/>
          <a:stretch/>
        </p:blipFill>
        <p:spPr>
          <a:xfrm>
            <a:off x="1214280" y="1428840"/>
            <a:ext cx="72867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2" descr="C:\Users\ИРИНА\Pictures\Химия\Хим_связь\hydrogen.jpg"/>
          <p:cNvPicPr/>
          <p:nvPr/>
        </p:nvPicPr>
        <p:blipFill>
          <a:blip r:embed="rId1"/>
          <a:stretch/>
        </p:blipFill>
        <p:spPr>
          <a:xfrm>
            <a:off x="214200" y="1785960"/>
            <a:ext cx="2210040" cy="16286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213840"/>
            <a:ext cx="75549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5e"/>
                </a:solidFill>
                <a:latin typeface="Arial"/>
              </a:rPr>
              <a:t>Кратность ковалентной</a:t>
            </a:r>
            <a:r>
              <a:rPr b="1" lang="ru-RU" sz="4000" spc="-1" strike="noStrike">
                <a:solidFill>
                  <a:srgbClr val="00005e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5e"/>
                </a:solidFill>
                <a:latin typeface="Arial"/>
              </a:rPr>
              <a:t>связи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9997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числ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бщих электронных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а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связывающих ато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3564000" y="2997360"/>
            <a:ext cx="1998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сид углерод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=с=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5651640" y="2997360"/>
            <a:ext cx="122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з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1979640" y="2997360"/>
            <a:ext cx="15843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до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-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Organization Chart 8"/>
          <p:cNvGrpSpPr/>
          <p:nvPr/>
        </p:nvGrpSpPr>
        <p:grpSpPr>
          <a:xfrm>
            <a:off x="2484360" y="1628280"/>
            <a:ext cx="4092120" cy="1223640"/>
            <a:chOff x="2484360" y="1628280"/>
            <a:chExt cx="4092120" cy="1223640"/>
          </a:xfrm>
        </p:grpSpPr>
        <p:cxnSp>
          <p:nvCxnSpPr>
            <p:cNvPr id="233" name="_s1028"/>
            <p:cNvCxnSpPr>
              <a:stCxn id="234" idx="0"/>
              <a:endCxn id="235" idx="2"/>
            </p:cNvCxnSpPr>
            <p:nvPr/>
          </p:nvCxnSpPr>
          <p:spPr>
            <a:xfrm flipV="1" rot="16200000">
              <a:off x="5132520" y="1433520"/>
              <a:ext cx="228960" cy="14331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6" name="_s1029"/>
            <p:cNvCxnSpPr>
              <a:stCxn id="237" idx="0"/>
              <a:endCxn id="235" idx="2"/>
            </p:cNvCxnSpPr>
            <p:nvPr/>
          </p:nvCxnSpPr>
          <p:spPr>
            <a:xfrm flipV="1">
              <a:off x="4530600" y="2035800"/>
              <a:ext cx="1800" cy="228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8" name="_s1030"/>
            <p:cNvCxnSpPr>
              <a:stCxn id="239" idx="0"/>
              <a:endCxn id="235" idx="2"/>
            </p:cNvCxnSpPr>
            <p:nvPr/>
          </p:nvCxnSpPr>
          <p:spPr>
            <a:xfrm flipH="1" flipV="1" rot="5400000">
              <a:off x="3700080" y="1433520"/>
              <a:ext cx="228960" cy="14331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5" name="_s1031"/>
            <p:cNvSpPr/>
            <p:nvPr/>
          </p:nvSpPr>
          <p:spPr>
            <a:xfrm>
              <a:off x="3987000" y="1628280"/>
              <a:ext cx="1085400" cy="4078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120" rIns="6912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000000"/>
                  </a:solidFill>
                  <a:latin typeface="Arial"/>
                </a:rPr>
                <a:t>связ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32"/>
            <p:cNvSpPr/>
            <p:nvPr/>
          </p:nvSpPr>
          <p:spPr>
            <a:xfrm>
              <a:off x="2484360" y="2264760"/>
              <a:ext cx="1227240" cy="5871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120" rIns="6912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500" spc="-1" strike="noStrike">
                  <a:solidFill>
                    <a:srgbClr val="000000"/>
                  </a:solidFill>
                  <a:latin typeface="Arial"/>
                </a:rPr>
                <a:t>одинарн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33"/>
            <p:cNvSpPr/>
            <p:nvPr/>
          </p:nvSpPr>
          <p:spPr>
            <a:xfrm>
              <a:off x="3916800" y="2264760"/>
              <a:ext cx="1227240" cy="5871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120" rIns="69120" tIns="34560" bIns="3456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000000"/>
                  </a:solidFill>
                  <a:latin typeface="Arial"/>
                </a:rPr>
                <a:t>двой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34"/>
            <p:cNvSpPr/>
            <p:nvPr/>
          </p:nvSpPr>
          <p:spPr>
            <a:xfrm>
              <a:off x="5349240" y="2264760"/>
              <a:ext cx="1227240" cy="5871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120" rIns="69120" tIns="34560" bIns="3456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000000"/>
                  </a:solidFill>
                  <a:latin typeface="Arial"/>
                </a:rPr>
                <a:t>тройные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Line 17"/>
          <p:cNvSpPr/>
          <p:nvPr/>
        </p:nvSpPr>
        <p:spPr>
          <a:xfrm>
            <a:off x="6156360" y="400536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8"/>
          <p:cNvSpPr/>
          <p:nvPr/>
        </p:nvSpPr>
        <p:spPr>
          <a:xfrm>
            <a:off x="6156360" y="407664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9"/>
          <p:cNvSpPr/>
          <p:nvPr/>
        </p:nvSpPr>
        <p:spPr>
          <a:xfrm>
            <a:off x="6156360" y="414972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250920" y="4500720"/>
            <a:ext cx="86788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5e"/>
                </a:solidFill>
                <a:latin typeface="Arial"/>
              </a:rPr>
              <a:t>Задан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ишите отдельно структурные формулы веществ с ковалентной полярной и неполярной связью и составьте схемы их образования. Укажите при помощи стрелки полярность. Определите валентность и степень окисления ато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г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 Н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 КВг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0" descr="C:\Users\ИРИНА\Pictures\Химия\Вещества\0003-005-Oksidy-ugleroda.png"/>
          <p:cNvPicPr/>
          <p:nvPr/>
        </p:nvPicPr>
        <p:blipFill>
          <a:blip r:embed="rId2"/>
          <a:stretch/>
        </p:blipFill>
        <p:spPr>
          <a:xfrm>
            <a:off x="6715080" y="164304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1" descr="C:\Users\ИРИНА\Pictures\Химия\Хим_связь\n2.png"/>
          <p:cNvPicPr/>
          <p:nvPr/>
        </p:nvPicPr>
        <p:blipFill>
          <a:blip r:embed="rId3"/>
          <a:stretch/>
        </p:blipFill>
        <p:spPr>
          <a:xfrm>
            <a:off x="6500880" y="3857760"/>
            <a:ext cx="238104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5e"/>
                </a:solidFill>
                <a:latin typeface="Arial"/>
              </a:rPr>
              <a:t>Кристаллические вещества с ковалентным типом свя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C:\Users\ИРИНА\Pictures\Химия\Металлы\Минералы\diamond.jpg"/>
          <p:cNvPicPr/>
          <p:nvPr/>
        </p:nvPicPr>
        <p:blipFill>
          <a:blip r:embed="rId1"/>
          <a:stretch/>
        </p:blipFill>
        <p:spPr>
          <a:xfrm>
            <a:off x="324000" y="1773360"/>
            <a:ext cx="2793960" cy="24508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C:\Users\ИРИНА\Pictures\Химия\Металлы\Кр РЕшетки\tumb-1272634714.JPG"/>
          <p:cNvPicPr/>
          <p:nvPr/>
        </p:nvPicPr>
        <p:blipFill>
          <a:blip r:embed="rId2"/>
          <a:stretch/>
        </p:blipFill>
        <p:spPr>
          <a:xfrm>
            <a:off x="6084720" y="3645000"/>
            <a:ext cx="2810160" cy="3000240"/>
          </a:xfrm>
          <a:prstGeom prst="rect">
            <a:avLst/>
          </a:prstGeom>
          <a:ln w="0">
            <a:noFill/>
          </a:ln>
        </p:spPr>
      </p:pic>
      <p:sp>
        <p:nvSpPr>
          <p:cNvPr id="249" name="TextBox 6"/>
          <p:cNvSpPr/>
          <p:nvPr/>
        </p:nvSpPr>
        <p:spPr>
          <a:xfrm>
            <a:off x="3786120" y="1928880"/>
            <a:ext cx="45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атомная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кристаллическая решетка, отличается высокой прочностью, твердостью, тугоплавк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7"/>
          <p:cNvSpPr/>
          <p:nvPr/>
        </p:nvSpPr>
        <p:spPr>
          <a:xfrm>
            <a:off x="755640" y="4653000"/>
            <a:ext cx="4500720" cy="19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другие 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Si, B, G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SiC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карборунд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SiO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1" lang="ru-RU" sz="2400" spc="-1" strike="noStrike" baseline="-25000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-</a:t>
            </a:r>
            <a:r>
              <a:rPr b="1" lang="ru-RU" sz="2400" spc="-1" strike="noStrike" baseline="-25000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кварц (пес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"/>
          <p:cNvSpPr/>
          <p:nvPr/>
        </p:nvSpPr>
        <p:spPr>
          <a:xfrm>
            <a:off x="2274120" y="386064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м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6092280" y="623736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5e"/>
                </a:solidFill>
                <a:latin typeface="Arial"/>
              </a:rPr>
              <a:t>Кристаллические вещества с ковалентным типом свя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6"/>
          <p:cNvSpPr/>
          <p:nvPr/>
        </p:nvSpPr>
        <p:spPr>
          <a:xfrm>
            <a:off x="3786120" y="1928880"/>
            <a:ext cx="45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олекулярная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кристаллическая решетка, вещества нестойкие, легкоплавкие, лету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7"/>
          <p:cNvSpPr/>
          <p:nvPr/>
        </p:nvSpPr>
        <p:spPr>
          <a:xfrm>
            <a:off x="357120" y="4857840"/>
            <a:ext cx="564372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</a:t>
            </a:r>
            <a:r>
              <a:rPr b="1" lang="ru-RU" sz="24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 -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лед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, S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, I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О</a:t>
            </a:r>
            <a:r>
              <a:rPr b="1" lang="ru-RU" sz="24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(твердый)</a:t>
            </a:r>
            <a:r>
              <a:rPr b="1" lang="ru-RU" sz="2000" spc="-1" strike="noStrike" baseline="-25000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–</a:t>
            </a:r>
            <a:r>
              <a:rPr b="1" lang="ru-RU" sz="2000" spc="-1" strike="noStrike" baseline="-25000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«сухой» л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C:\Users\ИРИНА\Pictures\Химия\Металлы\Кр РЕшетки\IMG_9640.jpg"/>
          <p:cNvPicPr/>
          <p:nvPr/>
        </p:nvPicPr>
        <p:blipFill>
          <a:blip r:embed="rId1"/>
          <a:stretch/>
        </p:blipFill>
        <p:spPr>
          <a:xfrm>
            <a:off x="6012000" y="4076640"/>
            <a:ext cx="2857320" cy="25621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C:\Users\ИРИНА\Pictures\Химия\Вещества\CO2.jpg"/>
          <p:cNvPicPr/>
          <p:nvPr/>
        </p:nvPicPr>
        <p:blipFill>
          <a:blip r:embed="rId2"/>
          <a:stretch/>
        </p:blipFill>
        <p:spPr>
          <a:xfrm>
            <a:off x="179280" y="1916280"/>
            <a:ext cx="3714840" cy="278604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6"/>
          <p:cNvSpPr/>
          <p:nvPr/>
        </p:nvSpPr>
        <p:spPr>
          <a:xfrm>
            <a:off x="6019920" y="6237360"/>
            <a:ext cx="82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О</a:t>
            </a:r>
            <a:r>
              <a:rPr b="1" lang="ru-RU" sz="24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856880" y="285840"/>
            <a:ext cx="538164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5e"/>
                </a:solidFill>
                <a:latin typeface="Arial"/>
              </a:rPr>
              <a:t>Водородная связ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85480" y="1214280"/>
            <a:ext cx="439092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имическая связь меж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5e"/>
                </a:solidFill>
                <a:latin typeface="Arial"/>
              </a:rPr>
              <a:t>положительно поляризованны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5e"/>
                </a:solidFill>
                <a:latin typeface="Arial"/>
              </a:rPr>
              <a:t>атомами водород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й молеку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5e"/>
                </a:solidFill>
                <a:latin typeface="Arial"/>
              </a:rPr>
              <a:t>отрицательно поляризованными атом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ьно электроотрицательных элемент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ющих неподеленные электронные па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e"/>
                </a:solidFill>
                <a:latin typeface="Arial"/>
              </a:rPr>
              <a:t>(F, </a:t>
            </a:r>
            <a:r>
              <a:rPr b="1" lang="ru-RU" sz="2000" spc="-1" strike="noStrike">
                <a:solidFill>
                  <a:srgbClr val="00005e"/>
                </a:solidFill>
                <a:latin typeface="Arial"/>
              </a:rPr>
              <a:t>О, N</a:t>
            </a:r>
            <a:r>
              <a:rPr b="1" lang="en-US" sz="2000" spc="-1" strike="noStrike">
                <a:solidFill>
                  <a:srgbClr val="00005e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00005e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5e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ой молеку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http://www.krugosvet.ru/images/1011275_1275_201.jpg"/>
          <p:cNvPicPr/>
          <p:nvPr/>
        </p:nvPicPr>
        <p:blipFill>
          <a:blip r:embed="rId1"/>
          <a:stretch/>
        </p:blipFill>
        <p:spPr>
          <a:xfrm>
            <a:off x="4786200" y="1285920"/>
            <a:ext cx="4071960" cy="36669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11"/>
          <p:cNvSpPr/>
          <p:nvPr/>
        </p:nvSpPr>
        <p:spPr>
          <a:xfrm>
            <a:off x="214200" y="5072040"/>
            <a:ext cx="87138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5e"/>
                </a:solidFill>
                <a:latin typeface="Arial"/>
              </a:rPr>
              <a:t>Зада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Приведите примеры органических соединений, способных к образованию водородной связ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Какие особые свойства придает водородная связь этим соединения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5e"/>
                </a:solidFill>
                <a:latin typeface="Arial"/>
              </a:rPr>
              <a:t>Влияние типа кристаллической</a:t>
            </a:r>
            <a:br>
              <a:rPr sz="3600"/>
            </a:br>
            <a:r>
              <a:rPr b="1" lang="ru-RU" sz="3600" spc="-1" strike="noStrike">
                <a:solidFill>
                  <a:srgbClr val="00005e"/>
                </a:solidFill>
                <a:latin typeface="Arial"/>
              </a:rPr>
              <a:t>решетки на свойства вещест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0" y="1628640"/>
          <a:ext cx="9144000" cy="5394600"/>
        </p:xfrm>
        <a:graphic>
          <a:graphicData uri="http://schemas.openxmlformats.org/drawingml/2006/table">
            <a:tbl>
              <a:tblPr/>
              <a:tblGrid>
                <a:gridCol w="3124080"/>
                <a:gridCol w="2057400"/>
                <a:gridCol w="396252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ещ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Тип крист. решет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вой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ещ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соли, щелочи, некоторые  окси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ОН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(</a:t>
                      </a: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онная связь</a:t>
                      </a: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)</a:t>
                      </a: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1048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маз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бор В, гер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й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e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мний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, SiO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АТОМ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(ковалентная связ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ердые, прочные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гоплавкие, нелетучие, нерастворим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1188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метал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ЕТАЛЛИ-ЧЕ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(металлическая связ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вкие, пластичные, электро- и теплопровод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д, «сухой» лед, все твердые газы, иод, сера, фосфор, кислоты, органические веществ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ОЛЕКУЛЯР-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(ковалентная связ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чные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гкоплавкие, летучие; при обычных условиях могут быть Г, Ж и 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sp>
        <p:nvSpPr>
          <p:cNvPr id="265" name="Прямоугольник 4"/>
          <p:cNvSpPr/>
          <p:nvPr/>
        </p:nvSpPr>
        <p:spPr>
          <a:xfrm>
            <a:off x="5219640" y="2349360"/>
            <a:ext cx="39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вердые, прочны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угоплавкие, нелетуч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C:\Users\ИРИНА\Pictures\Школа\glitter378py8.gif"/>
          <p:cNvPicPr/>
          <p:nvPr/>
        </p:nvPicPr>
        <p:blipFill>
          <a:blip r:embed="rId1"/>
          <a:stretch/>
        </p:blipFill>
        <p:spPr>
          <a:xfrm>
            <a:off x="6603840" y="5084640"/>
            <a:ext cx="2540160" cy="17733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5e"/>
                </a:solidFill>
                <a:latin typeface="Arial"/>
              </a:rPr>
              <a:t>Зад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229600" cy="13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 типы химических связей между атомами в веществ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5"/>
          <p:cNvSpPr/>
          <p:nvPr/>
        </p:nvSpPr>
        <p:spPr>
          <a:xfrm>
            <a:off x="214200" y="2071800"/>
            <a:ext cx="892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г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Н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К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500040" y="2643120"/>
            <a:ext cx="822960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е черты сходства между ионной и ковалентной полярной связью; между металлической и ионной связь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500040" y="3929040"/>
            <a:ext cx="822960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ы веществ, в которых присутствуют разные типы химической связ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500040" y="4929120"/>
            <a:ext cx="822960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ы перехода одного типа химической связи в другу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5e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571560" y="1571400"/>
            <a:ext cx="507204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чиной единства всех типов и видов химической  связ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ужит их одинаковая природа – </a:t>
            </a:r>
            <a:r>
              <a:rPr b="1" i="1" lang="ru-RU" sz="3600" spc="-1" strike="noStrike">
                <a:solidFill>
                  <a:srgbClr val="00005e"/>
                </a:solidFill>
                <a:latin typeface="Arial"/>
              </a:rPr>
              <a:t>электронно-ядерное взаимодейств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C:\Users\ИРИНА\Pictures\Школа\63370515_1283115232_53.png"/>
          <p:cNvPicPr/>
          <p:nvPr/>
        </p:nvPicPr>
        <p:blipFill>
          <a:blip r:embed="rId1"/>
          <a:stretch/>
        </p:blipFill>
        <p:spPr>
          <a:xfrm>
            <a:off x="7667640" y="333360"/>
            <a:ext cx="1262160" cy="1312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C:\Users\ИРИНА\Pictures\Химия\Хим_связь\VFPt_dipole_electric_manylines.svg.png"/>
          <p:cNvPicPr/>
          <p:nvPr/>
        </p:nvPicPr>
        <p:blipFill>
          <a:blip r:embed="rId2"/>
          <a:stretch/>
        </p:blipFill>
        <p:spPr>
          <a:xfrm>
            <a:off x="500040" y="2060640"/>
            <a:ext cx="3097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C:\Users\ИРИНА\Pictures\Школа\images (5).jpg"/>
          <p:cNvPicPr/>
          <p:nvPr/>
        </p:nvPicPr>
        <p:blipFill>
          <a:blip r:embed="rId1"/>
          <a:stretch/>
        </p:blipFill>
        <p:spPr>
          <a:xfrm>
            <a:off x="6516720" y="1890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24000" y="1699920"/>
            <a:ext cx="88200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указанных веществ приведите электронные и структурные (где это необходимо) формулы, укажите тип связи, значения валентностей и (или) степеней окисления элементов. Какие кристаллические решетки будут образовывать данные вещества? Какие их свойства можно предсказать исходя из строения молеку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371880" y="4797360"/>
            <a:ext cx="161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H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Br,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2503440" y="4797360"/>
            <a:ext cx="174600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риан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H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F, 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5"/>
          <p:cNvSpPr/>
          <p:nvPr/>
        </p:nvSpPr>
        <p:spPr>
          <a:xfrm>
            <a:off x="4793760" y="4797360"/>
            <a:ext cx="14518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риан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I, 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6"/>
          <p:cNvSpPr/>
          <p:nvPr/>
        </p:nvSpPr>
        <p:spPr>
          <a:xfrm>
            <a:off x="6895440" y="4797360"/>
            <a:ext cx="201456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риан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H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Cl,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арактеристики ковалентной свя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Д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Энер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Насыщаем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Направл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авая фигурная скобка 3"/>
          <p:cNvSpPr/>
          <p:nvPr/>
        </p:nvSpPr>
        <p:spPr>
          <a:xfrm>
            <a:off x="3132000" y="2205000"/>
            <a:ext cx="155880" cy="914400"/>
          </a:xfrm>
          <a:custGeom>
            <a:avLst/>
            <a:gdLst>
              <a:gd name="textAreaLeft" fmla="*/ 0 w 155880"/>
              <a:gd name="textAreaRight" fmla="*/ 56160 w 15588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4"/>
          <p:cNvSpPr/>
          <p:nvPr/>
        </p:nvSpPr>
        <p:spPr>
          <a:xfrm>
            <a:off x="3357720" y="2421000"/>
            <a:ext cx="51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рактеризуют прочность свя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" descr="C:\Users\ИРИНА\Pictures\Химия\Хим_связь\images (1).jpg"/>
          <p:cNvPicPr/>
          <p:nvPr/>
        </p:nvPicPr>
        <p:blipFill>
          <a:blip r:embed="rId1"/>
          <a:stretch/>
        </p:blipFill>
        <p:spPr>
          <a:xfrm>
            <a:off x="4932360" y="3141720"/>
            <a:ext cx="32320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457200"/>
            <a:ext cx="8435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Что такое химическая связ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4427640" y="1844640"/>
            <a:ext cx="4421160" cy="2448000"/>
          </a:xfrm>
          <a:prstGeom prst="rect">
            <a:avLst/>
          </a:prstGeom>
          <a:ln w="38160">
            <a:solidFill>
              <a:srgbClr val="000072"/>
            </a:solidFill>
            <a:miter/>
          </a:ln>
        </p:spPr>
      </p:pic>
      <p:sp>
        <p:nvSpPr>
          <p:cNvPr id="118" name="Прямоугольник 4"/>
          <p:cNvSpPr/>
          <p:nvPr/>
        </p:nvSpPr>
        <p:spPr>
          <a:xfrm>
            <a:off x="250920" y="1484280"/>
            <a:ext cx="612144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i="1" lang="ru-RU" sz="2800" spc="-1" strike="noStrike">
                <a:solidFill>
                  <a:srgbClr val="00005e"/>
                </a:solidFill>
                <a:latin typeface="Arial"/>
              </a:rPr>
              <a:t>химическ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5e"/>
                </a:solidFill>
                <a:latin typeface="Arial"/>
              </a:rPr>
              <a:t>связью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нимают </a:t>
            </a:r>
            <a:br>
              <a:rPr sz="2800"/>
            </a:br>
            <a:r>
              <a:rPr b="1" i="1" lang="ru-RU" sz="2800" spc="-1" strike="noStrike">
                <a:solidFill>
                  <a:srgbClr val="00005e"/>
                </a:solidFill>
                <a:latin typeface="Arial"/>
              </a:rPr>
              <a:t>взаимодейств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5e"/>
                </a:solidFill>
                <a:latin typeface="Arial"/>
              </a:rPr>
              <a:t>атомов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торое связыв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х в </a:t>
            </a:r>
            <a:r>
              <a:rPr b="1" i="1" lang="ru-RU" sz="2800" spc="-1" strike="noStrike">
                <a:solidFill>
                  <a:srgbClr val="00005e"/>
                </a:solidFill>
                <a:latin typeface="Arial"/>
              </a:rPr>
              <a:t>молекулы, ионы, радикалы, кристаллы,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обусловливает устойчивость указанных части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 цел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Arial"/>
              </a:rPr>
              <a:t>1. Длина связи – 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ъядерное расстояние, нм (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24000" y="1412640"/>
            <a:ext cx="8640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исит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А) от способа перекрывания орбитале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-Н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-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-Cl (p-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от кратности св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   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   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  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от радиуса ат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-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-C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-B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-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4"/>
          <p:cNvSpPr/>
          <p:nvPr/>
        </p:nvSpPr>
        <p:spPr>
          <a:xfrm>
            <a:off x="3924360" y="2349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5"/>
          <p:cNvSpPr/>
          <p:nvPr/>
        </p:nvSpPr>
        <p:spPr>
          <a:xfrm>
            <a:off x="2275560" y="234936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,074 н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6"/>
          <p:cNvSpPr/>
          <p:nvPr/>
        </p:nvSpPr>
        <p:spPr>
          <a:xfrm>
            <a:off x="4939200" y="234936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,198 н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7"/>
          <p:cNvSpPr/>
          <p:nvPr/>
        </p:nvSpPr>
        <p:spPr>
          <a:xfrm>
            <a:off x="3786840" y="2637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энер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8"/>
          <p:cNvSpPr/>
          <p:nvPr/>
        </p:nvSpPr>
        <p:spPr>
          <a:xfrm>
            <a:off x="1913760" y="263700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3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Дж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0"/>
          <p:cNvSpPr/>
          <p:nvPr/>
        </p:nvSpPr>
        <p:spPr>
          <a:xfrm>
            <a:off x="5010120" y="263700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4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Дж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ая соединительная линия 12"/>
          <p:cNvSpPr/>
          <p:nvPr/>
        </p:nvSpPr>
        <p:spPr>
          <a:xfrm>
            <a:off x="2556000" y="37162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5"/>
          <p:cNvSpPr/>
          <p:nvPr/>
        </p:nvSpPr>
        <p:spPr>
          <a:xfrm>
            <a:off x="2130840" y="3860640"/>
            <a:ext cx="172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,154 н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48 кДж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6"/>
          <p:cNvSpPr/>
          <p:nvPr/>
        </p:nvSpPr>
        <p:spPr>
          <a:xfrm>
            <a:off x="3931200" y="3860640"/>
            <a:ext cx="172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,134 н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27 кДж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7"/>
          <p:cNvSpPr/>
          <p:nvPr/>
        </p:nvSpPr>
        <p:spPr>
          <a:xfrm>
            <a:off x="5867280" y="3860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,120 н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10 кДж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ая соединительная линия 18"/>
          <p:cNvSpPr/>
          <p:nvPr/>
        </p:nvSpPr>
        <p:spPr>
          <a:xfrm>
            <a:off x="4356000" y="3716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ая соединительная линия 19"/>
          <p:cNvSpPr/>
          <p:nvPr/>
        </p:nvSpPr>
        <p:spPr>
          <a:xfrm>
            <a:off x="4356000" y="3789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ая соединительная линия 20"/>
          <p:cNvSpPr/>
          <p:nvPr/>
        </p:nvSpPr>
        <p:spPr>
          <a:xfrm>
            <a:off x="6156360" y="3716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ая соединительная линия 21"/>
          <p:cNvSpPr/>
          <p:nvPr/>
        </p:nvSpPr>
        <p:spPr>
          <a:xfrm>
            <a:off x="6156360" y="3645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22"/>
          <p:cNvSpPr/>
          <p:nvPr/>
        </p:nvSpPr>
        <p:spPr>
          <a:xfrm>
            <a:off x="6156360" y="3789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5"/>
          <p:cNvSpPr/>
          <p:nvPr/>
        </p:nvSpPr>
        <p:spPr>
          <a:xfrm>
            <a:off x="545760" y="5445000"/>
            <a:ext cx="172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,092 н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65 кДж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5"/>
          <p:cNvSpPr/>
          <p:nvPr/>
        </p:nvSpPr>
        <p:spPr>
          <a:xfrm>
            <a:off x="2922120" y="5445000"/>
            <a:ext cx="172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,128 н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31 кДж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5"/>
          <p:cNvSpPr/>
          <p:nvPr/>
        </p:nvSpPr>
        <p:spPr>
          <a:xfrm>
            <a:off x="4866120" y="5445000"/>
            <a:ext cx="172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,141 н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64 кДж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5"/>
          <p:cNvSpPr/>
          <p:nvPr/>
        </p:nvSpPr>
        <p:spPr>
          <a:xfrm>
            <a:off x="6666480" y="5445000"/>
            <a:ext cx="172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,160 н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97 кДж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Arial"/>
              </a:rPr>
              <a:t>2. Энергия связи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нергия, необходимая для разрыва связи в расчете на 1 моль ве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23640" y="1988640"/>
            <a:ext cx="86058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исит от тех же факторов, что и длина связ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способа перекрывания орбиталей, кратности связи, радиуса атом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3"/>
          <p:cNvSpPr/>
          <p:nvPr/>
        </p:nvSpPr>
        <p:spPr>
          <a:xfrm>
            <a:off x="760320" y="3716280"/>
            <a:ext cx="152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С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ая соединительная линия 4"/>
          <p:cNvSpPr/>
          <p:nvPr/>
        </p:nvSpPr>
        <p:spPr>
          <a:xfrm>
            <a:off x="1116000" y="393372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5"/>
          <p:cNvSpPr/>
          <p:nvPr/>
        </p:nvSpPr>
        <p:spPr>
          <a:xfrm>
            <a:off x="2342160" y="3716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6"/>
          <p:cNvSpPr/>
          <p:nvPr/>
        </p:nvSpPr>
        <p:spPr>
          <a:xfrm>
            <a:off x="2843280" y="3716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   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Стрелка вправо 7"/>
          <p:cNvSpPr/>
          <p:nvPr/>
        </p:nvSpPr>
        <p:spPr>
          <a:xfrm>
            <a:off x="4211640" y="3860640"/>
            <a:ext cx="647640" cy="14472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00000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8"/>
          <p:cNvSpPr/>
          <p:nvPr/>
        </p:nvSpPr>
        <p:spPr>
          <a:xfrm>
            <a:off x="5153040" y="3716280"/>
            <a:ext cx="152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9"/>
          <p:cNvSpPr/>
          <p:nvPr/>
        </p:nvSpPr>
        <p:spPr>
          <a:xfrm>
            <a:off x="6732720" y="3716280"/>
            <a:ext cx="3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0"/>
          <p:cNvSpPr/>
          <p:nvPr/>
        </p:nvSpPr>
        <p:spPr>
          <a:xfrm>
            <a:off x="7093080" y="3716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   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ая соединительная линия 11"/>
          <p:cNvSpPr/>
          <p:nvPr/>
        </p:nvSpPr>
        <p:spPr>
          <a:xfrm>
            <a:off x="1692360" y="393372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ая соединительная линия 12"/>
          <p:cNvSpPr/>
          <p:nvPr/>
        </p:nvSpPr>
        <p:spPr>
          <a:xfrm>
            <a:off x="3276720" y="393372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13"/>
          <p:cNvSpPr/>
          <p:nvPr/>
        </p:nvSpPr>
        <p:spPr>
          <a:xfrm>
            <a:off x="5508720" y="393372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14"/>
          <p:cNvSpPr/>
          <p:nvPr/>
        </p:nvSpPr>
        <p:spPr>
          <a:xfrm>
            <a:off x="6012000" y="3933720"/>
            <a:ext cx="21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ая соединительная линия 15"/>
          <p:cNvSpPr/>
          <p:nvPr/>
        </p:nvSpPr>
        <p:spPr>
          <a:xfrm>
            <a:off x="7451640" y="393372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6"/>
          <p:cNvSpPr/>
          <p:nvPr/>
        </p:nvSpPr>
        <p:spPr>
          <a:xfrm>
            <a:off x="4287960" y="35002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олилиния 17"/>
          <p:cNvSpPr/>
          <p:nvPr/>
        </p:nvSpPr>
        <p:spPr>
          <a:xfrm>
            <a:off x="4910040" y="57261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9393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8"/>
          <p:cNvSpPr/>
          <p:nvPr/>
        </p:nvSpPr>
        <p:spPr>
          <a:xfrm flipV="1">
            <a:off x="1476360" y="357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ая соединительная линия 30"/>
          <p:cNvSpPr/>
          <p:nvPr/>
        </p:nvSpPr>
        <p:spPr>
          <a:xfrm flipV="1">
            <a:off x="1476360" y="41497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32"/>
          <p:cNvSpPr/>
          <p:nvPr/>
        </p:nvSpPr>
        <p:spPr>
          <a:xfrm flipV="1">
            <a:off x="5867280" y="357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ая соединительная линия 33"/>
          <p:cNvSpPr/>
          <p:nvPr/>
        </p:nvSpPr>
        <p:spPr>
          <a:xfrm flipV="1">
            <a:off x="5867280" y="407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34"/>
          <p:cNvSpPr/>
          <p:nvPr/>
        </p:nvSpPr>
        <p:spPr>
          <a:xfrm>
            <a:off x="1262520" y="321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35"/>
          <p:cNvSpPr/>
          <p:nvPr/>
        </p:nvSpPr>
        <p:spPr>
          <a:xfrm>
            <a:off x="1262520" y="429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36"/>
          <p:cNvSpPr/>
          <p:nvPr/>
        </p:nvSpPr>
        <p:spPr>
          <a:xfrm>
            <a:off x="5655240" y="321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37"/>
          <p:cNvSpPr/>
          <p:nvPr/>
        </p:nvSpPr>
        <p:spPr>
          <a:xfrm>
            <a:off x="5655240" y="4221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олилиния 44"/>
          <p:cNvSpPr/>
          <p:nvPr/>
        </p:nvSpPr>
        <p:spPr>
          <a:xfrm>
            <a:off x="1763640" y="3716280"/>
            <a:ext cx="196920" cy="419040"/>
          </a:xfrm>
          <a:custGeom>
            <a:avLst/>
            <a:gdLst/>
            <a:ahLst/>
            <a:rect l="l" t="t" r="r" b="b"/>
            <a:pathLst>
              <a:path w="525194" h="1688123">
                <a:moveTo>
                  <a:pt x="145366" y="0"/>
                </a:moveTo>
                <a:cubicBezTo>
                  <a:pt x="192258" y="211015"/>
                  <a:pt x="239151" y="422031"/>
                  <a:pt x="215705" y="534572"/>
                </a:cubicBezTo>
                <a:cubicBezTo>
                  <a:pt x="192259" y="647113"/>
                  <a:pt x="0" y="576775"/>
                  <a:pt x="4689" y="675249"/>
                </a:cubicBezTo>
                <a:cubicBezTo>
                  <a:pt x="9378" y="773723"/>
                  <a:pt x="196948" y="1019907"/>
                  <a:pt x="243840" y="1125415"/>
                </a:cubicBezTo>
                <a:cubicBezTo>
                  <a:pt x="290732" y="1230923"/>
                  <a:pt x="239151" y="1214510"/>
                  <a:pt x="286043" y="1308295"/>
                </a:cubicBezTo>
                <a:cubicBezTo>
                  <a:pt x="332935" y="1402080"/>
                  <a:pt x="525194" y="1688123"/>
                  <a:pt x="525194" y="168812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олилиния 45"/>
          <p:cNvSpPr/>
          <p:nvPr/>
        </p:nvSpPr>
        <p:spPr>
          <a:xfrm>
            <a:off x="3348000" y="3716280"/>
            <a:ext cx="196920" cy="419040"/>
          </a:xfrm>
          <a:custGeom>
            <a:avLst/>
            <a:gdLst/>
            <a:ahLst/>
            <a:rect l="l" t="t" r="r" b="b"/>
            <a:pathLst>
              <a:path w="525194" h="1688123">
                <a:moveTo>
                  <a:pt x="145366" y="0"/>
                </a:moveTo>
                <a:cubicBezTo>
                  <a:pt x="192258" y="211015"/>
                  <a:pt x="239151" y="422031"/>
                  <a:pt x="215705" y="534572"/>
                </a:cubicBezTo>
                <a:cubicBezTo>
                  <a:pt x="192259" y="647113"/>
                  <a:pt x="0" y="576775"/>
                  <a:pt x="4689" y="675249"/>
                </a:cubicBezTo>
                <a:cubicBezTo>
                  <a:pt x="9378" y="773723"/>
                  <a:pt x="196948" y="1019907"/>
                  <a:pt x="243840" y="1125415"/>
                </a:cubicBezTo>
                <a:cubicBezTo>
                  <a:pt x="290732" y="1230923"/>
                  <a:pt x="239151" y="1214510"/>
                  <a:pt x="286043" y="1308295"/>
                </a:cubicBezTo>
                <a:cubicBezTo>
                  <a:pt x="332935" y="1402080"/>
                  <a:pt x="525194" y="1688123"/>
                  <a:pt x="525194" y="168812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46"/>
          <p:cNvSpPr/>
          <p:nvPr/>
        </p:nvSpPr>
        <p:spPr>
          <a:xfrm>
            <a:off x="8175240" y="3716280"/>
            <a:ext cx="6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47"/>
          <p:cNvSpPr/>
          <p:nvPr/>
        </p:nvSpPr>
        <p:spPr>
          <a:xfrm>
            <a:off x="395280" y="4797360"/>
            <a:ext cx="85694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рассчитать тепловой эффект реакции, пользуясь величинами энергии связ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 =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-C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+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H-C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-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-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l-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2e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2e"/>
                </a:solidFill>
                <a:latin typeface="Arial"/>
              </a:rPr>
              <a:t>. Насыщаемость связи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0" y="1197000"/>
            <a:ext cx="9144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ование атомом определенного количества ковалентных связей, ограниченного числом валентных электронов (как неспаренных, так и НЭП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C:\Users\ИРИНА\Pictures\Школа\загруженное.jpg"/>
          <p:cNvPicPr/>
          <p:nvPr/>
        </p:nvPicPr>
        <p:blipFill>
          <a:blip r:embed="rId1"/>
          <a:stretch/>
        </p:blipFill>
        <p:spPr>
          <a:xfrm>
            <a:off x="324000" y="3716280"/>
            <a:ext cx="2087280" cy="2089080"/>
          </a:xfrm>
          <a:prstGeom prst="rect">
            <a:avLst/>
          </a:prstGeom>
          <a:ln w="0">
            <a:noFill/>
          </a:ln>
        </p:spPr>
      </p:pic>
      <p:sp>
        <p:nvSpPr>
          <p:cNvPr id="342" name="TextBox 4"/>
          <p:cNvSpPr/>
          <p:nvPr/>
        </p:nvSpPr>
        <p:spPr>
          <a:xfrm>
            <a:off x="2556000" y="2781360"/>
            <a:ext cx="6265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помните, чем определяются валентные возможности атомов химических элемент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едите примеры возможных валентностей для элементов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, 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, 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из названных элементов не проявляют валентность, равную номеру групп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вы думаете, обладают ли ионная и металлическая связь насыщаемостью.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2e"/>
                </a:solidFill>
                <a:latin typeface="Arial"/>
              </a:rPr>
              <a:t>Проверьте себ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0" y="1557360"/>
            <a:ext cx="9144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4"/>
          <p:cNvSpPr/>
          <p:nvPr/>
        </p:nvSpPr>
        <p:spPr>
          <a:xfrm>
            <a:off x="179280" y="1268280"/>
            <a:ext cx="8785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лентные возможности атомов химических элементов опреде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Числом неспаренных (валентных) электронов на внешнем энергетическом уров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Наличием свободных орбита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Наличием НЭ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Валентность: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I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II,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I,IV,V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,III,V,VI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Элемент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, 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 проявляют валентность, равную номеру группы (максимально – 4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Ионная и металлическая связь не обладают свойством насыщаемости, т.к. электростатические силы действуют равномерно вокруг яд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" descr="C:\Users\ИРИНА\Pictures\Школа\Рисунок5.jpg"/>
          <p:cNvPicPr/>
          <p:nvPr/>
        </p:nvPicPr>
        <p:blipFill>
          <a:blip r:embed="rId1"/>
          <a:stretch/>
        </p:blipFill>
        <p:spPr>
          <a:xfrm>
            <a:off x="7093080" y="2349360"/>
            <a:ext cx="154620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C:\Users\ИРИНА\Pictures\Химия\Хим_связь\microvoda_image005.jpg"/>
          <p:cNvPicPr/>
          <p:nvPr/>
        </p:nvPicPr>
        <p:blipFill>
          <a:blip r:embed="rId1"/>
          <a:stretch/>
        </p:blipFill>
        <p:spPr>
          <a:xfrm>
            <a:off x="7000920" y="1285920"/>
            <a:ext cx="1930320" cy="2133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C:\Users\ИРИНА\Pictures\Химия\Металлы\Минералы\поваренная соль.jpg"/>
          <p:cNvPicPr/>
          <p:nvPr/>
        </p:nvPicPr>
        <p:blipFill>
          <a:blip r:embed="rId2"/>
          <a:stretch/>
        </p:blipFill>
        <p:spPr>
          <a:xfrm>
            <a:off x="0" y="4572000"/>
            <a:ext cx="3143160" cy="2286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5e"/>
                </a:solidFill>
                <a:latin typeface="Arial"/>
              </a:rPr>
              <a:t>Ионная химическая связ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181440" y="1268280"/>
            <a:ext cx="93250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связь, образовавшаяся за счет  электро-статического притяжения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ff"/>
                </a:solidFill>
                <a:latin typeface="Arial"/>
              </a:rPr>
              <a:t>катион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анионам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онной связи соответству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онная кристаллическая решет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3132000" y="5516640"/>
            <a:ext cx="60120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ишите формулы веществ с ионной связью и составьте для них схемы образ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 С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 С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gCl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 СН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B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ИС"/>
          <p:cNvPicPr/>
          <p:nvPr/>
        </p:nvPicPr>
        <p:blipFill>
          <a:blip r:embed="rId3"/>
          <a:stretch/>
        </p:blipFill>
        <p:spPr>
          <a:xfrm>
            <a:off x="285840" y="3143160"/>
            <a:ext cx="5256000" cy="1436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C:\Users\ИРИНА\Pictures\Химия\Хим_связь\120.jpg"/>
          <p:cNvPicPr/>
          <p:nvPr/>
        </p:nvPicPr>
        <p:blipFill>
          <a:blip r:embed="rId4"/>
          <a:stretch/>
        </p:blipFill>
        <p:spPr>
          <a:xfrm>
            <a:off x="5724360" y="2997360"/>
            <a:ext cx="2401920" cy="24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Скругленный прямоугольник 2"/>
          <p:cNvSpPr/>
          <p:nvPr/>
        </p:nvSpPr>
        <p:spPr>
          <a:xfrm>
            <a:off x="3203640" y="1341360"/>
            <a:ext cx="5357880" cy="38577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Группа 6"/>
          <p:cNvGrpSpPr/>
          <p:nvPr/>
        </p:nvGrpSpPr>
        <p:grpSpPr>
          <a:xfrm>
            <a:off x="3348000" y="1844640"/>
            <a:ext cx="500040" cy="500040"/>
            <a:chOff x="3348000" y="1844640"/>
            <a:chExt cx="500040" cy="500040"/>
          </a:xfrm>
        </p:grpSpPr>
        <p:sp>
          <p:nvSpPr>
            <p:cNvPr id="128" name="Овал 4"/>
            <p:cNvSpPr/>
            <p:nvPr/>
          </p:nvSpPr>
          <p:spPr>
            <a:xfrm>
              <a:off x="3348000" y="1844640"/>
              <a:ext cx="500040" cy="500040"/>
            </a:xfrm>
            <a:prstGeom prst="ellipse">
              <a:avLst/>
            </a:prstGeom>
            <a:solidFill>
              <a:srgbClr val="ebeb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Плюс 5"/>
            <p:cNvSpPr/>
            <p:nvPr/>
          </p:nvSpPr>
          <p:spPr>
            <a:xfrm>
              <a:off x="3448080" y="1944720"/>
              <a:ext cx="300240" cy="299880"/>
            </a:xfrm>
            <a:custGeom>
              <a:avLst/>
              <a:gdLst/>
              <a:ahLst/>
              <a:rect l="l" t="t" r="r" b="b"/>
              <a:pathLst>
                <a:path w="214315" h="214313">
                  <a:moveTo>
                    <a:pt x="28407" y="81953"/>
                  </a:moveTo>
                  <a:lnTo>
                    <a:pt x="81954" y="81953"/>
                  </a:lnTo>
                  <a:lnTo>
                    <a:pt x="81954" y="28407"/>
                  </a:lnTo>
                  <a:lnTo>
                    <a:pt x="132361" y="28407"/>
                  </a:lnTo>
                  <a:lnTo>
                    <a:pt x="132361" y="81953"/>
                  </a:lnTo>
                  <a:lnTo>
                    <a:pt x="185908" y="81953"/>
                  </a:lnTo>
                  <a:lnTo>
                    <a:pt x="185908" y="132360"/>
                  </a:lnTo>
                  <a:lnTo>
                    <a:pt x="132361" y="132360"/>
                  </a:lnTo>
                  <a:lnTo>
                    <a:pt x="132361" y="185906"/>
                  </a:lnTo>
                  <a:lnTo>
                    <a:pt x="81954" y="185906"/>
                  </a:lnTo>
                  <a:lnTo>
                    <a:pt x="81954" y="132360"/>
                  </a:lnTo>
                  <a:lnTo>
                    <a:pt x="28407" y="132360"/>
                  </a:lnTo>
                  <a:lnTo>
                    <a:pt x="28407" y="81953"/>
                  </a:lnTo>
                  <a:close/>
                </a:path>
              </a:pathLst>
            </a:custGeom>
            <a:solidFill>
              <a:srgbClr val="9999ff"/>
            </a:solidFill>
            <a:ln w="25560">
              <a:solidFill>
                <a:srgbClr val="6f6f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Группа 7"/>
          <p:cNvGrpSpPr/>
          <p:nvPr/>
        </p:nvGrpSpPr>
        <p:grpSpPr>
          <a:xfrm>
            <a:off x="4427640" y="2924280"/>
            <a:ext cx="500040" cy="500040"/>
            <a:chOff x="4427640" y="2924280"/>
            <a:chExt cx="500040" cy="500040"/>
          </a:xfrm>
        </p:grpSpPr>
        <p:sp>
          <p:nvSpPr>
            <p:cNvPr id="131" name="Овал 8"/>
            <p:cNvSpPr/>
            <p:nvPr/>
          </p:nvSpPr>
          <p:spPr>
            <a:xfrm>
              <a:off x="4427640" y="2924280"/>
              <a:ext cx="500040" cy="500040"/>
            </a:xfrm>
            <a:prstGeom prst="ellipse">
              <a:avLst/>
            </a:prstGeom>
            <a:solidFill>
              <a:srgbClr val="ebeb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Плюс 9"/>
            <p:cNvSpPr/>
            <p:nvPr/>
          </p:nvSpPr>
          <p:spPr>
            <a:xfrm>
              <a:off x="4527720" y="3024360"/>
              <a:ext cx="300240" cy="299880"/>
            </a:xfrm>
            <a:custGeom>
              <a:avLst/>
              <a:gdLst/>
              <a:ahLst/>
              <a:rect l="l" t="t" r="r" b="b"/>
              <a:pathLst>
                <a:path w="214315" h="214313">
                  <a:moveTo>
                    <a:pt x="28407" y="81953"/>
                  </a:moveTo>
                  <a:lnTo>
                    <a:pt x="81954" y="81953"/>
                  </a:lnTo>
                  <a:lnTo>
                    <a:pt x="81954" y="28407"/>
                  </a:lnTo>
                  <a:lnTo>
                    <a:pt x="132361" y="28407"/>
                  </a:lnTo>
                  <a:lnTo>
                    <a:pt x="132361" y="81953"/>
                  </a:lnTo>
                  <a:lnTo>
                    <a:pt x="185908" y="81953"/>
                  </a:lnTo>
                  <a:lnTo>
                    <a:pt x="185908" y="132360"/>
                  </a:lnTo>
                  <a:lnTo>
                    <a:pt x="132361" y="132360"/>
                  </a:lnTo>
                  <a:lnTo>
                    <a:pt x="132361" y="185906"/>
                  </a:lnTo>
                  <a:lnTo>
                    <a:pt x="81954" y="185906"/>
                  </a:lnTo>
                  <a:lnTo>
                    <a:pt x="81954" y="132360"/>
                  </a:lnTo>
                  <a:lnTo>
                    <a:pt x="28407" y="132360"/>
                  </a:lnTo>
                  <a:lnTo>
                    <a:pt x="28407" y="81953"/>
                  </a:lnTo>
                  <a:close/>
                </a:path>
              </a:pathLst>
            </a:custGeom>
            <a:solidFill>
              <a:srgbClr val="9999ff"/>
            </a:solidFill>
            <a:ln w="25560">
              <a:solidFill>
                <a:srgbClr val="6f6f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Группа 10"/>
          <p:cNvGrpSpPr/>
          <p:nvPr/>
        </p:nvGrpSpPr>
        <p:grpSpPr>
          <a:xfrm>
            <a:off x="5508720" y="1773360"/>
            <a:ext cx="500040" cy="500040"/>
            <a:chOff x="5508720" y="1773360"/>
            <a:chExt cx="500040" cy="500040"/>
          </a:xfrm>
        </p:grpSpPr>
        <p:sp>
          <p:nvSpPr>
            <p:cNvPr id="134" name="Овал 11"/>
            <p:cNvSpPr/>
            <p:nvPr/>
          </p:nvSpPr>
          <p:spPr>
            <a:xfrm>
              <a:off x="5508720" y="1773360"/>
              <a:ext cx="500040" cy="500040"/>
            </a:xfrm>
            <a:prstGeom prst="ellipse">
              <a:avLst/>
            </a:prstGeom>
            <a:solidFill>
              <a:srgbClr val="ebeb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Плюс 12"/>
            <p:cNvSpPr/>
            <p:nvPr/>
          </p:nvSpPr>
          <p:spPr>
            <a:xfrm>
              <a:off x="5608800" y="1873440"/>
              <a:ext cx="299880" cy="300240"/>
            </a:xfrm>
            <a:custGeom>
              <a:avLst/>
              <a:gdLst/>
              <a:ahLst/>
              <a:rect l="l" t="t" r="r" b="b"/>
              <a:pathLst>
                <a:path w="214313" h="214315">
                  <a:moveTo>
                    <a:pt x="28407" y="81954"/>
                  </a:moveTo>
                  <a:lnTo>
                    <a:pt x="81953" y="81954"/>
                  </a:lnTo>
                  <a:lnTo>
                    <a:pt x="81953" y="28407"/>
                  </a:lnTo>
                  <a:lnTo>
                    <a:pt x="132360" y="28407"/>
                  </a:lnTo>
                  <a:lnTo>
                    <a:pt x="132360" y="81954"/>
                  </a:lnTo>
                  <a:lnTo>
                    <a:pt x="185906" y="81954"/>
                  </a:lnTo>
                  <a:lnTo>
                    <a:pt x="185906" y="132361"/>
                  </a:lnTo>
                  <a:lnTo>
                    <a:pt x="132360" y="132361"/>
                  </a:lnTo>
                  <a:lnTo>
                    <a:pt x="132360" y="185908"/>
                  </a:lnTo>
                  <a:lnTo>
                    <a:pt x="81953" y="185908"/>
                  </a:lnTo>
                  <a:lnTo>
                    <a:pt x="81953" y="132361"/>
                  </a:lnTo>
                  <a:lnTo>
                    <a:pt x="28407" y="132361"/>
                  </a:lnTo>
                  <a:lnTo>
                    <a:pt x="28407" y="81954"/>
                  </a:lnTo>
                  <a:close/>
                </a:path>
              </a:pathLst>
            </a:custGeom>
            <a:solidFill>
              <a:srgbClr val="9999ff"/>
            </a:solidFill>
            <a:ln w="25560">
              <a:solidFill>
                <a:srgbClr val="6f6f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Группа 13"/>
          <p:cNvGrpSpPr/>
          <p:nvPr/>
        </p:nvGrpSpPr>
        <p:grpSpPr>
          <a:xfrm>
            <a:off x="6732720" y="2924280"/>
            <a:ext cx="500040" cy="500040"/>
            <a:chOff x="6732720" y="2924280"/>
            <a:chExt cx="500040" cy="500040"/>
          </a:xfrm>
        </p:grpSpPr>
        <p:sp>
          <p:nvSpPr>
            <p:cNvPr id="137" name="Овал 14"/>
            <p:cNvSpPr/>
            <p:nvPr/>
          </p:nvSpPr>
          <p:spPr>
            <a:xfrm>
              <a:off x="6732720" y="2924280"/>
              <a:ext cx="500040" cy="500040"/>
            </a:xfrm>
            <a:prstGeom prst="ellipse">
              <a:avLst/>
            </a:prstGeom>
            <a:solidFill>
              <a:srgbClr val="ebeb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Плюс 15"/>
            <p:cNvSpPr/>
            <p:nvPr/>
          </p:nvSpPr>
          <p:spPr>
            <a:xfrm>
              <a:off x="6832800" y="3024360"/>
              <a:ext cx="300240" cy="299880"/>
            </a:xfrm>
            <a:custGeom>
              <a:avLst/>
              <a:gdLst/>
              <a:ahLst/>
              <a:rect l="l" t="t" r="r" b="b"/>
              <a:pathLst>
                <a:path w="214315" h="214313">
                  <a:moveTo>
                    <a:pt x="28407" y="81953"/>
                  </a:moveTo>
                  <a:lnTo>
                    <a:pt x="81954" y="81953"/>
                  </a:lnTo>
                  <a:lnTo>
                    <a:pt x="81954" y="28407"/>
                  </a:lnTo>
                  <a:lnTo>
                    <a:pt x="132361" y="28407"/>
                  </a:lnTo>
                  <a:lnTo>
                    <a:pt x="132361" y="81953"/>
                  </a:lnTo>
                  <a:lnTo>
                    <a:pt x="185908" y="81953"/>
                  </a:lnTo>
                  <a:lnTo>
                    <a:pt x="185908" y="132360"/>
                  </a:lnTo>
                  <a:lnTo>
                    <a:pt x="132361" y="132360"/>
                  </a:lnTo>
                  <a:lnTo>
                    <a:pt x="132361" y="185906"/>
                  </a:lnTo>
                  <a:lnTo>
                    <a:pt x="81954" y="185906"/>
                  </a:lnTo>
                  <a:lnTo>
                    <a:pt x="81954" y="132360"/>
                  </a:lnTo>
                  <a:lnTo>
                    <a:pt x="28407" y="132360"/>
                  </a:lnTo>
                  <a:lnTo>
                    <a:pt x="28407" y="81953"/>
                  </a:lnTo>
                  <a:close/>
                </a:path>
              </a:pathLst>
            </a:custGeom>
            <a:solidFill>
              <a:srgbClr val="9999ff"/>
            </a:solidFill>
            <a:ln w="25560">
              <a:solidFill>
                <a:srgbClr val="6f6f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Группа 16"/>
          <p:cNvGrpSpPr/>
          <p:nvPr/>
        </p:nvGrpSpPr>
        <p:grpSpPr>
          <a:xfrm>
            <a:off x="3419640" y="4005360"/>
            <a:ext cx="500040" cy="500040"/>
            <a:chOff x="3419640" y="4005360"/>
            <a:chExt cx="500040" cy="500040"/>
          </a:xfrm>
        </p:grpSpPr>
        <p:sp>
          <p:nvSpPr>
            <p:cNvPr id="140" name="Овал 17"/>
            <p:cNvSpPr/>
            <p:nvPr/>
          </p:nvSpPr>
          <p:spPr>
            <a:xfrm>
              <a:off x="3419640" y="4005360"/>
              <a:ext cx="500040" cy="500040"/>
            </a:xfrm>
            <a:prstGeom prst="ellipse">
              <a:avLst/>
            </a:prstGeom>
            <a:solidFill>
              <a:srgbClr val="ebeb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Плюс 18"/>
            <p:cNvSpPr/>
            <p:nvPr/>
          </p:nvSpPr>
          <p:spPr>
            <a:xfrm>
              <a:off x="3519720" y="4105440"/>
              <a:ext cx="299880" cy="300240"/>
            </a:xfrm>
            <a:custGeom>
              <a:avLst/>
              <a:gdLst/>
              <a:ahLst/>
              <a:rect l="l" t="t" r="r" b="b"/>
              <a:pathLst>
                <a:path w="214313" h="214315">
                  <a:moveTo>
                    <a:pt x="28407" y="81954"/>
                  </a:moveTo>
                  <a:lnTo>
                    <a:pt x="81953" y="81954"/>
                  </a:lnTo>
                  <a:lnTo>
                    <a:pt x="81953" y="28407"/>
                  </a:lnTo>
                  <a:lnTo>
                    <a:pt x="132360" y="28407"/>
                  </a:lnTo>
                  <a:lnTo>
                    <a:pt x="132360" y="81954"/>
                  </a:lnTo>
                  <a:lnTo>
                    <a:pt x="185906" y="81954"/>
                  </a:lnTo>
                  <a:lnTo>
                    <a:pt x="185906" y="132361"/>
                  </a:lnTo>
                  <a:lnTo>
                    <a:pt x="132360" y="132361"/>
                  </a:lnTo>
                  <a:lnTo>
                    <a:pt x="132360" y="185908"/>
                  </a:lnTo>
                  <a:lnTo>
                    <a:pt x="81953" y="185908"/>
                  </a:lnTo>
                  <a:lnTo>
                    <a:pt x="81953" y="132361"/>
                  </a:lnTo>
                  <a:lnTo>
                    <a:pt x="28407" y="132361"/>
                  </a:lnTo>
                  <a:lnTo>
                    <a:pt x="28407" y="81954"/>
                  </a:lnTo>
                  <a:close/>
                </a:path>
              </a:pathLst>
            </a:custGeom>
            <a:solidFill>
              <a:srgbClr val="9999ff"/>
            </a:solidFill>
            <a:ln w="25560">
              <a:solidFill>
                <a:srgbClr val="6f6f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Группа 19"/>
          <p:cNvGrpSpPr/>
          <p:nvPr/>
        </p:nvGrpSpPr>
        <p:grpSpPr>
          <a:xfrm>
            <a:off x="7740720" y="4076640"/>
            <a:ext cx="500040" cy="500040"/>
            <a:chOff x="7740720" y="4076640"/>
            <a:chExt cx="500040" cy="500040"/>
          </a:xfrm>
        </p:grpSpPr>
        <p:sp>
          <p:nvSpPr>
            <p:cNvPr id="143" name="Овал 20"/>
            <p:cNvSpPr/>
            <p:nvPr/>
          </p:nvSpPr>
          <p:spPr>
            <a:xfrm>
              <a:off x="7740720" y="4076640"/>
              <a:ext cx="500040" cy="500040"/>
            </a:xfrm>
            <a:prstGeom prst="ellipse">
              <a:avLst/>
            </a:prstGeom>
            <a:solidFill>
              <a:srgbClr val="ebeb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Плюс 21"/>
            <p:cNvSpPr/>
            <p:nvPr/>
          </p:nvSpPr>
          <p:spPr>
            <a:xfrm>
              <a:off x="7840800" y="4176720"/>
              <a:ext cx="299880" cy="299880"/>
            </a:xfrm>
            <a:custGeom>
              <a:avLst/>
              <a:gdLst/>
              <a:ahLst/>
              <a:rect l="l" t="t" r="r" b="b"/>
              <a:pathLst>
                <a:path w="214313" h="214313">
                  <a:moveTo>
                    <a:pt x="28407" y="81953"/>
                  </a:moveTo>
                  <a:lnTo>
                    <a:pt x="81953" y="81953"/>
                  </a:lnTo>
                  <a:lnTo>
                    <a:pt x="81953" y="28407"/>
                  </a:lnTo>
                  <a:lnTo>
                    <a:pt x="132360" y="28407"/>
                  </a:lnTo>
                  <a:lnTo>
                    <a:pt x="132360" y="81953"/>
                  </a:lnTo>
                  <a:lnTo>
                    <a:pt x="185906" y="81953"/>
                  </a:lnTo>
                  <a:lnTo>
                    <a:pt x="185906" y="132360"/>
                  </a:lnTo>
                  <a:lnTo>
                    <a:pt x="132360" y="132360"/>
                  </a:lnTo>
                  <a:lnTo>
                    <a:pt x="132360" y="185906"/>
                  </a:lnTo>
                  <a:lnTo>
                    <a:pt x="81953" y="185906"/>
                  </a:lnTo>
                  <a:lnTo>
                    <a:pt x="81953" y="132360"/>
                  </a:lnTo>
                  <a:lnTo>
                    <a:pt x="28407" y="132360"/>
                  </a:lnTo>
                  <a:lnTo>
                    <a:pt x="28407" y="81953"/>
                  </a:lnTo>
                  <a:close/>
                </a:path>
              </a:pathLst>
            </a:custGeom>
            <a:solidFill>
              <a:srgbClr val="9999ff"/>
            </a:solidFill>
            <a:ln w="25560">
              <a:solidFill>
                <a:srgbClr val="6f6f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Группа 22"/>
          <p:cNvGrpSpPr/>
          <p:nvPr/>
        </p:nvGrpSpPr>
        <p:grpSpPr>
          <a:xfrm>
            <a:off x="5508720" y="4005360"/>
            <a:ext cx="500040" cy="500040"/>
            <a:chOff x="5508720" y="4005360"/>
            <a:chExt cx="500040" cy="500040"/>
          </a:xfrm>
        </p:grpSpPr>
        <p:sp>
          <p:nvSpPr>
            <p:cNvPr id="146" name="Овал 23"/>
            <p:cNvSpPr/>
            <p:nvPr/>
          </p:nvSpPr>
          <p:spPr>
            <a:xfrm>
              <a:off x="5508720" y="4005360"/>
              <a:ext cx="500040" cy="500040"/>
            </a:xfrm>
            <a:prstGeom prst="ellipse">
              <a:avLst/>
            </a:prstGeom>
            <a:solidFill>
              <a:srgbClr val="ebeb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Плюс 24"/>
            <p:cNvSpPr/>
            <p:nvPr/>
          </p:nvSpPr>
          <p:spPr>
            <a:xfrm>
              <a:off x="5608800" y="4105440"/>
              <a:ext cx="299880" cy="300240"/>
            </a:xfrm>
            <a:custGeom>
              <a:avLst/>
              <a:gdLst/>
              <a:ahLst/>
              <a:rect l="l" t="t" r="r" b="b"/>
              <a:pathLst>
                <a:path w="214313" h="214315">
                  <a:moveTo>
                    <a:pt x="28407" y="81954"/>
                  </a:moveTo>
                  <a:lnTo>
                    <a:pt x="81953" y="81954"/>
                  </a:lnTo>
                  <a:lnTo>
                    <a:pt x="81953" y="28407"/>
                  </a:lnTo>
                  <a:lnTo>
                    <a:pt x="132360" y="28407"/>
                  </a:lnTo>
                  <a:lnTo>
                    <a:pt x="132360" y="81954"/>
                  </a:lnTo>
                  <a:lnTo>
                    <a:pt x="185906" y="81954"/>
                  </a:lnTo>
                  <a:lnTo>
                    <a:pt x="185906" y="132361"/>
                  </a:lnTo>
                  <a:lnTo>
                    <a:pt x="132360" y="132361"/>
                  </a:lnTo>
                  <a:lnTo>
                    <a:pt x="132360" y="185908"/>
                  </a:lnTo>
                  <a:lnTo>
                    <a:pt x="81953" y="185908"/>
                  </a:lnTo>
                  <a:lnTo>
                    <a:pt x="81953" y="132361"/>
                  </a:lnTo>
                  <a:lnTo>
                    <a:pt x="28407" y="132361"/>
                  </a:lnTo>
                  <a:lnTo>
                    <a:pt x="28407" y="81954"/>
                  </a:lnTo>
                  <a:close/>
                </a:path>
              </a:pathLst>
            </a:custGeom>
            <a:solidFill>
              <a:srgbClr val="9999ff"/>
            </a:solidFill>
            <a:ln w="25560">
              <a:solidFill>
                <a:srgbClr val="6f6f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Группа 25"/>
          <p:cNvGrpSpPr/>
          <p:nvPr/>
        </p:nvGrpSpPr>
        <p:grpSpPr>
          <a:xfrm>
            <a:off x="7740720" y="1773360"/>
            <a:ext cx="500040" cy="500040"/>
            <a:chOff x="7740720" y="1773360"/>
            <a:chExt cx="500040" cy="500040"/>
          </a:xfrm>
        </p:grpSpPr>
        <p:sp>
          <p:nvSpPr>
            <p:cNvPr id="149" name="Овал 26"/>
            <p:cNvSpPr/>
            <p:nvPr/>
          </p:nvSpPr>
          <p:spPr>
            <a:xfrm>
              <a:off x="7740720" y="1773360"/>
              <a:ext cx="500040" cy="500040"/>
            </a:xfrm>
            <a:prstGeom prst="ellipse">
              <a:avLst/>
            </a:prstGeom>
            <a:solidFill>
              <a:srgbClr val="ebeb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Плюс 27"/>
            <p:cNvSpPr/>
            <p:nvPr/>
          </p:nvSpPr>
          <p:spPr>
            <a:xfrm>
              <a:off x="7840800" y="1873440"/>
              <a:ext cx="299880" cy="300240"/>
            </a:xfrm>
            <a:custGeom>
              <a:avLst/>
              <a:gdLst/>
              <a:ahLst/>
              <a:rect l="l" t="t" r="r" b="b"/>
              <a:pathLst>
                <a:path w="214313" h="214315">
                  <a:moveTo>
                    <a:pt x="28407" y="81954"/>
                  </a:moveTo>
                  <a:lnTo>
                    <a:pt x="81953" y="81954"/>
                  </a:lnTo>
                  <a:lnTo>
                    <a:pt x="81953" y="28407"/>
                  </a:lnTo>
                  <a:lnTo>
                    <a:pt x="132360" y="28407"/>
                  </a:lnTo>
                  <a:lnTo>
                    <a:pt x="132360" y="81954"/>
                  </a:lnTo>
                  <a:lnTo>
                    <a:pt x="185906" y="81954"/>
                  </a:lnTo>
                  <a:lnTo>
                    <a:pt x="185906" y="132361"/>
                  </a:lnTo>
                  <a:lnTo>
                    <a:pt x="132360" y="132361"/>
                  </a:lnTo>
                  <a:lnTo>
                    <a:pt x="132360" y="185908"/>
                  </a:lnTo>
                  <a:lnTo>
                    <a:pt x="81953" y="185908"/>
                  </a:lnTo>
                  <a:lnTo>
                    <a:pt x="81953" y="132361"/>
                  </a:lnTo>
                  <a:lnTo>
                    <a:pt x="28407" y="132361"/>
                  </a:lnTo>
                  <a:lnTo>
                    <a:pt x="28407" y="81954"/>
                  </a:lnTo>
                  <a:close/>
                </a:path>
              </a:pathLst>
            </a:custGeom>
            <a:solidFill>
              <a:srgbClr val="9999ff"/>
            </a:solidFill>
            <a:ln w="25560">
              <a:solidFill>
                <a:srgbClr val="6f6f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Овал 28"/>
          <p:cNvSpPr/>
          <p:nvPr/>
        </p:nvSpPr>
        <p:spPr>
          <a:xfrm>
            <a:off x="4427640" y="4005360"/>
            <a:ext cx="571320" cy="571320"/>
          </a:xfrm>
          <a:prstGeom prst="ellipse">
            <a:avLst/>
          </a:prstGeom>
          <a:solidFill>
            <a:srgbClr val="cccccc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29"/>
          <p:cNvSpPr/>
          <p:nvPr/>
        </p:nvSpPr>
        <p:spPr>
          <a:xfrm>
            <a:off x="3348000" y="2924280"/>
            <a:ext cx="571680" cy="571320"/>
          </a:xfrm>
          <a:prstGeom prst="ellipse">
            <a:avLst/>
          </a:prstGeom>
          <a:solidFill>
            <a:srgbClr val="cccccc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Овал 30"/>
          <p:cNvSpPr/>
          <p:nvPr/>
        </p:nvSpPr>
        <p:spPr>
          <a:xfrm>
            <a:off x="4427640" y="1773360"/>
            <a:ext cx="571320" cy="571320"/>
          </a:xfrm>
          <a:prstGeom prst="ellipse">
            <a:avLst/>
          </a:prstGeom>
          <a:solidFill>
            <a:srgbClr val="cccccc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31"/>
          <p:cNvSpPr/>
          <p:nvPr/>
        </p:nvSpPr>
        <p:spPr>
          <a:xfrm>
            <a:off x="6659640" y="1773360"/>
            <a:ext cx="571320" cy="571320"/>
          </a:xfrm>
          <a:prstGeom prst="ellipse">
            <a:avLst/>
          </a:prstGeom>
          <a:solidFill>
            <a:srgbClr val="cccccc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32"/>
          <p:cNvSpPr/>
          <p:nvPr/>
        </p:nvSpPr>
        <p:spPr>
          <a:xfrm>
            <a:off x="5435640" y="2924280"/>
            <a:ext cx="571320" cy="571320"/>
          </a:xfrm>
          <a:prstGeom prst="ellipse">
            <a:avLst/>
          </a:prstGeom>
          <a:solidFill>
            <a:srgbClr val="cccccc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33"/>
          <p:cNvSpPr/>
          <p:nvPr/>
        </p:nvSpPr>
        <p:spPr>
          <a:xfrm>
            <a:off x="7740720" y="2924280"/>
            <a:ext cx="571320" cy="571320"/>
          </a:xfrm>
          <a:prstGeom prst="ellipse">
            <a:avLst/>
          </a:prstGeom>
          <a:solidFill>
            <a:srgbClr val="cccccc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34"/>
          <p:cNvSpPr/>
          <p:nvPr/>
        </p:nvSpPr>
        <p:spPr>
          <a:xfrm>
            <a:off x="6659640" y="3933720"/>
            <a:ext cx="571320" cy="571680"/>
          </a:xfrm>
          <a:prstGeom prst="ellipse">
            <a:avLst/>
          </a:prstGeom>
          <a:solidFill>
            <a:srgbClr val="cccccc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Группа 39"/>
          <p:cNvGrpSpPr/>
          <p:nvPr/>
        </p:nvGrpSpPr>
        <p:grpSpPr>
          <a:xfrm>
            <a:off x="4788000" y="2349360"/>
            <a:ext cx="285480" cy="285840"/>
            <a:chOff x="4788000" y="2349360"/>
            <a:chExt cx="285480" cy="285840"/>
          </a:xfrm>
        </p:grpSpPr>
        <p:sp>
          <p:nvSpPr>
            <p:cNvPr id="159" name="Овал 37"/>
            <p:cNvSpPr/>
            <p:nvPr/>
          </p:nvSpPr>
          <p:spPr>
            <a:xfrm>
              <a:off x="4788000" y="2349360"/>
              <a:ext cx="285480" cy="285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Минус 38"/>
            <p:cNvSpPr/>
            <p:nvPr/>
          </p:nvSpPr>
          <p:spPr>
            <a:xfrm>
              <a:off x="4788000" y="2420640"/>
              <a:ext cx="285480" cy="142920"/>
            </a:xfrm>
            <a:custGeom>
              <a:avLst/>
              <a:gdLst/>
              <a:ahLst/>
              <a:rect l="l" t="t" r="r" b="b"/>
              <a:pathLst>
                <a:path w="285752" h="142876">
                  <a:moveTo>
                    <a:pt x="37876" y="54636"/>
                  </a:moveTo>
                  <a:lnTo>
                    <a:pt x="247876" y="54636"/>
                  </a:lnTo>
                  <a:lnTo>
                    <a:pt x="247876" y="88240"/>
                  </a:lnTo>
                  <a:lnTo>
                    <a:pt x="37876" y="88240"/>
                  </a:lnTo>
                  <a:lnTo>
                    <a:pt x="37876" y="54636"/>
                  </a:lnTo>
                  <a:close/>
                </a:path>
              </a:pathLst>
            </a:custGeom>
            <a:solidFill>
              <a:srgbClr val="9999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Группа 40"/>
          <p:cNvGrpSpPr/>
          <p:nvPr/>
        </p:nvGrpSpPr>
        <p:grpSpPr>
          <a:xfrm>
            <a:off x="4067280" y="3500280"/>
            <a:ext cx="285480" cy="285840"/>
            <a:chOff x="4067280" y="3500280"/>
            <a:chExt cx="285480" cy="285840"/>
          </a:xfrm>
        </p:grpSpPr>
        <p:sp>
          <p:nvSpPr>
            <p:cNvPr id="162" name="Овал 41"/>
            <p:cNvSpPr/>
            <p:nvPr/>
          </p:nvSpPr>
          <p:spPr>
            <a:xfrm>
              <a:off x="4067280" y="3500280"/>
              <a:ext cx="285480" cy="285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Минус 42"/>
            <p:cNvSpPr/>
            <p:nvPr/>
          </p:nvSpPr>
          <p:spPr>
            <a:xfrm>
              <a:off x="4067280" y="3571560"/>
              <a:ext cx="285480" cy="142920"/>
            </a:xfrm>
            <a:custGeom>
              <a:avLst/>
              <a:gdLst/>
              <a:ahLst/>
              <a:rect l="l" t="t" r="r" b="b"/>
              <a:pathLst>
                <a:path w="285752" h="142876">
                  <a:moveTo>
                    <a:pt x="37876" y="54636"/>
                  </a:moveTo>
                  <a:lnTo>
                    <a:pt x="247876" y="54636"/>
                  </a:lnTo>
                  <a:lnTo>
                    <a:pt x="247876" y="88240"/>
                  </a:lnTo>
                  <a:lnTo>
                    <a:pt x="37876" y="88240"/>
                  </a:lnTo>
                  <a:lnTo>
                    <a:pt x="37876" y="54636"/>
                  </a:lnTo>
                  <a:close/>
                </a:path>
              </a:pathLst>
            </a:custGeom>
            <a:solidFill>
              <a:srgbClr val="9999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Группа 43"/>
          <p:cNvGrpSpPr/>
          <p:nvPr/>
        </p:nvGrpSpPr>
        <p:grpSpPr>
          <a:xfrm>
            <a:off x="5148360" y="3573360"/>
            <a:ext cx="285480" cy="285840"/>
            <a:chOff x="5148360" y="3573360"/>
            <a:chExt cx="285480" cy="285840"/>
          </a:xfrm>
        </p:grpSpPr>
        <p:sp>
          <p:nvSpPr>
            <p:cNvPr id="165" name="Овал 44"/>
            <p:cNvSpPr/>
            <p:nvPr/>
          </p:nvSpPr>
          <p:spPr>
            <a:xfrm>
              <a:off x="5148360" y="3573360"/>
              <a:ext cx="285480" cy="285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Минус 45"/>
            <p:cNvSpPr/>
            <p:nvPr/>
          </p:nvSpPr>
          <p:spPr>
            <a:xfrm>
              <a:off x="5148360" y="3644640"/>
              <a:ext cx="285480" cy="142920"/>
            </a:xfrm>
            <a:custGeom>
              <a:avLst/>
              <a:gdLst/>
              <a:ahLst/>
              <a:rect l="l" t="t" r="r" b="b"/>
              <a:pathLst>
                <a:path w="285752" h="142876">
                  <a:moveTo>
                    <a:pt x="37876" y="54636"/>
                  </a:moveTo>
                  <a:lnTo>
                    <a:pt x="247876" y="54636"/>
                  </a:lnTo>
                  <a:lnTo>
                    <a:pt x="247876" y="88240"/>
                  </a:lnTo>
                  <a:lnTo>
                    <a:pt x="37876" y="88240"/>
                  </a:lnTo>
                  <a:lnTo>
                    <a:pt x="37876" y="54636"/>
                  </a:lnTo>
                  <a:close/>
                </a:path>
              </a:pathLst>
            </a:custGeom>
            <a:solidFill>
              <a:srgbClr val="9999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Группа 46"/>
          <p:cNvGrpSpPr/>
          <p:nvPr/>
        </p:nvGrpSpPr>
        <p:grpSpPr>
          <a:xfrm>
            <a:off x="6300720" y="2997360"/>
            <a:ext cx="285840" cy="285480"/>
            <a:chOff x="6300720" y="2997360"/>
            <a:chExt cx="285840" cy="285480"/>
          </a:xfrm>
        </p:grpSpPr>
        <p:sp>
          <p:nvSpPr>
            <p:cNvPr id="168" name="Овал 47"/>
            <p:cNvSpPr/>
            <p:nvPr/>
          </p:nvSpPr>
          <p:spPr>
            <a:xfrm>
              <a:off x="6300720" y="2997360"/>
              <a:ext cx="285840" cy="285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Минус 48"/>
            <p:cNvSpPr/>
            <p:nvPr/>
          </p:nvSpPr>
          <p:spPr>
            <a:xfrm>
              <a:off x="6300720" y="3068640"/>
              <a:ext cx="285840" cy="142560"/>
            </a:xfrm>
            <a:custGeom>
              <a:avLst/>
              <a:gdLst/>
              <a:ahLst/>
              <a:rect l="l" t="t" r="r" b="b"/>
              <a:pathLst>
                <a:path w="285752" h="142876">
                  <a:moveTo>
                    <a:pt x="37876" y="54636"/>
                  </a:moveTo>
                  <a:lnTo>
                    <a:pt x="247876" y="54636"/>
                  </a:lnTo>
                  <a:lnTo>
                    <a:pt x="247876" y="88240"/>
                  </a:lnTo>
                  <a:lnTo>
                    <a:pt x="37876" y="88240"/>
                  </a:lnTo>
                  <a:lnTo>
                    <a:pt x="37876" y="54636"/>
                  </a:lnTo>
                  <a:close/>
                </a:path>
              </a:pathLst>
            </a:custGeom>
            <a:solidFill>
              <a:srgbClr val="9999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Группа 49"/>
          <p:cNvGrpSpPr/>
          <p:nvPr/>
        </p:nvGrpSpPr>
        <p:grpSpPr>
          <a:xfrm>
            <a:off x="7308720" y="2421000"/>
            <a:ext cx="285840" cy="285840"/>
            <a:chOff x="7308720" y="2421000"/>
            <a:chExt cx="285840" cy="285840"/>
          </a:xfrm>
        </p:grpSpPr>
        <p:sp>
          <p:nvSpPr>
            <p:cNvPr id="171" name="Овал 50"/>
            <p:cNvSpPr/>
            <p:nvPr/>
          </p:nvSpPr>
          <p:spPr>
            <a:xfrm>
              <a:off x="7308720" y="2421000"/>
              <a:ext cx="285840" cy="285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Минус 51"/>
            <p:cNvSpPr/>
            <p:nvPr/>
          </p:nvSpPr>
          <p:spPr>
            <a:xfrm>
              <a:off x="7308720" y="2492280"/>
              <a:ext cx="285840" cy="142920"/>
            </a:xfrm>
            <a:custGeom>
              <a:avLst/>
              <a:gdLst/>
              <a:ahLst/>
              <a:rect l="l" t="t" r="r" b="b"/>
              <a:pathLst>
                <a:path w="285752" h="142876">
                  <a:moveTo>
                    <a:pt x="37876" y="54636"/>
                  </a:moveTo>
                  <a:lnTo>
                    <a:pt x="247876" y="54636"/>
                  </a:lnTo>
                  <a:lnTo>
                    <a:pt x="247876" y="88240"/>
                  </a:lnTo>
                  <a:lnTo>
                    <a:pt x="37876" y="88240"/>
                  </a:lnTo>
                  <a:lnTo>
                    <a:pt x="37876" y="54636"/>
                  </a:lnTo>
                  <a:close/>
                </a:path>
              </a:pathLst>
            </a:custGeom>
            <a:solidFill>
              <a:srgbClr val="9999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Группа 52"/>
          <p:cNvGrpSpPr/>
          <p:nvPr/>
        </p:nvGrpSpPr>
        <p:grpSpPr>
          <a:xfrm>
            <a:off x="3851280" y="2421000"/>
            <a:ext cx="285840" cy="285840"/>
            <a:chOff x="3851280" y="2421000"/>
            <a:chExt cx="285840" cy="285840"/>
          </a:xfrm>
        </p:grpSpPr>
        <p:sp>
          <p:nvSpPr>
            <p:cNvPr id="174" name="Овал 53"/>
            <p:cNvSpPr/>
            <p:nvPr/>
          </p:nvSpPr>
          <p:spPr>
            <a:xfrm>
              <a:off x="3851280" y="2421000"/>
              <a:ext cx="285840" cy="285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Минус 54"/>
            <p:cNvSpPr/>
            <p:nvPr/>
          </p:nvSpPr>
          <p:spPr>
            <a:xfrm>
              <a:off x="3851280" y="2492280"/>
              <a:ext cx="285840" cy="142920"/>
            </a:xfrm>
            <a:custGeom>
              <a:avLst/>
              <a:gdLst/>
              <a:ahLst/>
              <a:rect l="l" t="t" r="r" b="b"/>
              <a:pathLst>
                <a:path w="285752" h="142876">
                  <a:moveTo>
                    <a:pt x="37876" y="54636"/>
                  </a:moveTo>
                  <a:lnTo>
                    <a:pt x="247876" y="54636"/>
                  </a:lnTo>
                  <a:lnTo>
                    <a:pt x="247876" y="88240"/>
                  </a:lnTo>
                  <a:lnTo>
                    <a:pt x="37876" y="88240"/>
                  </a:lnTo>
                  <a:lnTo>
                    <a:pt x="37876" y="54636"/>
                  </a:lnTo>
                  <a:close/>
                </a:path>
              </a:pathLst>
            </a:custGeom>
            <a:solidFill>
              <a:srgbClr val="9999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Группа 55"/>
          <p:cNvGrpSpPr/>
          <p:nvPr/>
        </p:nvGrpSpPr>
        <p:grpSpPr>
          <a:xfrm>
            <a:off x="5796000" y="2421000"/>
            <a:ext cx="285840" cy="285840"/>
            <a:chOff x="5796000" y="2421000"/>
            <a:chExt cx="285840" cy="285840"/>
          </a:xfrm>
        </p:grpSpPr>
        <p:sp>
          <p:nvSpPr>
            <p:cNvPr id="177" name="Овал 56"/>
            <p:cNvSpPr/>
            <p:nvPr/>
          </p:nvSpPr>
          <p:spPr>
            <a:xfrm>
              <a:off x="5796000" y="2421000"/>
              <a:ext cx="285840" cy="285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Минус 57"/>
            <p:cNvSpPr/>
            <p:nvPr/>
          </p:nvSpPr>
          <p:spPr>
            <a:xfrm>
              <a:off x="5796000" y="2492280"/>
              <a:ext cx="285840" cy="142920"/>
            </a:xfrm>
            <a:custGeom>
              <a:avLst/>
              <a:gdLst/>
              <a:ahLst/>
              <a:rect l="l" t="t" r="r" b="b"/>
              <a:pathLst>
                <a:path w="285752" h="142876">
                  <a:moveTo>
                    <a:pt x="37876" y="54636"/>
                  </a:moveTo>
                  <a:lnTo>
                    <a:pt x="247876" y="54636"/>
                  </a:lnTo>
                  <a:lnTo>
                    <a:pt x="247876" y="88240"/>
                  </a:lnTo>
                  <a:lnTo>
                    <a:pt x="37876" y="88240"/>
                  </a:lnTo>
                  <a:lnTo>
                    <a:pt x="37876" y="54636"/>
                  </a:lnTo>
                  <a:close/>
                </a:path>
              </a:pathLst>
            </a:custGeom>
            <a:solidFill>
              <a:srgbClr val="9999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Группа 58"/>
          <p:cNvGrpSpPr/>
          <p:nvPr/>
        </p:nvGrpSpPr>
        <p:grpSpPr>
          <a:xfrm>
            <a:off x="7236000" y="3573360"/>
            <a:ext cx="285480" cy="285840"/>
            <a:chOff x="7236000" y="3573360"/>
            <a:chExt cx="285480" cy="285840"/>
          </a:xfrm>
        </p:grpSpPr>
        <p:sp>
          <p:nvSpPr>
            <p:cNvPr id="180" name="Овал 59"/>
            <p:cNvSpPr/>
            <p:nvPr/>
          </p:nvSpPr>
          <p:spPr>
            <a:xfrm>
              <a:off x="7236000" y="3573360"/>
              <a:ext cx="285480" cy="285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Минус 60"/>
            <p:cNvSpPr/>
            <p:nvPr/>
          </p:nvSpPr>
          <p:spPr>
            <a:xfrm>
              <a:off x="7236000" y="3644640"/>
              <a:ext cx="285480" cy="142920"/>
            </a:xfrm>
            <a:custGeom>
              <a:avLst/>
              <a:gdLst/>
              <a:ahLst/>
              <a:rect l="l" t="t" r="r" b="b"/>
              <a:pathLst>
                <a:path w="285752" h="142876">
                  <a:moveTo>
                    <a:pt x="37876" y="54636"/>
                  </a:moveTo>
                  <a:lnTo>
                    <a:pt x="247876" y="54636"/>
                  </a:lnTo>
                  <a:lnTo>
                    <a:pt x="247876" y="88240"/>
                  </a:lnTo>
                  <a:lnTo>
                    <a:pt x="37876" y="88240"/>
                  </a:lnTo>
                  <a:lnTo>
                    <a:pt x="37876" y="54636"/>
                  </a:lnTo>
                  <a:close/>
                </a:path>
              </a:pathLst>
            </a:custGeom>
            <a:solidFill>
              <a:srgbClr val="9999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Прямоугольник 75"/>
          <p:cNvSpPr/>
          <p:nvPr/>
        </p:nvSpPr>
        <p:spPr>
          <a:xfrm>
            <a:off x="1563840" y="260280"/>
            <a:ext cx="622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5e"/>
                </a:solidFill>
                <a:latin typeface="Arial"/>
              </a:rPr>
              <a:t>Металлическая связ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Rectangle 3" descr=""/>
          <p:cNvPicPr/>
          <p:nvPr/>
        </p:nvPicPr>
        <p:blipFill>
          <a:blip r:embed="rId1"/>
          <a:stretch/>
        </p:blipFill>
        <p:spPr>
          <a:xfrm>
            <a:off x="396720" y="5151600"/>
            <a:ext cx="8485200" cy="20304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8"/>
          <p:cNvSpPr/>
          <p:nvPr/>
        </p:nvSpPr>
        <p:spPr>
          <a:xfrm>
            <a:off x="2880" y="1916280"/>
            <a:ext cx="301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хема образ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аллической связ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146880" y="2852640"/>
            <a:ext cx="27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 = M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6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05556E-006 -3.42276E-007 C -0.00885 0.00994 -0.01875 0.02012 -0.02326 0.03284 C -0.0276 0.04672 -0.02986 0.06337 -0.03194 0.07979 C -0.0342 0.09644 -0.03194 0.11031 -0.02986 0.12581 C -0.0276 0.13992 -0.0243 0.15495 -0.01649 0.16767 C -0.01007 0.18039 0.00104 0.19056 0.0132 0.1982 C 0.02431 0.20583 0.0375 0.21092 0.0507 0.21346 C 0.06389 0.216 0.07709 0.216 0.08924 0.21346 C 0.10243 0.21092 0.11459 0.20444 0.12448 0.19426 C 0.13455 0.18548 0.14323 0.17391 0.14775 0.16004 C 0.1533 0.14732 0.15539 0.12974 0.15539 0.1154 C 0.15643 0.10153 0.15539 0.08488 0.14983 0.071 C 0.14445 0.05828 0.13455 0.0481 0.12118 0.04302 C 0.10782 0.03932 0.09462 0.0444 0.08594 0.05319 C 0.0783 0.06198 0.07275 0.07609 0.07153 0.09251 C 0.07153 0.10893 0.07275 0.12442 0.0783 0.13714 C 0.08368 0.15009 0.08264 0.15241 0.10469 0.16906 C 0.12448 0.18686 0.14445 0.18178 0.15643 0.18293 C 0.16858 0.18293 0.17848 0.17784 0.19045 0.17276 C 0.204 0.16651 0.21476 0.15495 0.22275 0.145 C 0.23039 0.13483 0.23351 0.12188 0.23802 0.10153 C 0.24132 0.08118 0.24132 0.071 0.24132 0.05574 C 0.24132 0.04047 0.24132 0.02521 0.24132 0.00994 E">
                                      <p:cBhvr>
                                        <p:cTn id="50" dur="5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4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7847 0.10661 C -0.07639 0.19056 -0.06945 0.25069 -0.0625 0.25069 C -0.05556 0.25069 -0.04948 0.19056 -0.0474 0.10661 C -0.04445 0.19056 -0.03854 0.25069 -0.03143 0.25069 C -0.02448 0.25069 -0.0184 0.19056 -0.01649 0.10661 C -0.01354 0.19056 -0.00747 0.25069 -0.00052 0.25069 C 0.0066 0.25069 0.01354 0.19056 0.01545 0.10661 C 0.01753 0.19056 0.02361 0.25069 0.0316 0.25069 C 0.0375 0.25069 0.04444 0.19056 0.04653 0.10661 C 0.04861 0.19056 0.05555 0.25069 0.0625 0.25069 C 0.06944 0.25069 0.07552 0.19056 0.0776 0.10661 C 0.08055 0.19056 0.08646 0.25069 0.09357 0.25069 C 0.10052 0.25069 0.1066 0.19056 0.10955 0.10661 C 0.11146 0.19056 0.11753 0.25069 0.12448 0.25069 C 0.1316 0.25069 0.13854 0.19056 0.14045 0.10661 C 0.14253 0.19056 0.14861 0.25069 0.1566 0.25069 C 0.16354 0.25069 0.16944 0.19056 0.17153 0.10661 E">
                                      <p:cBhvr>
                                        <p:cTn id="52" dur="5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4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13402 -0.17137 C 0.14132 -0.15773 0.14948 -0.14316 0.15312 -0.12535 C 0.15694 -0.10569 0.15868 -0.0821 0.16059 -0.05874 C 0.1625 -0.03539 0.16059 -0.01596 0.15868 0.00578 C 0.15694 0.02544 0.15416 0.04671 0.14774 0.06475 C 0.14218 0.08256 0.13298 0.09667 0.12309 0.108 C 0.11389 0.11841 0.10295 0.12558 0.09201 0.12928 C 0.08107 0.13321 0.07014 0.13321 0.05989 0.12928 C 0.04896 0.12558 0.03889 0.11679 0.03073 0.10222 C 0.02239 0.08927 0.0151 0.07354 0.01146 0.05388 C 0.00694 0.03584 0.00521 0.0111 0.00521 -0.00902 C 0.00416 -0.02868 0.00521 -0.05158 0.00972 -0.07123 C 0.01423 -0.08927 0.02239 -0.10338 0.0335 -0.11055 C 0.04444 -0.1161 0.05555 -0.10893 0.06284 -0.09644 C 0.06909 -0.08372 0.07378 -0.06406 0.07465 -0.04117 C 0.07465 -0.01781 0.07378 0.0037 0.06909 0.0215 C 0.06458 0.03954 0.06545 0.04301 0.04722 0.06637 C 0.03073 0.09158 0.01423 0.08441 0.00416 0.08603 C -0.00573 0.08603 -0.01407 0.0784 -0.02396 0.07146 C -0.03507 0.06267 -0.0441 0.04671 -0.0507 0.03237 C -0.05695 0.01827 -0.05973 0.000230000000000001 -0.06337 -0.02868 C -0.06598 -0.05713 -0.06598 -0.07123 -0.06598 -0.09297 C -0.06598 -0.11471 -0.06598 -0.13576 -0.06598 -0.15773 E">
                                      <p:cBhvr>
                                        <p:cTn id="54" dur="5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6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11857 0.02798 C 0.12031 0.09852 0.12448 0.1975 0.13993 0.19611 C 0.16215 0.19611 0.16371 -0.13483 0.19045 -0.13599 C 0.21423 -0.13599 0.20156 0.15309 0.22448 0.15194 C 0.24861 0.15194 0.23576 -0.05736 0.26146 -0.05736 C 0.28437 -0.05736 0.2717 0.08395 0.29219 0.08395 C 0.31198 0.08395 0.30173 -0.02406 0.31962 -0.02406 C 0.32986 -0.02406 0.33055 0.00531 0.33159 0.02798 E">
                                      <p:cBhvr>
                                        <p:cTn id="56" dur="5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5521 -0.0037 C 0.05521 0.04024 0.0823 0.07631 0.11528 0.07631 C 0.15417 0.07631 0.16823 0.03631 0.17414 0.01225 L 0.18021 -0.01966 C 0.18629 -0.04371 0.20122 -0.08372 0.24514 -0.08372 C 0.27327 -0.08372 0.30521 -0.04764 0.30521 -0.0037 C 0.30521 0.04024 0.27327 0.07631 0.24514 0.07631 C 0.20122 0.07631 0.18629 0.03631 0.18021 0.01225 L 0.17414 -0.01966 C 0.16823 -0.04371 0.15417 -0.08372 0.11528 -0.08372 C 0.0823 -0.08372 0.05521 -0.04764 0.05521 -0.0037 Z">
                                      <p:cBhvr>
                                        <p:cTn id="58" dur="5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2.5E-006 -0.07523 C 0.00695 -0.08287 0.01407 -0.09097 0.02101 -0.10139 C 0.03993 -0.13102 0.04497 -0.15995 0.03108 -0.16435 C 0.01702 -0.16944 -0.01007 -0.14861 -0.02899 -0.11898 C -0.03906 -0.10347 -0.04496 -0.08865 -0.04705 -0.07754 C -0.05 -0.06852 -0.05104 -0.05972 -0.05104 -0.0493 C -0.05104 -0.01597 -0.03802 0.01158 -0.02291 0.01158 C -0.00798 0.01158 0.00504 -0.01597 0.00504 -0.0493 C 0.00504 -0.06481 0.00209 -0.07986 -0.00295 -0.09004 C -0.00503 -0.09907 -0.01007 -0.10856 -0.01597 -0.11828 C -0.03593 -0.14861 -0.06302 -0.16944 -0.07708 -0.16435 C -0.09097 -0.15902 -0.08593 -0.13102 -0.06597 -0.10046 C -0.05798 -0.08634 -0.04705 -0.07453 -0.03593 -0.06643 C -0.02795 -0.05902 -0.01892 -0.05231 -0.00694 -0.0456 C 0.029 -0.0243 0.06493 -0.01458 0.075 -0.02338 C 0.08403 -0.0324 0.06407 -0.05671 0.02795 -0.07754 C 0.01302 -0.08634 -0.00295 -0.09305 -0.01597 -0.09768 C -0.02795 -0.10208 -0.04305 -0.10578 -0.05903 -0.10787 C -0.10295 -0.11527 -0.14097 -0.11319 -0.14392 -0.10139 C -0.14791 -0.09004 -0.11493 -0.07523 -0.071 -0.06782 C -0.05104 -0.06481 -0.03194 -0.06342 -0.01701 -0.06435 C -0.00399 -0.06435 0.01007 -0.06574 0.025 -0.06782 C 0.06893 -0.07523 0.10209 -0.09097 0.09792 -0.10208 C 0.09497 -0.11319 0.05695 -0.1162 0.01302 -0.10856 C -0.00798 -0.10486 -0.02708 -0.09977 -0.03993 -0.09375 C -0.05104 -0.08935 -0.06198 -0.08426 -0.07396 -0.07754 C -0.10903 -0.05602 -0.13003 -0.0324 -0.11996 -0.02338 C -0.11093 -0.01458 -0.07396 -0.0243 -0.03906 -0.0449 C -0.02205 -0.05532 -0.00798 -0.06574 -2.5E-006 -0.07523 Z">
                                      <p:cBhvr>
                                        <p:cTn id="60" dur="5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14792 -0.05065 C 0.15486 -0.06406 0.16198 -0.07863 0.16893 -0.09736 C 0.18785 -0.15056 0.19288 -0.20259 0.17899 -0.21069 C 0.16493 -0.21994 0.13785 -0.1827 0.11893 -0.12928 C 0.10886 -0.1013 0.10295 -0.0747 0.10087 -0.05458 C 0.09792 -0.03862 0.09688 -0.02267 0.09688 -0.00393 C 0.09688 0.05597 0.1099 0.10546 0.125 0.10546 C 0.13993 0.10546 0.15295 0.05597 0.15295 -0.00393 C 0.15295 -0.03192 0.15 -0.05874 0.14497 -0.07724 C 0.14288 -0.09343 0.13785 -0.11055 0.13195 -0.12789 C 0.11198 -0.1827 0.0849 -0.21994 0.07083 -0.21069 C 0.05695 -0.2012 0.06198 -0.15056 0.08195 -0.09598 C 0.08993 -0.07054 0.10087 -0.04926 0.11198 -0.03469 C 0.11997 -0.02128 0.12899 -0.00925 0.14097 0.00277 C 0.17691 0.0414 0.21285 0.05874 0.22292 0.04278 C 0.23195 0.02659 0.21198 -0.01735 0.17587 -0.05458 C 0.16094 -0.07054 0.14497 -0.08256 0.13195 -0.09066 C 0.11997 -0.09875 0.10486 -0.10523 0.08889 -0.10939 C 0.04497 -0.12257 0.00695 -0.11864 0.00399 -0.09736 C -1.38888999999965E-006 -0.07724 0.03299 -0.05065 0.07691 -0.03724 C 0.09688 -0.03192 0.11597 -0.02937 0.1309 -0.03076 C 0.14393 -0.03076 0.15799 -0.0333 0.17292 -0.03724 C 0.21684 -0.05065 0.25 -0.07863 0.24583 -0.09875 C 0.24288 -0.11864 0.20486 -0.12396 0.16094 -0.11055 C 0.13993 -0.10407 0.12083 -0.09459 0.10799 -0.08395 C 0.09688 -0.07609 0.08594 -0.06661 0.07396 -0.05458 C 0.03889 -0.01596 0.01788 0.02659 0.02795 0.04278 C 0.03698 0.05874 0.07396 0.0414 0.10886 0.00393 C 0.12587 -0.01457 0.13993 -0.0333 0.14792 -0.05065 Z">
                                      <p:cBhvr>
                                        <p:cTn id="62" dur="5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15903 -0.06545 C -0.15208 -0.07355 -0.14497 -0.08233 -0.13802 -0.09367 C -0.1191 -0.12581 -0.11406 -0.15727 -0.12795 -0.16212 C -0.14201 -0.16767 -0.1691 -0.14524 -0.18802 -0.11309 C -0.19809 -0.09598 -0.20399 -0.08002 -0.20608 -0.06776 C -0.20903 -0.05828 -0.21007 -0.04857 -0.21007 -0.03747 C -0.21007 -0.00093 -0.19705 0.02914 -0.18195 0.02914 C -0.16701 0.02914 -0.15399 -0.00093 -0.15399 -0.03747 C -0.15399 -0.05412 -0.15695 -0.07031 -0.16198 -0.08141 C -0.16406 -0.09112 -0.1691 -0.10153 -0.175 -0.11217 C -0.19497 -0.14524 -0.22205 -0.16767 -0.23611 -0.16212 C -0.25 -0.15657 -0.24497 -0.12581 -0.225 -0.09274 C -0.21701 -0.07748 -0.20608 -0.06453 -0.19497 -0.05574 C -0.18698 -0.04764 -0.17795 -0.04048 -0.16597 -0.03307 C -0.13004 -0.00995 -0.0941 0.00069 -0.08403 -0.00902 C -0.075 -0.01874 -0.09497 -0.04533 -0.13108 -0.06776 C -0.14601 -0.07748 -0.16198 -0.08465 -0.175 -0.0895 C -0.18698 -0.09436 -0.20208 -0.09829 -0.21806 -0.10084 C -0.26198 -0.10893 -0.3 -0.10662 -0.30295 -0.09367 C -0.30695 -0.08141 -0.27396 -0.06545 -0.23004 -0.05736 C -0.21007 -0.05412 -0.19097 -0.05273 -0.17604 -0.05343 C -0.16302 -0.05343 -0.14896 -0.05504 -0.13403 -0.05736 C -0.0901 -0.06545 -0.05695 -0.08233 -0.06111 -0.09436 C -0.06406 -0.10662 -0.10208 -0.10986 -0.14601 -0.10153 C -0.16701 -0.0976 -0.18611 -0.09205 -0.19896 -0.08557 C -0.21007 -0.08072 -0.22101 -0.07517 -0.23299 -0.06776 C -0.26806 -0.04441 -0.28906 -0.01874 -0.27899 -0.00902 C -0.26997 0.00069 -0.23299 -0.00995 -0.19809 -0.03238 C -0.18108 -0.04371 -0.16701 -0.05504 -0.15903 -0.06545 Z">
                                      <p:cBhvr>
                                        <p:cTn id="64" dur="5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1177 0.19589 C -0.11059 0.18247 -0.1033 0.1679 -0.096 0.14917 C -0.07656 0.09598 -0.07135 0.04395 -0.08576 0.03585 C -0.10017 0.0266 -0.12812 0.06383 -0.14774 0.11726 C -0.15798 0.14524 -0.16423 0.17184 -0.16632 0.19196 C -0.16927 0.20791 -0.17048 0.22387 -0.17048 0.2426 C -0.17048 0.3025 -0.15694 0.35199 -0.14132 0.35199 C -0.12604 0.35199 -0.1125 0.3025 -0.1125 0.2426 C -0.1125 0.21462 -0.11562 0.18779 -0.12083 0.16929 C -0.12291 0.1531 -0.12812 0.13599 -0.1342 0.11864 C -0.15486 0.06383 -0.18281 0.0266 -0.19722 0.03585 C -0.21163 0.04533 -0.20642 0.09598 -0.18576 0.15056 C -0.1776 0.176 -0.16632 0.19728 -0.15486 0.21185 C -0.14652 0.22526 -0.13732 0.23728 -0.125 0.24931 C -0.08784 0.28793 -0.05069 0.30528 -0.04027 0.28932 C -0.03107 0.27313 -0.05156 0.22919 -0.08889 0.19196 C -0.10434 0.176 -0.12083 0.16397 -0.1342 0.15588 C -0.14652 0.14778 -0.16215 0.14131 -0.17864 0.13715 C -0.22395 0.12396 -0.26319 0.1279 -0.26632 0.14917 C -0.27031 0.16929 -0.23628 0.19589 -0.19097 0.2093 C -0.17048 0.21462 -0.15069 0.21716 -0.13524 0.21578 C -0.12187 0.21578 -0.10729 0.21323 -0.09201 0.2093 C -0.0467 0.19589 -0.01232 0.1679 -0.01666 0.14778 C -0.01979 0.1279 -0.05902 0.12258 -0.10434 0.13599 C -0.12604 0.14247 -0.14566 0.15195 -0.15902 0.16259 C -0.17048 0.17045 -0.18177 0.17993 -0.19409 0.19196 C -0.2302 0.23058 -0.25191 0.27313 -0.24149 0.28932 C -0.23229 0.30528 -0.19409 0.28793 -0.15798 0.25047 C -0.14045 0.23197 -0.12604 0.21323 -0.1177 0.19589 Z">
                                      <p:cBhvr>
                                        <p:cTn id="66" dur="5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8038 -0.07169 C -0.07344 -0.08511 -0.06632 -0.09968 -0.05938 -0.11841 C -0.04045 -0.1716 -0.03542 -0.22364 -0.04931 -0.23173 C -0.06337 -0.24098 -0.09045 -0.20375 -0.10938 -0.15033 C -0.11944 -0.12234 -0.12535 -0.09575 -0.12743 -0.07563 C -0.13038 -0.05967 -0.13142 -0.04371 -0.13142 -0.02498 C -0.13142 0.03492 -0.1184 0.08441 -0.1033 0.08441 C -0.08837 0.08441 -0.07535 0.03492 -0.07535 -0.02498 C -0.07535 -0.05296 -0.0783 -0.07979 -0.08333 -0.09829 C -0.08542 -0.11448 -0.09045 -0.13159 -0.09635 -0.14894 C -0.11632 -0.20375 -0.1434 -0.24098 -0.15747 -0.23173 C -0.17135 -0.22225 -0.16632 -0.1716 -0.14635 -0.11702 C -0.13837 -0.09158 -0.12743 -0.07031 -0.11632 -0.05574 C -0.10833 -0.04232 -0.09931 -0.0303 -0.08733 -0.01827 C -0.05139 0.02035 -0.01545 0.03769 -0.00538 0.02174 C 0.00365 0.00555 -0.01632 -0.03839 -0.05243 -0.07563 C -0.06736 -0.09158 -0.08333 -0.10361 -0.09635 -0.1117 C -0.10833 -0.1198 -0.12344 -0.12627 -0.13941 -0.13044 C -0.18333 -0.14362 -0.22135 -0.13969 -0.22431 -0.11841 C -0.2283 -0.09829 -0.19531 -0.07169 -0.15139 -0.05828 C -0.13142 -0.05296 -0.11233 -0.05042 -0.0974 -0.05181 C -0.08438 -0.05181 -0.07031 -0.05435 -0.05538 -0.05828 C -0.01146 -0.07169 0.0217 -0.09968 0.01753 -0.1198 C 0.01458 -0.13969 -0.02344 -0.14501 -0.06736 -0.13159 C -0.08837 -0.12512 -0.10747 -0.11564 -0.12031 -0.105 C -0.13142 -0.09713 -0.14236 -0.08765 -0.15434 -0.07563 C -0.18941 -0.037 -0.21042 0.00555 -0.20035 0.02174 C -0.19132 0.03769 -0.15434 0.02035 -0.11944 -0.01712 C -0.10243 -0.03562 -0.08837 -0.05435 -0.08038 -0.07169 Z">
                                      <p:cBhvr>
                                        <p:cTn id="68" dur="5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1" descr="C:\Users\ИРИНА\Pictures\Химия\Металлы\Минералы\cu.jpg"/>
          <p:cNvPicPr/>
          <p:nvPr/>
        </p:nvPicPr>
        <p:blipFill>
          <a:blip r:embed="rId1"/>
          <a:stretch/>
        </p:blipFill>
        <p:spPr>
          <a:xfrm>
            <a:off x="0" y="4500720"/>
            <a:ext cx="3143160" cy="2357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C:\Users\ИРИНА\Pictures\Химия\Металлы\Медь\resc_Cu.jpg"/>
          <p:cNvPicPr/>
          <p:nvPr/>
        </p:nvPicPr>
        <p:blipFill>
          <a:blip r:embed="rId2"/>
          <a:stretch/>
        </p:blipFill>
        <p:spPr>
          <a:xfrm>
            <a:off x="6875640" y="357120"/>
            <a:ext cx="2268360" cy="2370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C:\Users\ИРИНА\Pictures\Химия\Хим_связь\9b3b647ffeed91155637aa4a2125929d.gif"/>
          <p:cNvPicPr/>
          <p:nvPr/>
        </p:nvPicPr>
        <p:blipFill>
          <a:blip r:embed="rId3"/>
          <a:stretch/>
        </p:blipFill>
        <p:spPr>
          <a:xfrm>
            <a:off x="4932360" y="2927520"/>
            <a:ext cx="3743280" cy="261144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5e"/>
                </a:solidFill>
                <a:latin typeface="Arial"/>
              </a:rPr>
              <a:t>Металлическая связ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357200"/>
            <a:ext cx="822960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ь в металлах и сплавах, которую выполняют относительно свободные электроны между ионами металлов в металлической кристаллической решет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468360" y="4869000"/>
            <a:ext cx="332244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3773520" y="450072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3059280" y="5300640"/>
            <a:ext cx="6084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ишите формулы веществ, в которых присут-ствует металлическая связь, составьте схему её образования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, KF, N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C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COOH, 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, Al, NaC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11"/>
          <p:cNvSpPr/>
          <p:nvPr/>
        </p:nvSpPr>
        <p:spPr>
          <a:xfrm>
            <a:off x="4286160" y="3286080"/>
            <a:ext cx="357120" cy="2142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2"/>
          <p:cNvSpPr/>
          <p:nvPr/>
        </p:nvSpPr>
        <p:spPr>
          <a:xfrm>
            <a:off x="4932360" y="3213000"/>
            <a:ext cx="287280" cy="360360"/>
          </a:xfrm>
          <a:prstGeom prst="rect">
            <a:avLst/>
          </a:prstGeom>
          <a:solidFill>
            <a:srgbClr val="d6d6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946800" y="3573360"/>
            <a:ext cx="310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 = M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5e"/>
                </a:solidFill>
                <a:latin typeface="Arial"/>
              </a:rPr>
              <a:t>Ковалентная химическая связ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4560" y="1267920"/>
            <a:ext cx="8569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вязь, возникающая между атомами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за сч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разования </a:t>
            </a:r>
            <a:r>
              <a:rPr b="0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общих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электронных п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кс1"/>
          <p:cNvPicPr/>
          <p:nvPr/>
        </p:nvPicPr>
        <p:blipFill>
          <a:blip r:embed="rId1"/>
          <a:stretch/>
        </p:blipFill>
        <p:spPr>
          <a:xfrm>
            <a:off x="539640" y="2744640"/>
            <a:ext cx="8064720" cy="15177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0" descr="кс222безымянный1"/>
          <p:cNvPicPr/>
          <p:nvPr/>
        </p:nvPicPr>
        <p:blipFill>
          <a:blip r:embed="rId2"/>
          <a:stretch/>
        </p:blipFill>
        <p:spPr>
          <a:xfrm>
            <a:off x="857160" y="4286160"/>
            <a:ext cx="7704360" cy="2052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C:\Users\ИРИНА\Pictures\Химия\Хим_связь\65.jpg"/>
          <p:cNvPicPr/>
          <p:nvPr/>
        </p:nvPicPr>
        <p:blipFill>
          <a:blip r:embed="rId3"/>
          <a:stretch/>
        </p:blipFill>
        <p:spPr>
          <a:xfrm>
            <a:off x="179280" y="2214720"/>
            <a:ext cx="5853240" cy="2082600"/>
          </a:xfrm>
          <a:prstGeom prst="rect">
            <a:avLst/>
          </a:prstGeom>
          <a:ln w="0">
            <a:noFill/>
          </a:ln>
        </p:spPr>
      </p:pic>
      <p:sp>
        <p:nvSpPr>
          <p:cNvPr id="202" name="TextBox 10"/>
          <p:cNvSpPr/>
          <p:nvPr/>
        </p:nvSpPr>
        <p:spPr>
          <a:xfrm>
            <a:off x="0" y="6215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5e"/>
                </a:solidFill>
                <a:latin typeface="Arial"/>
              </a:rPr>
              <a:t>Примеры образования ковалентной неполярной свя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5" descr="C:\Users\ИРИНА\Pictures\Химия\Хим_связь\stroenie-molekuly-vody.jpg"/>
          <p:cNvPicPr/>
          <p:nvPr/>
        </p:nvPicPr>
        <p:blipFill>
          <a:blip r:embed="rId1"/>
          <a:stretch/>
        </p:blipFill>
        <p:spPr>
          <a:xfrm>
            <a:off x="5929200" y="4500720"/>
            <a:ext cx="3000600" cy="2203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кс2безымянный1"/>
          <p:cNvPicPr/>
          <p:nvPr/>
        </p:nvPicPr>
        <p:blipFill>
          <a:blip r:embed="rId2"/>
          <a:stretch/>
        </p:blipFill>
        <p:spPr>
          <a:xfrm>
            <a:off x="2571840" y="642960"/>
            <a:ext cx="6335640" cy="2651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кс22безымянный1"/>
          <p:cNvPicPr/>
          <p:nvPr/>
        </p:nvPicPr>
        <p:blipFill>
          <a:blip r:embed="rId3"/>
          <a:stretch/>
        </p:blipFill>
        <p:spPr>
          <a:xfrm>
            <a:off x="3500280" y="3429000"/>
            <a:ext cx="5400720" cy="9050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142920" y="4786200"/>
            <a:ext cx="811512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e"/>
                </a:solidFill>
                <a:latin typeface="Arial"/>
              </a:rPr>
              <a:t>Примеры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e"/>
                </a:solidFill>
                <a:latin typeface="Arial"/>
              </a:rPr>
              <a:t>ковалентной полярной связ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5e"/>
                </a:solidFill>
                <a:latin typeface="Arial"/>
              </a:rPr>
              <a:t>составьте аналогичные схемы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5e"/>
                </a:solidFill>
                <a:latin typeface="Arial"/>
              </a:rPr>
              <a:t>молекул метана и 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C:\Users\ИРИНА\Pictures\Химия\Хим_связь\250px-Covalent-Ru.svg.png"/>
          <p:cNvPicPr/>
          <p:nvPr/>
        </p:nvPicPr>
        <p:blipFill>
          <a:blip r:embed="rId4"/>
          <a:stretch/>
        </p:blipFill>
        <p:spPr>
          <a:xfrm>
            <a:off x="366840" y="1428840"/>
            <a:ext cx="27288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5e"/>
                </a:solidFill>
                <a:latin typeface="Arial"/>
              </a:rPr>
              <a:t>Полярность ковалентной связи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71640" y="1143000"/>
            <a:ext cx="741672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2e"/>
                </a:solidFill>
                <a:latin typeface="Arial"/>
              </a:rPr>
              <a:t>это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тепень смещенност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их электронных пар  к одному из связанных ими атом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8"/>
          <p:cNvSpPr/>
          <p:nvPr/>
        </p:nvSpPr>
        <p:spPr>
          <a:xfrm>
            <a:off x="2195640" y="3571920"/>
            <a:ext cx="44640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5e"/>
                </a:solidFill>
                <a:latin typeface="Arial"/>
              </a:rPr>
              <a:t>Электроотрицательность </a:t>
            </a:r>
            <a:r>
              <a:rPr b="1" lang="ru-RU" sz="2000" spc="-1" strike="noStrike">
                <a:solidFill>
                  <a:srgbClr val="00005e"/>
                </a:solidFill>
                <a:latin typeface="Arial"/>
              </a:rPr>
              <a:t>(ЭО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йство атомов оттягивать к себе валентные электроны от других ато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214200" y="2428920"/>
            <a:ext cx="4173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5e"/>
                </a:solidFill>
                <a:latin typeface="Arial"/>
              </a:rPr>
              <a:t>Неполярна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валентная связь образуется между атомами с </a:t>
            </a:r>
            <a:r>
              <a:rPr b="1" i="1" lang="ru-RU" sz="2000" spc="-1" strike="noStrike">
                <a:solidFill>
                  <a:srgbClr val="00005e"/>
                </a:solidFill>
                <a:latin typeface="Arial"/>
              </a:rPr>
              <a:t>одинаковой Э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0"/>
          <p:cNvSpPr/>
          <p:nvPr/>
        </p:nvSpPr>
        <p:spPr>
          <a:xfrm>
            <a:off x="5000760" y="2428920"/>
            <a:ext cx="414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5e"/>
                </a:solidFill>
                <a:latin typeface="Arial"/>
              </a:rPr>
              <a:t>Полярна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валентная связь образуется между атомами с </a:t>
            </a:r>
            <a:r>
              <a:rPr b="1" i="1" lang="ru-RU" sz="2000" spc="-1" strike="noStrike">
                <a:solidFill>
                  <a:srgbClr val="00005e"/>
                </a:solidFill>
                <a:latin typeface="Arial"/>
              </a:rPr>
              <a:t>разной Э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428760" y="3357720"/>
            <a:ext cx="183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2"/>
          <p:cNvSpPr/>
          <p:nvPr/>
        </p:nvSpPr>
        <p:spPr>
          <a:xfrm>
            <a:off x="6572160" y="3429000"/>
            <a:ext cx="19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3"/>
          <p:cNvSpPr/>
          <p:nvPr/>
        </p:nvSpPr>
        <p:spPr>
          <a:xfrm>
            <a:off x="7143840" y="3857760"/>
            <a:ext cx="358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4"/>
          <p:cNvSpPr/>
          <p:nvPr/>
        </p:nvSpPr>
        <p:spPr>
          <a:xfrm>
            <a:off x="1143000" y="385776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9" descr="C:\Users\ИРИНА\Pictures\Химия\Хим_связь\bonding_fig03.gif"/>
          <p:cNvPicPr/>
          <p:nvPr/>
        </p:nvPicPr>
        <p:blipFill>
          <a:blip r:embed="rId1"/>
          <a:stretch/>
        </p:blipFill>
        <p:spPr>
          <a:xfrm>
            <a:off x="4500720" y="4929120"/>
            <a:ext cx="428616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5e"/>
                </a:solidFill>
                <a:latin typeface="Arial"/>
              </a:rPr>
              <a:t>Полярность ковалентной свя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58920" y="1143000"/>
            <a:ext cx="712944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2e"/>
                </a:solidFill>
                <a:latin typeface="Arial"/>
              </a:rPr>
              <a:t>зависит от разности электроотрица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2e"/>
                </a:solidFill>
                <a:latin typeface="Arial"/>
              </a:rPr>
              <a:t>связанных ато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539640" y="2421000"/>
          <a:ext cx="7993080" cy="2895480"/>
        </p:xfrm>
        <a:graphic>
          <a:graphicData uri="http://schemas.openxmlformats.org/drawingml/2006/table">
            <a:tbl>
              <a:tblPr/>
              <a:tblGrid>
                <a:gridCol w="1440000"/>
                <a:gridCol w="2016000"/>
                <a:gridCol w="2538360"/>
                <a:gridCol w="1998720"/>
              </a:tblGrid>
              <a:tr h="7034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471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Э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       2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        2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      3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7034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Э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 gridSpan="3"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лярность связей и молекул увеличивае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1" name="TextBox 12"/>
          <p:cNvSpPr/>
          <p:nvPr/>
        </p:nvSpPr>
        <p:spPr>
          <a:xfrm>
            <a:off x="611280" y="3860640"/>
            <a:ext cx="50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Arial"/>
                <a:ea typeface="Arial"/>
              </a:rPr>
              <a:t>∆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трелка вправо 13"/>
          <p:cNvSpPr/>
          <p:nvPr/>
        </p:nvSpPr>
        <p:spPr>
          <a:xfrm flipV="1">
            <a:off x="2050920" y="4723920"/>
            <a:ext cx="6050160" cy="21744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User</cp:lastModifiedBy>
  <dcterms:modified xsi:type="dcterms:W3CDTF">2022-04-01T09:41:57Z</dcterms:modified>
  <cp:revision>152</cp:revision>
  <dc:subject/>
  <dc:title>PowerPoint Presentation</dc:title>
</cp:coreProperties>
</file>