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B10-9B77-4157-8FF2-32BD8F57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898-5BFC-4220-9C09-B04B77A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AD0E-6B41-48FD-8ED4-FA7EEF8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A26E-B96B-4E76-A8A5-22673EE6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9DDFB-B57B-454C-918C-4D58B60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CEE0D-052E-47CA-9F14-DDE65E3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53C12-B35A-4A1A-B6C2-DD782D8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DEC6-5370-406E-BACD-25E180C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64630-FEF3-4E4E-B72A-913B79E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CA829-9A04-46BF-98C1-0C64A611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CC720-8C03-43EE-8065-EC609E80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D031-BEC5-43E0-9240-103EA309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642-CA3B-46C8-BA25-ED82C93B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92CE6-7587-4C63-BA0D-3AE6872A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80410-874F-4E4C-BA08-5E5964F9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9E2B5-1B3B-405A-9295-580D588D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98FC5-BF22-4C43-A854-04B7097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4BD20-A597-45ED-B777-6D29F08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E4CAA-A816-4593-A14F-CE99BD6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04648-53D2-4844-8C91-C123051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46252-076E-4CE1-9D7D-6D08A69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AE8EE-C526-4976-8E25-D0D1B21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FD91-13B4-44AC-815A-F9A990FB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D3A-A9CF-4A74-BFEC-A9D6DFCB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8E4C4-F581-4DE1-9D4A-44501984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DAC62-6076-44F1-954C-B6D9F4C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4F3C8-DFE2-46FB-A037-A988EFC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2099F-4B09-4D50-8056-0A9F793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EE46F-A8CF-426F-BA0C-8668EA3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C095-9C88-41D9-867E-AB2402F5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096DB-F8B7-439B-88B0-0F9CAC48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43E97-D973-44F5-A741-00589F7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158B-2102-49A2-B51B-D2C3603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4DDBD-EF33-4D75-A3FD-3ED4E7E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0BAF-524F-4AD0-940C-3FBE7038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ACBD-1532-4EB8-A934-B4A62270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96462-9BA4-4338-8F16-D549FF7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858FC-D76E-4809-B3C5-5984EBB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0C289-9528-4E86-8A7A-3EC0D1AF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767BE-91C6-49E8-8748-4D007B2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7C799-1973-4136-A440-ACE4F8BC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FA60C-D3DA-421A-98B3-EBA06E7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33F1B-E2FA-4505-A3D3-AB91CE71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44E85-7165-49FF-80BC-8585E8C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14963-4376-41E2-B279-DD0E39E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CB7A-785F-49A0-BE34-7BAFD658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B58E3-A0FB-4FD2-9298-0C63E76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27D39-B3C8-41B6-8F17-DB3F6EF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30DC-0A6A-4912-8A9D-A53AB21E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35049-1EBC-4A6C-8202-3759B14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01A86-2FB1-47DA-B5CC-C6E8A1B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9D3-2769-473F-BEAA-62BC2EA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22A-A445-4DAC-AA0D-59CC266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5C43-AAD9-4ADC-8D2D-615EEC7B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39F-5862-4FC7-A114-652697DA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2F0-01C7-4575-A5C9-1ACE09F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07F-D4C1-46F1-8830-6CEAB24B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124B-1BB3-4721-B9CD-862EE5B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BF7A-0FDE-4952-880D-DE86E9A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F185-2B4A-43A8-ABE0-C4F3708A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C4D1-FAAE-42B4-AAC0-25299428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2BD7-F9F6-4EC0-ABAD-332504BD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903C-F68C-486E-9F64-BD80F9A8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AA79-D9AD-4A2A-B201-2504EC3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46E8-4847-47D6-BF50-081DE94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76F7-B92A-4B10-B088-C93C6BC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241D-88A4-4326-AA40-EE7983C4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C7E-7AC7-44DA-A747-1397A4C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612D-B834-4BD9-A48D-282BDC22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3BBE-A820-4C7B-8ADE-5EE1D5F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51A6-DD06-43E3-A057-3A58986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B9CB-A0AF-4F57-90AF-9F90590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7A65-36E4-41A2-B169-0A098ED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41DD-1E32-4D28-AF5F-752EDBF6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8B48-0437-42FC-BDAD-EB7C20D1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06A4-0707-477C-AD33-C3E1C2BA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D644-730E-4093-835A-120DA0D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44F7-BD8A-4524-ADE4-9F5E588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749-D1F8-4888-96A7-2A33F95D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58E5-8C23-4B61-9FFD-F1B3FE5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0533-E2F0-43E1-AE36-A74D153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FA24-CA41-45DF-9AF5-51574D1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01EC-A27A-43A5-B256-9EDAD74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EF55-40ED-4DF2-AD5B-10CC1BD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0B30-11C9-48C6-AD6A-27C530E8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2603-9AF2-4CFB-8E07-FF89C07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1651-733E-4E03-B3BB-88627C46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8ADC-BA64-49FC-BD6C-5EDC152A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7A545-D6CB-47CA-A430-408D899D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E54-8E58-4E85-AB60-671EA66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EE90D-BE87-4038-9CBB-E1BAD11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121A-D901-4973-8E26-F0D8C59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8EC9-EC53-4442-85AF-6D0E026E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A5C3-4B90-424E-96F6-EA8C6A1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A120-FED0-40AE-843F-B53F1A3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91CA-50CB-45B9-BE95-D2689BB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8F18-7B15-4527-AD57-0C242C1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7C6EA-6F20-417F-9815-AD06854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8263-9B1B-44B1-B49A-A6EADF9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5AD6-37B1-41B6-89CF-F5F0CC64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CC6-96EA-4AAE-897D-728676B7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8317-F506-4C94-BF18-2E2C168B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8F37-6A7D-4A62-ACB1-227418EB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FBB7-1E9B-4D75-AC04-EA84B555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A91F3-4F04-400D-A244-85250BB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3517-8F4A-4D0D-96AC-DD9E855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053C-321C-46F6-90E7-07112B5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5CAB-4D0A-495B-AA31-832C914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AC6F-ED1B-4184-8269-9FEB355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56947-392B-4DE3-AF22-8A6C68B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36F1-4D06-42A5-B05A-88BB859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47-2A61-40E6-AA38-126E8C9C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F1A7-C01B-4A4A-95DE-8546AE53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593A-FA10-43B2-B407-85DC275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8A06-6ACD-4FA5-9399-B64C7431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254E-B608-4687-B8FC-C66436FC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AEE5-8D3A-4E75-AAF1-4C502D4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1F66-4AB6-4631-BDAF-8380A3DE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0FDB-C17A-4E71-A84C-9F49BA8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0DC6-FA9C-4914-86AB-E1634B3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E788-3F7A-43FD-A453-C6EDA33B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7208-D8C7-4090-BBC6-4F19290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999-C67F-4782-BD08-5A4E3A6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2865-CFC3-40C1-A174-A0D5C2C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C2DB7-D3E5-4FB9-8236-6BA39D8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06C7-AED3-4B6B-BF06-E11871E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CEF7-78B3-4B54-BBD0-CE0DD3CC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9E67-8D7F-40CF-8485-3D0989F9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1E183-C715-43F6-BBB1-98C29FE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977F-2071-4CC9-9FC0-452F88C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1D36-3E21-4E9E-8BC5-6C962EE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C2C94-46B0-4DF9-A47B-8DBC346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6565C-087B-4D3B-9508-02CB6595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DAD-D0CD-45D4-8E97-C75B200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53EA-DC65-409B-99B9-25D44A9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BDD2C-7FF3-48CC-9E0C-1FB4488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8510-7E70-41A7-AB5F-6CECA19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7540-3935-4C09-8BE8-8779118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EBD0-0332-4F8A-8650-40C8135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5AE0-418C-4668-B78E-69712F6A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B3182-F86F-40F1-A8C5-93B01543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FB84B-0B05-415B-8DCD-3466E5D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A6A3-197F-4405-8DEC-588BA798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6904E-639B-4F78-B09D-7B5D5B6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A48E-824B-46CA-A8E4-DC7218612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18DA-03BD-4742-B779-6C98B0916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8AD-6B92-4D8F-8975-5A4913EDF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C925-2011-4ED5-8EA7-C2395BCB0B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D262-BE7E-4338-AB48-C30AFF6F4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19B-6CE2-4510-A248-0FB6352E27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BE34-E36E-4D07-859C-2C8DD8518E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9986-396B-46CF-8E60-C9BE2D99C8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4533-3109-4133-99FD-DE6856315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4BF-18A7-48B7-AEE6-1805F0A2C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B67-A90E-4826-AE8D-2A6477B965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DEFB-7EEB-4C10-B90B-5FBD0D2BED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914960" cy="208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оспитание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мальчиков и девочек: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в чем разница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5003640" y="558972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-психолог Астановская Е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5"/>
          <p:cNvSpPr/>
          <p:nvPr/>
        </p:nvSpPr>
        <p:spPr>
          <a:xfrm>
            <a:off x="2170080" y="3246480"/>
            <a:ext cx="225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Рисунок 4" descr=""/>
          <p:cNvPicPr/>
          <p:nvPr/>
        </p:nvPicPr>
        <p:blipFill>
          <a:blip r:embed="rId1"/>
          <a:stretch/>
        </p:blipFill>
        <p:spPr>
          <a:xfrm>
            <a:off x="2170080" y="3765600"/>
            <a:ext cx="2498760" cy="225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95280" y="-5040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858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лим мы только за поступки, но любовь выражаем постоянно и как можно чаще. Потому как “Я тебя люблю” – это не похвала, это витамин для роста и развития. И любовью не испортишь. Этого мальчикам нужно не меньше, чем девочк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6" name="Рисунок 2" descr=""/>
          <p:cNvPicPr/>
          <p:nvPr/>
        </p:nvPicPr>
        <p:blipFill>
          <a:blip r:embed="rId1"/>
          <a:stretch/>
        </p:blipFill>
        <p:spPr>
          <a:xfrm>
            <a:off x="5003640" y="3668760"/>
            <a:ext cx="3184560" cy="2120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азные способы получения знаний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альчишкам все надо попробовать и испытать. Сильный пол учится через эксперименты, им обязательно нужно сделать что-либо самостоятельно и дойти до ответа самом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евочки по своей природе склонны к послушанию. Сидя на уроке, она «настраивается на волну» учителя и через жесты, мимику, смотря буквально в рот преподавателю, перенимает знания. Если девочка просит ей что-то объяснить, то ей, действительно, достаточно объяснения, и она его применит, когда ей будет необходимо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2656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9" name="Прямоугольник 1"/>
          <p:cNvSpPr/>
          <p:nvPr/>
        </p:nvSpPr>
        <p:spPr>
          <a:xfrm>
            <a:off x="655560" y="112536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альчиков и девоче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реакции на то, как оценивают их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вочек очень важно, какое они производят впечатление. Для них имеет большое значение эмоциональное общение со взрослым, и кто конкретно их оценивает, какие слова при этом употребля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ов интересует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именно работ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ивается родителем или педагогом, и детальное объяснение ее сути. Поэтому эмоциональная реплика в адрес мальчика: «Я недовольна тобой» – не несёт никакого смыс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908000" y="6893280"/>
            <a:ext cx="5824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25056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у нужно знать, какое его действие вызвало недовольство и почему, чтобы он смог исправить ошибку. Поэтому женщинам, воспитывающим мальчика, непонятно равнодушие к их наставлениям. Например, когда мама долго ругает сына, то недоумевает, почему он не расстраивается вместе с ней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 у мальчиков по природе короткий пик эмоциональности, сильный пол долго не печал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я некоторые особенности мальчиков и девочек, родители могут помочь своему ребенку раскрыться более пол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ехов Вам, уважааемые родите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457200" y="16603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5" name="Рисунок 4" descr=""/>
          <p:cNvPicPr/>
          <p:nvPr/>
        </p:nvPicPr>
        <p:blipFill>
          <a:blip r:embed="rId1"/>
          <a:stretch/>
        </p:blipFill>
        <p:spPr>
          <a:xfrm>
            <a:off x="2484360" y="3648240"/>
            <a:ext cx="3888000" cy="196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Прямоугольник 1"/>
          <p:cNvSpPr/>
          <p:nvPr/>
        </p:nvSpPr>
        <p:spPr>
          <a:xfrm>
            <a:off x="611280" y="1197000"/>
            <a:ext cx="82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условно, потребности мальчиков и девочек различны. Тем, не менее, всем им нужно главное – любовь. Любовь может проявляться по-разному, но главные ее составляющие – доверие и забо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а – это заинтересованность в благополучии ребенка, готовность помочь ему, сострадание, желание сделать его счастли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Рисунок 4" descr=""/>
          <p:cNvPicPr/>
          <p:nvPr/>
        </p:nvPicPr>
        <p:blipFill>
          <a:blip r:embed="rId1"/>
          <a:stretch/>
        </p:blipFill>
        <p:spPr>
          <a:xfrm>
            <a:off x="3290760" y="4290840"/>
            <a:ext cx="3081600" cy="1730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ам нужно больше довер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м же – больше забот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: мальчик отказывается от помощи в одевании, для него важно иметь возможность самостоятельных действий - это проявлен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, которой мама или папа помогает одеться, воспринимает это, как проявлен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, следовательно, любви род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0" name="Рисунок 2" descr=""/>
          <p:cNvPicPr/>
          <p:nvPr/>
        </p:nvPicPr>
        <p:blipFill>
          <a:blip r:embed="rId1"/>
          <a:stretch/>
        </p:blipFill>
        <p:spPr>
          <a:xfrm>
            <a:off x="6372360" y="4710240"/>
            <a:ext cx="2043000" cy="135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885080" cy="374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бы мальчик был способен заботиться об окружающих и сам желал этого, ему нужно доверие от них;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бы девочка могла доверять другим, ей нужны забота и понимание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Если девочка заботы не получила в том количестве, которое необходимо для установления доверия, это может напрямую влиять на ее характер. Не получившая того, что ей требуется, девочка, может подавлять в себе женские качества (ранимость, слабость) и проявлять качества мужские, требуя теперь уже доверия, самостоятельности. Но здесь важно учесть, что необязательно проявление мужских качеств – это следствие отсутствия заботы, это вполне может быть особенностью темперамент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-181440" y="765000"/>
            <a:ext cx="9001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даете понять мальчику, что он способен доставить радость окружающим, что он уже радует их, это становится мотивацией к хорошему повед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позитивной мотивации способно сделать мальчика слаб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тоит сообщать мальчику в случае неудачи, что вы его предупреждали, что ничего не получится. Просто поверьте, что он сможет сделать правильные выводы, даже если сейчас что-то не удалось, дайте ему уверенность в его сил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4" name="Рисунок 2" descr=""/>
          <p:cNvPicPr/>
          <p:nvPr/>
        </p:nvPicPr>
        <p:blipFill>
          <a:blip r:embed="rId1"/>
          <a:stretch/>
        </p:blipFill>
        <p:spPr>
          <a:xfrm>
            <a:off x="4451400" y="4292640"/>
            <a:ext cx="3517920" cy="19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604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250920" y="517680"/>
            <a:ext cx="8447040" cy="56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и нуждаются в том, чтобы любовь к ним выражалась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ого, что они способны сделать самостоятельно, положительное отношение к результатам их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и стремятся получить признание того, что они такие, как есть, что Вы понимаете и принимает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чувства и жел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Рисунок 2" descr=""/>
          <p:cNvPicPr/>
          <p:nvPr/>
        </p:nvPicPr>
        <p:blipFill>
          <a:blip r:embed="rId1"/>
          <a:stretch/>
        </p:blipFill>
        <p:spPr>
          <a:xfrm>
            <a:off x="4716360" y="4051440"/>
            <a:ext cx="3291120" cy="199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376920"/>
            <a:ext cx="748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89" name="Rectangle 3" descr=""/>
          <p:cNvPicPr/>
          <p:nvPr/>
        </p:nvPicPr>
        <p:blipFill>
          <a:blip r:embed="rId1"/>
          <a:stretch/>
        </p:blipFill>
        <p:spPr>
          <a:xfrm>
            <a:off x="347760" y="933480"/>
            <a:ext cx="8339040" cy="519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7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-разному хвал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ек нужно хвалить как можно чаще. За те качества, с которыми она уже пришла в этот мир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она будет ценить себя, такую замечательную. Разовьется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дочка испекла блинчики, не столь важно говорить о качестве приготовленных блюд. Нужно смотреть глубже и хвалить саму девочку: «Какая ты у меня заботливая, приготовила на ужин блинчики», «Какая хозяюшка растет, настоящая помощница», «Какая умница: столько книг прочитала за лето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щины, которые уверены, что их можно любить просто так, гораздо счастливее в этой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68360" y="-1663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218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 же стоит хвалить мальчик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лим только за поступки, только за дела, только по существу, за достижения. Поэтому лучшая похвала будет: «Какой замечательный самолёт ты смастерил!», «Ты помог мне прибраться в квартире, спасибо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м образом, для того, чтобы мальчика чаще вот так хвалить, ему нужно давать возможности для поступков. Просить его о помощи с малых лет. Помочь маме с сум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чина вырастает с ощущением, что помогать другим – это здорово, это приносит удовольствие, удовлетворение и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1T09:02:06Z</dcterms:created>
  <dc:creator>Полина</dc:creator>
  <dc:description/>
  <dc:language>en-US</dc:language>
  <cp:lastModifiedBy>El.Rudnickaya El.Rudnickaya</cp:lastModifiedBy>
  <dcterms:modified xsi:type="dcterms:W3CDTF">2022-04-01T19:49:48Z</dcterms:modified>
  <cp:revision>13</cp:revision>
  <dc:subject/>
  <dc:title>Психологический климат  в семье</dc:title>
</cp:coreProperties>
</file>