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FDB-CEB2-4AF6-A56A-0CCC80F3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127-3C9B-42E5-84EC-4473F9F8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EED-A717-4414-960D-5747C9DD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310-D01E-4C1A-BC57-5B9A4DBC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4FD1-0E13-411F-B532-1B9A01EA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9D23-F193-472C-B3DA-6A598F8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C36F-3A1B-493A-BDB2-538A04A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E8A3-F9BB-4CA1-A091-D4CD19E0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B05-31B9-438E-A628-A467A0F6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78BE-C90E-4175-9C69-0B2C5B2E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E3BF-F208-4023-9BF0-533F71D4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773-F42D-4475-9F99-49577999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C758-BDF8-4D74-9931-1B76AAE5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7E8A-EDFB-4AF6-AB7E-4FD25ED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EA65-10FD-4A79-A600-C6743C5B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31CB-4D52-410F-8053-8887C6B9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B710-F949-4E08-BD93-0094DB4E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286-0DF0-42E2-B6ED-43190143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A74-4C44-4991-A99A-0B40A20F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80F-6294-47E2-8C4B-B22E6B58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EA8-01A1-4415-9268-F89A44CF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081-3FC1-4980-8143-A411713A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635-C2BC-4D40-A5BC-35E4336D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5DF-095E-41BA-A777-F760A0C0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9C23-751D-4632-9906-4035E8773C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9684-BD87-4013-8C8D-71FA55F85C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9324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МИНИСТЕРСТВО ОБРАЗОВАНИЯ И МОЛОДЕЖНОЙ ПОЛИТИКИ ЧУВАШСКОЙ РЕСПУБЛИ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ОТДЕЛ ОБРАЗОВАНИЯ, МОЛОДЕЖНОЙ ПОЛИТИКИ,ФИЗИЧЕСКОЙ КУЛЬТУРЫ И СПОРТА АДМИНИСТРАЦИИ МОРГАУШСКОГО РАЙОНА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МДОУ «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Детский сад «Путене2 №27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 МОРГАУШСКОГО РАЙОНА</a:t>
            </a: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ЧУВАШСКОЙ РЕСПУБЛИКИ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0661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Исследовательская работа воспитанницы старшей группы «Звездоч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МДОУ «Детский сад «Путене»  №27» Рожковой Свет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Руководитель: Щукина Любовь Валериа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45975073"/>
          <p:cNvPicPr/>
          <p:nvPr/>
        </p:nvPicPr>
        <p:blipFill>
          <a:blip r:embed="rId1"/>
          <a:stretch/>
        </p:blipFill>
        <p:spPr>
          <a:xfrm>
            <a:off x="785880" y="1500120"/>
            <a:ext cx="7704000" cy="37339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" descr=""/>
          <p:cNvPicPr/>
          <p:nvPr/>
        </p:nvPicPr>
        <p:blipFill>
          <a:blip r:embed="rId2"/>
          <a:stretch/>
        </p:blipFill>
        <p:spPr>
          <a:xfrm>
            <a:off x="987480" y="1768320"/>
            <a:ext cx="7553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3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имеет вес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8720" y="1356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73152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х имеет 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j0398305"/>
          <p:cNvPicPr/>
          <p:nvPr/>
        </p:nvPicPr>
        <p:blipFill>
          <a:blip r:embed="rId1"/>
          <a:stretch/>
        </p:blipFill>
        <p:spPr>
          <a:xfrm>
            <a:off x="7429680" y="157176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User\Рабочий стол\Я исследователь старшая А\Изображение 156.jpg"/>
          <p:cNvPicPr/>
          <p:nvPr/>
        </p:nvPicPr>
        <p:blipFill>
          <a:blip r:embed="rId2"/>
          <a:stretch/>
        </p:blipFill>
        <p:spPr>
          <a:xfrm>
            <a:off x="357120" y="121428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User\Рабочий стол\Я исследователь старшая А\Изображение 165.jpg"/>
          <p:cNvPicPr/>
          <p:nvPr/>
        </p:nvPicPr>
        <p:blipFill>
          <a:blip r:embed="rId3"/>
          <a:stretch/>
        </p:blipFill>
        <p:spPr>
          <a:xfrm>
            <a:off x="357120" y="3786120"/>
            <a:ext cx="3500640" cy="2624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Рабочий стол\Я исследователь старшая А\Изображение 170.jpg"/>
          <p:cNvPicPr/>
          <p:nvPr/>
        </p:nvPicPr>
        <p:blipFill>
          <a:blip r:embed="rId4"/>
          <a:stretch/>
        </p:blipFill>
        <p:spPr>
          <a:xfrm>
            <a:off x="4071960" y="314316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4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– упругий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не надутых шара весят одинак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4941360"/>
            <a:ext cx="792324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Воздух можно поймать и запереть в   мяч, шар, пакетики  и ощупать. Значить воздух упруг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User\Рабочий стол\Я исследователь старшая А\Изображение 054.jpg"/>
          <p:cNvPicPr/>
          <p:nvPr/>
        </p:nvPicPr>
        <p:blipFill>
          <a:blip r:embed="rId1"/>
          <a:stretch/>
        </p:blipFill>
        <p:spPr>
          <a:xfrm>
            <a:off x="395280" y="1611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User\Рабочий стол\Я исследователь старшая А\Изображение 062.jpg"/>
          <p:cNvPicPr/>
          <p:nvPr/>
        </p:nvPicPr>
        <p:blipFill>
          <a:blip r:embed="rId2"/>
          <a:stretch/>
        </p:blipFill>
        <p:spPr>
          <a:xfrm>
            <a:off x="4572000" y="1628640"/>
            <a:ext cx="4103640" cy="308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j0398305"/>
          <p:cNvPicPr/>
          <p:nvPr/>
        </p:nvPicPr>
        <p:blipFill>
          <a:blip r:embed="rId3"/>
          <a:srcRect l="14528" t="0" r="16083" b="0"/>
          <a:stretch/>
        </p:blipFill>
        <p:spPr>
          <a:xfrm>
            <a:off x="571680" y="4929120"/>
            <a:ext cx="500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4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- упругий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 Чем больше воздуха в мяче, тем лучше он ск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User\Рабочий стол\Я исследователь старшая А\Изображение 192.jpg"/>
          <p:cNvPicPr/>
          <p:nvPr/>
        </p:nvPicPr>
        <p:blipFill>
          <a:blip r:embed="rId1"/>
          <a:stretch/>
        </p:blipFill>
        <p:spPr>
          <a:xfrm>
            <a:off x="4932360" y="386064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All Users\Документы\Мои рисунки\Изображение 038.jpg"/>
          <p:cNvPicPr/>
          <p:nvPr/>
        </p:nvPicPr>
        <p:blipFill>
          <a:blip r:embed="rId2"/>
          <a:srcRect l="0" t="0" r="9" b="0"/>
          <a:stretch/>
        </p:blipFill>
        <p:spPr>
          <a:xfrm>
            <a:off x="971640" y="344016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Documents and Settings\User\Рабочий стол\Я исследователь старшая А\Изображение 189.jpg"/>
          <p:cNvPicPr/>
          <p:nvPr/>
        </p:nvPicPr>
        <p:blipFill>
          <a:blip r:embed="rId3"/>
          <a:srcRect l="0" t="0" r="51" b="-41"/>
          <a:stretch/>
        </p:blipFill>
        <p:spPr>
          <a:xfrm>
            <a:off x="4876920" y="1290600"/>
            <a:ext cx="3295440" cy="2471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j0398305"/>
          <p:cNvPicPr/>
          <p:nvPr/>
        </p:nvPicPr>
        <p:blipFill>
          <a:blip r:embed="rId4"/>
          <a:stretch/>
        </p:blipFill>
        <p:spPr>
          <a:xfrm>
            <a:off x="755640" y="1628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5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легче воды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11280" y="4887720"/>
            <a:ext cx="77058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робуем игрушку, наполненную воздухом,  «утопить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ушка не тонет. Почему он не тон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 воздух легче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j0398305"/>
          <p:cNvPicPr/>
          <p:nvPr/>
        </p:nvPicPr>
        <p:blipFill>
          <a:blip r:embed="rId1"/>
          <a:stretch/>
        </p:blipFill>
        <p:spPr>
          <a:xfrm>
            <a:off x="7358040" y="5143680"/>
            <a:ext cx="863640" cy="863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110916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C:\Documents and Settings\All Users\Документы\Мои рисунки\Изображение 047.jpg"/>
          <p:cNvPicPr/>
          <p:nvPr/>
        </p:nvPicPr>
        <p:blipFill>
          <a:blip r:embed="rId2"/>
          <a:srcRect l="0" t="0" r="35" b="28"/>
          <a:stretch/>
        </p:blipFill>
        <p:spPr>
          <a:xfrm>
            <a:off x="1071720" y="1357200"/>
            <a:ext cx="29289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ll Users\Документы\Мои рисунки\Изображение 048.jpg"/>
          <p:cNvPicPr/>
          <p:nvPr/>
        </p:nvPicPr>
        <p:blipFill>
          <a:blip r:embed="rId3"/>
          <a:srcRect l="0" t="0" r="24" b="0"/>
          <a:stretch/>
        </p:blipFill>
        <p:spPr>
          <a:xfrm>
            <a:off x="4929120" y="1357200"/>
            <a:ext cx="2871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6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Воздух есть в кожуре  фрукто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ожуре находятся частички воздуха, которые помогают оставаться им на поверхности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User\Рабочий стол\Я исследователь старшая А\Изображение 101.jpg"/>
          <p:cNvPicPr/>
          <p:nvPr/>
        </p:nvPicPr>
        <p:blipFill>
          <a:blip r:embed="rId1"/>
          <a:stretch/>
        </p:blipFill>
        <p:spPr>
          <a:xfrm>
            <a:off x="1042920" y="1376280"/>
            <a:ext cx="3171960" cy="238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User\Рабочий стол\Я исследователь старшая А\Изображение 106.jpg"/>
          <p:cNvPicPr/>
          <p:nvPr/>
        </p:nvPicPr>
        <p:blipFill>
          <a:blip r:embed="rId2"/>
          <a:stretch/>
        </p:blipFill>
        <p:spPr>
          <a:xfrm>
            <a:off x="4786200" y="1357200"/>
            <a:ext cx="321480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cuments and Settings\User\Рабочий стол\Я исследователь старшая А\Изображение 112.jpg"/>
          <p:cNvPicPr/>
          <p:nvPr/>
        </p:nvPicPr>
        <p:blipFill>
          <a:blip r:embed="rId3"/>
          <a:stretch/>
        </p:blipFill>
        <p:spPr>
          <a:xfrm>
            <a:off x="1042920" y="3789360"/>
            <a:ext cx="3241800" cy="2440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j0398305"/>
          <p:cNvPicPr/>
          <p:nvPr/>
        </p:nvPicPr>
        <p:blipFill>
          <a:blip r:embed="rId4"/>
          <a:stretch/>
        </p:blipFill>
        <p:spPr>
          <a:xfrm>
            <a:off x="7380360" y="5084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7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Воздух невидим и без запах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85560" y="4642920"/>
            <a:ext cx="76438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ускаем кусочек пенопласта, кирпича и губку в в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оверхность воды всплывают пузырьки воздуха. Значит, во всех этих предметах находится возду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вод: Воздух заполняет все вокруг. Он невидим, не имеет за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Documents and Settings\All Users\Документы\Мои рисунки\Изображение 042.jpg"/>
          <p:cNvPicPr/>
          <p:nvPr/>
        </p:nvPicPr>
        <p:blipFill>
          <a:blip r:embed="rId1"/>
          <a:srcRect l="0" t="0" r="12" b="0"/>
          <a:stretch/>
        </p:blipFill>
        <p:spPr>
          <a:xfrm>
            <a:off x="3214800" y="1473120"/>
            <a:ext cx="2722320" cy="302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User\Рабочий стол\Я исследователь старшая А\Изображение 085.jpg"/>
          <p:cNvPicPr/>
          <p:nvPr/>
        </p:nvPicPr>
        <p:blipFill>
          <a:blip r:embed="rId2"/>
          <a:srcRect l="0" t="0" r="-52" b="33"/>
          <a:stretch/>
        </p:blipFill>
        <p:spPr>
          <a:xfrm>
            <a:off x="6000840" y="1428840"/>
            <a:ext cx="2587680" cy="307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Documents and Settings\All Users\Документы\Мои рисунки\Изображение 046.jpg"/>
          <p:cNvPicPr/>
          <p:nvPr/>
        </p:nvPicPr>
        <p:blipFill>
          <a:blip r:embed="rId3"/>
          <a:srcRect l="0" t="0" r="0" b="44"/>
          <a:stretch/>
        </p:blipFill>
        <p:spPr>
          <a:xfrm>
            <a:off x="428760" y="1428840"/>
            <a:ext cx="2714400" cy="3076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j0398305"/>
          <p:cNvPicPr/>
          <p:nvPr/>
        </p:nvPicPr>
        <p:blipFill>
          <a:blip r:embed="rId4"/>
          <a:stretch/>
        </p:blipFill>
        <p:spPr>
          <a:xfrm>
            <a:off x="500040" y="49291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05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выполнения исследовательской работы мы познакомились со свойствами воздуха и узнали, что воздух не имеет цвета, формы, имеет вес, он упругий, на него можно опереться, находится везде - в почве, в воде,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398305"/>
          <p:cNvPicPr/>
          <p:nvPr/>
        </p:nvPicPr>
        <p:blipFill>
          <a:blip r:embed="rId1"/>
          <a:srcRect l="16949" t="0" r="17697" b="0"/>
          <a:stretch/>
        </p:blipFill>
        <p:spPr>
          <a:xfrm>
            <a:off x="6215040" y="2071800"/>
            <a:ext cx="19288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C:\Documents and Settings\All Users\Документы\Мои рисунки\Изображение 028.jpg"/>
          <p:cNvPicPr/>
          <p:nvPr/>
        </p:nvPicPr>
        <p:blipFill>
          <a:blip r:embed="rId1"/>
          <a:stretch/>
        </p:blipFill>
        <p:spPr>
          <a:xfrm>
            <a:off x="1639800" y="1420920"/>
            <a:ext cx="462132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Актуаль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ая работа направлен на формирование интереса детей к живой природе. Развитие поисково-познавательной деятельности дошкольников, протекающей в форме эксперименталь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исследовательской работы предусматривает постановку проблемы, поиск ее решения через игры-эксперименты, наблюдения, беседы, чтение художественн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олагаемые формы работы являются актуальными, так как обеспечивают личностно-ориентированное взаимодействие взрослого с ребенком, создавая особую атмосферу, которая позволит каждому ребенку реализовать свою познавательную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ные самостоятельные исследования позволят детям ответить на проблемные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 предназначена для работы с детьми 6-7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59293-S"/>
          <p:cNvPicPr/>
          <p:nvPr/>
        </p:nvPicPr>
        <p:blipFill>
          <a:blip r:embed="rId1"/>
          <a:stretch/>
        </p:blipFill>
        <p:spPr>
          <a:xfrm>
            <a:off x="250920" y="189000"/>
            <a:ext cx="15112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000" y="4508640"/>
            <a:ext cx="792468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encilcolor-main_Full"/>
          <p:cNvPicPr/>
          <p:nvPr/>
        </p:nvPicPr>
        <p:blipFill>
          <a:blip r:embed="rId1"/>
          <a:stretch/>
        </p:blipFill>
        <p:spPr>
          <a:xfrm>
            <a:off x="5508720" y="2421000"/>
            <a:ext cx="3006720" cy="2662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1187280" y="2708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у работы легло предположение о том, что  все живое и неживое на  земле находится в воздушно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Цель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cc"/>
                </a:solidFill>
                <a:latin typeface="Georgia"/>
              </a:rPr>
              <a:t>познакомить детей с понятием «воздух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6666cc"/>
                </a:solidFill>
                <a:latin typeface="Georgia"/>
              </a:rPr>
              <a:t>его свой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892720" y="4365360"/>
            <a:ext cx="7164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2" descr="45975073"/>
          <p:cNvPicPr/>
          <p:nvPr/>
        </p:nvPicPr>
        <p:blipFill>
          <a:blip r:embed="rId2"/>
          <a:stretch/>
        </p:blipFill>
        <p:spPr>
          <a:xfrm>
            <a:off x="2411280" y="2637000"/>
            <a:ext cx="3816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Задач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450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комить детей со свойствами воздуха (не имеет цвета, формы, имеет вес, он упругий, на него можно опереться, находится везде- в почве, в воде, на суш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детей проводить опыты аккуратно, устанавливать причинно-следственные связи,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любознательность, интерес к окружающему ми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j0404263"/>
          <p:cNvPicPr/>
          <p:nvPr/>
        </p:nvPicPr>
        <p:blipFill>
          <a:blip r:embed="rId1"/>
          <a:stretch/>
        </p:blipFill>
        <p:spPr>
          <a:xfrm>
            <a:off x="5118120" y="2060640"/>
            <a:ext cx="3240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j0437990"/>
          <p:cNvPicPr/>
          <p:nvPr/>
        </p:nvPicPr>
        <p:blipFill>
          <a:blip r:embed="rId1"/>
          <a:stretch/>
        </p:blipFill>
        <p:spPr>
          <a:xfrm>
            <a:off x="4786200" y="157176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од исследо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0040" y="1557360"/>
            <a:ext cx="5857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расс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карт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есть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гадать загад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стихи о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наблюд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исследовательс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на тему «Воздух-невидим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1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акан погружаем в воду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1640" y="3857400"/>
            <a:ext cx="41432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Стакан сухой, туда вода не поп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кане есть воздух, он не пускает туда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8" descr="j0398305"/>
          <p:cNvPicPr/>
          <p:nvPr/>
        </p:nvPicPr>
        <p:blipFill>
          <a:blip r:embed="rId1"/>
          <a:srcRect l="16555" t="0" r="17283" b="0"/>
          <a:stretch/>
        </p:blipFill>
        <p:spPr>
          <a:xfrm>
            <a:off x="8072280" y="5000760"/>
            <a:ext cx="571680" cy="86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User\Рабочий стол\Я исследователь старшая А\Изображение 065.jpg"/>
          <p:cNvPicPr/>
          <p:nvPr/>
        </p:nvPicPr>
        <p:blipFill>
          <a:blip r:embed="rId2"/>
          <a:srcRect l="0" t="0" r="0" b="-12"/>
          <a:stretch/>
        </p:blipFill>
        <p:spPr>
          <a:xfrm>
            <a:off x="428760" y="121428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\Рабочий стол\Я исследователь старшая А\Изображение 069.jpg"/>
          <p:cNvPicPr/>
          <p:nvPr/>
        </p:nvPicPr>
        <p:blipFill>
          <a:blip r:embed="rId3"/>
          <a:stretch/>
        </p:blipFill>
        <p:spPr>
          <a:xfrm>
            <a:off x="5000760" y="1214280"/>
            <a:ext cx="3643200" cy="273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User\Рабочий стол\Я исследователь старшая А\Изображение 071.jpg"/>
          <p:cNvPicPr/>
          <p:nvPr/>
        </p:nvPicPr>
        <p:blipFill>
          <a:blip r:embed="rId4"/>
          <a:srcRect l="0" t="0" r="0" b="38"/>
          <a:stretch/>
        </p:blipFill>
        <p:spPr>
          <a:xfrm>
            <a:off x="428760" y="3571920"/>
            <a:ext cx="4084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2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ы дышим воздухом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24498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 стакане с водой есть воздух , который мы выдохн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User\Рабочий стол\Я исследователь старшая А\Изображение 076.jpg"/>
          <p:cNvPicPr/>
          <p:nvPr/>
        </p:nvPicPr>
        <p:blipFill>
          <a:blip r:embed="rId1"/>
          <a:stretch/>
        </p:blipFill>
        <p:spPr>
          <a:xfrm>
            <a:off x="4932360" y="165744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50920" y="3860280"/>
            <a:ext cx="46083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ыхаем воздух через нос, выдыхаем через соломку в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идим? – пузырьки. Что это значит? – Мы дышим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j0398305"/>
          <p:cNvPicPr/>
          <p:nvPr/>
        </p:nvPicPr>
        <p:blipFill>
          <a:blip r:embed="rId2"/>
          <a:stretch/>
        </p:blipFill>
        <p:spPr>
          <a:xfrm>
            <a:off x="468360" y="1557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3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имеет вес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120" y="1483920"/>
            <a:ext cx="52578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120" y="3886200"/>
            <a:ext cx="540252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не надутых шара весят одинак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User\Рабочий стол\Я исследователь старшая А\Изображение 125.jpg"/>
          <p:cNvPicPr/>
          <p:nvPr/>
        </p:nvPicPr>
        <p:blipFill>
          <a:blip r:embed="rId1"/>
          <a:stretch/>
        </p:blipFill>
        <p:spPr>
          <a:xfrm>
            <a:off x="539640" y="1268280"/>
            <a:ext cx="4175280" cy="313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User\Рабочий стол\Я исследователь старшая А\Изображение 150.jpg"/>
          <p:cNvPicPr/>
          <p:nvPr/>
        </p:nvPicPr>
        <p:blipFill>
          <a:blip r:embed="rId2"/>
          <a:stretch/>
        </p:blipFill>
        <p:spPr>
          <a:xfrm>
            <a:off x="4500720" y="300024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539640" y="465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Два не надутых шара весят одинак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Надутый шарик побольше, весит тяже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8:32:12Z</dcterms:created>
  <dc:creator>рожков николай</dc:creator>
  <dc:description/>
  <dc:language>en-US</dc:language>
  <cp:lastModifiedBy>User</cp:lastModifiedBy>
  <dcterms:modified xsi:type="dcterms:W3CDTF">2016-01-21T04:08:02Z</dcterms:modified>
  <cp:revision>12</cp:revision>
  <dc:subject/>
  <dc:title>Воздух-неведим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2a0000000000010291410207f7000400038000</vt:lpwstr>
  </property>
</Properties>
</file>