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535-DC10-4F5D-9FAF-FC1565F5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B13-3577-4547-9064-C7B20F7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61A-2367-474A-9004-2EC4B023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26A-0F64-4371-B8D2-C72BF986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0EA-CCD4-4F61-97BA-5A6998DA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731A-60EE-4920-8951-145849AE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8A9-4354-415B-8034-38F0C79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E46-E68F-46AF-8B49-ADBCE4C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608-0368-4784-AF25-E797C93D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E2E-7591-41F2-8878-35E4D376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F281-1313-40C4-BCFC-E3876C2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534-B284-4698-A691-64CFA857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32A-EC1A-422E-AD64-A88318C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445-47F8-486F-A560-EFB1BC1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483F-4329-416D-BBF9-D96B87F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7929-F24F-49CC-87EC-7F60AF2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D591-8D2A-4B8B-B526-2365ABCA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A7-9C93-4E26-84FD-C8CEF21D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68D-2F84-4425-B501-BFDFDDE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779-4D61-4901-88D0-F743499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2CA-DBFC-4076-A944-D463E937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CD4-56A3-4BCC-9C19-E1852660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DF8-0AD6-4EEF-B3F8-2CAE990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A14-57D1-4419-BDCA-A202292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367-1D28-4274-A732-F346DE4E79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475F-831A-497D-A671-0453140605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9324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ИНИСТЕРСТВО ОБРАЗОВАНИЯ И МОЛОДЕЖНОЙ ПОЛИТИКИ ЧУВАШСКОЙ РЕСПУБЛИ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ТДЕЛ ОБРАЗОВАНИЯ, МОЛОДЕЖНОЙ ПОЛИТИКИ,ФИЗИЧЕСКОЙ КУЛЬТУРЫ И СПОРТА АДМИНИСТРАЦИИ МОРГАУШСКОГО РАЙОНА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ДОУ «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Детский сад «Путене2 №27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 МОРГАУШСКОГО РАЙОНА</a:t>
            </a: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ЧУВАШСКОЙ РЕСПУБЛИКИ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066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Исследовательская работа воспитанницы старшей группы «Звездоч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МДОУ «Детский сад «Путене»  №27» Рожковой Свет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уководитель: Щукина Любовь Валериа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45975073"/>
          <p:cNvPicPr/>
          <p:nvPr/>
        </p:nvPicPr>
        <p:blipFill>
          <a:blip r:embed="rId1"/>
          <a:stretch/>
        </p:blipFill>
        <p:spPr>
          <a:xfrm>
            <a:off x="785880" y="1500120"/>
            <a:ext cx="770400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" descr=""/>
          <p:cNvPicPr/>
          <p:nvPr/>
        </p:nvPicPr>
        <p:blipFill>
          <a:blip r:embed="rId2"/>
          <a:stretch/>
        </p:blipFill>
        <p:spPr>
          <a:xfrm>
            <a:off x="987480" y="1768320"/>
            <a:ext cx="7553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3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имеет вес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8720" y="1356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73152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 имеет 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j0398305"/>
          <p:cNvPicPr/>
          <p:nvPr/>
        </p:nvPicPr>
        <p:blipFill>
          <a:blip r:embed="rId1"/>
          <a:stretch/>
        </p:blipFill>
        <p:spPr>
          <a:xfrm>
            <a:off x="7429680" y="15717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User\Рабочий стол\Я исследователь старшая А\Изображение 156.jpg"/>
          <p:cNvPicPr/>
          <p:nvPr/>
        </p:nvPicPr>
        <p:blipFill>
          <a:blip r:embed="rId2"/>
          <a:stretch/>
        </p:blipFill>
        <p:spPr>
          <a:xfrm>
            <a:off x="357120" y="121428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Я исследователь старшая А\Изображение 165.jpg"/>
          <p:cNvPicPr/>
          <p:nvPr/>
        </p:nvPicPr>
        <p:blipFill>
          <a:blip r:embed="rId3"/>
          <a:stretch/>
        </p:blipFill>
        <p:spPr>
          <a:xfrm>
            <a:off x="357120" y="3786120"/>
            <a:ext cx="3500640" cy="26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Я исследователь старшая А\Изображение 170.jpg"/>
          <p:cNvPicPr/>
          <p:nvPr/>
        </p:nvPicPr>
        <p:blipFill>
          <a:blip r:embed="rId4"/>
          <a:stretch/>
        </p:blipFill>
        <p:spPr>
          <a:xfrm>
            <a:off x="4071960" y="314316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4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– упругий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не надутых шара весят одинак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4941360"/>
            <a:ext cx="792324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Воздух можно поймать и запереть в   мяч, шар, пакетики  и ощупать. Значить воздух упру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User\Рабочий стол\Я исследователь старшая А\Изображение 054.jpg"/>
          <p:cNvPicPr/>
          <p:nvPr/>
        </p:nvPicPr>
        <p:blipFill>
          <a:blip r:embed="rId1"/>
          <a:stretch/>
        </p:blipFill>
        <p:spPr>
          <a:xfrm>
            <a:off x="395280" y="161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User\Рабочий стол\Я исследователь старшая А\Изображение 062.jpg"/>
          <p:cNvPicPr/>
          <p:nvPr/>
        </p:nvPicPr>
        <p:blipFill>
          <a:blip r:embed="rId2"/>
          <a:stretch/>
        </p:blipFill>
        <p:spPr>
          <a:xfrm>
            <a:off x="4572000" y="1628640"/>
            <a:ext cx="4103640" cy="308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398305"/>
          <p:cNvPicPr/>
          <p:nvPr/>
        </p:nvPicPr>
        <p:blipFill>
          <a:blip r:embed="rId3"/>
          <a:srcRect l="14528" t="0" r="16083" b="0"/>
          <a:stretch/>
        </p:blipFill>
        <p:spPr>
          <a:xfrm>
            <a:off x="571680" y="4929120"/>
            <a:ext cx="500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4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- упругий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Чем больше воздуха в мяче, тем лучше он ск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User\Рабочий стол\Я исследователь старшая А\Изображение 192.jpg"/>
          <p:cNvPicPr/>
          <p:nvPr/>
        </p:nvPicPr>
        <p:blipFill>
          <a:blip r:embed="rId1"/>
          <a:stretch/>
        </p:blipFill>
        <p:spPr>
          <a:xfrm>
            <a:off x="4932360" y="386064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All Users\Документы\Мои рисунки\Изображение 038.jpg"/>
          <p:cNvPicPr/>
          <p:nvPr/>
        </p:nvPicPr>
        <p:blipFill>
          <a:blip r:embed="rId2"/>
          <a:srcRect l="0" t="0" r="9" b="0"/>
          <a:stretch/>
        </p:blipFill>
        <p:spPr>
          <a:xfrm>
            <a:off x="971640" y="34401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Documents and Settings\User\Рабочий стол\Я исследователь старшая А\Изображение 189.jpg"/>
          <p:cNvPicPr/>
          <p:nvPr/>
        </p:nvPicPr>
        <p:blipFill>
          <a:blip r:embed="rId3"/>
          <a:srcRect l="0" t="0" r="51" b="-41"/>
          <a:stretch/>
        </p:blipFill>
        <p:spPr>
          <a:xfrm>
            <a:off x="4876920" y="129060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j0398305"/>
          <p:cNvPicPr/>
          <p:nvPr/>
        </p:nvPicPr>
        <p:blipFill>
          <a:blip r:embed="rId4"/>
          <a:stretch/>
        </p:blipFill>
        <p:spPr>
          <a:xfrm>
            <a:off x="755640" y="1628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5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легче воды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11280" y="4887720"/>
            <a:ext cx="77058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робуем игрушку, наполненную воздухом,  «утопить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ушка не тонет. Почему он не то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воздух легче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j0398305"/>
          <p:cNvPicPr/>
          <p:nvPr/>
        </p:nvPicPr>
        <p:blipFill>
          <a:blip r:embed="rId1"/>
          <a:stretch/>
        </p:blipFill>
        <p:spPr>
          <a:xfrm>
            <a:off x="7358040" y="5143680"/>
            <a:ext cx="863640" cy="863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110916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:\Documents and Settings\All Users\Документы\Мои рисунки\Изображение 047.jpg"/>
          <p:cNvPicPr/>
          <p:nvPr/>
        </p:nvPicPr>
        <p:blipFill>
          <a:blip r:embed="rId2"/>
          <a:srcRect l="0" t="0" r="35" b="28"/>
          <a:stretch/>
        </p:blipFill>
        <p:spPr>
          <a:xfrm>
            <a:off x="1071720" y="1357200"/>
            <a:ext cx="29289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ll Users\Документы\Мои рисунки\Изображение 048.jpg"/>
          <p:cNvPicPr/>
          <p:nvPr/>
        </p:nvPicPr>
        <p:blipFill>
          <a:blip r:embed="rId3"/>
          <a:srcRect l="0" t="0" r="24" b="0"/>
          <a:stretch/>
        </p:blipFill>
        <p:spPr>
          <a:xfrm>
            <a:off x="4929120" y="1357200"/>
            <a:ext cx="2871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6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Воздух есть в кожуре  фрукто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журе находятся частички воздуха, которые помогают оставаться им на поверхности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User\Рабочий стол\Я исследователь старшая А\Изображение 101.jpg"/>
          <p:cNvPicPr/>
          <p:nvPr/>
        </p:nvPicPr>
        <p:blipFill>
          <a:blip r:embed="rId1"/>
          <a:stretch/>
        </p:blipFill>
        <p:spPr>
          <a:xfrm>
            <a:off x="1042920" y="137628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User\Рабочий стол\Я исследователь старшая А\Изображение 106.jpg"/>
          <p:cNvPicPr/>
          <p:nvPr/>
        </p:nvPicPr>
        <p:blipFill>
          <a:blip r:embed="rId2"/>
          <a:stretch/>
        </p:blipFill>
        <p:spPr>
          <a:xfrm>
            <a:off x="4786200" y="1357200"/>
            <a:ext cx="321480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User\Рабочий стол\Я исследователь старшая А\Изображение 112.jpg"/>
          <p:cNvPicPr/>
          <p:nvPr/>
        </p:nvPicPr>
        <p:blipFill>
          <a:blip r:embed="rId3"/>
          <a:stretch/>
        </p:blipFill>
        <p:spPr>
          <a:xfrm>
            <a:off x="1042920" y="3789360"/>
            <a:ext cx="3241800" cy="244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j0398305"/>
          <p:cNvPicPr/>
          <p:nvPr/>
        </p:nvPicPr>
        <p:blipFill>
          <a:blip r:embed="rId4"/>
          <a:stretch/>
        </p:blipFill>
        <p:spPr>
          <a:xfrm>
            <a:off x="7380360" y="5084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7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Воздух невидим и без запах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85560" y="4642920"/>
            <a:ext cx="76438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ускаем кусочек пенопласта, кирпича и губку в в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верхность воды всплывают пузырьки воздуха. Значит, во всех этих предметах находится возду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вод: Воздух заполняет все вокруг. Он невидим, не имеет за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Documents and Settings\All Users\Документы\Мои рисунки\Изображение 042.jpg"/>
          <p:cNvPicPr/>
          <p:nvPr/>
        </p:nvPicPr>
        <p:blipFill>
          <a:blip r:embed="rId1"/>
          <a:srcRect l="0" t="0" r="12" b="0"/>
          <a:stretch/>
        </p:blipFill>
        <p:spPr>
          <a:xfrm>
            <a:off x="3214800" y="1473120"/>
            <a:ext cx="2722320" cy="302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User\Рабочий стол\Я исследователь старшая А\Изображение 085.jpg"/>
          <p:cNvPicPr/>
          <p:nvPr/>
        </p:nvPicPr>
        <p:blipFill>
          <a:blip r:embed="rId2"/>
          <a:srcRect l="0" t="0" r="-52" b="33"/>
          <a:stretch/>
        </p:blipFill>
        <p:spPr>
          <a:xfrm>
            <a:off x="6000840" y="1428840"/>
            <a:ext cx="258768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All Users\Документы\Мои рисунки\Изображение 046.jpg"/>
          <p:cNvPicPr/>
          <p:nvPr/>
        </p:nvPicPr>
        <p:blipFill>
          <a:blip r:embed="rId3"/>
          <a:srcRect l="0" t="0" r="0" b="44"/>
          <a:stretch/>
        </p:blipFill>
        <p:spPr>
          <a:xfrm>
            <a:off x="428760" y="1428840"/>
            <a:ext cx="2714400" cy="3076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j0398305"/>
          <p:cNvPicPr/>
          <p:nvPr/>
        </p:nvPicPr>
        <p:blipFill>
          <a:blip r:embed="rId4"/>
          <a:stretch/>
        </p:blipFill>
        <p:spPr>
          <a:xfrm>
            <a:off x="500040" y="49291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выполнения исследовательской работы мы познакомились со свойствами воздуха и узнали, что воздух не имеет цвета, формы, имеет вес, он упругий, на него можно опереться, находится везде - в почве, в воде,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398305"/>
          <p:cNvPicPr/>
          <p:nvPr/>
        </p:nvPicPr>
        <p:blipFill>
          <a:blip r:embed="rId1"/>
          <a:srcRect l="16949" t="0" r="17697" b="0"/>
          <a:stretch/>
        </p:blipFill>
        <p:spPr>
          <a:xfrm>
            <a:off x="6215040" y="2071800"/>
            <a:ext cx="1928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All Users\Документы\Мои рисунки\Изображение 028.jpg"/>
          <p:cNvPicPr/>
          <p:nvPr/>
        </p:nvPicPr>
        <p:blipFill>
          <a:blip r:embed="rId1"/>
          <a:stretch/>
        </p:blipFill>
        <p:spPr>
          <a:xfrm>
            <a:off x="1639800" y="1420920"/>
            <a:ext cx="46213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Актуа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ая работа направлен на формирование интереса детей к живой природе. Развитие поисково-познавательной деятельности дошкольников, протекающей в форме эксперименталь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исследовательской работы предусматривает постановку проблемы, поиск ее решения через игры-эксперименты, наблюдения, беседы, чтение художеств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олагаемые формы работы являются актуальными, так как обеспечивают личностно-ориентированное взаимодействие взрослого с ребенком, создавая особую атмосферу, которая позволит каждому ребенку реализовать свою познавательную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ные самостоятельные исследования позволят детям ответить на проблем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 предназначена для работы с детьми 6-7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59293-S"/>
          <p:cNvPicPr/>
          <p:nvPr/>
        </p:nvPicPr>
        <p:blipFill>
          <a:blip r:embed="rId1"/>
          <a:stretch/>
        </p:blipFill>
        <p:spPr>
          <a:xfrm>
            <a:off x="250920" y="189000"/>
            <a:ext cx="15112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4508640"/>
            <a:ext cx="792468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encilcolor-main_Full"/>
          <p:cNvPicPr/>
          <p:nvPr/>
        </p:nvPicPr>
        <p:blipFill>
          <a:blip r:embed="rId1"/>
          <a:stretch/>
        </p:blipFill>
        <p:spPr>
          <a:xfrm>
            <a:off x="5508720" y="2421000"/>
            <a:ext cx="3006720" cy="2662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18728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у работы легло предположение о том, что  все живое и неживое на  земле находится в воздушно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познакомить детей с понятием «возду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6666cc"/>
                </a:solidFill>
                <a:latin typeface="Georgia"/>
              </a:rPr>
              <a:t>его св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892720" y="4365360"/>
            <a:ext cx="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2" descr="45975073"/>
          <p:cNvPicPr/>
          <p:nvPr/>
        </p:nvPicPr>
        <p:blipFill>
          <a:blip r:embed="rId2"/>
          <a:stretch/>
        </p:blipFill>
        <p:spPr>
          <a:xfrm>
            <a:off x="2411280" y="2637000"/>
            <a:ext cx="381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Задач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450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воздуха (не имеет цвета, формы, имеет вес, он упругий, на него можно опереться, находится везде- в почве, в воде, на суш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детей проводить опыты аккуратно, устанавливать причинно-следственные связи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любознательность, интерес к окружающему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404263"/>
          <p:cNvPicPr/>
          <p:nvPr/>
        </p:nvPicPr>
        <p:blipFill>
          <a:blip r:embed="rId1"/>
          <a:stretch/>
        </p:blipFill>
        <p:spPr>
          <a:xfrm>
            <a:off x="5118120" y="2060640"/>
            <a:ext cx="3240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j0437990"/>
          <p:cNvPicPr/>
          <p:nvPr/>
        </p:nvPicPr>
        <p:blipFill>
          <a:blip r:embed="rId1"/>
          <a:stretch/>
        </p:blipFill>
        <p:spPr>
          <a:xfrm>
            <a:off x="4786200" y="157176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од исслед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0040" y="1557360"/>
            <a:ext cx="5857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расс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карт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есть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адать загад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стихи о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наблюд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исследователь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на тему «Воздух-невидим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1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акан погружаем в воду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1640" y="3857400"/>
            <a:ext cx="41432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Стакан сухой, туда вода не п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кане есть воздух, он не пускает туда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j0398305"/>
          <p:cNvPicPr/>
          <p:nvPr/>
        </p:nvPicPr>
        <p:blipFill>
          <a:blip r:embed="rId1"/>
          <a:srcRect l="16555" t="0" r="17283" b="0"/>
          <a:stretch/>
        </p:blipFill>
        <p:spPr>
          <a:xfrm>
            <a:off x="8072280" y="5000760"/>
            <a:ext cx="57168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User\Рабочий стол\Я исследователь старшая А\Изображение 065.jpg"/>
          <p:cNvPicPr/>
          <p:nvPr/>
        </p:nvPicPr>
        <p:blipFill>
          <a:blip r:embed="rId2"/>
          <a:srcRect l="0" t="0" r="0" b="-12"/>
          <a:stretch/>
        </p:blipFill>
        <p:spPr>
          <a:xfrm>
            <a:off x="428760" y="121428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Рабочий стол\Я исследователь старшая А\Изображение 069.jpg"/>
          <p:cNvPicPr/>
          <p:nvPr/>
        </p:nvPicPr>
        <p:blipFill>
          <a:blip r:embed="rId3"/>
          <a:stretch/>
        </p:blipFill>
        <p:spPr>
          <a:xfrm>
            <a:off x="5000760" y="1214280"/>
            <a:ext cx="3643200" cy="273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User\Рабочий стол\Я исследователь старшая А\Изображение 071.jpg"/>
          <p:cNvPicPr/>
          <p:nvPr/>
        </p:nvPicPr>
        <p:blipFill>
          <a:blip r:embed="rId4"/>
          <a:srcRect l="0" t="0" r="0" b="38"/>
          <a:stretch/>
        </p:blipFill>
        <p:spPr>
          <a:xfrm>
            <a:off x="428760" y="3571920"/>
            <a:ext cx="4084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2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ы дышим воздухом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2449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 стакане с водой есть воздух , который мы выдохн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User\Рабочий стол\Я исследователь старшая А\Изображение 076.jpg"/>
          <p:cNvPicPr/>
          <p:nvPr/>
        </p:nvPicPr>
        <p:blipFill>
          <a:blip r:embed="rId1"/>
          <a:stretch/>
        </p:blipFill>
        <p:spPr>
          <a:xfrm>
            <a:off x="4932360" y="16574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50920" y="3860280"/>
            <a:ext cx="4608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ыхаем воздух через нос, выдыхаем через соломку в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идим? – пузырьки. Что это значит? – Мы дышим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j0398305"/>
          <p:cNvPicPr/>
          <p:nvPr/>
        </p:nvPicPr>
        <p:blipFill>
          <a:blip r:embed="rId2"/>
          <a:stretch/>
        </p:blipFill>
        <p:spPr>
          <a:xfrm>
            <a:off x="468360" y="1557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3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здух имеет вес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483920"/>
            <a:ext cx="52578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120" y="3886200"/>
            <a:ext cx="54025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не надутых шара весят одинак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User\Рабочий стол\Я исследователь старшая А\Изображение 125.jpg"/>
          <p:cNvPicPr/>
          <p:nvPr/>
        </p:nvPicPr>
        <p:blipFill>
          <a:blip r:embed="rId1"/>
          <a:stretch/>
        </p:blipFill>
        <p:spPr>
          <a:xfrm>
            <a:off x="539640" y="1268280"/>
            <a:ext cx="4175280" cy="31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Я исследователь старшая А\Изображение 150.jpg"/>
          <p:cNvPicPr/>
          <p:nvPr/>
        </p:nvPicPr>
        <p:blipFill>
          <a:blip r:embed="rId2"/>
          <a:stretch/>
        </p:blipFill>
        <p:spPr>
          <a:xfrm>
            <a:off x="4500720" y="300024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539640" y="465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Два не надутых шара весят одинак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Надутый шарик побольше, весит тяже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2:12Z</dcterms:created>
  <dc:creator>рожков николай</dc:creator>
  <dc:description/>
  <dc:language>en-US</dc:language>
  <cp:lastModifiedBy>User</cp:lastModifiedBy>
  <dcterms:modified xsi:type="dcterms:W3CDTF">2016-01-21T04:08:02Z</dcterms:modified>
  <cp:revision>12</cp:revision>
  <dc:subject/>
  <dc:title>Воздух-неведим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a0000000000010291410207f7000400038000</vt:lpwstr>
  </property>
</Properties>
</file>