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3C9-92A9-465F-9ACB-93B7DCF6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3C9-A223-4468-B789-5E2EFD83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76C5B-A019-4632-BD94-757DEA7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E63F-C7D2-4349-B2B8-F95C591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FA751-92EC-492D-8EA0-F6614016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69815-170D-4A69-B6FF-D4487D0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614DC-96F7-4245-A128-E1AE735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437C4-60FA-409A-9C7C-FE7D0789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6E7F5-15BD-4BC3-9428-C0C9A40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2DED-8196-46DF-A658-54416781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57D1-CFC3-4784-8C80-B9EAE297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C33-8637-406D-AAA1-69C2C0EE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35B-5AFE-429E-B528-6EFB3BA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08D-4F07-42AC-99A3-59D7E8D3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9288-F820-436C-9832-4D4E016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0E9-14FA-4C1B-96F1-9DC29140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0071-A357-43DD-B2DA-35B9AD77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435-8290-4D06-BCF8-FBFF6A4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FDE-0496-43CF-9034-52851B6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2E7-77DB-4C91-8C0C-0CB473B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48D-27E0-4E93-8BA1-8220348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964D-050D-4B89-B4C8-CA6A747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36F-2244-4F3A-86D9-ECC7B37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D562-4626-4F4B-B421-83CC1E9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CB77-3B90-4130-810F-DBC55C5E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7E80-2FAF-412D-8871-AC547B66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9156-F6A2-4E82-BD69-26640C5F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8C06-D23F-42AA-A732-9DA04D8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513D-624E-4EDA-BEFE-D51826BE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BA25-DE3A-496C-95FE-082F6AB7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6D57-AA92-4D14-BAF3-6825431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956-CB91-48E6-9400-19AB6D6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85CF-B276-4848-AAE1-9AF677BF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E87A-6675-4514-A91F-787B006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D51A-807A-4B5C-AB2A-6CAC14F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863F-5750-4A3E-B48C-05703B3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22E9-FE94-41B5-8935-8F9F5CBF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D8DC-DC7C-4C3D-BF31-0492EAB4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6C84-2608-4084-AA2D-C0AFD3C8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633E-36F3-42EF-8358-7F1DD4BF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4A16-1CD9-4A9F-9797-EEA808B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AFBE-739C-4A11-B0B5-E0EDD50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C41-CAC0-46A9-B75E-EF28A62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4619-19E0-43A1-A279-528242C8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2D60-B189-4B30-91B9-3303ACC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3E7B4-2FCC-4B23-9386-80E3202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7140-DDEF-4FD5-8B56-873C7E14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85A0-4EB3-46E4-ADE2-E3C7F36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E565-E8EB-4AC1-9C3A-805F350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8581-031F-4CE1-9DA1-C86CB8F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D0DB-16A4-4EC7-9AA8-3BA79D20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6EC6-B390-4D06-B0D7-96F1CD5F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46EA-E6CF-4105-B2C7-F5599AFB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A2C-6F3F-4AE5-98FD-23013DD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1BCF-9A98-4BC9-811C-F45527F9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984E0-5212-40F1-AF3A-87679E1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1C6B-916A-4C1F-8104-FF729FC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3F2F-423E-4CA5-9F89-19A2F4F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56E2-D289-4FE3-9B5B-AC4585D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0D8B-DFDD-4C47-AA16-FBAFB996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C722E-4983-4439-9466-E6D84FB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BD12-E223-4292-B2E9-AB72EFF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EC69-E152-4DBF-8189-2AF99F6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4955-001E-4E59-8AE5-E7303915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F55-150C-430C-9A0A-6B18C86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445F-D6AB-4067-8955-B9E284C6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573F0-7855-49A8-96A9-BAB3F697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6BBC-78E0-4947-9900-D3DAFA5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F062-94C4-4AE6-B6B0-56B6464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B2A4-EEF7-4633-8672-9AADDC2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CD5D-0E0A-4553-BB9C-FE021AD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6603D-771D-4DC5-9D12-0FDEF6C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6865-7628-4A40-81B4-BDA52FD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D013-2D5C-44AF-BF37-FBB51BA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D66D-45E5-4A36-AB70-22ED4DE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015-3DA9-44E2-9EFE-1C3F325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76B4-5157-472C-B330-9BAB3826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EA29-A899-42F3-9F31-174803EC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AD69-4A54-43F9-AAAD-2E449AFE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DDBF4-28BA-4C5F-98E8-884D6330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8021-819B-455B-BD1F-7EAC4461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A00A-8498-4B1C-BCEB-698234E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27960-4D86-48B8-8359-F1FF54E8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AA12-C9CC-4259-A65B-A4423192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553E-002C-4EE5-954C-E0DD3286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0821-F06C-415A-BCAB-81E4758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2F3-07B9-42D7-9225-07BAC43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0A544-BFC3-4E4A-9295-189BCA1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B3B6-3474-4BC1-A173-E5AEAA9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D1A5-A006-4E45-AA48-980DF4AB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5C52-DE49-43D3-A7AB-C15C1BAB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FE6A-BBBF-4C76-A66B-95BDD157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A125-998C-46E9-A169-41DC97D8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11B3-51B8-4170-B3EF-D19555AE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2636-308A-4E5D-89F6-C2201D1D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0790-B4D8-4C65-BE52-F3EE7E1A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8404-9534-49B8-88F1-1867F64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EA9-2C51-48BE-B631-D7848BE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A6A80-43E4-4C8E-A85D-62C6D7FE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8243-1583-42AF-9FE1-590BBC1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97204-16B2-463B-9A53-A396FA1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C1D5-8103-4F29-9E58-3B63548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3E18-35AD-44A4-A2A9-6448DE2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9347-2D4B-4135-8832-A40CECCC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C233-503B-4F3A-9A2C-D7876281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08E2D-EC8D-4F9C-A280-80A144B0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96365-2A3F-4CC5-987B-035769A3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530E2-DDB9-4871-89CB-AA61E6F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C5C0-8C7A-44B6-97B6-12DDF52216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89E2-003A-420E-AA93-8237FC5494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40D8-48E2-4C1C-8679-0CF32355E2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0CD-9A5B-482F-B895-F36C401B57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EC5-BA60-45B8-92B3-5986A57B17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C030-70D6-4A11-A414-DE173A54A7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A29-B03D-46CE-A437-77506F71AB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6C5-91B4-40CD-84E2-2B38E978E4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BAC-1429-425D-934D-B30DF9BA24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517680" y="950760"/>
            <a:ext cx="8242200" cy="2786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721040" y="34286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зыкальный руководитель Гусева М.А.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12.2021г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838080" y="373392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613720" cy="993600"/>
          </a:xfrm>
          <a:prstGeom prst="rect">
            <a:avLst/>
          </a:prstGeom>
          <a:ln w="0">
            <a:noFill/>
          </a:ln>
        </p:spPr>
      </p:pic>
      <p:pic>
        <p:nvPicPr>
          <p:cNvPr id="422" name="Объект 3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809880" cy="3675240"/>
          </a:xfrm>
          <a:prstGeom prst="rect">
            <a:avLst/>
          </a:prstGeom>
          <a:ln w="0">
            <a:noFill/>
          </a:ln>
        </p:spPr>
      </p:pic>
      <p:pic>
        <p:nvPicPr>
          <p:cNvPr id="423" name="Объект 3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3511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297320" y="457200"/>
            <a:ext cx="4786200" cy="6248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E:\ДЛЯ СЕМИНАРА\дождик.jpg"/>
          <p:cNvPicPr/>
          <p:nvPr/>
        </p:nvPicPr>
        <p:blipFill>
          <a:blip r:embed="rId2"/>
          <a:stretch/>
        </p:blipFill>
        <p:spPr>
          <a:xfrm>
            <a:off x="380880" y="457200"/>
            <a:ext cx="3754440" cy="2666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E:\ДЛЯ СЕМИНАРА\Снежные феи.jpg"/>
          <p:cNvPicPr/>
          <p:nvPr/>
        </p:nvPicPr>
        <p:blipFill>
          <a:blip r:embed="rId3"/>
          <a:stretch/>
        </p:blipFill>
        <p:spPr>
          <a:xfrm>
            <a:off x="380880" y="3276720"/>
            <a:ext cx="3754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44440" y="225360"/>
            <a:ext cx="8839080" cy="841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5192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Развитие эмоциональной отзывчивости старших дошкольников через восприятие музыки способствует формированию культуры слушательского восприятия, при котором ребёнку становятся понятны собственные эмоциональные переживания, возникшие в результате эмоционального отклика на музыкальное произведение в различных видах деятельности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29" name="Picture 7" descr="дети"/>
          <p:cNvPicPr/>
          <p:nvPr/>
        </p:nvPicPr>
        <p:blipFill>
          <a:blip r:embed="rId2"/>
          <a:stretch/>
        </p:blipFill>
        <p:spPr>
          <a:xfrm>
            <a:off x="6172200" y="1447920"/>
            <a:ext cx="2666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549360" y="2371680"/>
            <a:ext cx="8978760" cy="15177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52280" y="182520"/>
            <a:ext cx="8156520" cy="1712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52280" y="17521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образовательный стандарт дошкольного образования определил как одну из важнейших задач становления ценностной ориентации и социализации ребёнка «развитие эмоционально-ценностного восприятия произведений искусства (словесного, музыкального, изобразительного)». Подчёркивается значимость осмысленного и эмоционально окрашенного художественного восприятия. </a:t>
            </a: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создание условий для полноценного развития ребенка, в том числе развития его нравственной сферы, социальных чувств, таких как эмоциональная отзывчивость, сострадание и сочувствен, которое определяют его отношение к другому человеку и самому себе.</a:t>
            </a: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04920" y="79200"/>
            <a:ext cx="8686800" cy="914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0912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д проблемой влияния восприятия музыки на развитие эмоциональной отзывчивости дошкольников работали известные ученые - педагоги такие  как Н.А. Ветлугина, К.В. Тарасова, Р.М. Чумичева, Е.А .Дубровская, А.И. Катинене, О.П. Радынова, Н.Л. Школяр, Н.А. Метлов, Э.Б. Абдулин, Д.Б. Кабалевский, В.Г. Ражников и др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леме эмоциональной отзывчивости через восприятия музыки  уделяли внимание отечественные и зарубежные психологи:   С.Л. Рубинштейн, Г.Ш .Шингаров, Л.С. Выготский, А.Н. Леонтьев, Б.М. Теплов и другие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060640" y="457200"/>
            <a:ext cx="6931080" cy="84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роблема эмоционального развития ребенка принадлежит к числу важнейших и актуальных проблем в современном дошкольном воспитании. Экономические, политические, социальные преобразования оказывают на современного дошкольника большое влияние и подвергают его серьезным эмоциональным испытаниям. Ребенок, способный правильно оценить и понять чувства и эмоции другого человека, способный переживать, сопереживать, проявлять заботу и участие к людям, не имеет проблем в общении с окружающими, он гораздо устойчивее переносит стрессовые ситуации и не поддается негативному воздействию извне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41280" y="231840"/>
            <a:ext cx="8686800" cy="1084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51920" y="1371600"/>
            <a:ext cx="5867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63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Эмоциональная отзывчивость на музыку - это способность чувствовать характер, настроение музыкального произведения, способность к переживанию в форме музыкальных образов, способность к творческому воображению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сновой музыкальности является эмоциональная отзывчивость на музыку. </a:t>
            </a: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Эмоциональная отзывчивость – одна из важнейших музыкальных способностей. </a:t>
            </a: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0" name="Picture 2" descr="C:\Users\Эдмон Дантес\Desktop\музыкальные игрушки для младшей и средней групп\slide_14.jpg"/>
          <p:cNvPicPr/>
          <p:nvPr/>
        </p:nvPicPr>
        <p:blipFill>
          <a:blip r:embed="rId2"/>
          <a:stretch/>
        </p:blipFill>
        <p:spPr>
          <a:xfrm>
            <a:off x="6324480" y="1981080"/>
            <a:ext cx="19670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13716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09480" y="152388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сприятие музыкального произведения начинается с чувства, которое вызывает эмоциональную отзывчивость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процессе слушания музыки ребенок осознает собственное эмоциональной состояние, углубляет эмоциональное восприятие, музыка влияет на мировоззрение человека, является идеальной средой для обогащения и гармонизации детской эмоциональной сферы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3" name="Picture 3" descr="E:\аттестация и вкр\0_166cdd_8ffffab_orig.png"/>
          <p:cNvPicPr/>
          <p:nvPr/>
        </p:nvPicPr>
        <p:blipFill>
          <a:blip r:embed="rId2"/>
          <a:srcRect l="-3156" t="0" r="0" b="0"/>
          <a:stretch/>
        </p:blipFill>
        <p:spPr>
          <a:xfrm>
            <a:off x="6248520" y="2898720"/>
            <a:ext cx="17859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44440" y="274680"/>
            <a:ext cx="8747280" cy="944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560" y="1143000"/>
            <a:ext cx="4343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- Разработка перспективного плана по развитию музыкальной отзывчивости (через все виды музыкальной деятельности)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- Оснащение развивающей среды группы, музыкального зала, соответствующим оборудованием и атрибутами;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- Активное взаимодействие воспитателя и  музыкального руководителя;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Обязательное сохранение алгоритма слушания музыкальных произведений с детьми старшего дошкольного возраста: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6" name="Picture 2" descr="C:\Users\Эдмон Дантес\Desktop\музыкальные игрушки для младшей и средней групп\slide_3 (1).jpg"/>
          <p:cNvPicPr/>
          <p:nvPr/>
        </p:nvPicPr>
        <p:blipFill>
          <a:blip r:embed="rId2"/>
          <a:stretch/>
        </p:blipFill>
        <p:spPr>
          <a:xfrm>
            <a:off x="5562720" y="2438280"/>
            <a:ext cx="22730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914040" y="12949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Современными исследователями доказано, что первоначальные формы эмоциональной отзывчивости выявляются довольно рано (Н.А. Ветлугина, К.В. Тарасова)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ем раньше дети приобщаются к миру музыки, тем более музыкальными они впоследствии становятся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мение воспринимать произведения музыкальное произведение, переживать его образно-эмоциональное содержание не может возникнуть само собой. Этому нужно учиться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914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Наглядно-слуховой (исполнение произведения, цитаты из текста песни, фрагмент из музыкального произведения) ;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Словесный (рассказ о музыке, беседа о содержании произведения)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Практический (передача музыки в движениях). 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Наглядно-зрительный (игрушки, художественные иллюстрации, которые помогают раскрыть музыкальный образ)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Использование музыкально-дидактических игр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Franklin Gothic Book"/>
              </a:rPr>
              <a:t>Метод контрастных сопоставлений</a:t>
            </a:r>
            <a:r>
              <a:rPr b="1" i="1" lang="ru-RU" sz="2000" spc="-1" strike="noStrike">
                <a:solidFill>
                  <a:srgbClr val="ff6600"/>
                </a:solidFill>
                <a:latin typeface="Franklin Gothic Book"/>
              </a:rPr>
              <a:t> </a:t>
            </a:r>
            <a:r>
              <a:rPr b="1" lang="ru-RU" sz="2000" spc="-1" strike="noStrike">
                <a:solidFill>
                  <a:srgbClr val="ff6600"/>
                </a:solidFill>
                <a:latin typeface="Franklin Gothic Book"/>
              </a:rPr>
              <a:t>произведений разного характера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Franklin Gothic Book"/>
              </a:rPr>
              <a:t>Методы  уподобления характеру звучания музыки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Моторно-двигательное уподобление  - это движения под музыку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Словесное уподобление</a:t>
            </a:r>
            <a:r>
              <a:rPr b="1" i="1" lang="ru-RU" sz="1600" spc="-1" strike="noStrike">
                <a:solidFill>
                  <a:srgbClr val="4e3b3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выразительные пояснения характера музыки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Вокальное уподобление - напевание мелодии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Цветовое уподобление – выбор цвета к настроению музыки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Мимическое уподобление - выражение лица взрослого при слушании музыки 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Темброво-инструментальное</a:t>
            </a: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уподобление –выбор инструмента к музыке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4e3b30"/>
                </a:solidFill>
                <a:latin typeface="Arial"/>
              </a:rPr>
              <a:t>Полихудожественное 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уподобление – картинка к музыке, стихи. Движения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Интонационное</a:t>
            </a:r>
            <a:r>
              <a:rPr b="1" i="1" lang="ru-RU" sz="1600" spc="-1" strike="noStrike">
                <a:solidFill>
                  <a:srgbClr val="4e3b3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уподобление</a:t>
            </a: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Arial"/>
              </a:rPr>
              <a:t>– интонации педагога (для детей 1 младшей группы)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8T11:16:26Z</dcterms:created>
  <dc:creator>25</dc:creator>
  <dc:description/>
  <dc:language>en-US</dc:language>
  <cp:lastModifiedBy>860250</cp:lastModifiedBy>
  <cp:lastPrinted>2021-11-28T14:40:02Z</cp:lastPrinted>
  <dcterms:modified xsi:type="dcterms:W3CDTF">2022-04-02T17:02:47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