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CE5C-204B-447B-8AF2-22C40D8A6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6BB5-8C5D-499F-B36B-74EDDDEBA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BA61-1CCB-4B23-A6B1-9A5681C9D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E100-3A38-4CD7-9C23-5ECAD3B21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F6818-65A3-485C-A719-7D66C24B8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DFE35-00DA-4C3A-873A-787627751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1BAB3-1105-446A-9CF1-2257A4C41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57E11-F684-499B-903A-2F09B85C4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2CFEA-6E57-4B48-9E63-A4BB05499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E61AC-E4D1-432B-ABAD-0B3519BA1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13931-B0C9-49A8-B05B-2D622DB0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0CA1-D150-4B78-ADC4-5AB65DFB0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EF157-E1A0-4012-9A05-0D7E1759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B23C9-E57A-4BCE-956F-20DE7174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C96A6-15EA-4F4B-8E07-4CAC27B8A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54C8E-B6F6-4F9F-8FCB-A0D03F90D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4011C-C325-4CC9-9962-D4A1CA1B8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78F34-7783-459D-A4AA-9BCE831C7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E3D22-5E97-4381-B9B7-E8E852F60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EB12E-D589-4DF5-9190-C484A9EC7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5F447-E0A7-4B72-B211-DB008567A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857D3-BFC0-401C-A8AF-AA585CF49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B56E-DD8F-4F3C-B879-CD5996A5F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3582C-C443-4C28-B062-F296C8922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198DC-CAE3-43DF-9985-7B8B08AA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86B99-8DDA-4BDD-A1A3-3B335BA4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DD348-0578-47A0-8583-BD6AA567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3D35F-C86C-4D7A-9230-9861C4B96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8EA85-E46D-423B-BA3D-DCC596EDE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C3192-646F-430B-A508-EEE932FFC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36E93-A100-4060-8891-8894F97F8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1BE82-1383-4949-A06C-788130157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21BDA-D4A2-430B-B368-95F94E58F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A431-8691-4AA2-B0F5-7EB4F2011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093CE-52E4-44B2-84C4-036B9F264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AA8D0-7A39-4F0F-9D14-8A30464A0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99BFF-CB74-4AEC-A237-C6C2EDD3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25FB3-549E-4647-B7E6-810B373E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D4218-DD33-4BBA-8028-CECE4B97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91D28-DBF1-45AA-B3CA-3F9F1FBA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4F4C7-4CB3-47AB-A7B1-41F64BC7F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8995F-C79D-4603-98B1-64F9B773E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B102F-DA7C-46DC-BF5E-5DA869085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28F9A-F564-48FC-8B4C-FD0C2C5CB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925C-799F-48AA-B9BA-02016A696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58465-122F-40FA-A8A1-77F8DAAB2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632BC-E8B2-4561-99AC-B7FC115DF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90A67-F3C8-47E9-9285-8763FAE64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491B0-FB01-4DFB-8F02-41AAFDCDE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5D4EE-5072-4F05-8557-C786BB198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64706-1CC1-4F5F-A272-3E7B95EC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EE09C-57C5-4888-8BA0-1C079A61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404DF-E1CF-4BC9-BA3D-DE8D3589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8433D-ACE4-47CF-900A-2C45DD53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69357-2B41-4416-9164-C90311463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8561-EE35-452F-A996-8CA4A92F9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9DF7B-7F86-4BBB-822A-4B051E020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77117-E229-4509-ADC4-DB2DF5ADC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6B869A-C44C-4FE2-BC90-2A81ADC27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D9F57-B353-4922-B5DC-6B69BE0CA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367C6-D417-4161-A17B-AD72B54E1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F9F96-036E-41C4-9C89-7C897C166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55305-2E74-4312-B279-0EAD553E9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29E77-6561-481B-8806-A73C4BDA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AD6391-1956-4C8D-9959-CB898F81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47EC8-7C06-4B96-A676-001856EB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5C8F-7A7F-4C0F-8A7C-FC022AED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6D1821-07A7-43D8-AE4D-057884727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CBBC2-0D49-487F-ADA0-4338E8181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6DA05-4053-481A-A4AF-2AF011C2F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15D50-0AEA-404B-B41F-EA75559F5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24142E-2A66-45FD-B196-831A1CA9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68B71-4C25-4870-85E6-B5CFC96CB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79906B-124C-46EC-BBAA-98DDD457A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E07065-7C2F-42ED-A0E1-6456DDFF6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E1C33-7505-41FC-828B-3ABC06637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6F633-A5CF-4753-864A-44A6FC0A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78C1-CE6C-46D2-86C0-E7738B0E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96C4C8-93BD-44F7-B546-14EA570A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2A4CB-8681-44D9-B01F-6CE3DB54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67B95A-F89D-4B6B-9965-B7E0F4D10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EFF982-06FA-4616-B504-9755E7B16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DC06C-469A-45D6-A180-E03690E0E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2751-EEA3-42C6-B44D-390CFC13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7616E-FD3A-403A-A34D-075FDAB33F6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C146B-1C5A-45E9-ACF1-3043D80E10D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117FC-37DD-49CE-8A95-51121895778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81FB3-39DA-4697-B435-CF5884AC924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71915-0007-4D66-80D8-4271AB7D683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18E63-73FA-452A-A587-B4E8F6BB511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448BA-5714-4ABA-B3A0-F804627A516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16"/>
          <p:cNvSpPr/>
          <p:nvPr/>
        </p:nvSpPr>
        <p:spPr>
          <a:xfrm>
            <a:off x="3851280" y="508464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алина Васильевна Васильченко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математики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У «Приозёрная СОШ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18" descr=""/>
          <p:cNvPicPr/>
          <p:nvPr/>
        </p:nvPicPr>
        <p:blipFill>
          <a:blip r:embed="rId1"/>
          <a:stretch/>
        </p:blipFill>
        <p:spPr>
          <a:xfrm>
            <a:off x="601560" y="2205000"/>
            <a:ext cx="3240360" cy="2301840"/>
          </a:xfrm>
          <a:prstGeom prst="rect">
            <a:avLst/>
          </a:prstGeom>
          <a:ln w="0">
            <a:noFill/>
          </a:ln>
        </p:spPr>
      </p:pic>
      <p:sp>
        <p:nvSpPr>
          <p:cNvPr id="337" name="Прямоугольник 1"/>
          <p:cNvSpPr/>
          <p:nvPr/>
        </p:nvSpPr>
        <p:spPr>
          <a:xfrm>
            <a:off x="826920" y="318960"/>
            <a:ext cx="69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73e87"/>
                </a:solidFill>
                <a:latin typeface="Arial"/>
              </a:rPr>
              <a:t>Урок алгебры в 7 классе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4"/>
          <p:cNvSpPr/>
          <p:nvPr/>
        </p:nvSpPr>
        <p:spPr>
          <a:xfrm>
            <a:off x="1384200" y="5428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250920" y="22212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73e87"/>
                </a:solidFill>
                <a:latin typeface="Arial"/>
              </a:rPr>
              <a:t>Какими преобразованиями мы пользовались?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250920" y="1397160"/>
            <a:ext cx="10153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) переносили слагаемые из одной части в другую, изменив при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том знак;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)делили обе части уравнения на одно и то же число, не  равное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улю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1"/>
          <p:cNvSpPr/>
          <p:nvPr/>
        </p:nvSpPr>
        <p:spPr>
          <a:xfrm>
            <a:off x="395280" y="3213000"/>
            <a:ext cx="790560" cy="935280"/>
          </a:xfrm>
          <a:prstGeom prst="smileyFace">
            <a:avLst>
              <a:gd name="adj" fmla="val 9282"/>
            </a:avLst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 flipV="1">
            <a:off x="1332000" y="2707920"/>
            <a:ext cx="6192720" cy="1512720"/>
          </a:xfrm>
          <a:prstGeom prst="rightArrowCallout">
            <a:avLst>
              <a:gd name="adj1" fmla="val 25002"/>
              <a:gd name="adj2" fmla="val 25000"/>
              <a:gd name="adj3" fmla="val 68229"/>
              <a:gd name="adj4" fmla="val 66667"/>
            </a:avLst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3"/>
          <p:cNvSpPr/>
          <p:nvPr/>
        </p:nvSpPr>
        <p:spPr>
          <a:xfrm>
            <a:off x="1320840" y="2975040"/>
            <a:ext cx="43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айди пары решений уравнений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4"/>
          <p:cNvSpPr/>
          <p:nvPr/>
        </p:nvSpPr>
        <p:spPr>
          <a:xfrm>
            <a:off x="1534320" y="3567240"/>
            <a:ext cx="3308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х-у=2;     х+у=8 ;    у-6х=1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8"/>
          <p:cNvSpPr/>
          <p:nvPr/>
        </p:nvSpPr>
        <p:spPr>
          <a:xfrm>
            <a:off x="5423040" y="3206880"/>
            <a:ext cx="152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усть х=0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9"/>
          <p:cNvSpPr/>
          <p:nvPr/>
        </p:nvSpPr>
        <p:spPr>
          <a:xfrm>
            <a:off x="7647480" y="2630520"/>
            <a:ext cx="805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0;-2)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0;8)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0;1)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1033560" y="5300640"/>
          <a:ext cx="4608360" cy="792360"/>
        </p:xfrm>
        <a:graphic>
          <a:graphicData uri="http://schemas.openxmlformats.org/drawingml/2006/table">
            <a:tbl>
              <a:tblPr/>
              <a:tblGrid>
                <a:gridCol w="576000"/>
                <a:gridCol w="576360"/>
                <a:gridCol w="576360"/>
                <a:gridCol w="522360"/>
                <a:gridCol w="628560"/>
                <a:gridCol w="576360"/>
                <a:gridCol w="576000"/>
                <a:gridCol w="57636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1" name="Text Box 60"/>
          <p:cNvSpPr/>
          <p:nvPr/>
        </p:nvSpPr>
        <p:spPr>
          <a:xfrm>
            <a:off x="658080" y="4446720"/>
            <a:ext cx="691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акие из этих пар значений переменных являются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ешением уравнения  2х+у=-5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63"/>
          <p:cNvSpPr/>
          <p:nvPr/>
        </p:nvSpPr>
        <p:spPr>
          <a:xfrm>
            <a:off x="2311560" y="6235560"/>
            <a:ext cx="431640" cy="289080"/>
          </a:xfrm>
          <a:custGeom>
            <a:avLst/>
            <a:gdLst/>
            <a:ahLst/>
            <a:rect l="l" t="t" r="r" b="b"/>
            <a:pathLst>
              <a:path w="431800" h="288925">
                <a:moveTo>
                  <a:pt x="0" y="110359"/>
                </a:moveTo>
                <a:lnTo>
                  <a:pt x="164934" y="110360"/>
                </a:lnTo>
                <a:lnTo>
                  <a:pt x="215900" y="0"/>
                </a:lnTo>
                <a:lnTo>
                  <a:pt x="266866" y="110360"/>
                </a:lnTo>
                <a:lnTo>
                  <a:pt x="431800" y="110359"/>
                </a:lnTo>
                <a:lnTo>
                  <a:pt x="298365" y="178565"/>
                </a:lnTo>
                <a:lnTo>
                  <a:pt x="349333" y="288924"/>
                </a:lnTo>
                <a:lnTo>
                  <a:pt x="215900" y="220718"/>
                </a:lnTo>
                <a:lnTo>
                  <a:pt x="82467" y="288924"/>
                </a:lnTo>
                <a:lnTo>
                  <a:pt x="133435" y="178565"/>
                </a:lnTo>
                <a:lnTo>
                  <a:pt x="0" y="11035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64"/>
          <p:cNvSpPr/>
          <p:nvPr/>
        </p:nvSpPr>
        <p:spPr>
          <a:xfrm>
            <a:off x="3313080" y="6237360"/>
            <a:ext cx="358920" cy="288720"/>
          </a:xfrm>
          <a:custGeom>
            <a:avLst/>
            <a:gdLst/>
            <a:ahLst/>
            <a:rect l="l" t="t" r="r" b="b"/>
            <a:pathLst>
              <a:path w="358775" h="288925">
                <a:moveTo>
                  <a:pt x="0" y="110359"/>
                </a:moveTo>
                <a:lnTo>
                  <a:pt x="137041" y="110360"/>
                </a:lnTo>
                <a:lnTo>
                  <a:pt x="179388" y="0"/>
                </a:lnTo>
                <a:lnTo>
                  <a:pt x="221734" y="110360"/>
                </a:lnTo>
                <a:lnTo>
                  <a:pt x="358775" y="110359"/>
                </a:lnTo>
                <a:lnTo>
                  <a:pt x="247906" y="178565"/>
                </a:lnTo>
                <a:lnTo>
                  <a:pt x="290255" y="288924"/>
                </a:lnTo>
                <a:lnTo>
                  <a:pt x="179388" y="220718"/>
                </a:lnTo>
                <a:lnTo>
                  <a:pt x="68520" y="288924"/>
                </a:lnTo>
                <a:lnTo>
                  <a:pt x="110869" y="178565"/>
                </a:lnTo>
                <a:lnTo>
                  <a:pt x="0" y="11035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65"/>
          <p:cNvSpPr/>
          <p:nvPr/>
        </p:nvSpPr>
        <p:spPr>
          <a:xfrm>
            <a:off x="3995640" y="6235560"/>
            <a:ext cx="432000" cy="289080"/>
          </a:xfrm>
          <a:custGeom>
            <a:avLst/>
            <a:gdLst/>
            <a:ahLst/>
            <a:rect l="l" t="t" r="r" b="b"/>
            <a:pathLst>
              <a:path w="431800" h="288925">
                <a:moveTo>
                  <a:pt x="0" y="110359"/>
                </a:moveTo>
                <a:lnTo>
                  <a:pt x="164934" y="110360"/>
                </a:lnTo>
                <a:lnTo>
                  <a:pt x="215900" y="0"/>
                </a:lnTo>
                <a:lnTo>
                  <a:pt x="266866" y="110360"/>
                </a:lnTo>
                <a:lnTo>
                  <a:pt x="431800" y="110359"/>
                </a:lnTo>
                <a:lnTo>
                  <a:pt x="298365" y="178565"/>
                </a:lnTo>
                <a:lnTo>
                  <a:pt x="349333" y="288924"/>
                </a:lnTo>
                <a:lnTo>
                  <a:pt x="215900" y="220718"/>
                </a:lnTo>
                <a:lnTo>
                  <a:pt x="82467" y="288924"/>
                </a:lnTo>
                <a:lnTo>
                  <a:pt x="133435" y="178565"/>
                </a:lnTo>
                <a:lnTo>
                  <a:pt x="0" y="11035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66"/>
          <p:cNvSpPr/>
          <p:nvPr/>
        </p:nvSpPr>
        <p:spPr>
          <a:xfrm>
            <a:off x="6659640" y="4797360"/>
            <a:ext cx="1368360" cy="1224000"/>
          </a:xfrm>
          <a:custGeom>
            <a:avLst/>
            <a:gdLst>
              <a:gd name="textAreaLeft" fmla="*/ 79200 w 1368360"/>
              <a:gd name="textAreaRight" fmla="*/ 1289160 w 136836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24147" h="21600">
                <a:moveTo>
                  <a:pt x="0" y="0"/>
                </a:moveTo>
                <a:lnTo>
                  <a:pt x="24147" y="0"/>
                </a:lnTo>
                <a:lnTo>
                  <a:pt x="24147" y="21600"/>
                </a:lnTo>
                <a:lnTo>
                  <a:pt x="0" y="21600"/>
                </a:lnTo>
                <a:close/>
              </a:path>
              <a:path fill="lightenLess" w="24147" h="21600">
                <a:moveTo>
                  <a:pt x="0" y="0"/>
                </a:moveTo>
                <a:lnTo>
                  <a:pt x="24147" y="0"/>
                </a:lnTo>
                <a:lnTo>
                  <a:pt x="22747" y="1400"/>
                </a:lnTo>
                <a:lnTo>
                  <a:pt x="1400" y="1400"/>
                </a:lnTo>
                <a:close/>
              </a:path>
              <a:path fill="darken" w="24147" h="21600">
                <a:moveTo>
                  <a:pt x="24147" y="0"/>
                </a:moveTo>
                <a:lnTo>
                  <a:pt x="24147" y="21600"/>
                </a:lnTo>
                <a:lnTo>
                  <a:pt x="22747" y="20200"/>
                </a:lnTo>
                <a:lnTo>
                  <a:pt x="22747" y="1400"/>
                </a:lnTo>
                <a:close/>
              </a:path>
              <a:path fill="darkenLess" w="24147" h="21600">
                <a:moveTo>
                  <a:pt x="241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47" y="20200"/>
                </a:lnTo>
                <a:close/>
              </a:path>
              <a:path fill="lighten" w="241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47" h="21600">
                <a:moveTo>
                  <a:pt x="1207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147" h="21600">
                <a:moveTo>
                  <a:pt x="13179" y="14281"/>
                </a:moveTo>
                <a:lnTo>
                  <a:pt x="13179" y="12323"/>
                </a:lnTo>
                <a:cubicBezTo>
                  <a:pt x="13179" y="11496"/>
                  <a:pt x="13510" y="10800"/>
                  <a:pt x="14110" y="10800"/>
                </a:cubicBezTo>
                <a:cubicBezTo>
                  <a:pt x="15242" y="10800"/>
                  <a:pt x="16138" y="9434"/>
                  <a:pt x="16138" y="7849"/>
                </a:cubicBezTo>
                <a:cubicBezTo>
                  <a:pt x="16138" y="5534"/>
                  <a:pt x="14284" y="3794"/>
                  <a:pt x="12073" y="3794"/>
                </a:cubicBezTo>
                <a:cubicBezTo>
                  <a:pt x="9863" y="3794"/>
                  <a:pt x="8192" y="5534"/>
                  <a:pt x="8192" y="7849"/>
                </a:cubicBezTo>
                <a:lnTo>
                  <a:pt x="10045" y="7849"/>
                </a:lnTo>
                <a:cubicBezTo>
                  <a:pt x="10045" y="6709"/>
                  <a:pt x="10968" y="5821"/>
                  <a:pt x="12073" y="5821"/>
                </a:cubicBezTo>
                <a:cubicBezTo>
                  <a:pt x="13179" y="5821"/>
                  <a:pt x="14110" y="6709"/>
                  <a:pt x="14110" y="7849"/>
                </a:cubicBezTo>
                <a:cubicBezTo>
                  <a:pt x="14110" y="8589"/>
                  <a:pt x="13640" y="9320"/>
                  <a:pt x="13179" y="9320"/>
                </a:cubicBezTo>
                <a:cubicBezTo>
                  <a:pt x="12073" y="9320"/>
                  <a:pt x="10968" y="10800"/>
                  <a:pt x="10968" y="12323"/>
                </a:cubicBezTo>
                <a:lnTo>
                  <a:pt x="10968" y="14281"/>
                </a:lnTo>
                <a:close/>
              </a:path>
            </a:pathLst>
          </a:custGeom>
          <a:solidFill>
            <a:srgbClr val="31b6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AutoShape 7"/>
          <p:cNvSpPr/>
          <p:nvPr/>
        </p:nvSpPr>
        <p:spPr>
          <a:xfrm rot="19372200">
            <a:off x="445680" y="869760"/>
            <a:ext cx="1862280" cy="1900080"/>
          </a:xfrm>
          <a:prstGeom prst="downArrow">
            <a:avLst>
              <a:gd name="adj1" fmla="val 50000"/>
              <a:gd name="adj2" fmla="val 25007"/>
            </a:avLst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8"/>
          <p:cNvSpPr/>
          <p:nvPr/>
        </p:nvSpPr>
        <p:spPr>
          <a:xfrm rot="20877600">
            <a:off x="1352160" y="2322000"/>
            <a:ext cx="66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пределение линейного уравнен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9"/>
          <p:cNvSpPr/>
          <p:nvPr/>
        </p:nvSpPr>
        <p:spPr>
          <a:xfrm rot="20869200">
            <a:off x="1669680" y="3135240"/>
            <a:ext cx="550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нятие степени многочлена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0"/>
          <p:cNvSpPr/>
          <p:nvPr/>
        </p:nvSpPr>
        <p:spPr>
          <a:xfrm rot="20917800">
            <a:off x="1918080" y="3905280"/>
            <a:ext cx="634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earningapps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rg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→ математика →системы уравнений →раздели уравнение по группам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11"/>
          <p:cNvSpPr/>
          <p:nvPr/>
        </p:nvSpPr>
        <p:spPr>
          <a:xfrm rot="1536000">
            <a:off x="6084360" y="4724280"/>
            <a:ext cx="792360" cy="865440"/>
          </a:xfrm>
          <a:prstGeom prst="diamond">
            <a:avLst/>
          </a:prstGeom>
          <a:solidFill>
            <a:srgbClr val="c6e7fc"/>
          </a:solidFill>
          <a:ln w="936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12"/>
          <p:cNvSpPr/>
          <p:nvPr/>
        </p:nvSpPr>
        <p:spPr>
          <a:xfrm>
            <a:off x="7380360" y="4365720"/>
            <a:ext cx="792000" cy="792000"/>
          </a:xfrm>
          <a:prstGeom prst="ellipse">
            <a:avLst/>
          </a:prstGeom>
          <a:solidFill>
            <a:srgbClr val="5eaeff"/>
          </a:solidFill>
          <a:ln w="9360">
            <a:solidFill>
              <a:srgbClr val="5ea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13"/>
          <p:cNvSpPr/>
          <p:nvPr/>
        </p:nvSpPr>
        <p:spPr>
          <a:xfrm>
            <a:off x="6804000" y="5373720"/>
            <a:ext cx="1008000" cy="6476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рямоугольник 2"/>
          <p:cNvSpPr/>
          <p:nvPr/>
        </p:nvSpPr>
        <p:spPr>
          <a:xfrm>
            <a:off x="250920" y="149400"/>
            <a:ext cx="864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73e87"/>
                </a:solidFill>
                <a:latin typeface="Arial"/>
              </a:rPr>
              <a:t>Актуализация опорных знаний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2"/>
          <p:cNvSpPr/>
          <p:nvPr/>
        </p:nvSpPr>
        <p:spPr>
          <a:xfrm>
            <a:off x="1116000" y="260280"/>
            <a:ext cx="63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73e87"/>
                </a:solidFill>
                <a:latin typeface="Arial"/>
              </a:rPr>
              <a:t>Обратите внимание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Рисунок 9" descr=""/>
          <p:cNvPicPr/>
          <p:nvPr/>
        </p:nvPicPr>
        <p:blipFill>
          <a:blip r:embed="rId1"/>
          <a:srcRect l="13939" t="13499" r="15132" b="13499"/>
          <a:stretch/>
        </p:blipFill>
        <p:spPr>
          <a:xfrm>
            <a:off x="790560" y="1968480"/>
            <a:ext cx="6985080" cy="4865760"/>
          </a:xfrm>
          <a:prstGeom prst="rect">
            <a:avLst/>
          </a:prstGeom>
          <a:ln w="0">
            <a:noFill/>
          </a:ln>
        </p:spPr>
      </p:pic>
      <p:sp>
        <p:nvSpPr>
          <p:cNvPr id="348" name="Прямоугольник 2"/>
          <p:cNvSpPr/>
          <p:nvPr/>
        </p:nvSpPr>
        <p:spPr>
          <a:xfrm>
            <a:off x="223920" y="260280"/>
            <a:ext cx="8120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73e87"/>
                </a:solidFill>
                <a:latin typeface="Arial"/>
              </a:rPr>
              <a:t>Тема урока: «Линейные  уравнения с двумя переменными»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9" name="Object 11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50" name="Text Box 5"/>
          <p:cNvSpPr/>
          <p:nvPr/>
        </p:nvSpPr>
        <p:spPr>
          <a:xfrm>
            <a:off x="679320" y="314280"/>
            <a:ext cx="773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73e87"/>
                </a:solidFill>
                <a:latin typeface="Arial"/>
              </a:rPr>
              <a:t>Изучение нового материала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оугольник 2"/>
          <p:cNvSpPr/>
          <p:nvPr/>
        </p:nvSpPr>
        <p:spPr>
          <a:xfrm>
            <a:off x="225360" y="1628640"/>
            <a:ext cx="8640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зучить п.40, ответить на вопросы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бота в личном кабинете на сайте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earningapps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r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вариант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математика →системы уравнений →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инейное уравнение с двумя переменными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I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вариант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 математика →системы уравнений →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равнение с двумя переменными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писать примеры линейных уравнений с двумя переменными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вести примеры различных способов записи решений линейного уравнения с двумя переменными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акие уравнения называются равносильными?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ак ты объяснишь, что означает задание: переменную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выразить через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4"/>
          <p:cNvSpPr/>
          <p:nvPr/>
        </p:nvSpPr>
        <p:spPr>
          <a:xfrm>
            <a:off x="1835280" y="404640"/>
            <a:ext cx="58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73e87"/>
                </a:solidFill>
                <a:latin typeface="Arial"/>
              </a:rPr>
              <a:t>Применение знаний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оугольник 1"/>
          <p:cNvSpPr/>
          <p:nvPr/>
        </p:nvSpPr>
        <p:spPr>
          <a:xfrm>
            <a:off x="179280" y="2205000"/>
            <a:ext cx="8785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526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ЯКласс →проверочные работы →тренировочная работа по теме Линейные уравнения с двумя переменными  (№1025, 1026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26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тр 202, №1028(а), 1032(а), 1036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вариант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       №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1028(б), 1032(б), 1037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вариант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Историческая справка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4"/>
          <p:cNvSpPr/>
          <p:nvPr/>
        </p:nvSpPr>
        <p:spPr>
          <a:xfrm>
            <a:off x="1384200" y="5428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1384200" y="231840"/>
            <a:ext cx="64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73e87"/>
                </a:solidFill>
                <a:latin typeface="Arial"/>
              </a:rPr>
              <a:t>Историческая справка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1"/>
          <p:cNvSpPr/>
          <p:nvPr/>
        </p:nvSpPr>
        <p:spPr>
          <a:xfrm>
            <a:off x="179280" y="1341360"/>
            <a:ext cx="8785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33520" indent="-53352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де зародилось искусство решать уравнения?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53352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то ввел в математику знак равенства?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53352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то является создателем современной буквенной символики? Какой древнегреческий математик много сделал в области решения уравнений?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53352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зовите гениального французского математика и революционера, создавшего основы общей теории уравнений? Какой норвежский математик внес важный вклад в теорию уравнений?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10"/>
          <p:cNvSpPr/>
          <p:nvPr/>
        </p:nvSpPr>
        <p:spPr>
          <a:xfrm>
            <a:off x="2669040" y="476280"/>
            <a:ext cx="274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73e87"/>
                </a:solidFill>
                <a:latin typeface="Arial"/>
              </a:rPr>
              <a:t>Проверка 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1"/>
          <p:cNvSpPr/>
          <p:nvPr/>
        </p:nvSpPr>
        <p:spPr>
          <a:xfrm>
            <a:off x="207720" y="958680"/>
            <a:ext cx="4898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1032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) 3х+2у=12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2у=12-3х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=6-1,5х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сли х=2, то у=6-1,5*2=3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сли х=0, то у=6-1,5*0=6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сли х=-2, то у=6-1,5*(-2)=9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твет: (2;3), (0;6), (-2;9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) 5у-2х=1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5у=1+2х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=0,2+0,4х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сли х=2, то у=0,2+0,4*2=1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сли х=0, то у=0,2+0,4*0=0,2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сли х=-5, то у=0,2+0,4*(-5)=-1,8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твет: (2;1), (0;0,2), (-5;-1,8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2"/>
          <p:cNvSpPr/>
          <p:nvPr/>
        </p:nvSpPr>
        <p:spPr>
          <a:xfrm>
            <a:off x="4768920" y="123660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1036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 2 р. – х монет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 5 р. – у монет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авая фигурная скобка 4"/>
          <p:cNvSpPr/>
          <p:nvPr/>
        </p:nvSpPr>
        <p:spPr>
          <a:xfrm>
            <a:off x="7751880" y="1757520"/>
            <a:ext cx="225360" cy="663480"/>
          </a:xfrm>
          <a:custGeom>
            <a:avLst/>
            <a:gdLst>
              <a:gd name="textAreaLeft" fmla="*/ 0 w 225360"/>
              <a:gd name="textAreaRight" fmla="*/ 81360 w 225360"/>
              <a:gd name="textAreaTop" fmla="*/ 5760 h 663480"/>
              <a:gd name="textAreaBottom" fmla="*/ 657720 h 663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06"/>
                  <a:pt x="10800" y="611"/>
                </a:cubicBezTo>
                <a:lnTo>
                  <a:pt x="10800" y="10189"/>
                </a:lnTo>
                <a:cubicBezTo>
                  <a:pt x="10800" y="10495"/>
                  <a:pt x="16200" y="10800"/>
                  <a:pt x="21600" y="10800"/>
                </a:cubicBezTo>
                <a:cubicBezTo>
                  <a:pt x="16200" y="10800"/>
                  <a:pt x="10800" y="11106"/>
                  <a:pt x="10800" y="11411"/>
                </a:cubicBezTo>
                <a:lnTo>
                  <a:pt x="10800" y="20989"/>
                </a:lnTo>
                <a:cubicBezTo>
                  <a:pt x="10800" y="21295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73e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5"/>
          <p:cNvSpPr/>
          <p:nvPr/>
        </p:nvSpPr>
        <p:spPr>
          <a:xfrm>
            <a:off x="7869600" y="1774800"/>
            <a:ext cx="10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28 руб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6"/>
          <p:cNvSpPr/>
          <p:nvPr/>
        </p:nvSpPr>
        <p:spPr>
          <a:xfrm>
            <a:off x="4806000" y="2781360"/>
            <a:ext cx="4210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2х+5у=28,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2х=28 – 5у,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х=14 – 2,5у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сли у=2, то х=14 – 2,5*2=9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сли у=4, то х=14 – 2,5*4=4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твет: 9 монет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ли 4 монеты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Прямая соединительная линия 8"/>
          <p:cNvSpPr/>
          <p:nvPr/>
        </p:nvSpPr>
        <p:spPr>
          <a:xfrm flipH="1">
            <a:off x="4768560" y="1236600"/>
            <a:ext cx="19080" cy="4353120"/>
          </a:xfrm>
          <a:prstGeom prst="line">
            <a:avLst/>
          </a:prstGeom>
          <a:ln w="381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AutoShape 4"/>
          <p:cNvSpPr/>
          <p:nvPr/>
        </p:nvSpPr>
        <p:spPr>
          <a:xfrm>
            <a:off x="449280" y="1700280"/>
            <a:ext cx="8496360" cy="3757680"/>
          </a:xfrm>
          <a:prstGeom prst="horizontalScroll">
            <a:avLst>
              <a:gd name="adj" fmla="val 12500"/>
            </a:avLst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наем определение линейного уравнения с двумя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еременными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меем выражать одну переменную через другую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алгоритм)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меем находить пары решений уравнения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полнение оценочных листов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омашнее задание п. 40, № 1027, 1033, 1037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2674440" y="476280"/>
            <a:ext cx="316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73e87"/>
                </a:solidFill>
                <a:latin typeface="Arial"/>
              </a:rPr>
              <a:t>Итог урока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11"/>
          <p:cNvSpPr/>
          <p:nvPr/>
        </p:nvSpPr>
        <p:spPr>
          <a:xfrm>
            <a:off x="5651640" y="5740560"/>
            <a:ext cx="1023840" cy="934920"/>
          </a:xfrm>
          <a:prstGeom prst="smileyFace">
            <a:avLst>
              <a:gd name="adj" fmla="val 9282"/>
            </a:avLst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66"/>
          <p:cNvSpPr/>
          <p:nvPr/>
        </p:nvSpPr>
        <p:spPr>
          <a:xfrm>
            <a:off x="7707240" y="5595840"/>
            <a:ext cx="1176480" cy="1079640"/>
          </a:xfrm>
          <a:custGeom>
            <a:avLst/>
            <a:gdLst>
              <a:gd name="textAreaLeft" fmla="*/ 69840 w 1176480"/>
              <a:gd name="textAreaRight" fmla="*/ 1106640 w 1176480"/>
              <a:gd name="textAreaTop" fmla="*/ 69840 h 1079640"/>
              <a:gd name="textAreaBottom" fmla="*/ 1009800 h 1079640"/>
            </a:gdLst>
            <a:ahLst/>
            <a:rect l="textAreaLeft" t="textAreaTop" r="textAreaRight" b="textAreaBottom"/>
            <a:pathLst>
              <a:path w="23537" h="21600">
                <a:moveTo>
                  <a:pt x="0" y="0"/>
                </a:moveTo>
                <a:lnTo>
                  <a:pt x="23537" y="0"/>
                </a:lnTo>
                <a:lnTo>
                  <a:pt x="23537" y="21600"/>
                </a:lnTo>
                <a:lnTo>
                  <a:pt x="0" y="21600"/>
                </a:lnTo>
                <a:close/>
              </a:path>
              <a:path fill="lightenLess" w="23537" h="21600">
                <a:moveTo>
                  <a:pt x="0" y="0"/>
                </a:moveTo>
                <a:lnTo>
                  <a:pt x="23537" y="0"/>
                </a:lnTo>
                <a:lnTo>
                  <a:pt x="22137" y="1400"/>
                </a:lnTo>
                <a:lnTo>
                  <a:pt x="1400" y="1400"/>
                </a:lnTo>
                <a:close/>
              </a:path>
              <a:path fill="darken" w="23537" h="21600">
                <a:moveTo>
                  <a:pt x="23537" y="0"/>
                </a:moveTo>
                <a:lnTo>
                  <a:pt x="23537" y="21600"/>
                </a:lnTo>
                <a:lnTo>
                  <a:pt x="22137" y="20200"/>
                </a:lnTo>
                <a:lnTo>
                  <a:pt x="22137" y="1400"/>
                </a:lnTo>
                <a:close/>
              </a:path>
              <a:path fill="darkenLess" w="23537" h="21600">
                <a:moveTo>
                  <a:pt x="235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37" y="20200"/>
                </a:lnTo>
                <a:close/>
              </a:path>
              <a:path fill="lighten" w="235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37" h="21600">
                <a:moveTo>
                  <a:pt x="1176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537" h="21600">
                <a:moveTo>
                  <a:pt x="12874" y="14281"/>
                </a:moveTo>
                <a:lnTo>
                  <a:pt x="12874" y="12323"/>
                </a:lnTo>
                <a:cubicBezTo>
                  <a:pt x="12874" y="11496"/>
                  <a:pt x="13205" y="10800"/>
                  <a:pt x="13805" y="10800"/>
                </a:cubicBezTo>
                <a:cubicBezTo>
                  <a:pt x="14937" y="10800"/>
                  <a:pt x="15833" y="9434"/>
                  <a:pt x="15833" y="7849"/>
                </a:cubicBezTo>
                <a:cubicBezTo>
                  <a:pt x="15833" y="5534"/>
                  <a:pt x="13979" y="3794"/>
                  <a:pt x="11768" y="3794"/>
                </a:cubicBezTo>
                <a:cubicBezTo>
                  <a:pt x="9558" y="3794"/>
                  <a:pt x="7887" y="5534"/>
                  <a:pt x="7887" y="7849"/>
                </a:cubicBezTo>
                <a:lnTo>
                  <a:pt x="9740" y="7849"/>
                </a:lnTo>
                <a:cubicBezTo>
                  <a:pt x="9740" y="6709"/>
                  <a:pt x="10663" y="5821"/>
                  <a:pt x="11768" y="5821"/>
                </a:cubicBezTo>
                <a:cubicBezTo>
                  <a:pt x="12874" y="5821"/>
                  <a:pt x="13805" y="6709"/>
                  <a:pt x="13805" y="7849"/>
                </a:cubicBezTo>
                <a:cubicBezTo>
                  <a:pt x="13805" y="8589"/>
                  <a:pt x="13335" y="9320"/>
                  <a:pt x="12874" y="9320"/>
                </a:cubicBezTo>
                <a:cubicBezTo>
                  <a:pt x="11768" y="9320"/>
                  <a:pt x="10663" y="10800"/>
                  <a:pt x="10663" y="12323"/>
                </a:cubicBezTo>
                <a:lnTo>
                  <a:pt x="10663" y="1428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11"/>
          <p:cNvSpPr/>
          <p:nvPr/>
        </p:nvSpPr>
        <p:spPr>
          <a:xfrm>
            <a:off x="6875640" y="5732640"/>
            <a:ext cx="1049040" cy="934920"/>
          </a:xfrm>
          <a:prstGeom prst="smileyFace">
            <a:avLst>
              <a:gd name="adj" fmla="val -4652"/>
            </a:avLst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394920" y="2781360"/>
            <a:ext cx="8272440" cy="34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"/>
                <a:ea typeface="Arial"/>
              </a:rPr>
              <a:t>Учебник АЛГЕБРА -7   под ред. С.А. Теляковского,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"/>
                <a:ea typeface="Arial"/>
              </a:rPr>
              <a:t>   </a:t>
            </a:r>
            <a:r>
              <a:rPr b="0" lang="ru-RU" sz="2400" spc="-1" strike="noStrike">
                <a:solidFill>
                  <a:srgbClr val="073e87"/>
                </a:solidFill>
                <a:latin typeface="Arial"/>
                <a:ea typeface="Arial"/>
              </a:rPr>
              <a:t>Москва, «Просвещение», 2014г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"/>
                <a:ea typeface="Arial"/>
              </a:rPr>
              <a:t>Интернет ресурсы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  <a:ea typeface="Arial"/>
              </a:rPr>
              <a:t>https://learningapps.or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  <a:ea typeface="Arial"/>
              </a:rPr>
              <a:t>www.yaklass.ru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26920" y="228600"/>
            <a:ext cx="7383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73e87"/>
                </a:solidFill>
                <a:latin typeface="Candara"/>
              </a:rPr>
              <a:t>Используемая литература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6T11:19:54Z</dcterms:created>
  <dc:creator>Администратор</dc:creator>
  <dc:description/>
  <dc:language>en-US</dc:language>
  <cp:lastModifiedBy>Галина Васильченко</cp:lastModifiedBy>
  <dcterms:modified xsi:type="dcterms:W3CDTF">2022-04-02T19:27:37Z</dcterms:modified>
  <cp:revision>39</cp:revision>
  <dc:subject/>
  <dc:title>Слайд 1</dc:title>
</cp:coreProperties>
</file>