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applaus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A38-E980-460F-9E22-BC6E4347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561-D6A9-4E9D-B197-0E7F4212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E6D-8A37-41AB-8E37-1454124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63A-FB5C-409F-9F73-B3683504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91B9-3012-49B7-B47D-310D5B38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DF54-C34C-4B15-BCDE-FA33E6C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7D71-5CD1-467E-81BC-2DAC30B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19B1-093B-4F4B-8D45-69A4D35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87C6-32A4-4AC3-A224-4AC16D5F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875-FA3A-4F70-A831-9D704C26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8CC-46D9-49BB-BEE4-30A8E04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626-FDA0-400D-B746-8D4D92E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1B9-789B-4E5E-A5E3-AB566C1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019-0D93-4676-A577-21095CC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13E7-9DC6-4C27-8054-0C33CAE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2D0A-116C-4692-A588-EA98A740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8FA-A454-4D9C-B4AC-2928A9DA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A85-2836-46E8-890D-7D2CF53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F79-5847-4F4C-9856-10DF0E5F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3A4-9934-4ADF-B203-2E71DB84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F09-29B6-4BDC-9B29-23E54E1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430-01D5-4882-B4D4-30341BC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534-62F8-4BC8-BC9E-0325222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8F2-20E6-426E-A1F5-002996F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14F-C08D-4249-B3F0-A216201D9BF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B52-2A83-4607-A35B-D3EAFE53C7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5;&#1072;%20&#1089;&#1090;&#1072;&#1088;&#1090;.doc" TargetMode="External"/><Relationship Id="rId2" Type="http://schemas.openxmlformats.org/officeDocument/2006/relationships/hyperlink" Target="file:///&#1074;&#1085;&#1080;&#1084;&#1072;&#1085;&#1080;&#1077;.doc" TargetMode="External"/><Relationship Id="rId3" Type="http://schemas.openxmlformats.org/officeDocument/2006/relationships/hyperlink" Target="file:///&#1084;&#1072;&#1088;&#1096;1" TargetMode="External"/><Relationship Id="rId4" Type="http://schemas.openxmlformats.org/officeDocument/2006/relationships/hyperlink" Target="file:///&#1086;&#1096;&#1080;&#1073;&#1082;&#1072;%20&#1085;&#1072;%20&#1089;&#1090;&#1072;&#1088;&#1090;.doc" TargetMode="External"/><Relationship Id="rId5" Type="http://schemas.openxmlformats.org/officeDocument/2006/relationships/hyperlink" Target="file:///&#1086;&#1096;&#1080;&#1073;&#1082;&#1072;%20&#1074;&#1085;&#1080;&#1084;&#1072;&#1085;&#1080;&#1077;.doc" TargetMode="External"/><Relationship Id="rId6" Type="http://schemas.openxmlformats.org/officeDocument/2006/relationships/hyperlink" Target="file:///&#1086;&#1096;&#1080;&#1073;&#1082;&#1072;%20&#1084;&#1072;&#1088;&#1096;!.doc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60;&#1088;&#1072;&#1075;&#1084;&#1077;&#1085;&#1090;%20(3).shs" TargetMode="External"/><Relationship Id="rId2" Type="http://schemas.openxmlformats.org/officeDocument/2006/relationships/hyperlink" Target="file:///&#1090;&#1077;&#1093;&#1085;&#1080;&#1082;&#1072;%20&#1073;&#1077;&#1075;&#1072;.doc" TargetMode="External"/><Relationship Id="rId3" Type="http://schemas.openxmlformats.org/officeDocument/2006/relationships/hyperlink" Target="file:///&#1090;&#1077;&#1093;&#1085;&#1080;&#1082;&#1072;%20&#1073;&#1077;&#1075;&#1072;.doc" TargetMode="External"/><Relationship Id="rId4" Type="http://schemas.openxmlformats.org/officeDocument/2006/relationships/hyperlink" Target="file:///&#1086;&#1096;&#1080;&#1073;&#1082;&#1080;&#1073;&#1077;&#1075;&#1072;.doc" TargetMode="External"/><Relationship Id="rId5" Type="http://schemas.openxmlformats.org/officeDocument/2006/relationships/hyperlink" Target="file:///&#1091;&#1089;&#1090;&#1088;&#1072;&#1085;&#1077;&#1085;&#1080;&#1077;%20&#1086;&#1096;&#1080;&#1073;&#1086;&#1082;%20&#1073;&#1077;&#1075;&#1072;.doc" TargetMode="External"/><Relationship Id="rId6" Type="http://schemas.openxmlformats.org/officeDocument/2006/relationships/hyperlink" Target="file:///&#1091;&#1089;&#1090;&#1088;&#1072;&#1085;&#1077;&#1085;&#1080;&#1077;%20&#1086;&#1096;&#1080;&#1073;&#1086;&#1082;%20&#1073;&#1077;&#1075;&#1072;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60;&#1088;&#1072;&#1075;&#1084;&#1077;&#1085;&#1090;.shs" TargetMode="External"/><Relationship Id="rId2" Type="http://schemas.openxmlformats.org/officeDocument/2006/relationships/hyperlink" Target="file:///&#1088;&#1072;&#1079;&#1073;&#1077;&#1075;%20&#1087;&#1088;&#1080;%20&#1087;&#1088;&#1099;&#1078;&#1082;&#1077;.doc" TargetMode="External"/><Relationship Id="rId3" Type="http://schemas.openxmlformats.org/officeDocument/2006/relationships/hyperlink" Target="file:///&#1088;&#1072;&#1079;&#1073;&#1077;&#1075;%20&#1087;&#1088;&#1080;%20&#1087;&#1088;&#1099;&#1078;&#1082;&#1077;.doc" TargetMode="External"/><Relationship Id="rId4" Type="http://schemas.openxmlformats.org/officeDocument/2006/relationships/hyperlink" Target="file:///&#1086;&#1096;&#1080;&#1073;&#1082;&#1080;%20&#1087;&#1088;&#1099;&#1078;&#1082;&#1072;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2;&#1079;&#1073;&#1077;&#1075;%20&#1087;&#1088;&#1080;%20&#1084;&#1077;&#1090;&#1072;&#1085;&#1080;&#1080;.doc" TargetMode="External"/><Relationship Id="rId2" Type="http://schemas.openxmlformats.org/officeDocument/2006/relationships/hyperlink" Target="file:///&#1088;&#1072;&#1079;&#1073;&#1077;&#1075;%20&#1087;&#1088;&#1080;%20&#1084;&#1077;&#1090;&#1072;&#1085;&#1080;&#1080;.doc" TargetMode="External"/><Relationship Id="rId3" Type="http://schemas.openxmlformats.org/officeDocument/2006/relationships/hyperlink" Target="file:///&#1088;&#1072;&#1079;&#1073;&#1077;&#1075;%20&#1087;&#1088;&#1080;%20&#1084;&#1077;&#1090;&#1072;&#1085;&#1080;&#1080;.doc" TargetMode="External"/><Relationship Id="rId4" Type="http://schemas.openxmlformats.org/officeDocument/2006/relationships/hyperlink" Target="file:///&#1088;&#1072;&#1079;&#1073;&#1077;&#1075;%20&#1087;&#1088;&#1080;%20&#1084;&#1077;&#1090;&#1072;&#1085;&#1080;&#1080;.doc" TargetMode="External"/><Relationship Id="rId5" Type="http://schemas.openxmlformats.org/officeDocument/2006/relationships/hyperlink" Target="file:///&#1086;&#1096;&#1080;&#1073;&#1082;&#1084;&#1080;%20&#1087;&#1088;&#1080;%20&#1084;&#1077;&#1090;&#1072;&#1085;&#1080;&#1080;.doc" TargetMode="External"/><Relationship Id="rId6" Type="http://schemas.openxmlformats.org/officeDocument/2006/relationships/hyperlink" Target="file:///&#1083;&#1077;&#1075;&#1082;&#1072;&#1103;&#1072;&#1090;&#1083;&#1077;&#1090;&#1080;&#1082;&#1072;/&#1091;&#1089;&#1090;&#1088;&#1072;&#1085;&#1077;&#1085;&#1080;&#1077;%20&#1086;&#1096;.%20&#1084;&#1077;&#1090;&#1072;&#1085;&#1080;&#1103;.doc" TargetMode="External"/><Relationship Id="rId7" Type="http://schemas.openxmlformats.org/officeDocument/2006/relationships/hyperlink" Target="file:///&#1083;&#1077;&#1075;&#1082;&#1072;&#1103;&#1072;&#1090;&#1083;&#1077;&#1090;&#1080;&#1082;&#1072;/&#1091;&#1089;&#1090;&#1088;&#1072;&#1085;&#1077;&#1085;&#1080;&#1077;%20&#1086;&#1096;.%20&#1084;&#1077;&#1090;&#1072;&#1085;&#1080;&#1103;.doc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00720" y="2997360"/>
            <a:ext cx="41148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егкая атлетика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14" descr="EDU30"/>
          <p:cNvPicPr/>
          <p:nvPr/>
        </p:nvPicPr>
        <p:blipFill>
          <a:blip r:embed="rId1"/>
          <a:stretch/>
        </p:blipFill>
        <p:spPr>
          <a:xfrm>
            <a:off x="4284720" y="5229360"/>
            <a:ext cx="22320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ая команда подается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4104000" cy="2683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2340000" y="602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рш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 называется последний шаг при метани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422440" y="2903400"/>
            <a:ext cx="4523040" cy="2640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76364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 к р е с т н ы й   ш а 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ЕГКАЯ АТЛЕТИ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ика б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ика низкого стар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ыж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EDU14"/>
          <p:cNvPicPr/>
          <p:nvPr/>
        </p:nvPicPr>
        <p:blipFill>
          <a:blip r:embed="rId1"/>
          <a:stretch/>
        </p:blipFill>
        <p:spPr>
          <a:xfrm>
            <a:off x="4114800" y="3886200"/>
            <a:ext cx="211284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хника низкого стар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6920" y="2349360"/>
            <a:ext cx="75488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Organization Chart 5"/>
          <p:cNvGrpSpPr/>
          <p:nvPr/>
        </p:nvGrpSpPr>
        <p:grpSpPr>
          <a:xfrm>
            <a:off x="1403640" y="2349360"/>
            <a:ext cx="7368480" cy="4034880"/>
            <a:chOff x="1403640" y="2349360"/>
            <a:chExt cx="7368480" cy="4034880"/>
          </a:xfrm>
        </p:grpSpPr>
        <p:cxnSp>
          <p:nvCxnSpPr>
            <p:cNvPr id="104" name="_s1028"/>
            <p:cNvCxnSpPr>
              <a:stCxn id="105" idx="3"/>
              <a:endCxn id="106" idx="2"/>
            </p:cNvCxnSpPr>
            <p:nvPr/>
          </p:nvCxnSpPr>
          <p:spPr>
            <a:xfrm flipH="1" flipV="1">
              <a:off x="7752240" y="4569480"/>
              <a:ext cx="421560" cy="1367280"/>
            </a:xfrm>
            <a:prstGeom prst="bentConnector4">
              <a:avLst>
                <a:gd name="adj1" fmla="val -27094"/>
                <a:gd name="adj2" fmla="val 65341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7" name="_s1029"/>
            <p:cNvCxnSpPr>
              <a:stCxn id="108" idx="3"/>
              <a:endCxn id="109" idx="2"/>
            </p:cNvCxnSpPr>
            <p:nvPr/>
          </p:nvCxnSpPr>
          <p:spPr>
            <a:xfrm flipV="1">
              <a:off x="5208840" y="4646880"/>
              <a:ext cx="135000" cy="12160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0" name="_s1030"/>
            <p:cNvCxnSpPr>
              <a:stCxn id="111" idx="3"/>
              <a:endCxn id="112" idx="2"/>
            </p:cNvCxnSpPr>
            <p:nvPr/>
          </p:nvCxnSpPr>
          <p:spPr>
            <a:xfrm flipH="1" flipV="1">
              <a:off x="2733840" y="4643280"/>
              <a:ext cx="168840" cy="1272600"/>
            </a:xfrm>
            <a:prstGeom prst="bentConnector4">
              <a:avLst>
                <a:gd name="adj1" fmla="val -67735"/>
                <a:gd name="adj2" fmla="val 68477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3" name="_s1031"/>
            <p:cNvCxnSpPr>
              <a:stCxn id="106" idx="0"/>
              <a:endCxn id="114" idx="2"/>
            </p:cNvCxnSpPr>
            <p:nvPr/>
          </p:nvCxnSpPr>
          <p:spPr>
            <a:xfrm flipV="1" rot="16200000">
              <a:off x="6194880" y="2158200"/>
              <a:ext cx="495360" cy="2620440"/>
            </a:xfrm>
            <a:prstGeom prst="bentConnector3">
              <a:avLst>
                <a:gd name="adj1" fmla="val 2305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5" name="_s1032"/>
            <p:cNvCxnSpPr>
              <a:stCxn id="109" idx="0"/>
              <a:endCxn id="114" idx="2"/>
            </p:cNvCxnSpPr>
            <p:nvPr/>
          </p:nvCxnSpPr>
          <p:spPr>
            <a:xfrm flipV="1" rot="16200000">
              <a:off x="4952520" y="3402000"/>
              <a:ext cx="572760" cy="209520"/>
            </a:xfrm>
            <a:prstGeom prst="bentConnector3">
              <a:avLst>
                <a:gd name="adj1" fmla="val 48301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6" name="_s1033"/>
            <p:cNvCxnSpPr>
              <a:stCxn id="112" idx="0"/>
              <a:endCxn id="114" idx="2"/>
            </p:cNvCxnSpPr>
            <p:nvPr/>
          </p:nvCxnSpPr>
          <p:spPr>
            <a:xfrm flipH="1" flipV="1" rot="5400000">
              <a:off x="3649320" y="2305800"/>
              <a:ext cx="568800" cy="2399040"/>
            </a:xfrm>
            <a:prstGeom prst="bentConnector3">
              <a:avLst>
                <a:gd name="adj1" fmla="val 2007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14" name="_s1034"/>
            <p:cNvSpPr/>
            <p:nvPr/>
          </p:nvSpPr>
          <p:spPr>
            <a:xfrm>
              <a:off x="4042080" y="2349360"/>
              <a:ext cx="2183400" cy="8719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оманды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1618560" y="3790080"/>
              <a:ext cx="2231640" cy="8535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1"/>
                </a:rPr>
                <a:t>«На старт»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4512600" y="3793320"/>
              <a:ext cx="1659600" cy="8535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2"/>
                </a:rPr>
                <a:t>«Внимание»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6732360" y="3715920"/>
              <a:ext cx="2039760" cy="8535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3"/>
                </a:rPr>
                <a:t>«Марш!»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1403640" y="5444640"/>
              <a:ext cx="1499040" cy="93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4"/>
                </a:rPr>
                <a:t>Ошибк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3780360" y="5444640"/>
              <a:ext cx="1428840" cy="836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5"/>
                </a:rPr>
                <a:t>Ошибк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040"/>
            <p:cNvSpPr/>
            <p:nvPr/>
          </p:nvSpPr>
          <p:spPr>
            <a:xfrm>
              <a:off x="6732360" y="5515920"/>
              <a:ext cx="1441440" cy="8355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3366"/>
                  </a:solidFill>
                  <a:uFillTx/>
                  <a:latin typeface="Arial"/>
                  <a:hlinkClick r:id="rId6"/>
                </a:rPr>
                <a:t>Ошибк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хника бег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Organization Chart 5"/>
          <p:cNvGrpSpPr/>
          <p:nvPr/>
        </p:nvGrpSpPr>
        <p:grpSpPr>
          <a:xfrm>
            <a:off x="1258920" y="2606760"/>
            <a:ext cx="7200360" cy="3464280"/>
            <a:chOff x="1258920" y="2606760"/>
            <a:chExt cx="7200360" cy="3464280"/>
          </a:xfrm>
        </p:grpSpPr>
        <p:cxnSp>
          <p:nvCxnSpPr>
            <p:cNvPr id="119" name="_s2052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780160" y="3078360"/>
              <a:ext cx="682200" cy="2520000"/>
            </a:xfrm>
            <a:prstGeom prst="bentConnector3">
              <a:avLst>
                <a:gd name="adj1" fmla="val 1562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2" name="_s2053"/>
            <p:cNvCxnSpPr>
              <a:stCxn id="123" idx="0"/>
              <a:endCxn id="121" idx="2"/>
            </p:cNvCxnSpPr>
            <p:nvPr/>
          </p:nvCxnSpPr>
          <p:spPr>
            <a:xfrm flipH="1" flipV="1" rot="5400000">
              <a:off x="4532400" y="4321800"/>
              <a:ext cx="653760" cy="5760"/>
            </a:xfrm>
            <a:prstGeom prst="bentConnector3">
              <a:avLst>
                <a:gd name="adj1" fmla="val 1746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4" name="_s2054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3256920" y="3074760"/>
              <a:ext cx="682200" cy="2527920"/>
            </a:xfrm>
            <a:prstGeom prst="bentConnector3">
              <a:avLst>
                <a:gd name="adj1" fmla="val 1562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21" name="_s2055"/>
            <p:cNvSpPr/>
            <p:nvPr/>
          </p:nvSpPr>
          <p:spPr>
            <a:xfrm>
              <a:off x="3783960" y="2606760"/>
              <a:ext cx="2155680" cy="1391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1"/>
                </a:rPr>
                <a:t>Разми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056"/>
            <p:cNvSpPr/>
            <p:nvPr/>
          </p:nvSpPr>
          <p:spPr>
            <a:xfrm>
              <a:off x="1258920" y="4679640"/>
              <a:ext cx="2153160" cy="1391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2"/>
                </a:rPr>
                <a:t>Техни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3"/>
                </a:rPr>
                <a:t>Бег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3778920" y="4651200"/>
              <a:ext cx="2155680" cy="1391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4"/>
                </a:rPr>
                <a:t>Ошибки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_s2058"/>
            <p:cNvSpPr/>
            <p:nvPr/>
          </p:nvSpPr>
          <p:spPr>
            <a:xfrm>
              <a:off x="6303600" y="4679640"/>
              <a:ext cx="2155680" cy="1391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5"/>
                </a:rPr>
                <a:t>Устранени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3366"/>
                  </a:solidFill>
                  <a:uFillTx/>
                  <a:latin typeface="Arial"/>
                  <a:hlinkClick r:id="rId6"/>
                </a:rPr>
                <a:t>Ошибок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Прыжк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7" name="Organization Chart 16"/>
          <p:cNvGrpSpPr/>
          <p:nvPr/>
        </p:nvGrpSpPr>
        <p:grpSpPr>
          <a:xfrm>
            <a:off x="826920" y="2276640"/>
            <a:ext cx="7631640" cy="3670920"/>
            <a:chOff x="826920" y="2276640"/>
            <a:chExt cx="7631640" cy="3670920"/>
          </a:xfrm>
        </p:grpSpPr>
        <p:cxnSp>
          <p:nvCxnSpPr>
            <p:cNvPr id="128" name="_s3076"/>
            <p:cNvCxnSpPr>
              <a:stCxn id="129" idx="0"/>
              <a:endCxn id="130" idx="2"/>
            </p:cNvCxnSpPr>
            <p:nvPr/>
          </p:nvCxnSpPr>
          <p:spPr>
            <a:xfrm flipV="1">
              <a:off x="6697800" y="4570560"/>
              <a:ext cx="5040" cy="4593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1" name="_s3077"/>
            <p:cNvCxnSpPr>
              <a:stCxn id="130" idx="0"/>
              <a:endCxn id="132" idx="2"/>
            </p:cNvCxnSpPr>
            <p:nvPr/>
          </p:nvCxnSpPr>
          <p:spPr>
            <a:xfrm flipV="1" rot="16200000">
              <a:off x="5440680" y="2395800"/>
              <a:ext cx="459360" cy="2054880"/>
            </a:xfrm>
            <a:prstGeom prst="bentConnector3">
              <a:avLst>
                <a:gd name="adj1" fmla="val 24862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32" idx="2"/>
            </p:cNvCxnSpPr>
            <p:nvPr/>
          </p:nvCxnSpPr>
          <p:spPr>
            <a:xfrm flipH="1" flipV="1" rot="5400000">
              <a:off x="3385800" y="2395440"/>
              <a:ext cx="459360" cy="2055960"/>
            </a:xfrm>
            <a:prstGeom prst="bentConnector3">
              <a:avLst>
                <a:gd name="adj1" fmla="val 24862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" name="_s3079"/>
            <p:cNvSpPr/>
            <p:nvPr/>
          </p:nvSpPr>
          <p:spPr>
            <a:xfrm>
              <a:off x="2882160" y="2276640"/>
              <a:ext cx="3522240" cy="91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Техник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прыжк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3080"/>
            <p:cNvSpPr/>
            <p:nvPr/>
          </p:nvSpPr>
          <p:spPr>
            <a:xfrm>
              <a:off x="826920" y="3653280"/>
              <a:ext cx="3522240" cy="91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Arial"/>
                  <a:hlinkClick r:id="rId1"/>
                </a:rPr>
                <a:t>Разбег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3081"/>
            <p:cNvSpPr/>
            <p:nvPr/>
          </p:nvSpPr>
          <p:spPr>
            <a:xfrm>
              <a:off x="4936320" y="5029920"/>
              <a:ext cx="3522240" cy="91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Arial"/>
                  <a:hlinkClick r:id="rId2"/>
                </a:rPr>
                <a:t>Устранение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Arial"/>
                  <a:hlinkClick r:id="rId3"/>
                </a:rPr>
                <a:t>ошибк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936320" y="3653280"/>
              <a:ext cx="3522240" cy="91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Arial"/>
                  <a:hlinkClick r:id="rId4"/>
                </a:rPr>
                <a:t>Ошибк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5" name="Picture 28" descr="EDU33"/>
          <p:cNvPicPr/>
          <p:nvPr/>
        </p:nvPicPr>
        <p:blipFill>
          <a:blip r:embed="rId5"/>
          <a:stretch/>
        </p:blipFill>
        <p:spPr>
          <a:xfrm>
            <a:off x="2556000" y="515772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Метани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7" name="Organization Chart 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138" name="_s4100"/>
            <p:cNvCxnSpPr>
              <a:stCxn id="139" idx="0"/>
              <a:endCxn id="140" idx="2"/>
            </p:cNvCxnSpPr>
            <p:nvPr/>
          </p:nvCxnSpPr>
          <p:spPr>
            <a:xfrm flipV="1">
              <a:off x="7376760" y="4689000"/>
              <a:ext cx="2880" cy="4658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41" name="_s4101"/>
            <p:cNvCxnSpPr>
              <a:stCxn id="140" idx="0"/>
              <a:endCxn id="142" idx="2"/>
            </p:cNvCxnSpPr>
            <p:nvPr/>
          </p:nvCxnSpPr>
          <p:spPr>
            <a:xfrm flipV="1" rot="16200000">
              <a:off x="5797440" y="2178720"/>
              <a:ext cx="465840" cy="2692800"/>
            </a:xfrm>
            <a:prstGeom prst="bentConnector3">
              <a:avLst>
                <a:gd name="adj1" fmla="val 24516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43" name="_s4102"/>
            <p:cNvCxnSpPr>
              <a:stCxn id="144" idx="0"/>
              <a:endCxn id="142" idx="2"/>
            </p:cNvCxnSpPr>
            <p:nvPr/>
          </p:nvCxnSpPr>
          <p:spPr>
            <a:xfrm flipV="1">
              <a:off x="4684320" y="3292560"/>
              <a:ext cx="2880" cy="4658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45" name="_s4103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3104640" y="2179080"/>
              <a:ext cx="465840" cy="2692800"/>
            </a:xfrm>
            <a:prstGeom prst="bentConnector3">
              <a:avLst>
                <a:gd name="adj1" fmla="val 24516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42" name="_s4104"/>
            <p:cNvSpPr/>
            <p:nvPr/>
          </p:nvSpPr>
          <p:spPr>
            <a:xfrm>
              <a:off x="3530520" y="2362320"/>
              <a:ext cx="2307600" cy="930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Техник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4105"/>
            <p:cNvSpPr/>
            <p:nvPr/>
          </p:nvSpPr>
          <p:spPr>
            <a:xfrm>
              <a:off x="838080" y="3758400"/>
              <a:ext cx="2307600" cy="930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1"/>
                </a:rPr>
                <a:t>Способ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2"/>
                </a:rPr>
                <a:t>Удержани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3"/>
                </a:rPr>
                <a:t>снаряд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4106"/>
            <p:cNvSpPr/>
            <p:nvPr/>
          </p:nvSpPr>
          <p:spPr>
            <a:xfrm>
              <a:off x="3530520" y="3758400"/>
              <a:ext cx="2307600" cy="930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4"/>
                </a:rPr>
                <a:t>Разбе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_s4107"/>
            <p:cNvSpPr/>
            <p:nvPr/>
          </p:nvSpPr>
          <p:spPr>
            <a:xfrm>
              <a:off x="6222960" y="3758400"/>
              <a:ext cx="2307600" cy="930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5"/>
                </a:rPr>
                <a:t>Ошибки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4108"/>
            <p:cNvSpPr/>
            <p:nvPr/>
          </p:nvSpPr>
          <p:spPr>
            <a:xfrm>
              <a:off x="6222960" y="5154840"/>
              <a:ext cx="2307600" cy="930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6"/>
                </a:rPr>
                <a:t>Устранение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3366"/>
                  </a:solidFill>
                  <a:uFillTx/>
                  <a:latin typeface="Arial"/>
                  <a:hlinkClick r:id="rId7"/>
                </a:rPr>
                <a:t>ошибок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АЗЫ БЕ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403280" y="2565360"/>
            <a:ext cx="511488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Oval 9"/>
          <p:cNvSpPr/>
          <p:nvPr/>
        </p:nvSpPr>
        <p:spPr>
          <a:xfrm>
            <a:off x="1979640" y="2421000"/>
            <a:ext cx="1511280" cy="302400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11600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пора 1 но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851280" y="2421000"/>
            <a:ext cx="1225440" cy="302400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34800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аза поле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5435640" y="2492280"/>
            <a:ext cx="1368360" cy="309744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003640" y="558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пора 2 но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 flipV="1">
            <a:off x="2987280" y="4149720"/>
            <a:ext cx="289080" cy="22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1187280" y="3645000"/>
            <a:ext cx="720720" cy="115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ая команда подается в этом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ложени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681280" y="3090960"/>
            <a:ext cx="4005360" cy="2266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498760" y="5938920"/>
            <a:ext cx="43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708360" y="2565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тарт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ая подается команд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95640" y="2637000"/>
            <a:ext cx="4535280" cy="2484360"/>
          </a:xfrm>
          <a:prstGeom prst="rect">
            <a:avLst/>
          </a:prstGeom>
          <a:ln w="0">
            <a:noFill/>
          </a:ln>
        </p:spPr>
      </p:pic>
      <p:sp>
        <p:nvSpPr>
          <p:cNvPr id="163" name="Oval 6"/>
          <p:cNvSpPr/>
          <p:nvPr/>
        </p:nvSpPr>
        <p:spPr>
          <a:xfrm>
            <a:off x="5435640" y="4508640"/>
            <a:ext cx="1368360" cy="215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348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нимание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4:24:46Z</dcterms:created>
  <dc:creator>Попова</dc:creator>
  <dc:description/>
  <dc:language>en-US</dc:language>
  <cp:lastModifiedBy>Альбина</cp:lastModifiedBy>
  <dcterms:modified xsi:type="dcterms:W3CDTF">2015-09-02T09:20:47Z</dcterms:modified>
  <cp:revision>26</cp:revision>
  <dc:subject/>
  <dc:title>Слайд 1</dc:title>
</cp:coreProperties>
</file>