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9.jpeg" ContentType="image/jpe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1033-05A5-4BEB-9B50-299ABBE21B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9E2B-E872-4A2B-A07F-55769BAA66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6C27-1470-4CEA-899A-C51B96DB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7B7-C5E9-41C8-A28F-E2794E07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87B2-4B1F-4AC3-85F8-A5BCEDBE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6BA5-6DBB-48D7-A675-2F80F68F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73A8-C498-4094-990E-915328CA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4E9E-1B9C-4AFD-8AF7-1A0659A9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8063-A9B4-4A54-80A7-FBCEBC64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B9D9-A765-4F48-9F4D-73F8A9AE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FE2B-F3EE-436A-A166-5B388EEF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F469-BEAC-44AD-86E8-F4A1662C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C64-21DD-4144-9D18-39EBB4CB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596F-E376-4ECF-AAF1-BA130CE2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6C94-B5E7-4092-84C0-AF2B159649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хема 4" descr=""/>
          <p:cNvPicPr/>
          <p:nvPr/>
        </p:nvPicPr>
        <p:blipFill>
          <a:blip r:embed="rId1"/>
          <a:stretch/>
        </p:blipFill>
        <p:spPr>
          <a:xfrm>
            <a:off x="-36360" y="334800"/>
            <a:ext cx="9302760" cy="576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строение изображения точечного источника света в зерка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http://www.fizika.ru/theory/tema-12/12g-i1.gif"/>
          <p:cNvPicPr/>
          <p:nvPr/>
        </p:nvPicPr>
        <p:blipFill>
          <a:blip r:embed="rId1"/>
          <a:stretch/>
        </p:blipFill>
        <p:spPr>
          <a:xfrm>
            <a:off x="2000160" y="2000160"/>
            <a:ext cx="4643640" cy="357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96320" cy="107172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rebuchet MS"/>
              </a:rPr>
              <a:t>ИЗОБРАЖЕНИЕ В  ПЛОСКОМ ЗЕРКАЛ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3929040" y="1285920"/>
            <a:ext cx="521496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00"/>
                </a:solidFill>
                <a:latin typeface="Arial Black"/>
              </a:rPr>
              <a:t>МН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f6228"/>
                </a:solidFill>
                <a:latin typeface="Arial Black"/>
              </a:rPr>
              <a:t>ПРЯ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15968"/>
                </a:solidFill>
                <a:latin typeface="Arial Black"/>
              </a:rPr>
              <a:t>РАВНОЕ ПРЕДМ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РАСПОЛОЖЕНО СИММЕТРИ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04a7b"/>
                </a:solidFill>
                <a:latin typeface="Arial Black"/>
              </a:rPr>
              <a:t>ПРАВОЕ     -        ЛЕ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"/>
          <p:cNvPicPr/>
          <p:nvPr/>
        </p:nvPicPr>
        <p:blipFill>
          <a:blip r:embed="rId1"/>
          <a:stretch/>
        </p:blipFill>
        <p:spPr>
          <a:xfrm>
            <a:off x="0" y="4819680"/>
            <a:ext cx="3429000" cy="2038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2"/>
          <a:stretch/>
        </p:blipFill>
        <p:spPr>
          <a:xfrm>
            <a:off x="5907240" y="5000760"/>
            <a:ext cx="3236760" cy="18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"/>
          <p:cNvPicPr/>
          <p:nvPr/>
        </p:nvPicPr>
        <p:blipFill>
          <a:blip r:embed="rId3"/>
          <a:stretch/>
        </p:blipFill>
        <p:spPr>
          <a:xfrm>
            <a:off x="3714840" y="4994280"/>
            <a:ext cx="2011320" cy="1863720"/>
          </a:xfrm>
          <a:prstGeom prst="rect">
            <a:avLst/>
          </a:prstGeom>
          <a:ln w="0">
            <a:noFill/>
          </a:ln>
        </p:spPr>
      </p:pic>
      <p:pic>
        <p:nvPicPr>
          <p:cNvPr id="80" name="Содержимое 8" descr=""/>
          <p:cNvPicPr/>
          <p:nvPr/>
        </p:nvPicPr>
        <p:blipFill>
          <a:blip r:embed="rId4"/>
          <a:srcRect l="4533" t="20835" r="2569" b="43915"/>
          <a:stretch/>
        </p:blipFill>
        <p:spPr>
          <a:xfrm>
            <a:off x="142920" y="1214280"/>
            <a:ext cx="3786120" cy="3500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ешите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гол падения равен 30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му равен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гол отраж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гол между падающим и отраженным лучам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кажите углы на рисунк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гол отражения равен 30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гол между падающим и отраженным лучами равен 60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"/>
          <p:cNvPicPr/>
          <p:nvPr/>
        </p:nvPicPr>
        <p:blipFill>
          <a:blip r:embed="rId1"/>
          <a:srcRect l="2762" t="47106" r="0" b="13055"/>
          <a:stretch/>
        </p:blipFill>
        <p:spPr>
          <a:xfrm>
            <a:off x="1643040" y="3857760"/>
            <a:ext cx="5796000" cy="1928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ыполните упражн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пражнение 30 (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пражнение 31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560" y="214200"/>
            <a:ext cx="900108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тветьте на вопро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2920" y="1213920"/>
            <a:ext cx="8786880" cy="5286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Как называется раздел физики, изучающий свет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d0d0d"/>
                </a:solidFill>
                <a:latin typeface="Calibri"/>
              </a:rPr>
              <a:t>2</a:t>
            </a:r>
            <a:r>
              <a:rPr b="1" lang="ru-RU" sz="2700" spc="-1" strike="noStrike">
                <a:solidFill>
                  <a:srgbClr val="0d0d0d"/>
                </a:solidFill>
                <a:latin typeface="Calibri"/>
              </a:rPr>
              <a:t>. Что такое свет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d0d0d"/>
                </a:solidFill>
                <a:latin typeface="Calibri"/>
              </a:rPr>
              <a:t>3. Что такое луч света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d0d0d"/>
                </a:solidFill>
                <a:latin typeface="Calibri"/>
              </a:rPr>
              <a:t>4. Приведите примеры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d0d0d"/>
                </a:solidFill>
                <a:latin typeface="Calibri"/>
              </a:rPr>
              <a:t>      </a:t>
            </a:r>
            <a:r>
              <a:rPr b="1" lang="ru-RU" sz="2700" spc="-1" strike="noStrike">
                <a:solidFill>
                  <a:srgbClr val="0d0d0d"/>
                </a:solidFill>
                <a:latin typeface="Calibri"/>
              </a:rPr>
              <a:t>естественных источников свет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      </a:t>
            </a: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искусственных источников свет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d0d0d"/>
                </a:solidFill>
                <a:latin typeface="Calibri"/>
              </a:rPr>
              <a:t>5</a:t>
            </a:r>
            <a:r>
              <a:rPr b="1" lang="ru-RU" sz="2700" spc="-1" strike="noStrike">
                <a:solidFill>
                  <a:srgbClr val="0d0d0d"/>
                </a:solidFill>
                <a:latin typeface="Calibri"/>
              </a:rPr>
              <a:t>. Условие образования тен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6. Условие образования полутен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d0d0d"/>
                </a:solidFill>
                <a:latin typeface="Calibri"/>
              </a:rPr>
              <a:t>7. Что является доказательством закона прямолинейного распространения света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Угол пад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Углом падения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уча назовем угол между падающим лучом и перпендикуляром к отражающей поверхности в точке излома луча (угол a 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http://www.fizika.ru/theory/tema-12/12f-i1.gif"/>
          <p:cNvPicPr/>
          <p:nvPr/>
        </p:nvPicPr>
        <p:blipFill>
          <a:blip r:embed="rId1"/>
          <a:srcRect l="0" t="6418" r="52507" b="0"/>
          <a:stretch/>
        </p:blipFill>
        <p:spPr>
          <a:xfrm>
            <a:off x="4714920" y="3786120"/>
            <a:ext cx="3714840" cy="2571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гол отра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Углом отражения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уча назовем угол между отраженным лучом и перпендикуляром к отражающей поверхности в точке излома луча (угол b )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http://www.fizika.ru/theory/tema-12/12f-i1.gif"/>
          <p:cNvPicPr/>
          <p:nvPr/>
        </p:nvPicPr>
        <p:blipFill>
          <a:blip r:embed="rId1"/>
          <a:srcRect l="52570" t="0" r="0" b="0"/>
          <a:stretch/>
        </p:blipFill>
        <p:spPr>
          <a:xfrm>
            <a:off x="4214880" y="3786120"/>
            <a:ext cx="4071960" cy="26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акон отражения св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Луч падающий, луч отраженный и перпендикуляр к отражающей поверхности в точке излома луча всегда лежат в одной плоскости.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Угол падения равен углу отражения.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Найдите ошиб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http://www.fizika.ru/theory/tema-12/12f-i2.jpg"/>
          <p:cNvPicPr/>
          <p:nvPr/>
        </p:nvPicPr>
        <p:blipFill>
          <a:blip r:embed="rId1"/>
          <a:stretch/>
        </p:blipFill>
        <p:spPr>
          <a:xfrm>
            <a:off x="500040" y="1928880"/>
            <a:ext cx="3571920" cy="30002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http://www.fizika.ru/theory/tema-12/12f-i3.jpg"/>
          <p:cNvPicPr/>
          <p:nvPr/>
        </p:nvPicPr>
        <p:blipFill>
          <a:blip r:embed="rId2"/>
          <a:stretch/>
        </p:blipFill>
        <p:spPr>
          <a:xfrm>
            <a:off x="4572000" y="1928880"/>
            <a:ext cx="37861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57120" y="500040"/>
            <a:ext cx="3857760" cy="22860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еркальное отра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14960" y="428760"/>
            <a:ext cx="3471840" cy="2357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сеянное    отраж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8" descr="http://www.fizika.ru/theory/tema-12/12e-i3.gif"/>
          <p:cNvPicPr/>
          <p:nvPr/>
        </p:nvPicPr>
        <p:blipFill>
          <a:blip r:embed="rId1"/>
          <a:srcRect l="0" t="-1088" r="50902" b="0"/>
          <a:stretch/>
        </p:blipFill>
        <p:spPr>
          <a:xfrm>
            <a:off x="487440" y="3071880"/>
            <a:ext cx="3655800" cy="300024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9" descr="http://www.fizika.ru/theory/tema-12/12e-i3.gif"/>
          <p:cNvPicPr/>
          <p:nvPr/>
        </p:nvPicPr>
        <p:blipFill>
          <a:blip r:embed="rId2"/>
          <a:srcRect l="51299" t="-7904" r="0" b="0"/>
          <a:stretch/>
        </p:blipFill>
        <p:spPr>
          <a:xfrm>
            <a:off x="5072040" y="2857680"/>
            <a:ext cx="3571920" cy="292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ешите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757760" cy="5114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изменится угол между падающим и отраженным лучами, если повернуть зеркало на угол 10 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5715000" y="2428920"/>
            <a:ext cx="2857680" cy="359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лоское зерка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лоское зеркало – плоскость, зеркально отражающая с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643280" y="2565360"/>
            <a:ext cx="3357720" cy="33796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http://www.fizika.ru/theory/tema-12/12g-i2.jpg"/>
          <p:cNvPicPr/>
          <p:nvPr/>
        </p:nvPicPr>
        <p:blipFill>
          <a:blip r:embed="rId2"/>
          <a:stretch/>
        </p:blipFill>
        <p:spPr>
          <a:xfrm>
            <a:off x="571680" y="2786040"/>
            <a:ext cx="3500280" cy="32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3:15:44Z</dcterms:created>
  <dc:creator>Мама</dc:creator>
  <dc:description/>
  <dc:language>en-US</dc:language>
  <cp:lastModifiedBy>Вадим Краснокутский</cp:lastModifiedBy>
  <dcterms:modified xsi:type="dcterms:W3CDTF">2022-04-02T18:51:41Z</dcterms:modified>
  <cp:revision>11</cp:revision>
  <dc:subject/>
  <dc:title>Законы отражения</dc:title>
</cp:coreProperties>
</file>