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FA3-40E3-445F-A672-50B7317D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59F-3DE4-49A2-AEEB-30DB94E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540-6301-4D46-BB8D-D343F773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AA0-CD33-4EC8-BEFB-3670E3DE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996-7C8C-4FDD-AEF5-9D4059F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A48-A0A0-40BC-AE15-0AC4BD5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E9F-690B-4E67-A94F-D880D10F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FC3-ACE6-4629-A8B9-17D0BCB5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442-6D48-45FA-93D6-1AEE949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31B-0C49-4C3D-A416-B5B096B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158-B1E6-4FEA-904B-D7B9464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4D8-616C-4CA9-85E6-B0BC4CF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ACF-5334-4041-A068-807036E672B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336600" y="2806560"/>
            <a:ext cx="8569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561960" y="312840"/>
            <a:ext cx="2146320" cy="2333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5707080" y="484200"/>
            <a:ext cx="310500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374760" y="4070520"/>
            <a:ext cx="2519280" cy="1591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2882880" y="4070520"/>
            <a:ext cx="310500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"/>
          <p:cNvPicPr/>
          <p:nvPr/>
        </p:nvPicPr>
        <p:blipFill>
          <a:blip r:embed="rId5"/>
          <a:stretch/>
        </p:blipFill>
        <p:spPr>
          <a:xfrm>
            <a:off x="5600880" y="3889440"/>
            <a:ext cx="3543120" cy="2252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"/>
          <p:cNvPicPr/>
          <p:nvPr/>
        </p:nvPicPr>
        <p:blipFill>
          <a:blip r:embed="rId6"/>
          <a:stretch/>
        </p:blipFill>
        <p:spPr>
          <a:xfrm>
            <a:off x="2665440" y="566640"/>
            <a:ext cx="30733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точки собака глож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лых людей кусает тоже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не забрался во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03040" y="1227240"/>
            <a:ext cx="33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елёнка, и тебя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1582560" y="503388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гнул шейку жеребёнок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льной лошади ребёнок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ко на копытца встал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, играют в прят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аловливые котят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таилась у окош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хо-тихо мама-кош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 деточек игр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чик по полу кат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шкой мяч воображаю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6" descr="MC900312526[1]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7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грязнули-сви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пине щети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мордашке пят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зочке прыгуч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орной, бод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равится украд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MC900246127[1]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ребенка -у ягн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Пользователь Windows</cp:lastModifiedBy>
  <cp:lastPrinted>2018-02-03T11:00:59Z</cp:lastPrinted>
  <dcterms:modified xsi:type="dcterms:W3CDTF">2022-03-13T14:53:21Z</dcterms:modified>
  <cp:revision>6</cp:revision>
  <dc:subject/>
  <dc:title>Слайд 1</dc:title>
</cp:coreProperties>
</file>