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28C-7306-47DF-9891-668E2A8E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F17-22A3-4F1B-8EF5-E901FCF9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0DE-8191-4900-A112-E760773B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DF5E-E222-4F31-AD37-72767450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DA1-50A2-4715-B763-1F2D5367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7E8-B372-4376-BCD5-5273D4A5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1AF-E9DD-4319-AE9E-674BFD1F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29B-1BD8-4FAF-A498-1EC7E8AB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6BA-84AE-4382-A6BB-F3A5A3CE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713-1EAD-469F-81E0-49B31509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732C-488B-41E9-8477-15D1C1F2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51D-4692-4E46-8141-8C3EB503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8ED0-045D-4B31-8A1B-E9FA68021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1828440"/>
            <a:ext cx="8991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 - класс</a:t>
            </a:r>
            <a:br>
              <a:rPr sz="4500"/>
            </a:br>
            <a:r>
              <a:rPr b="1" i="1" lang="ru-RU" sz="4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Технология смыслового чтения»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ОУ «Гурульбинская средняя общеобразовательная  школа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Бадмаева Т.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721400" y="647712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2017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2822400" y="-42840"/>
            <a:ext cx="6553440" cy="168264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838080" y="1828800"/>
            <a:ext cx="8001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5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1" i="1" lang="ru-RU" sz="25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нимание текста и создание его читательской интерпретации (истолкования, оценки).</a:t>
            </a:r>
            <a:br>
              <a:rPr sz="2500"/>
            </a:br>
            <a:br>
              <a:rPr sz="2500"/>
            </a:br>
            <a:r>
              <a:rPr b="1" i="1" lang="ru-RU" sz="25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Главная задача педагога</a:t>
            </a:r>
            <a:r>
              <a:rPr b="1" i="1" lang="ru-RU" sz="25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: обеспечить полноценное восприятие текста всеми доступными средствами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 текст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тение вслу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тение про себя с вопрос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тение с остановк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тение про себя с пометко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0920" y="3805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Работа с текстом после ч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990720" y="1143000"/>
            <a:ext cx="79246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Цель: корректировка читательской интерпретации в соответствии с авторским замыслом.</a:t>
            </a:r>
            <a:br>
              <a:rPr sz="2400"/>
            </a:br>
            <a:br>
              <a:rPr sz="2400"/>
            </a:br>
            <a:r>
              <a:rPr b="1" i="1" lang="ru-RU" sz="24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Главная задача педагога: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беспечить углубление восприятия и понимания тек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3805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 послетекст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Отношения между вопросом и ответ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Тайм-ау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Проверочный лис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Вопросы после текс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" descr="C:\Users\Лида\Desktop\мастер класс\рассказ.jpg"/>
          <p:cNvPicPr/>
          <p:nvPr/>
        </p:nvPicPr>
        <p:blipFill>
          <a:blip r:embed="rId2"/>
          <a:stretch/>
        </p:blipFill>
        <p:spPr>
          <a:xfrm>
            <a:off x="128520" y="228600"/>
            <a:ext cx="4443480" cy="63244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C:\Users\Лида\Desktop\мастер класс\рассказ1.jpg"/>
          <p:cNvPicPr/>
          <p:nvPr/>
        </p:nvPicPr>
        <p:blipFill>
          <a:blip r:embed="rId3"/>
          <a:stretch/>
        </p:blipFill>
        <p:spPr>
          <a:xfrm>
            <a:off x="4648320" y="338040"/>
            <a:ext cx="424332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 «Ориентиры предвосхищен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320" y="1940040"/>
          <a:ext cx="8915400" cy="4765680"/>
        </p:xfrm>
        <a:graphic>
          <a:graphicData uri="http://schemas.openxmlformats.org/drawingml/2006/table">
            <a:tbl>
              <a:tblPr/>
              <a:tblGrid>
                <a:gridCol w="1733400"/>
                <a:gridCol w="5429160"/>
                <a:gridCol w="17528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 чтения текс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жд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 чтения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Рукописная книга-произведение искус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Каждая глава и отдельная страница рукописной книги начиналась и заканчивалась заставками и концов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Рукописная книга была большой и тяжел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Для письма использовали пергамен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Орудиями письма были перьевые руч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Рукописные книги были доступны вс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Рукописные книги писались монах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Летописи - это рассказы о важных событиях Древней Рус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Самая известная летопись Древней Руси- «Повесть временных лет», была написана монахом Нектари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Первая печатная книга на Руси появилась в 1654 год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049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смыслового чтения включает  в себя </a:t>
            </a:r>
            <a:br>
              <a:rPr sz="3500"/>
            </a:b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этапа работы с текстом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1. Работа с текстом до чт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2. Работа с текстом во время чтения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3. Работа с текстом после чт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 предтекстовой деятельност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Мозговой штур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Глоссар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Ориентиры предвосхищ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Предваряющие вопрос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Рассечения вопросов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Мозговой штурм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1760" y="17524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Какие ассоциации возникают у вас по поводу заявленной темы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Ассоциации записываются на доск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едагог может добавить различную информаци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Чтение текста. Сравнение информации с той, что узнали из текс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Глоссарий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21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едагог говорит название текста, дает список слов и предлагает отметить те, которые могут быть связаны с текст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Закончив чтения текста, возвращаются к данным словам (это будет уже послетекстовая стратегия) смотрят на значение и употребление слов, используемых в текс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2819520" y="555480"/>
            <a:ext cx="61722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Федеральные государственные образовательные стандарты (ФГОС) начального и основного общего образования включают в метапредметные результаты освоения  основной образовательной программы в качестве обязательного компонента «овладение навыками смыслового чтения текстов различных стилей и жанров в соответствии с целями и задачами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www.gymnasium41.ru/standart/standart3.jpg"/>
          <p:cNvPicPr/>
          <p:nvPr/>
        </p:nvPicPr>
        <p:blipFill>
          <a:blip r:embed="rId1"/>
          <a:stretch/>
        </p:blipFill>
        <p:spPr>
          <a:xfrm>
            <a:off x="-79200" y="4724280"/>
            <a:ext cx="4194000" cy="227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496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Ориентиры предвосхищени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редлагаются учащимся суждения. Они должны отметить те, с которыми согласн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осле чтения они отмечают их еще раз. Если ответ изменился, то учащиеся объясняют, почему это произошло (послетекстовая стратегия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4960" y="761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Предваряющие вопросы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росмотрите текст быстро. (Просмотровое чтение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Ответьте на вопрос, заданный в названии текс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Рассечение вопрос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редлагается прочитать заглавие текста и разделить его на смысловые группы. О чем, как вы думаете, пойдет речь в тексте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049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смыслового чтения включает  в себя </a:t>
            </a:r>
            <a:br>
              <a:rPr sz="3500"/>
            </a:b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этапа работы с текстом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1. Работа с текстом до чт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2. Работа с текстом во время чтения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3. Работа с текстом после чт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кст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тение вслу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тение про себя с вопрос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тение с остановк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тение про себя с пометко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Чтение вслух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212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Чтение текста по абзацам. Зада­ча — читать с пониманием, задача слушающих — задавать чтецу во­просы, чтобы проверить, понимает ли он читаемый текс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Слушающие задают вопросы по содержанию текста, читающий отвечает. Если его ответ не верен или не точен, слушающие его по­правляю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Чтение про себя с вопросами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Чтение первого  абзаца. Задаются вопрос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Чтение про себя второго абзаца. Работайте в парах. Один за­даёт вопросы, другой — отвечае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Чтение третьего абзаца. Меняются ролями. Задают во­просы и отвечаю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Чтение с остановками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Чтение текста с остановками, во время которых задаются вопросы. Одни из них направлены на проверку пони­мания, другие — на прогноз содержания последующего отрыв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2160" y="7617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Чтение про себя с пометками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2408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Данная приём чаще всего используется для работы со сложными научными текстами. Учащиеся при чтение делают пометки: понял, не понял, надо обсуди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049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смыслового чтения включает  в себя </a:t>
            </a:r>
            <a:br>
              <a:rPr sz="3500"/>
            </a:b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этапа работы с текстом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1. Работа с текстом до чт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2. Работа с текстом во время чтения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3. Работа с текстом после чт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18288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мысловое чтение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468360" y="1916280"/>
            <a:ext cx="82296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это такое качество чтения, при котором достигается понимание информационной, смысловой и идейной сторон произве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04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 послетекст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Отношения между вопросом и ответ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Тайм-ау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Проверочный лис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Вопросы после текс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80920" y="990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Отношения между вопросом и ответом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Один из самых эффективных послетекстовых приемов. От остальных она отличается тем, что обучает процессу осмысления текста, а не контролирует результат (понял – не понял), показывает необходимость поиска места нахождения отве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отв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533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 тексте                 В голов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                                        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чита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 одном      в разных     автор и я       только 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едло-      част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жении       тек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ек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айди          соедини         соедини        най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очный       вместе,        вместе,        от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твет        составь        составь        в своей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твет          ответ           гол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Прямая со стрелкой 4"/>
          <p:cNvCxnSpPr/>
          <p:nvPr/>
        </p:nvCxnSpPr>
        <p:spPr>
          <a:xfrm flipH="1">
            <a:off x="3351960" y="1142640"/>
            <a:ext cx="839160" cy="61020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19" name="Прямая со стрелкой 6"/>
          <p:cNvCxnSpPr/>
          <p:nvPr/>
        </p:nvCxnSpPr>
        <p:spPr>
          <a:xfrm flipH="1">
            <a:off x="5714280" y="609120"/>
            <a:ext cx="305640" cy="38196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0" name="Прямая со стрелкой 8"/>
          <p:cNvCxnSpPr/>
          <p:nvPr/>
        </p:nvCxnSpPr>
        <p:spPr>
          <a:xfrm>
            <a:off x="6477120" y="609480"/>
            <a:ext cx="305280" cy="45792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1" name="Прямая со стрелкой 11"/>
          <p:cNvCxnSpPr/>
          <p:nvPr/>
        </p:nvCxnSpPr>
        <p:spPr>
          <a:xfrm flipH="1">
            <a:off x="4647960" y="1142640"/>
            <a:ext cx="305280" cy="68652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2" name="Прямая со стрелкой 13"/>
          <p:cNvCxnSpPr/>
          <p:nvPr/>
        </p:nvCxnSpPr>
        <p:spPr>
          <a:xfrm>
            <a:off x="7695720" y="1371600"/>
            <a:ext cx="305640" cy="53424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3" name="Прямая со стрелкой 15"/>
          <p:cNvCxnSpPr/>
          <p:nvPr/>
        </p:nvCxnSpPr>
        <p:spPr>
          <a:xfrm flipH="1">
            <a:off x="6095160" y="1447920"/>
            <a:ext cx="762840" cy="38160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4" name="Прямая со стрелкой 17"/>
          <p:cNvCxnSpPr/>
          <p:nvPr/>
        </p:nvCxnSpPr>
        <p:spPr>
          <a:xfrm>
            <a:off x="2971440" y="3276720"/>
            <a:ext cx="1080" cy="38160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5" name="Прямая со стрелкой 19"/>
          <p:cNvCxnSpPr/>
          <p:nvPr/>
        </p:nvCxnSpPr>
        <p:spPr>
          <a:xfrm>
            <a:off x="4495320" y="2971440"/>
            <a:ext cx="1080" cy="68652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6" name="Прямая со стрелкой 21"/>
          <p:cNvCxnSpPr/>
          <p:nvPr/>
        </p:nvCxnSpPr>
        <p:spPr>
          <a:xfrm>
            <a:off x="6324120" y="2209680"/>
            <a:ext cx="1080" cy="137232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7" name="Прямая со стрелкой 23"/>
          <p:cNvCxnSpPr/>
          <p:nvPr/>
        </p:nvCxnSpPr>
        <p:spPr>
          <a:xfrm>
            <a:off x="7924320" y="2209680"/>
            <a:ext cx="1080" cy="137232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Тайм-аут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Чтение первой части текста. Работа в пара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Задают друг другу вопросы уточняющего характера. Отвечают на них. Если нет уверенности в правильности ответа, выносятся вопросы на обсуждение всей группы после завершения работы с текстом</a:t>
            </a:r>
            <a:r>
              <a:rPr b="0" lang="ru-RU" sz="3200" spc="-1" strike="noStrike">
                <a:solidFill>
                  <a:srgbClr val="a9652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Проверочный лист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6462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 (</a:t>
            </a: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роверочный лист «Краткий пересказ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Названа основная мысль тек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Названы главные мысли текста и основные дет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рисутствует логико-смысловая структура тек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Имеются необходимые средства связи, объединяющие главные мысли тек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Содержание изложено собственными словами (языковыми средства­ми) при сохранении лексических единиц авторского тек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Вопросы после текста»</a:t>
            </a:r>
            <a:br>
              <a:rPr sz="4000"/>
            </a:b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«Таксономия Б.Блюма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8960" y="15998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лассификация вопросов, известная под названием «Таксономия вопросов», предполагает баланс между группами вопросов к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 фактической информации текста, изложенной вербально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 подтекстовой информации, скрытой между строк, в подтексте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 концептуальной информации, часто находящейся за пределами текст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 оценочные, рефлексивные вопросы, связанные с критическим анализом текст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тегия смыслового чтения формируе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120" y="18284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знавательный интерес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азвивает реч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лучшает запоминание материал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активизирует воображени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является внимание к слов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мение сопоставлять факты и делать умозаключ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ю </a:t>
            </a:r>
            <a:br>
              <a:rPr sz="8000"/>
            </a:br>
            <a:r>
              <a:rPr b="1" i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0400" y="54720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яющие смыслового чтения входят в структуру всех УУД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 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42840"/>
            <a:ext cx="8153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в личностные УУД – входят мотивация чтения, мотивы учения, отношение к себе и к школ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в регулятивные УУД – принятие учеником учебной задачи, произвольная регуляция деяте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в познавательные УУД – логическое и абстрактное мышление, оперативная память, творческое воображение, концентрация внимания, объем словар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в коммуникативные УУД – умение организовать и осуществить сотрудничество и кооперацию с учителем и сверстниками, адекватно передавать информацию, отображать предметное содержание и условия деятельности в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004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ючевые направления формирования умений работы с текстом: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167652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выделение главного в текс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составление примеров, аналогичных приведенным в текс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умение найти в тексте ответ на поставленный вопрос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грамотно пересказать прочитанный текст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умение составить план прочитанного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воспроизводить текст по предложенному плану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умение пользоваться образцами решения задач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запоминание определений, формул, теоре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работа с иллюстрациями (рисунками, чертежами, диаграммами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использование новой теории в различных учебных и жизненных ситуациях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одтверждение научных факто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конспектирование новой темы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49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смыслового чтения включает  в себя </a:t>
            </a:r>
            <a:br>
              <a:rPr sz="3500"/>
            </a:b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этапа работы с текстом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1. Работа с текстом до чт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2. Работа с текстом во время чтения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3. Работа с текстом после чт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1295280" y="1600200"/>
            <a:ext cx="73152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1" i="1" lang="ru-RU" sz="25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азвитие важнейшего читательского умения, антиципация, то есть умение предполагать, прогнозировать содержание текста по заглавию, фамилии автора, иллюстрации.</a:t>
            </a:r>
            <a:br>
              <a:rPr sz="2500"/>
            </a:br>
            <a:br>
              <a:rPr sz="2500"/>
            </a:br>
            <a:r>
              <a:rPr b="1" i="1" lang="ru-RU" sz="25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Главная задача педагога: </a:t>
            </a:r>
            <a:r>
              <a:rPr b="1" i="1" lang="ru-RU" sz="25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ызвать у ребёнка желание, мотивацию прочитать книг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2700360" y="228600"/>
            <a:ext cx="64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с текстом до чте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666880" y="685800"/>
          <a:ext cx="6172200" cy="4267080"/>
        </p:xfrm>
        <a:graphic>
          <a:graphicData uri="http://schemas.openxmlformats.org/drawingml/2006/table">
            <a:tbl>
              <a:tblPr/>
              <a:tblGrid>
                <a:gridCol w="3086280"/>
                <a:gridCol w="3085920"/>
              </a:tblGrid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радиционная методик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новационная методик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2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57" name="Равнобедренный треугольник 4"/>
          <p:cNvGrpSpPr/>
          <p:nvPr/>
        </p:nvGrpSpPr>
        <p:grpSpPr>
          <a:xfrm>
            <a:off x="2766960" y="1798560"/>
            <a:ext cx="2927520" cy="3005280"/>
            <a:chOff x="2766960" y="1798560"/>
            <a:chExt cx="2927520" cy="3005280"/>
          </a:xfrm>
        </p:grpSpPr>
        <p:pic>
          <p:nvPicPr>
            <p:cNvPr id="58" name="Равнобедренный треугольник 4" descr=""/>
            <p:cNvPicPr/>
            <p:nvPr/>
          </p:nvPicPr>
          <p:blipFill>
            <a:blip r:embed="rId1"/>
            <a:stretch/>
          </p:blipFill>
          <p:spPr>
            <a:xfrm>
              <a:off x="2766960" y="1798560"/>
              <a:ext cx="292752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524400" y="3276720"/>
              <a:ext cx="140940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Равнобедренный треугольник 5"/>
          <p:cNvGrpSpPr/>
          <p:nvPr/>
        </p:nvGrpSpPr>
        <p:grpSpPr>
          <a:xfrm>
            <a:off x="5888160" y="1749600"/>
            <a:ext cx="2854080" cy="3004920"/>
            <a:chOff x="5888160" y="1749600"/>
            <a:chExt cx="2854080" cy="3004920"/>
          </a:xfrm>
        </p:grpSpPr>
        <p:pic>
          <p:nvPicPr>
            <p:cNvPr id="61" name="Равнобедренный треугольник 5" descr=""/>
            <p:cNvPicPr/>
            <p:nvPr/>
          </p:nvPicPr>
          <p:blipFill>
            <a:blip r:embed="rId2"/>
            <a:stretch/>
          </p:blipFill>
          <p:spPr>
            <a:xfrm>
              <a:off x="5888160" y="1749600"/>
              <a:ext cx="2854080" cy="30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10800000">
              <a:off x="6629400" y="1828800"/>
              <a:ext cx="13716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Прямая соединительная линия 7"/>
          <p:cNvSpPr/>
          <p:nvPr/>
        </p:nvSpPr>
        <p:spPr>
          <a:xfrm>
            <a:off x="3809880" y="2743200"/>
            <a:ext cx="4419720" cy="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8"/>
          <p:cNvSpPr/>
          <p:nvPr/>
        </p:nvSpPr>
        <p:spPr>
          <a:xfrm>
            <a:off x="3276720" y="3733920"/>
            <a:ext cx="4476600" cy="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4267080" y="1976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текстовые зад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4724280" y="2967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овы зад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4038480" y="38815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текствые зад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 предтекстовой деятельност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Мозговой штур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Глоссар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Ориентиры предвосхищ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Предваряющие вопрос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Рассечения вопросов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4:43:13Z</dcterms:created>
  <dc:creator>Катенок</dc:creator>
  <dc:description/>
  <dc:language>en-US</dc:language>
  <cp:lastModifiedBy>User</cp:lastModifiedBy>
  <dcterms:modified xsi:type="dcterms:W3CDTF">2022-04-02T16:12:23Z</dcterms:modified>
  <cp:revision>71</cp:revision>
  <dc:subject/>
  <dc:title>При использовании шаблона ссылка на Pedsovet.su обязательна</dc:title>
</cp:coreProperties>
</file>