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2DA-12E1-4165-96A8-151FF2C5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C72-4085-41A5-961D-5219232B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32A-E687-41DB-9DD5-FC730160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644-79AD-448C-AC97-EB6DAE6D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702-E92E-4FBE-9E8A-102EA668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11C-1AB4-4134-BF25-DD85E718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3F4-757C-400B-B53A-DA74DD46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EC1-F477-456A-853A-BD53C356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45D-2506-4B0B-8137-8D3783C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E3E-0B61-4AEC-BE90-23AE4F6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F8E-EDCC-4CC8-9D44-60760E6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F3E-9380-430A-9FAA-FD0ADF36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4D38-7249-45FA-B378-819F3FEE7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828440"/>
            <a:ext cx="8991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 - класс</a:t>
            </a:r>
            <a:br>
              <a:rPr sz="4500"/>
            </a:br>
            <a:r>
              <a:rPr b="1" i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ехнология смыслового чтения»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ОУ «Гурульбинская средняя общеобразовательная  школ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дмаева Т.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721400" y="647712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2822400" y="-42840"/>
            <a:ext cx="6553440" cy="1682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38080" y="182880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нимание текста и создание его читательской интерпретации (истолкования, оценки).</a:t>
            </a:r>
            <a:br>
              <a:rPr sz="2500"/>
            </a:br>
            <a:br>
              <a:rPr sz="2500"/>
            </a:b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Главная задача педагога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обеспечить полноценное восприятие текста всеми доступными средствами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всл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вопрос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пометк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0920" y="3805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90720" y="1143000"/>
            <a:ext cx="7924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Цель: корректировка читательской интерпретации в соответствии с авторским замыслом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Главная задача педагога: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беспечить углубление восприятия и понимания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осле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тношения между вопросом и ответ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Тайм-ау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оверочный ли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просы после текс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C:\Users\Лида\Desktop\мастер класс\рассказ.jpg"/>
          <p:cNvPicPr/>
          <p:nvPr/>
        </p:nvPicPr>
        <p:blipFill>
          <a:blip r:embed="rId2"/>
          <a:stretch/>
        </p:blipFill>
        <p:spPr>
          <a:xfrm>
            <a:off x="128520" y="228600"/>
            <a:ext cx="4443480" cy="6324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C:\Users\Лида\Desktop\мастер класс\рассказ1.jpg"/>
          <p:cNvPicPr/>
          <p:nvPr/>
        </p:nvPicPr>
        <p:blipFill>
          <a:blip r:embed="rId3"/>
          <a:stretch/>
        </p:blipFill>
        <p:spPr>
          <a:xfrm>
            <a:off x="4648320" y="338040"/>
            <a:ext cx="42433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«Ориентиры предвосхищ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320" y="1940040"/>
          <a:ext cx="8915400" cy="4765680"/>
        </p:xfrm>
        <a:graphic>
          <a:graphicData uri="http://schemas.openxmlformats.org/drawingml/2006/table">
            <a:tbl>
              <a:tblPr/>
              <a:tblGrid>
                <a:gridCol w="1733400"/>
                <a:gridCol w="5429160"/>
                <a:gridCol w="17528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 чтения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чт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ая книга-произведение искус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Каждая глава и отдельная страница рукописной книги начиналась и заканчивалась заставками и концов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ая книга была большой и тяжел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Для письма использовали перга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Орудиями письма были перьевые руч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ые книги были доступны вс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Рукописные книги писались монах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Летописи - это рассказы о важных событиях Древней Рус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Самая известная летопись Древней Руси- «Повесть временных лет», была написана монахом Нектари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Times New Roman"/>
                          <a:ea typeface="Times New Roman"/>
                        </a:rPr>
                        <a:t>Первая печатная книга на Руси появилась в 1654 г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редтекстовой деятельност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Глоссар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риентиры предвосхищ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едваряющие вопрос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Рассечения вопросов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Мозговой штур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17524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Какие ассоциации возникают у вас по поводу заявленной тем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Ассоциации записываются на дос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едагог может добавить различную информа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екста. Сравнение информации с той, что узнали из тек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Глоссарий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едагог говорит название текста, дает список слов и предлагает отметить те, которые могут быть связаны с текс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Закончив чтения текста, возвращаются к данным словам (это будет уже послетекстовая стратегия) смотрят на значение и употребление слов, используемых в текс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819520" y="555480"/>
            <a:ext cx="6172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едеральные государственные образовательные стандарты (ФГОС) начального и основного общего образования включают в метапредметные результаты освоения  основной образовательной программы в качестве обязательного компонента «овладение навыками смыслового чтения текстов различных стилей и жанров в соответствии с целями и задачами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www.gymnasium41.ru/standart/standart3.jpg"/>
          <p:cNvPicPr/>
          <p:nvPr/>
        </p:nvPicPr>
        <p:blipFill>
          <a:blip r:embed="rId1"/>
          <a:stretch/>
        </p:blipFill>
        <p:spPr>
          <a:xfrm>
            <a:off x="-79200" y="4724280"/>
            <a:ext cx="4194000" cy="227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49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Ориентиры предвосхищени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едлагаются учащимся суждения. Они должны отметить те, с которыми соглас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осле чтения они отмечают их еще раз. Если ответ изменился, то учащиеся объясняют, почему это произошло (послетекстовая стратегия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49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Предваряющие вопрос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осмотрите текст быстро. (Просмотровое чтение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Ответьте на вопрос, заданный в названии тек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Рассечение вопрос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едлагается прочитать заглавие текста и разделить его на смысловые группы. О чем, как вы думаете, пойдет речь в тексте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всл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вопрос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тение про себя с пометк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вслух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екста по абзацам. Зада­ча — читать с пониманием, задача слушающих — задавать чтецу во­просы, чтобы проверить, понимает ли он читаемый текс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Слушающие задают вопросы по содержанию текста, читающий отвечает. Если его ответ не верен или не точен, слушающие его по­правляю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про себя с вопросам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первого  абзаца. Задаются вопрос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про себя второго абзаца. Работайте в парах. Один за­даёт вопросы, другой — отвечае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ретьего абзаца. Меняются ролями. Задают во­просы и отвечаю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с остановкам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текста с остановками, во время которых задаются вопросы. Одни из них направлены на проверку пони­мания, другие — на прогноз содержания последующего отрыв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2160" y="7617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Чтение про себя с пометкам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Данная приём чаще всего используется для работы со сложными научными текстами. Учащиеся при чтение делают пометки: понял, не понял, надо обсуд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1828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ысловое чтение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468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то такое качество чтения, при котором достигается понимание информационной, смысловой и идейной сторон произ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ослетекст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тношения между вопросом и ответ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Тайм-ау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оверочный ли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просы после текс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092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Отношения между вопросом и ответо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Один из самых эффективных послетекстовых приемов. От остальных она отличается тем, что обучает процессу осмысления текста, а не контролирует результат (понял – не понял), показывает необходимость поиска места нахождения отве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отв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533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тексте                 В голо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ит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одном      в разных     автор и я       только 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едло-      част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ении      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йди          соедини         соедини        най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очный       вместе,        вместе,        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твет        составь        составь        в своей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твет          ответ           гол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Прямая со стрелкой 4"/>
          <p:cNvCxnSpPr/>
          <p:nvPr/>
        </p:nvCxnSpPr>
        <p:spPr>
          <a:xfrm flipH="1">
            <a:off x="3351960" y="1142640"/>
            <a:ext cx="839160" cy="6102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19" name="Прямая со стрелкой 6"/>
          <p:cNvCxnSpPr/>
          <p:nvPr/>
        </p:nvCxnSpPr>
        <p:spPr>
          <a:xfrm flipH="1">
            <a:off x="5714280" y="609120"/>
            <a:ext cx="305640" cy="38196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0" name="Прямая со стрелкой 8"/>
          <p:cNvCxnSpPr/>
          <p:nvPr/>
        </p:nvCxnSpPr>
        <p:spPr>
          <a:xfrm>
            <a:off x="6477120" y="609480"/>
            <a:ext cx="305280" cy="4579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H="1">
            <a:off x="4647960" y="1142640"/>
            <a:ext cx="305280" cy="6865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2" name="Прямая со стрелкой 13"/>
          <p:cNvCxnSpPr/>
          <p:nvPr/>
        </p:nvCxnSpPr>
        <p:spPr>
          <a:xfrm>
            <a:off x="7695720" y="1371600"/>
            <a:ext cx="305640" cy="53424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3" name="Прямая со стрелкой 15"/>
          <p:cNvCxnSpPr/>
          <p:nvPr/>
        </p:nvCxnSpPr>
        <p:spPr>
          <a:xfrm flipH="1">
            <a:off x="6095160" y="1447920"/>
            <a:ext cx="762840" cy="3816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2971440" y="3276720"/>
            <a:ext cx="1080" cy="38160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4495320" y="2971440"/>
            <a:ext cx="1080" cy="6865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6" name="Прямая со стрелкой 21"/>
          <p:cNvCxnSpPr/>
          <p:nvPr/>
        </p:nvCxnSpPr>
        <p:spPr>
          <a:xfrm>
            <a:off x="6324120" y="2209680"/>
            <a:ext cx="1080" cy="13723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7" name="Прямая со стрелкой 23"/>
          <p:cNvCxnSpPr/>
          <p:nvPr/>
        </p:nvCxnSpPr>
        <p:spPr>
          <a:xfrm>
            <a:off x="7924320" y="2209680"/>
            <a:ext cx="1080" cy="1372320"/>
          </a:xfrm>
          <a:prstGeom prst="straightConnector1">
            <a:avLst/>
          </a:prstGeom>
          <a:ln cap="rnd" w="255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Тайм-ау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Чтение первой части текста. Работа в па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Задают друг другу вопросы уточняющего характера. Отвечают на них. Если нет уверенности в правильности ответа, выносятся вопросы на обсуждение всей группы после завершения работы с текстом</a:t>
            </a:r>
            <a:r>
              <a:rPr b="0" lang="ru-RU" sz="3200" spc="-1" strike="noStrike">
                <a:solidFill>
                  <a:srgbClr val="a9652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Проверочный лис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6462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a9652f"/>
                </a:solidFill>
                <a:uFillTx/>
                <a:latin typeface="Times New Roman"/>
                <a:ea typeface="Times New Roman"/>
              </a:rPr>
              <a:t>Алгоритм реализации приема: (</a:t>
            </a: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оверочный лист «Краткий пересказ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Названа основная мысль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Названы главные мысли текста и основные дет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рисутствует логико-смысловая структура тек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Имеются необходимые средства связи, объединяющие главные мысли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Содержание изложено собственными словами (языковыми средства­ми) при сохранении лексических единиц авторского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Вопросы после текста»</a:t>
            </a:r>
            <a:br>
              <a:rPr sz="4000"/>
            </a:b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«Таксономия Б.Блюма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89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лассификация вопросов, известная под названием «Таксономия вопросов», предполагает баланс между группами вопросов 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фактической информации текста, изложенной вербально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подтекстовой информации, скрытой между строк, в подтексте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концептуальной информации, часто находящейся за пределами текст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оценочные, рефлексивные вопросы, связанные с критическим анализом текс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тегия смыслового чтения формиру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120" y="1828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знавательный интерес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звивает реч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лучшает запоминание материа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ктивизирует воображ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является внимание к слов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мение сопоставлять факты и делать умозаключ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ю </a:t>
            </a:r>
            <a:br>
              <a:rPr sz="8000"/>
            </a:br>
            <a:r>
              <a:rPr b="1" i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0400" y="54720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яющие смыслового чтения входят в структуру всех УУД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42840"/>
            <a:ext cx="8153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личностные УУД – входят мотивация чтения, мотивы учения, отношение к себе и к школ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регулятивные УУД – принятие учеником учебной задачи, произвольная регуляция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познавательные УУД – логическое и абстрактное мышление, оперативная память, творческое воображение, концентрация внимания, объем словар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 коммуникативные УУД – умение организовать и осуществить сотрудничество и кооперацию с учителем и сверстниками, адекватно передавать информацию, отображать предметное содержание и условия деятельности в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евые направления формирования умений работы с текстом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67652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ыделение главного в текс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составление примеров, аналогичных приведенным в текс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умение найти в тексте ответ на поставленный вопрос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грамотно пересказать прочитанный текс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умение составить план прочитанног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воспроизводить текст по предложенному плану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умение пользоваться образцами решения задач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запоминание определений, формул, теор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работа с иллюстрациями (рисунками, чертежами, диаграммам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использование новой теории в различных учебных и жизненных ситуациях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подтверждение научных фак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a965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конспектирование новой тем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мыслового чтения включает  в себя </a:t>
            </a:r>
            <a:br>
              <a:rPr sz="3500"/>
            </a:b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а работы с текстом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1. Работа с текстом до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2. Работа с текстом во время чт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9652f"/>
                </a:solidFill>
                <a:latin typeface="Times New Roman"/>
                <a:ea typeface="Times New Roman"/>
              </a:rPr>
              <a:t>3. 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295280" y="1600200"/>
            <a:ext cx="7315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звитие важнейшего читательского умения, антиципация, то есть умение предполагать, прогнозировать содержание текста по заглавию, фамилии автора, иллюстрации.</a:t>
            </a:r>
            <a:br>
              <a:rPr sz="2500"/>
            </a:br>
            <a:br>
              <a:rPr sz="2500"/>
            </a:br>
            <a:r>
              <a:rPr b="1" i="1" lang="ru-RU" sz="25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Главная задача педагога: </a:t>
            </a:r>
            <a:r>
              <a:rPr b="1" i="1" lang="ru-RU" sz="25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ызвать у ребёнка желание, мотивацию прочитать книг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700360" y="22860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текстом до чт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666880" y="685800"/>
          <a:ext cx="6172200" cy="42670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адиционная методик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новационная методи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2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57" name="Равнобедренный треугольник 4"/>
          <p:cNvGrpSpPr/>
          <p:nvPr/>
        </p:nvGrpSpPr>
        <p:grpSpPr>
          <a:xfrm>
            <a:off x="2766960" y="1798560"/>
            <a:ext cx="2927520" cy="3005280"/>
            <a:chOff x="2766960" y="1798560"/>
            <a:chExt cx="2927520" cy="3005280"/>
          </a:xfrm>
        </p:grpSpPr>
        <p:pic>
          <p:nvPicPr>
            <p:cNvPr id="58" name="Равнобедренный треугольник 4" descr=""/>
            <p:cNvPicPr/>
            <p:nvPr/>
          </p:nvPicPr>
          <p:blipFill>
            <a:blip r:embed="rId1"/>
            <a:stretch/>
          </p:blipFill>
          <p:spPr>
            <a:xfrm>
              <a:off x="2766960" y="1798560"/>
              <a:ext cx="29275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24400" y="3276720"/>
              <a:ext cx="140940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Равнобедренный треугольник 5"/>
          <p:cNvGrpSpPr/>
          <p:nvPr/>
        </p:nvGrpSpPr>
        <p:grpSpPr>
          <a:xfrm>
            <a:off x="5888160" y="1749600"/>
            <a:ext cx="2854080" cy="3004920"/>
            <a:chOff x="5888160" y="1749600"/>
            <a:chExt cx="2854080" cy="3004920"/>
          </a:xfrm>
        </p:grpSpPr>
        <p:pic>
          <p:nvPicPr>
            <p:cNvPr id="61" name="Равнобедренный треугольник 5" descr=""/>
            <p:cNvPicPr/>
            <p:nvPr/>
          </p:nvPicPr>
          <p:blipFill>
            <a:blip r:embed="rId2"/>
            <a:stretch/>
          </p:blipFill>
          <p:spPr>
            <a:xfrm>
              <a:off x="5888160" y="1749600"/>
              <a:ext cx="285408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0800000">
              <a:off x="6629400" y="1828800"/>
              <a:ext cx="13716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ая соединительная линия 7"/>
          <p:cNvSpPr/>
          <p:nvPr/>
        </p:nvSpPr>
        <p:spPr>
          <a:xfrm>
            <a:off x="3809880" y="2743200"/>
            <a:ext cx="441972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>
            <a:off x="3276720" y="3733920"/>
            <a:ext cx="447660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4267080" y="197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текстовые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724280" y="2967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вы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038480" y="3881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текствые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предтекстовой деятельност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Глоссар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риентиры предвосхищ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едваряющие вопрос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Рассечения вопросов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User</cp:lastModifiedBy>
  <dcterms:modified xsi:type="dcterms:W3CDTF">2022-04-02T16:12:23Z</dcterms:modified>
  <cp:revision>71</cp:revision>
  <dc:subject/>
  <dc:title>При использовании шаблона ссылка на Pedsovet.su обязательна</dc:title>
</cp:coreProperties>
</file>